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CB56-D260-4601-8758-1957FB8A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9954-2FD2-4683-8AC4-199DDBC4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8753E-8445-4BE9-A340-8816EB87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FA96-D9B7-4A3E-B288-98C506FE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A1FE-C4C5-4382-ADC1-F66F7255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2D91-7BB1-48DB-8A0F-27444E75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57DF-D57E-4E48-A894-1C41C035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61A8-8EFB-43A9-BC37-50CB3C8A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4958-7210-49FC-8FA6-0961E792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D49C-3C36-4739-8B2B-797A91F3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05AB-78CD-4761-AF95-99FC7A8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996A1-9028-4745-BA76-B34D0178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A42E-8493-4B0F-AF18-58F5CCC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D796-838A-4B64-AA9B-DCCF9DF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BBC6-8EAE-4A80-8858-BA9044FE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37E2-EE02-4194-8FE5-9D6E3C91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DC2A-430E-458D-8C63-44D75ADD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7F04-7C00-48FE-88DB-EB0D96B9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6254-83B6-4271-B639-F098FAF8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3C3E-1535-4C07-86F6-2E45D836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F36D-E323-4C11-B738-C33F9A43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5301-33A6-4752-A50A-6C7FFAB3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BF5F7-C69C-4091-B304-A264360C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54EB-335B-4ECF-B87D-07D77F32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0EC0-0B9E-4EA4-BF02-7F131EEB98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1B01-AD54-4659-A5ED-82C680661B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29528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Подготовка к сочинению повествовательного характера</a:t>
            </a: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Monotype Corsiva"/>
              </a:rPr>
              <a:t>(по картине В.В. Мешкова «Золотая осень в Карелии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4419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Цель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Arial"/>
              </a:rPr>
              <a:t>подготовить учащихся к сочинению-описанию по картине с использованием опорных слов и словосочетаний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Колори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соотношение красок в картине по тону, насыщенности цве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Валун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кам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Цветовая гамм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яд сменяющихся я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Написать сочинение-миниатюру с использованием слов и словосочетаний из упражнения 54 (п.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ВОПРОСЫ:</a:t>
            </a:r>
            <a:br>
              <a:rPr sz="3500"/>
            </a:b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йте определение текс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йте объяснение понятия «по смыслу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йте объяснение понятия «грамматически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овите типы текст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овите сти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такое ИВ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ЭПИТЕ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образное художественное опред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МЕТАФОР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скрытое образное сравнение, употребление слова в переносном значении (то, с чем сравниваетс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МЕТОНИМ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употребление одного слова (понятия) вместо друг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ffffcc"/>
                </a:solidFill>
                <a:uFillTx/>
                <a:latin typeface="Arial"/>
              </a:rPr>
              <a:t>Схема краткого анализа текст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ексте говорится о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тему текста указывают слов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головок текста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иль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п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ffffcc"/>
                </a:solidFill>
                <a:uFillTx/>
                <a:latin typeface="Arial"/>
              </a:rPr>
              <a:t>СЛОВАР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гулировать, олицетворять, ландшафт, колорит, композиция, архитектура, зодчество, зодчий, орнамент, апофео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(обожествление, прославление, возвеличение какого-либо лица, события или явления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ельеф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(вид скульптуры, в котором выпуклое изображение выступает над плоскостью фона более чем на половину объема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легория, мону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Повествовани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тип текста, в котором повествуется о событии, о состоянии в данное врем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ый признак : динамичность, ведущая часть речи — глаг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86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. В. Мешков. «Золотая осень в Карелии» (1950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43430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И. Левит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«Золотая ос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7840" cy="4219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124080" y="4229280"/>
            <a:ext cx="6019920" cy="2628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781680" y="304920"/>
            <a:ext cx="2133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Сравните картины Левитана и Меш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35812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. Мешков. «Золотая осень в Карели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Республика Карелия расположена на северо-западе России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ольшая часть территории Карелии - холмистая равнина с ярко выраженными следами деятельности ледника. Волнистая каменная твердь земной поверхности и ныне сохраняет следы древних гор. Около половины площади республики покрыто лесом (основные породы: сосна и ель), четверть территории составляет водная поверхность. В Карелии более 60 тыс. озер и 27 тыс. рек. Самые крупные озера - Ладожское и Онежск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6:32:09Z</dcterms:created>
  <dc:creator>Катч</dc:creator>
  <dc:description/>
  <dc:language>en-US</dc:language>
  <cp:lastModifiedBy>Катч</cp:lastModifiedBy>
  <dcterms:modified xsi:type="dcterms:W3CDTF">2011-09-18T07:06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