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3542F-3F6E-4B01-AFAC-A4F86602F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A0810-E121-47C6-910E-4010A9BE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BA53C-7327-4C47-A50F-F80482CAE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7B51E-0E67-4365-8722-290342119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CE5B-82E0-4ACE-87E5-49462459B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DEAF-B574-49D5-8532-BF933EB7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73FD-0BAF-4E0E-8BEB-0D9B7025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26AE-DAEA-4B9D-993D-149F4456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95C6-3440-4DB2-88AA-2E71320D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3D7D-EFE0-4EA5-9445-83619115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9B56-645C-4956-B798-214E984B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F0AE7-52DE-4225-AD50-2ADF1C73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D712-E211-4DA9-924B-2F90F173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A41F-8AEB-4CBC-8C4B-4F4807ED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3FB6-1157-4BE3-A2C6-DB7378FB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DE4C-0338-414F-9FCD-F51B367F6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FE02-64C6-4935-81E6-A89667A0A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25907-F33E-426A-A47C-91FFD283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F4CEC-84FE-401D-AE5F-F8E741CD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9C04E-2FA0-4B53-A8D8-60D76001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F773C-A168-44B7-8E08-70443E89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E2C27-C0EC-4FA6-8146-D7FD1EB0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DED96-9DEF-4758-8F0E-7A5B5503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4E5DB-E487-4C66-9C3F-8A8C7838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DEC7-BCB2-4C45-8F20-8E8FCEA95D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39EA-2017-4C52-A2FE-EB3F296308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29528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Monotype Corsiva"/>
              </a:rPr>
              <a:t>Подготовка к сочинению повествовательного характера</a:t>
            </a:r>
            <a:r>
              <a:rPr b="0" i="1" lang="en-US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i="1" lang="ru-RU" sz="3600" spc="-1" strike="noStrike">
                <a:solidFill>
                  <a:srgbClr val="ffffff"/>
                </a:solidFill>
                <a:latin typeface="Monotype Corsiva"/>
              </a:rPr>
              <a:t>(по картине В.В. Мешкова «Золотая осень в Карелии»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44197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Arial"/>
              </a:rPr>
              <a:t>Цель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Arial"/>
              </a:rPr>
              <a:t>подготовить учащихся к сочинению-описанию по картине с использованием опорных слов и словосочетаний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Колори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— соотношение красок в картине по тону, насыщенности цве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Валуны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— кам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Цветовая гамм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— ряд сменяющихся явл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Написать сочинение-миниатюру с использованием слов и словосочетаний из упражнения 54 (п.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ВОПРОСЫ:</a:t>
            </a:r>
            <a:br>
              <a:rPr sz="3500"/>
            </a:b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айте определение текст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айте объяснение понятия «по смыслу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айте объяснение понятия «грамматически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зовите типы текст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зовите стил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такое ИВС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ЭПИТЕ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— образное художественное определ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МЕТАФОР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— скрытое образное сравнение, употребление слова в переносном значении (то, с чем сравниваетс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МЕТОНИМИ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— употребление одного слова (понятия) вместо друг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 u="sng">
                <a:solidFill>
                  <a:srgbClr val="ffffcc"/>
                </a:solidFill>
                <a:uFillTx/>
                <a:latin typeface="Arial"/>
              </a:rPr>
              <a:t>Схема краткого анализа текста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тексте говорится о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 тему текста указывают слова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головок текста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иль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ип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образительно-выразительные средств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 u="sng">
                <a:solidFill>
                  <a:srgbClr val="ffffcc"/>
                </a:solidFill>
                <a:uFillTx/>
                <a:latin typeface="Arial"/>
              </a:rPr>
              <a:t>СЛОВАРЬ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гулировать, олицетворять, ландшафт, колорит, композиция, архитектура, зодчество, зодчий, орнамент, апофеоз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(обожествление, прославление, возвеличение какого-либо лица, события или явления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орельеф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(вид скульптуры, в котором выпуклое изображение выступает над плоскостью фона более чем на половину объема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аллегория, монуме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Повествовани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— тип текста, в котором повествуется о событии, о состоянии в данное врем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лавный признак : динамичность, ведущая часть речи — глаго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54860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. В. Мешков. «Золотая осень в Карелии» (1950г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-360" y="434304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И. Левита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«Золотая осень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57840" cy="4219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124080" y="4229280"/>
            <a:ext cx="6019920" cy="2628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781680" y="304920"/>
            <a:ext cx="2133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Сравните картины Левитана и Мешк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81680" y="358128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В. Мешков. «Золотая осень в Карелии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Республика Карелия расположена на северо-западе России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ольшая часть территории Карелии - холмистая равнина с ярко выраженными следами деятельности ледника. Волнистая каменная твердь земной поверхности и ныне сохраняет следы древних гор. Около половины площади республики покрыто лесом (основные породы: сосна и ель), четверть территории составляет водная поверхность. В Карелии более 60 тыс. озер и 27 тыс. рек. Самые крупные озера - Ладожское и Онежск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06:32:09Z</dcterms:created>
  <dc:creator>Катч</dc:creator>
  <dc:description/>
  <dc:language>en-US</dc:language>
  <cp:lastModifiedBy>Катч</cp:lastModifiedBy>
  <dcterms:modified xsi:type="dcterms:W3CDTF">2011-09-18T07:06:5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