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D92-0048-45FB-8C3F-2F84BC55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186-1512-4AF1-99EF-783DF54C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C00-4F3C-46C2-80C8-00BE1357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6A1-9914-4CCE-945E-A56A709E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ED7-2939-4BA1-8CB6-75BD93AE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E01-4A33-4E08-A1B9-0E12DA99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5B4-1769-436B-92A8-11162092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9C51-B4BE-4A45-BDB4-31D8327E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89D-DDB2-44C7-95B2-F1147A1F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BBC-BC63-40A9-96F9-7D480256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5E6-46A0-4B63-A3A5-2489EF71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5F8-80CB-4D50-B019-91E9A1E1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9F21-61F9-498A-B64E-8404580697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1.xml"/><Relationship Id="rId3" Type="http://schemas.openxmlformats.org/officeDocument/2006/relationships/slide" Target="slide15.xml"/><Relationship Id="rId4" Type="http://schemas.openxmlformats.org/officeDocument/2006/relationships/slide" Target="slide4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6.xml"/><Relationship Id="rId8" Type="http://schemas.openxmlformats.org/officeDocument/2006/relationships/slide" Target="slide5.xml"/><Relationship Id="rId9" Type="http://schemas.openxmlformats.org/officeDocument/2006/relationships/slide" Target="slide9.xml"/><Relationship Id="rId10" Type="http://schemas.openxmlformats.org/officeDocument/2006/relationships/slide" Target="slide13.xml"/><Relationship Id="rId11" Type="http://schemas.openxmlformats.org/officeDocument/2006/relationships/slide" Target="slide17.xml"/><Relationship Id="rId12" Type="http://schemas.openxmlformats.org/officeDocument/2006/relationships/slide" Target="slide6.xml"/><Relationship Id="rId13" Type="http://schemas.openxmlformats.org/officeDocument/2006/relationships/slide" Target="slide10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3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371600" y="1600200"/>
            <a:ext cx="6357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00"/>
                </a:solidFill>
                <a:latin typeface="Times New Roman"/>
              </a:rPr>
              <a:t>СВОЯ ИГР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225160" y="482760"/>
            <a:ext cx="54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мерение информации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9000" y="100476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500040" y="1643040"/>
            <a:ext cx="807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Сообщение, записанное буквами из 64-х символьного алфавита, содержит 20 символов. Какой объем информации оно несе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286000" y="45720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истемы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счисления: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06720" y="100476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57120" y="1571760"/>
            <a:ext cx="828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22228b"/>
                </a:solidFill>
                <a:latin typeface="Times New Roman"/>
              </a:rPr>
              <a:t>Выполните действие и запишите результат римскими цифрами: </a:t>
            </a:r>
            <a:r>
              <a:rPr b="1" lang="en-US" sz="2800" spc="-1" strike="noStrike">
                <a:solidFill>
                  <a:srgbClr val="22228b"/>
                </a:solidFill>
                <a:latin typeface="Times New Roman"/>
              </a:rPr>
              <a:t>LXVI</a:t>
            </a: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 : </a:t>
            </a:r>
            <a:r>
              <a:rPr b="1" lang="en-US" sz="2800" spc="-1" strike="noStrike">
                <a:solidFill>
                  <a:srgbClr val="22228b"/>
                </a:solidFill>
                <a:latin typeface="Times New Roman"/>
              </a:rPr>
              <a:t>X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2286000" y="45720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истемы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счисления: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35960" y="85716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00040" y="157176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Перевести число </a:t>
            </a: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5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из десятичной системы счисления с двоичную систему счисления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2143080" y="45720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истемы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счисления: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19400" y="102060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00040" y="1643040"/>
            <a:ext cx="814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Какая сумма записана с помощью стариной русской системы счисления     </a:t>
            </a:r>
            <a:r>
              <a:rPr b="0" lang="ar-SA" sz="3200" spc="-1" strike="noStrike">
                <a:solidFill>
                  <a:srgbClr val="22228b"/>
                </a:solidFill>
                <a:latin typeface="Times New Roman"/>
              </a:rPr>
              <a:t>ٱ ٱ ٱ ٱ ٱ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Х Х Х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22228b"/>
                </a:solidFill>
                <a:latin typeface="Times New Roman"/>
              </a:rPr>
              <a:t>I I I I I I I I I I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22228b"/>
                </a:solidFill>
                <a:latin typeface="Times New Roman"/>
              </a:rPr>
              <a:t>I I I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Для записи чисел использовались следующие знаки:  </a:t>
            </a:r>
            <a:r>
              <a:rPr b="0" lang="ar-SA" sz="3200" spc="-1" strike="noStrike">
                <a:solidFill>
                  <a:srgbClr val="22228b"/>
                </a:solidFill>
                <a:latin typeface="Times New Roman"/>
              </a:rPr>
              <a:t>ٱ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десять рублей, Х – один рубль, </a:t>
            </a:r>
            <a:r>
              <a:rPr b="0" lang="en-US" sz="3200" spc="-1" strike="noStrike">
                <a:solidFill>
                  <a:srgbClr val="22228b"/>
                </a:solidFill>
                <a:latin typeface="Times New Roman"/>
              </a:rPr>
              <a:t>I I I I I I I I I I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– десять копеек, </a:t>
            </a:r>
            <a:r>
              <a:rPr b="0" lang="en-US" sz="3200" spc="-1" strike="noStrike">
                <a:solidFill>
                  <a:srgbClr val="22228b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– копей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2590920" y="457200"/>
            <a:ext cx="48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истемы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 счисления: 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495720" y="94464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500040" y="1643040"/>
            <a:ext cx="8215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В некоторой системе счисления цифры имеют форму различных геометрических фигур. На рисунке приведены некоторые числа, записанные в этой системе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                   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19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Какому числу соответствует следующая запис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Овал 7"/>
          <p:cNvSpPr/>
          <p:nvPr/>
        </p:nvSpPr>
        <p:spPr>
          <a:xfrm>
            <a:off x="642960" y="2857680"/>
            <a:ext cx="357120" cy="35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Овал 8"/>
          <p:cNvSpPr/>
          <p:nvPr/>
        </p:nvSpPr>
        <p:spPr>
          <a:xfrm>
            <a:off x="1143000" y="3500280"/>
            <a:ext cx="357120" cy="357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Равнобедренный треугольник 9"/>
          <p:cNvSpPr/>
          <p:nvPr/>
        </p:nvSpPr>
        <p:spPr>
          <a:xfrm>
            <a:off x="1071720" y="2857680"/>
            <a:ext cx="428400" cy="3697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Равнобедренный треугольник 10"/>
          <p:cNvSpPr/>
          <p:nvPr/>
        </p:nvSpPr>
        <p:spPr>
          <a:xfrm>
            <a:off x="642960" y="3487680"/>
            <a:ext cx="428760" cy="370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Овал 11"/>
          <p:cNvSpPr/>
          <p:nvPr/>
        </p:nvSpPr>
        <p:spPr>
          <a:xfrm>
            <a:off x="1071720" y="4214880"/>
            <a:ext cx="357120" cy="357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12"/>
          <p:cNvSpPr/>
          <p:nvPr/>
        </p:nvSpPr>
        <p:spPr>
          <a:xfrm>
            <a:off x="642960" y="421488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1500120" y="421488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4"/>
          <p:cNvSpPr/>
          <p:nvPr/>
        </p:nvSpPr>
        <p:spPr>
          <a:xfrm>
            <a:off x="4929120" y="2857680"/>
            <a:ext cx="64296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5"/>
          <p:cNvSpPr/>
          <p:nvPr/>
        </p:nvSpPr>
        <p:spPr>
          <a:xfrm>
            <a:off x="5643720" y="2857680"/>
            <a:ext cx="35712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17"/>
          <p:cNvSpPr/>
          <p:nvPr/>
        </p:nvSpPr>
        <p:spPr>
          <a:xfrm>
            <a:off x="6072120" y="2857680"/>
            <a:ext cx="64296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18"/>
          <p:cNvSpPr/>
          <p:nvPr/>
        </p:nvSpPr>
        <p:spPr>
          <a:xfrm>
            <a:off x="5500800" y="3500280"/>
            <a:ext cx="642960" cy="357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Равнобедренный треугольник 19"/>
          <p:cNvSpPr/>
          <p:nvPr/>
        </p:nvSpPr>
        <p:spPr>
          <a:xfrm rot="10800000">
            <a:off x="5000760" y="3500280"/>
            <a:ext cx="428400" cy="370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Равнобедренный треугольник 20"/>
          <p:cNvSpPr/>
          <p:nvPr/>
        </p:nvSpPr>
        <p:spPr>
          <a:xfrm rot="10800000">
            <a:off x="6214680" y="3500280"/>
            <a:ext cx="428760" cy="370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21"/>
          <p:cNvSpPr/>
          <p:nvPr/>
        </p:nvSpPr>
        <p:spPr>
          <a:xfrm>
            <a:off x="2286000" y="5273640"/>
            <a:ext cx="64296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Равнобедренный треугольник 22"/>
          <p:cNvSpPr/>
          <p:nvPr/>
        </p:nvSpPr>
        <p:spPr>
          <a:xfrm rot="10800000">
            <a:off x="1785600" y="5273640"/>
            <a:ext cx="428760" cy="370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Равнобедренный треугольник 23"/>
          <p:cNvSpPr/>
          <p:nvPr/>
        </p:nvSpPr>
        <p:spPr>
          <a:xfrm rot="10800000">
            <a:off x="2999880" y="5273640"/>
            <a:ext cx="428760" cy="370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4"/>
          <p:cNvSpPr/>
          <p:nvPr/>
        </p:nvSpPr>
        <p:spPr>
          <a:xfrm>
            <a:off x="3500280" y="5286240"/>
            <a:ext cx="357480" cy="357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25"/>
          <p:cNvSpPr/>
          <p:nvPr/>
        </p:nvSpPr>
        <p:spPr>
          <a:xfrm>
            <a:off x="3929040" y="5286240"/>
            <a:ext cx="642960" cy="357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6"/>
          <p:cNvSpPr/>
          <p:nvPr/>
        </p:nvSpPr>
        <p:spPr>
          <a:xfrm>
            <a:off x="5143680" y="5286240"/>
            <a:ext cx="357120" cy="357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Равнобедренный треугольник 27"/>
          <p:cNvSpPr/>
          <p:nvPr/>
        </p:nvSpPr>
        <p:spPr>
          <a:xfrm>
            <a:off x="4643280" y="5273640"/>
            <a:ext cx="428760" cy="370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Овал 28"/>
          <p:cNvSpPr/>
          <p:nvPr/>
        </p:nvSpPr>
        <p:spPr>
          <a:xfrm>
            <a:off x="5572080" y="5286240"/>
            <a:ext cx="357120" cy="357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29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2286000" y="457200"/>
            <a:ext cx="52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ктронная таблица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35960" y="85716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428760" y="15717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Вычислить значение в ячей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3" descr="E:\Наташа\Аттестация\Статья\Рисунок5.JPG"/>
          <p:cNvPicPr/>
          <p:nvPr/>
        </p:nvPicPr>
        <p:blipFill>
          <a:blip r:embed="rId1"/>
          <a:stretch/>
        </p:blipFill>
        <p:spPr>
          <a:xfrm>
            <a:off x="2500200" y="2357280"/>
            <a:ext cx="3419640" cy="140652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35">
            <a:hlinkClick r:id="rId2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928880" y="457200"/>
            <a:ext cx="55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ктронная таблица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12120" y="83808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7120" y="1428840"/>
            <a:ext cx="842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Значение в ячейке С3 электронной таблицы после копирования ячейки C1 в ячейку С2 равно: 4; 3; 5; 7;-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34" descr="E:\Наташа\Аттестация\Статья\Рисунок6.JPG"/>
          <p:cNvPicPr/>
          <p:nvPr/>
        </p:nvPicPr>
        <p:blipFill>
          <a:blip r:embed="rId1"/>
          <a:stretch/>
        </p:blipFill>
        <p:spPr>
          <a:xfrm>
            <a:off x="2143080" y="3286080"/>
            <a:ext cx="4667400" cy="15843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36">
            <a:hlinkClick r:id="rId2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2000160" y="457200"/>
            <a:ext cx="53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ктронная таблица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58920" y="7858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428760" y="121428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22228b"/>
                </a:solidFill>
                <a:latin typeface="Times New Roman"/>
              </a:rPr>
              <a:t>Представлен фрагмент электронной таблицы. Выбрать для указанных формул вариант тех, которые допускается вставить в ячейку B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4" descr="E:\Наташа\Аттестация\Статья\Рисунок7.JPG"/>
          <p:cNvPicPr/>
          <p:nvPr/>
        </p:nvPicPr>
        <p:blipFill>
          <a:blip r:embed="rId1"/>
          <a:stretch/>
        </p:blipFill>
        <p:spPr>
          <a:xfrm>
            <a:off x="3000240" y="2357280"/>
            <a:ext cx="3252960" cy="1189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59"/>
          <p:cNvGrpSpPr/>
          <p:nvPr/>
        </p:nvGrpSpPr>
        <p:grpSpPr>
          <a:xfrm>
            <a:off x="1676520" y="3886200"/>
            <a:ext cx="6095520" cy="2285640"/>
            <a:chOff x="1676520" y="3886200"/>
            <a:chExt cx="6095520" cy="2285640"/>
          </a:xfrm>
        </p:grpSpPr>
        <p:grpSp>
          <p:nvGrpSpPr>
            <p:cNvPr id="186" name="Group 57"/>
            <p:cNvGrpSpPr/>
            <p:nvPr/>
          </p:nvGrpSpPr>
          <p:grpSpPr>
            <a:xfrm>
              <a:off x="1684800" y="3891240"/>
              <a:ext cx="6077520" cy="2274480"/>
              <a:chOff x="1684800" y="3891240"/>
              <a:chExt cx="6077520" cy="2274480"/>
            </a:xfrm>
          </p:grpSpPr>
          <p:grpSp>
            <p:nvGrpSpPr>
              <p:cNvPr id="187" name="Group 50"/>
              <p:cNvGrpSpPr/>
              <p:nvPr/>
            </p:nvGrpSpPr>
            <p:grpSpPr>
              <a:xfrm>
                <a:off x="1684800" y="3891240"/>
                <a:ext cx="3213360" cy="723600"/>
                <a:chOff x="1684800" y="3891240"/>
                <a:chExt cx="3213360" cy="723600"/>
              </a:xfrm>
            </p:grpSpPr>
            <p:sp>
              <p:nvSpPr>
                <p:cNvPr id="188" name="Rectangle 45"/>
                <p:cNvSpPr/>
                <p:nvPr/>
              </p:nvSpPr>
              <p:spPr>
                <a:xfrm>
                  <a:off x="1808280" y="3891240"/>
                  <a:ext cx="296640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Формул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49"/>
                <p:cNvSpPr/>
                <p:nvPr/>
              </p:nvSpPr>
              <p:spPr>
                <a:xfrm>
                  <a:off x="1684800" y="3891240"/>
                  <a:ext cx="3213360" cy="72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Group 52"/>
              <p:cNvGrpSpPr/>
              <p:nvPr/>
            </p:nvGrpSpPr>
            <p:grpSpPr>
              <a:xfrm>
                <a:off x="4898520" y="3891240"/>
                <a:ext cx="2863800" cy="723600"/>
                <a:chOff x="4898520" y="3891240"/>
                <a:chExt cx="2863800" cy="723600"/>
              </a:xfrm>
            </p:grpSpPr>
            <p:sp>
              <p:nvSpPr>
                <p:cNvPr id="191" name="Rectangle 46"/>
                <p:cNvSpPr/>
                <p:nvPr/>
              </p:nvSpPr>
              <p:spPr>
                <a:xfrm>
                  <a:off x="5022000" y="3891240"/>
                  <a:ext cx="261612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ариант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51"/>
                <p:cNvSpPr/>
                <p:nvPr/>
              </p:nvSpPr>
              <p:spPr>
                <a:xfrm>
                  <a:off x="4898520" y="3891240"/>
                  <a:ext cx="2863800" cy="72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Group 54"/>
              <p:cNvGrpSpPr/>
              <p:nvPr/>
            </p:nvGrpSpPr>
            <p:grpSpPr>
              <a:xfrm>
                <a:off x="1684800" y="4615200"/>
                <a:ext cx="3213360" cy="1550520"/>
                <a:chOff x="1684800" y="4615200"/>
                <a:chExt cx="3213360" cy="155052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808280" y="4615200"/>
                  <a:ext cx="2966400" cy="155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=СУММ(А1:А3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=СУММ(В1:В3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=А4+В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=В1+В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53"/>
                <p:cNvSpPr/>
                <p:nvPr/>
              </p:nvSpPr>
              <p:spPr>
                <a:xfrm>
                  <a:off x="1684800" y="4615200"/>
                  <a:ext cx="3213360" cy="155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Group 56"/>
              <p:cNvGrpSpPr/>
              <p:nvPr/>
            </p:nvGrpSpPr>
            <p:grpSpPr>
              <a:xfrm>
                <a:off x="4898520" y="4615200"/>
                <a:ext cx="2863800" cy="1550520"/>
                <a:chOff x="4898520" y="4615200"/>
                <a:chExt cx="2863800" cy="1550520"/>
              </a:xfrm>
            </p:grpSpPr>
            <p:sp>
              <p:nvSpPr>
                <p:cNvPr id="197" name="Rectangle 48"/>
                <p:cNvSpPr/>
                <p:nvPr/>
              </p:nvSpPr>
              <p:spPr>
                <a:xfrm>
                  <a:off x="5022000" y="4615200"/>
                  <a:ext cx="2616120" cy="155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и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и 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,3,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55"/>
                <p:cNvSpPr/>
                <p:nvPr/>
              </p:nvSpPr>
              <p:spPr>
                <a:xfrm>
                  <a:off x="4898520" y="4615200"/>
                  <a:ext cx="2863800" cy="155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Rectangle 58"/>
            <p:cNvSpPr/>
            <p:nvPr/>
          </p:nvSpPr>
          <p:spPr>
            <a:xfrm>
              <a:off x="1676520" y="3886200"/>
              <a:ext cx="6095520" cy="2285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AutoShape 61">
            <a:hlinkClick r:id="rId2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0" y="45720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Электронная таблица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06720" y="100476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357120" y="150012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22228b"/>
                </a:solidFill>
                <a:latin typeface="Times New Roman"/>
              </a:rPr>
              <a:t>Укажите, какое значение будет получено в ячейке C6 таблиц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2" descr="E:\Наташа\Аттестация\Статья\Рисунок8.JPG"/>
          <p:cNvPicPr/>
          <p:nvPr/>
        </p:nvPicPr>
        <p:blipFill>
          <a:blip r:embed="rId1"/>
          <a:stretch/>
        </p:blipFill>
        <p:spPr>
          <a:xfrm>
            <a:off x="2438280" y="2819520"/>
            <a:ext cx="3962520" cy="177480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44">
            <a:hlinkClick r:id="rId2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Управляющая кнопка: возврат 11">
            <a:hlinkClick r:id="rId1" action="ppaction://hlinksldjump"/>
          </p:cNvPr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981080" y="27432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819520" y="27432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Молод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27"/>
          <p:cNvSpPr/>
          <p:nvPr/>
        </p:nvSpPr>
        <p:spPr>
          <a:xfrm>
            <a:off x="838080" y="1447920"/>
            <a:ext cx="29718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28"/>
          <p:cNvSpPr/>
          <p:nvPr/>
        </p:nvSpPr>
        <p:spPr>
          <a:xfrm>
            <a:off x="838080" y="2514600"/>
            <a:ext cx="29718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29"/>
          <p:cNvSpPr/>
          <p:nvPr/>
        </p:nvSpPr>
        <p:spPr>
          <a:xfrm>
            <a:off x="838080" y="3581280"/>
            <a:ext cx="2971800" cy="10670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30"/>
          <p:cNvSpPr/>
          <p:nvPr/>
        </p:nvSpPr>
        <p:spPr>
          <a:xfrm>
            <a:off x="838080" y="4648320"/>
            <a:ext cx="29718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32"/>
          <p:cNvSpPr/>
          <p:nvPr/>
        </p:nvSpPr>
        <p:spPr>
          <a:xfrm>
            <a:off x="3809880" y="144792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33"/>
          <p:cNvSpPr/>
          <p:nvPr/>
        </p:nvSpPr>
        <p:spPr>
          <a:xfrm>
            <a:off x="4952880" y="144792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34"/>
          <p:cNvSpPr/>
          <p:nvPr/>
        </p:nvSpPr>
        <p:spPr>
          <a:xfrm>
            <a:off x="3809880" y="251460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5"/>
          <p:cNvSpPr/>
          <p:nvPr/>
        </p:nvSpPr>
        <p:spPr>
          <a:xfrm>
            <a:off x="3809880" y="3581280"/>
            <a:ext cx="1143000" cy="10670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36"/>
          <p:cNvSpPr/>
          <p:nvPr/>
        </p:nvSpPr>
        <p:spPr>
          <a:xfrm>
            <a:off x="3809880" y="464832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37"/>
          <p:cNvSpPr/>
          <p:nvPr/>
        </p:nvSpPr>
        <p:spPr>
          <a:xfrm>
            <a:off x="6095880" y="144792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38"/>
          <p:cNvSpPr/>
          <p:nvPr/>
        </p:nvSpPr>
        <p:spPr>
          <a:xfrm>
            <a:off x="7238880" y="144792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39"/>
          <p:cNvSpPr/>
          <p:nvPr/>
        </p:nvSpPr>
        <p:spPr>
          <a:xfrm>
            <a:off x="4952880" y="251460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40"/>
          <p:cNvSpPr/>
          <p:nvPr/>
        </p:nvSpPr>
        <p:spPr>
          <a:xfrm>
            <a:off x="4952880" y="3581280"/>
            <a:ext cx="1143000" cy="10670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1"/>
          <p:cNvSpPr/>
          <p:nvPr/>
        </p:nvSpPr>
        <p:spPr>
          <a:xfrm>
            <a:off x="4952880" y="464832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42"/>
          <p:cNvSpPr/>
          <p:nvPr/>
        </p:nvSpPr>
        <p:spPr>
          <a:xfrm>
            <a:off x="6095880" y="251460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43"/>
          <p:cNvSpPr/>
          <p:nvPr/>
        </p:nvSpPr>
        <p:spPr>
          <a:xfrm>
            <a:off x="7238880" y="251460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44"/>
          <p:cNvSpPr/>
          <p:nvPr/>
        </p:nvSpPr>
        <p:spPr>
          <a:xfrm>
            <a:off x="6095880" y="3581280"/>
            <a:ext cx="1143000" cy="10670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45"/>
          <p:cNvSpPr/>
          <p:nvPr/>
        </p:nvSpPr>
        <p:spPr>
          <a:xfrm>
            <a:off x="7238880" y="3581280"/>
            <a:ext cx="1143000" cy="10670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46"/>
          <p:cNvSpPr/>
          <p:nvPr/>
        </p:nvSpPr>
        <p:spPr>
          <a:xfrm>
            <a:off x="6095880" y="464832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47"/>
          <p:cNvSpPr/>
          <p:nvPr/>
        </p:nvSpPr>
        <p:spPr>
          <a:xfrm>
            <a:off x="7238880" y="4648320"/>
            <a:ext cx="11430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3333cc"/>
              </a:gs>
              <a:gs pos="50000">
                <a:srgbClr val="000066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8"/>
          <p:cNvSpPr/>
          <p:nvPr/>
        </p:nvSpPr>
        <p:spPr>
          <a:xfrm>
            <a:off x="251460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НФОРМАТИ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49"/>
          <p:cNvSpPr/>
          <p:nvPr/>
        </p:nvSpPr>
        <p:spPr>
          <a:xfrm>
            <a:off x="10666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ирование информаци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50"/>
          <p:cNvSpPr/>
          <p:nvPr/>
        </p:nvSpPr>
        <p:spPr>
          <a:xfrm>
            <a:off x="1066680" y="25909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рение информ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1"/>
          <p:cNvSpPr/>
          <p:nvPr/>
        </p:nvSpPr>
        <p:spPr>
          <a:xfrm>
            <a:off x="1066680" y="3657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л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2"/>
          <p:cNvSpPr/>
          <p:nvPr/>
        </p:nvSpPr>
        <p:spPr>
          <a:xfrm>
            <a:off x="1066680" y="478476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лектронная таблиц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5"/>
          <p:cNvSpPr/>
          <p:nvPr/>
        </p:nvSpPr>
        <p:spPr>
          <a:xfrm>
            <a:off x="3886200" y="265104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56"/>
          <p:cNvSpPr/>
          <p:nvPr/>
        </p:nvSpPr>
        <p:spPr>
          <a:xfrm>
            <a:off x="3886200" y="37339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7"/>
          <p:cNvSpPr/>
          <p:nvPr/>
        </p:nvSpPr>
        <p:spPr>
          <a:xfrm>
            <a:off x="3886200" y="4861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8"/>
          <p:cNvSpPr/>
          <p:nvPr/>
        </p:nvSpPr>
        <p:spPr>
          <a:xfrm>
            <a:off x="5029200" y="16765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2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9"/>
          <p:cNvSpPr/>
          <p:nvPr/>
        </p:nvSpPr>
        <p:spPr>
          <a:xfrm>
            <a:off x="5029200" y="265104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0"/>
          <p:cNvSpPr/>
          <p:nvPr/>
        </p:nvSpPr>
        <p:spPr>
          <a:xfrm>
            <a:off x="5029200" y="37339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1"/>
          <p:cNvSpPr/>
          <p:nvPr/>
        </p:nvSpPr>
        <p:spPr>
          <a:xfrm>
            <a:off x="5029200" y="4861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2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62"/>
          <p:cNvSpPr/>
          <p:nvPr/>
        </p:nvSpPr>
        <p:spPr>
          <a:xfrm>
            <a:off x="6172200" y="16765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3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3"/>
          <p:cNvSpPr/>
          <p:nvPr/>
        </p:nvSpPr>
        <p:spPr>
          <a:xfrm>
            <a:off x="6172200" y="26668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3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4"/>
          <p:cNvSpPr/>
          <p:nvPr/>
        </p:nvSpPr>
        <p:spPr>
          <a:xfrm>
            <a:off x="6172200" y="3718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65"/>
          <p:cNvSpPr/>
          <p:nvPr/>
        </p:nvSpPr>
        <p:spPr>
          <a:xfrm>
            <a:off x="6172200" y="4861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3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6"/>
          <p:cNvSpPr/>
          <p:nvPr/>
        </p:nvSpPr>
        <p:spPr>
          <a:xfrm>
            <a:off x="7315200" y="16765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7"/>
          <p:cNvSpPr/>
          <p:nvPr/>
        </p:nvSpPr>
        <p:spPr>
          <a:xfrm>
            <a:off x="7315200" y="26668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4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8"/>
          <p:cNvSpPr/>
          <p:nvPr/>
        </p:nvSpPr>
        <p:spPr>
          <a:xfrm>
            <a:off x="7315200" y="3718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4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9"/>
          <p:cNvSpPr/>
          <p:nvPr/>
        </p:nvSpPr>
        <p:spPr>
          <a:xfrm>
            <a:off x="7315200" y="4861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72"/>
          <p:cNvSpPr/>
          <p:nvPr/>
        </p:nvSpPr>
        <p:spPr>
          <a:xfrm>
            <a:off x="3886200" y="16606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1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4">
            <a:hlinkClick r:id="" action="ppaction://hlinkshowjump?jump=lastslide"/>
          </p:cNvPr>
          <p:cNvSpPr/>
          <p:nvPr/>
        </p:nvSpPr>
        <p:spPr>
          <a:xfrm>
            <a:off x="78487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676520" y="2743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Копейка рубль береж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Управляющая кнопка: возврат 11">
            <a:hlinkClick r:id="rId1" action="ppaction://hlinksldjump"/>
          </p:cNvPr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676520" y="28195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Что? – Где? – Когд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Управляющая кнопка: возврат 11">
            <a:hlinkClick r:id="rId1" action="ppaction://hlinksldjump"/>
          </p:cNvPr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362320" y="27432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Информа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Управляющая кнопка: возврат 11">
            <a:hlinkClick r:id="rId1" action="ppaction://hlinksldjump"/>
          </p:cNvPr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3048120" y="27432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1 б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971800" y="2743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4 би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819520" y="27432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8 подъезд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971800" y="2743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120 б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3505320" y="27432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352680" y="27432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101</a:t>
            </a:r>
            <a:r>
              <a:rPr b="1" lang="en-US" sz="3200" spc="-1" strike="noStrike" baseline="-25000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200400" y="2743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53,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8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785960" y="3189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дирование информации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: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87640" y="6238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285840" y="1104840"/>
            <a:ext cx="8553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Дана кодовая таблица азбуки Мор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Расшифруйте (декодируйте), что здесь написано (буквы отделены друг от друга пробелами)</a:t>
            </a:r>
            <a:r>
              <a:rPr b="1" lang="ru-RU" sz="2400" spc="-1" strike="noStrike">
                <a:solidFill>
                  <a:srgbClr val="2626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http://www.tpcol.ru/sites/230105_2011/ucheb/eBooks/IB/image/PRi5_1.gif"/>
          <p:cNvPicPr/>
          <p:nvPr/>
        </p:nvPicPr>
        <p:blipFill>
          <a:blip r:embed="rId1"/>
          <a:stretch/>
        </p:blipFill>
        <p:spPr>
          <a:xfrm>
            <a:off x="1714680" y="1666800"/>
            <a:ext cx="5676840" cy="3286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ttp://www.tpcol.ru/sites/230105_2011/ucheb/eBooks/IB/image/PRi5_2.gif"/>
          <p:cNvPicPr/>
          <p:nvPr/>
        </p:nvPicPr>
        <p:blipFill>
          <a:blip r:embed="rId2"/>
          <a:stretch/>
        </p:blipFill>
        <p:spPr>
          <a:xfrm>
            <a:off x="1752480" y="6058080"/>
            <a:ext cx="5715000" cy="1904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1">
            <a:hlinkClick r:id="rId3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124080" y="2743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19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505320" y="27432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429000" y="2743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200400" y="2743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1 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и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429000" y="2743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Ответ: 2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Управляющая кнопка: возврат 11"/>
          <p:cNvSpPr/>
          <p:nvPr/>
        </p:nvSpPr>
        <p:spPr>
          <a:xfrm>
            <a:off x="8358120" y="6072120"/>
            <a:ext cx="571680" cy="500040"/>
          </a:xfrm>
          <a:custGeom>
            <a:avLst/>
            <a:gdLst>
              <a:gd name="textAreaLeft" fmla="*/ 32400 w 571680"/>
              <a:gd name="textAreaRight" fmla="*/ 539280 w 57168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4692" h="21600">
                <a:moveTo>
                  <a:pt x="0" y="0"/>
                </a:moveTo>
                <a:lnTo>
                  <a:pt x="24692" y="0"/>
                </a:lnTo>
                <a:lnTo>
                  <a:pt x="24692" y="21600"/>
                </a:lnTo>
                <a:lnTo>
                  <a:pt x="0" y="21600"/>
                </a:lnTo>
                <a:close/>
              </a:path>
              <a:path fill="lightenLess" w="24692" h="21600">
                <a:moveTo>
                  <a:pt x="0" y="0"/>
                </a:moveTo>
                <a:lnTo>
                  <a:pt x="24692" y="0"/>
                </a:lnTo>
                <a:lnTo>
                  <a:pt x="23292" y="1400"/>
                </a:lnTo>
                <a:lnTo>
                  <a:pt x="1400" y="1400"/>
                </a:lnTo>
                <a:close/>
              </a:path>
              <a:path fill="darken" w="24692" h="21600">
                <a:moveTo>
                  <a:pt x="24692" y="0"/>
                </a:moveTo>
                <a:lnTo>
                  <a:pt x="24692" y="21600"/>
                </a:lnTo>
                <a:lnTo>
                  <a:pt x="23292" y="20200"/>
                </a:lnTo>
                <a:lnTo>
                  <a:pt x="23292" y="1400"/>
                </a:lnTo>
                <a:close/>
              </a:path>
              <a:path fill="darkenLess" w="24692" h="21600">
                <a:moveTo>
                  <a:pt x="2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2" y="20200"/>
                </a:lnTo>
                <a:close/>
              </a:path>
              <a:path fill="lighten" w="2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2" h="21600">
                <a:moveTo>
                  <a:pt x="5340" y="7493"/>
                </a:moveTo>
                <a:lnTo>
                  <a:pt x="8847" y="7493"/>
                </a:lnTo>
                <a:lnTo>
                  <a:pt x="8847" y="12828"/>
                </a:lnTo>
                <a:cubicBezTo>
                  <a:pt x="8847" y="13751"/>
                  <a:pt x="9648" y="14482"/>
                  <a:pt x="10684" y="14482"/>
                </a:cubicBezTo>
                <a:lnTo>
                  <a:pt x="12346" y="14482"/>
                </a:lnTo>
                <a:cubicBezTo>
                  <a:pt x="13382" y="14482"/>
                  <a:pt x="14183" y="13751"/>
                  <a:pt x="14183" y="12828"/>
                </a:cubicBezTo>
                <a:lnTo>
                  <a:pt x="14183" y="7493"/>
                </a:lnTo>
                <a:lnTo>
                  <a:pt x="12346" y="7493"/>
                </a:lnTo>
                <a:lnTo>
                  <a:pt x="15854" y="3985"/>
                </a:lnTo>
                <a:lnTo>
                  <a:pt x="19527" y="7493"/>
                </a:lnTo>
                <a:lnTo>
                  <a:pt x="17690" y="7493"/>
                </a:lnTo>
                <a:lnTo>
                  <a:pt x="17690" y="12828"/>
                </a:lnTo>
                <a:cubicBezTo>
                  <a:pt x="17690" y="15596"/>
                  <a:pt x="15114" y="18155"/>
                  <a:pt x="12346" y="18155"/>
                </a:cubicBezTo>
                <a:lnTo>
                  <a:pt x="10684" y="18155"/>
                </a:lnTo>
                <a:cubicBezTo>
                  <a:pt x="7916" y="18155"/>
                  <a:pt x="5340" y="15596"/>
                  <a:pt x="5340" y="12828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6"/>
          <p:cNvSpPr/>
          <p:nvPr/>
        </p:nvSpPr>
        <p:spPr>
          <a:xfrm>
            <a:off x="1214280" y="1857240"/>
            <a:ext cx="635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ВСЕМ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СПАСИБО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7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857240" y="45720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дирование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ормации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81240" y="92880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0880" y="137160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Зашифрованная пословиц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Чтобы рубить дрова, нужен – 14,2,3,2,7, а чтобы полить огород – 10,4,5,1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ыбаки сделали во льду – 3,7,2,7,8,9,11 и стали ловить рыб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Самый колючий зверь в лесу – это 12,1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А теперь прочитайте пословицу</a:t>
            </a:r>
            <a:r>
              <a:rPr b="1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– 1,2,3,4,5,1,6,7,8,9,10,11,9,4,7,4,13,12,14</a:t>
            </a: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9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905120" y="258840"/>
            <a:ext cx="61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дирование</a:t>
            </a:r>
            <a:r>
              <a:rPr b="1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формации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11280" y="76212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85920" y="2286000"/>
          <a:ext cx="5881680" cy="2925720"/>
        </p:xfrm>
        <a:graphic>
          <a:graphicData uri="http://schemas.openxmlformats.org/drawingml/2006/table">
            <a:tbl>
              <a:tblPr/>
              <a:tblGrid>
                <a:gridCol w="587160"/>
                <a:gridCol w="588960"/>
                <a:gridCol w="587520"/>
                <a:gridCol w="588960"/>
                <a:gridCol w="587520"/>
                <a:gridCol w="588960"/>
                <a:gridCol w="587160"/>
                <a:gridCol w="588960"/>
                <a:gridCol w="588960"/>
                <a:gridCol w="587520"/>
              </a:tblGrid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22228b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4"/>
          <p:cNvSpPr/>
          <p:nvPr/>
        </p:nvSpPr>
        <p:spPr>
          <a:xfrm>
            <a:off x="214200" y="1168560"/>
            <a:ext cx="8529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Дана кодировочная таблица (первая циф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кода – номер строки, вторая – номер столбц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Используя кодировочную таблицу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асшифруйте текс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252015383503040538351115030400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87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071800" y="457200"/>
            <a:ext cx="60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дирование информации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87280" y="1000080"/>
            <a:ext cx="155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62699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28760" y="1643040"/>
            <a:ext cx="8358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Расшифруйте слово</a:t>
            </a: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 МРЧСУПГЩМВ,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закодированное с помощью шифра Цезаря. Этот шифр реализует следующее преобразование текста: каждая буква исходного текста заменяется третьей после нее буквой в алфавите, который считается написанным по кру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225160" y="482760"/>
            <a:ext cx="54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мерение информации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721800" y="1071720"/>
            <a:ext cx="163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714240" y="1857240"/>
            <a:ext cx="7072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Вы подошли к светофору, когда горел красный свет. После этого загорелся зеленый. Какое количество информации вы при этом получил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5"/>
          <p:cNvSpPr/>
          <p:nvPr/>
        </p:nvSpPr>
        <p:spPr>
          <a:xfrm>
            <a:off x="228600" y="304920"/>
            <a:ext cx="871524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2225160" y="482760"/>
            <a:ext cx="54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мерение информации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59000" y="10666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00040" y="17146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Была получена телеграмма: «Встречайте, вагон 7». Известно, что в составе поезда 16 вагонов. Какое количество информации было получе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5"/>
          <p:cNvSpPr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2225160" y="482760"/>
            <a:ext cx="549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змерение информации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: 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74760" y="1081080"/>
            <a:ext cx="14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8b"/>
                </a:solidFill>
                <a:latin typeface="Times New Roman"/>
              </a:rPr>
              <a:t>Вопро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28760" y="1643040"/>
            <a:ext cx="814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22228b"/>
                </a:solidFill>
                <a:latin typeface="Times New Roman"/>
              </a:rPr>
              <a:t>Сообщение о том, что Петя живет во втором подъезде, несет 3 бита информации. Сколько подъездов в этом дом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8">
            <a:hlinkClick r:id="rId1" action="ppaction://hlinksldjump"/>
          </p:cNvPr>
          <p:cNvSpPr/>
          <p:nvPr/>
        </p:nvSpPr>
        <p:spPr>
          <a:xfrm>
            <a:off x="8229600" y="60199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2:16:37Z</dcterms:created>
  <dc:creator>***</dc:creator>
  <dc:description/>
  <dc:language>en-US</dc:language>
  <cp:lastModifiedBy>ПК</cp:lastModifiedBy>
  <dcterms:modified xsi:type="dcterms:W3CDTF">2013-04-09T18:09:31Z</dcterms:modified>
  <cp:revision>49</cp:revision>
  <dc:subject/>
  <dc:title>Презентация PowerPoint</dc:title>
</cp:coreProperties>
</file>