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95D-9872-413D-97FF-DFC25341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8E2-2828-4996-B310-5DA941DC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C52-D05D-4EAE-8490-DAB68385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5D2-0039-42BB-AC93-AE47E271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87F-1F4E-430D-9576-0319D5C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5D0-891D-4882-9207-F9A8D0BB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72A-3262-436B-A3DC-1B44785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DA0-BB73-4307-8E34-AEAEEC4D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959-D1E6-48D7-92CE-1EDB670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602-83ED-46C2-A847-01FC5F2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4A4-1DD2-41D7-8675-9B82E48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DF9-8DC0-4BEC-A49B-B7F5CB3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18E8-F60A-4AA8-B612-7A7B4040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admin\Мои документы\Мои рисунки\priroda042.gif"/>
          <p:cNvPicPr/>
          <p:nvPr/>
        </p:nvPicPr>
        <p:blipFill>
          <a:blip r:embed="rId1"/>
          <a:stretch/>
        </p:blipFill>
        <p:spPr>
          <a:xfrm>
            <a:off x="826920" y="1052640"/>
            <a:ext cx="748836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6320" y="18972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09fd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09fd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0" descr="chicos-medio-ambiente.jpg"/>
          <p:cNvPicPr/>
          <p:nvPr/>
        </p:nvPicPr>
        <p:blipFill>
          <a:blip r:embed="rId2"/>
          <a:stretch/>
        </p:blipFill>
        <p:spPr>
          <a:xfrm>
            <a:off x="3203640" y="765000"/>
            <a:ext cx="2752560" cy="2752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>
            <a:off x="2124000" y="3429000"/>
            <a:ext cx="5135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а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ерантности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332000" y="62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уги, посвященные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«Толерант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2376360" cy="177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5877000"/>
            <a:ext cx="2232000" cy="84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43640" y="333360"/>
            <a:ext cx="2376360" cy="184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237636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2411280" cy="196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443640" y="2492280"/>
            <a:ext cx="2376360" cy="217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443640" y="4941720"/>
            <a:ext cx="2376360" cy="147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771640" y="189000"/>
            <a:ext cx="3529080" cy="211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276720" y="2421000"/>
            <a:ext cx="2519280" cy="340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33:00Z</dcterms:created>
  <dc:creator>Друзья</dc:creator>
  <dc:description/>
  <dc:language>en-US</dc:language>
  <cp:lastModifiedBy>@</cp:lastModifiedBy>
  <dcterms:modified xsi:type="dcterms:W3CDTF">2013-04-09T18:59:12Z</dcterms:modified>
  <cp:revision>84</cp:revision>
  <dc:subject/>
  <dc:title>Слайд 1</dc:title>
</cp:coreProperties>
</file>