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239-9C4C-41BF-9733-631A03811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044-1134-4EE9-9F49-249E7B90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643-2682-4CD0-AC31-FAB5C57C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837-A732-4D78-BDCF-9BD23AB9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AEC-1D9E-44C6-9BEC-EF23D2AA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F6B-4A53-4CBD-A681-742E7FD9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02C-5ACE-401F-B4E3-275E3CE7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5BC-5701-4E3B-8162-4FC3F617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45E-F2EF-4DE9-A06D-7B66246C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93A-ED0D-4C9A-A610-FA700685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644-D4BB-4FCC-99C1-4CFCA5DD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CE5-8A02-4C51-9FBC-87061101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E2F2-5A1B-4FE9-B235-E114E82CE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admin\Мои документы\Мои рисунки\priroda042.gif"/>
          <p:cNvPicPr/>
          <p:nvPr/>
        </p:nvPicPr>
        <p:blipFill>
          <a:blip r:embed="rId1"/>
          <a:stretch/>
        </p:blipFill>
        <p:spPr>
          <a:xfrm>
            <a:off x="826920" y="1052640"/>
            <a:ext cx="7488360" cy="5010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6320" y="189720"/>
            <a:ext cx="44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09fd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309fd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0" descr="chicos-medio-ambiente.jpg"/>
          <p:cNvPicPr/>
          <p:nvPr/>
        </p:nvPicPr>
        <p:blipFill>
          <a:blip r:embed="rId2"/>
          <a:stretch/>
        </p:blipFill>
        <p:spPr>
          <a:xfrm>
            <a:off x="3203640" y="765000"/>
            <a:ext cx="2752560" cy="2752920"/>
          </a:xfrm>
          <a:prstGeom prst="rect">
            <a:avLst/>
          </a:prstGeom>
          <a:ln w="0">
            <a:noFill/>
          </a:ln>
        </p:spPr>
      </p:pic>
      <p:sp>
        <p:nvSpPr>
          <p:cNvPr id="44" name="WordArt 9"/>
          <p:cNvSpPr txBox="1"/>
          <p:nvPr/>
        </p:nvSpPr>
        <p:spPr>
          <a:xfrm>
            <a:off x="2124000" y="3429000"/>
            <a:ext cx="51357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ета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лерантности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332000" y="6236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уги, посвященные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«Толерант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2376360" cy="177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19640" y="5877000"/>
            <a:ext cx="2232000" cy="842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43640" y="333360"/>
            <a:ext cx="2376360" cy="1849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2376360" cy="174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50920" y="2492280"/>
            <a:ext cx="2411280" cy="196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443640" y="2492280"/>
            <a:ext cx="2376360" cy="2171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443640" y="4941720"/>
            <a:ext cx="2376360" cy="1471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771640" y="189000"/>
            <a:ext cx="3529080" cy="2114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276720" y="2421000"/>
            <a:ext cx="2519280" cy="3403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7:33:00Z</dcterms:created>
  <dc:creator>Друзья</dc:creator>
  <dc:description/>
  <dc:language>en-US</dc:language>
  <cp:lastModifiedBy>@</cp:lastModifiedBy>
  <dcterms:modified xsi:type="dcterms:W3CDTF">2013-04-09T18:59:12Z</dcterms:modified>
  <cp:revision>84</cp:revision>
  <dc:subject/>
  <dc:title>Слайд 1</dc:title>
</cp:coreProperties>
</file>