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7DC-4A89-498C-8E92-2D4E3D2E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6D7-D6C4-4B6D-A679-F00E151B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A046-A07E-41B2-8F22-B24C1FD9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CD0-23DE-4B80-9F1B-1A8E64A3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6CE-096C-4137-809E-EE0A7685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1D4-C09C-41D9-95E5-BAC6C186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077-3AD6-4C9D-AF7B-B2CCE833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3D8-849F-40E2-811C-58CB4820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440F-C955-44DB-9C46-B845A3B6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719-FC9E-440C-9FB1-9C2631EF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A57D-A1A5-4AE6-99FA-B063CAB5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1D0-EE20-4468-98D6-690CDC8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24EF-EB84-4638-A8FF-6C90B27E078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763640" y="189720"/>
            <a:ext cx="568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116000" y="4292640"/>
            <a:ext cx="7058160" cy="15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ЕЛЫЕ СТАРТЫ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987640" y="602892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ртивные соревн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67280" y="2781360"/>
            <a:ext cx="3084480" cy="295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635280" y="260280"/>
            <a:ext cx="2000520" cy="26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940360" y="189000"/>
            <a:ext cx="3024360" cy="242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564000" y="3068640"/>
            <a:ext cx="203832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79280" y="2708280"/>
            <a:ext cx="3168720" cy="2490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843280" y="5877000"/>
            <a:ext cx="597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b81e4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ходим, чтобы победить,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b81e43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b81e4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ходим потренироваться!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b81e43"/>
                  </a:gs>
                </a:gsLst>
                <a:lin ang="81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@</cp:lastModifiedBy>
  <dcterms:modified xsi:type="dcterms:W3CDTF">2013-04-09T19:04:54Z</dcterms:modified>
  <cp:revision>741</cp:revision>
  <dc:subject/>
  <dc:title>Diapositiva 1</dc:title>
</cp:coreProperties>
</file>