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5D32-60B4-44D4-A94B-455C4180D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B755-65FA-40D3-9124-279501EAB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7C1E-6BE7-4310-B4E7-50A0B7A44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433B-7589-4D54-9BFE-2E34E2E9E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7C81-810A-4546-8F85-669A3FD08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D5F3-454C-4058-BD3D-D72A058C5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ACFD-AF26-4D32-BC77-97A898DF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7598-198B-45AF-8FA1-9345B22D6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7FA8-09B1-45AE-B6BF-79C145D67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0176-32F4-4C1E-BCCE-F0F86EB5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97A8-0963-4BC4-A98B-33F3ED82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3875-4099-40FE-87EF-5B482429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DDCC-6B58-4D7E-960A-FCFC2726542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763640" y="189720"/>
            <a:ext cx="568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осударственное образовательное учреж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етский сад комбинированного вида №7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1116000" y="4292640"/>
            <a:ext cx="7058160" cy="154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ЕСЕЛЫЕ СТАРТЫ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2987640" y="6028920"/>
            <a:ext cx="31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ортивные соревн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867280" y="2781360"/>
            <a:ext cx="3084480" cy="2955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3168720" cy="2374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635280" y="260280"/>
            <a:ext cx="2000520" cy="2664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5940360" y="189000"/>
            <a:ext cx="3024360" cy="2425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3564000" y="3068640"/>
            <a:ext cx="2038320" cy="2376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179280" y="2708280"/>
            <a:ext cx="3168720" cy="2490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2843280" y="5877000"/>
            <a:ext cx="597672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99"/>
                    </a:gs>
                    <a:gs pos="100000">
                      <a:srgbClr val="b81e43"/>
                    </a:gs>
                  </a:gsLst>
                  <a:lin ang="81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ходим, чтобы победить,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0099"/>
                  </a:gs>
                  <a:gs pos="100000">
                    <a:srgbClr val="b81e43"/>
                  </a:gs>
                </a:gsLst>
                <a:lin ang="81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99"/>
                    </a:gs>
                    <a:gs pos="100000">
                      <a:srgbClr val="b81e43"/>
                    </a:gs>
                  </a:gsLst>
                  <a:lin ang="81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ходим потренироваться!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0099"/>
                  </a:gs>
                  <a:gs pos="100000">
                    <a:srgbClr val="b81e43"/>
                  </a:gs>
                </a:gsLst>
                <a:lin ang="81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@</cp:lastModifiedBy>
  <dcterms:modified xsi:type="dcterms:W3CDTF">2013-04-09T19:04:54Z</dcterms:modified>
  <cp:revision>741</cp:revision>
  <dc:subject/>
  <dc:title>Diapositiva 1</dc:title>
</cp:coreProperties>
</file>