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6.gif" ContentType="image/gif"/>
  <Override PartName="/ppt/media/image19.png" ContentType="image/png"/>
  <Override PartName="/ppt/media/image28.jpeg" ContentType="image/jpeg"/>
  <Override PartName="/ppt/media/image7.jpeg" ContentType="image/jpeg"/>
  <Override PartName="/ppt/media/image15.gif" ContentType="image/gif"/>
  <Override PartName="/ppt/media/image5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29.gif" ContentType="image/gif"/>
  <Override PartName="/ppt/media/image9.png" ContentType="image/png"/>
  <Override PartName="/ppt/media/image30.jpeg" ContentType="image/jpeg"/>
  <Override PartName="/ppt/media/image31.jpeg" ContentType="image/jpeg"/>
  <Override PartName="/ppt/media/image25.jpeg" ContentType="image/jpeg"/>
  <Override PartName="/ppt/media/image11.jpeg" ContentType="image/jpeg"/>
  <Override PartName="/ppt/media/image33.gif" ContentType="image/gif"/>
  <Override PartName="/ppt/media/image18.png" ContentType="image/png"/>
  <Override PartName="/ppt/media/image6.jpeg" ContentType="image/jpeg"/>
  <Override PartName="/ppt/media/image1.jpeg" ContentType="image/jpe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0.jpeg" ContentType="image/jpeg"/>
  <Override PartName="/ppt/media/image21.gif" ContentType="image/gif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B0BD-FBDB-4C6F-A630-6EBACC1F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ACB5-9CF9-4F50-9773-07673A41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82E0-E125-4BB1-8960-1B007454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C605-327F-404F-AD81-C853EE1F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CD8C-AC38-4B6C-9D1D-BA94EDA4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827D-2C67-42CA-8FF5-FB661EC9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A25A-29D4-4110-8AEF-F7303FD7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3F23-B00E-4525-955F-51339BB3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C392-B946-4BA1-98BD-B4E460E7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D3E-8465-4171-8830-9C9A620D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A1F0-E15A-44A6-8D17-1844B6A0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44B-BB8D-46E2-9B84-6F6A3EF1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D97C-869B-4F77-A97E-0AEFE5CC8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777080" cy="3557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332000" y="404640"/>
            <a:ext cx="6696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Язык   смайл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0755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-)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 Шут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)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 Улыбка - чувств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-)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 Шутка с намеком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(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Печальная улыбка. Вы чем-то огорчены, и это относится либо к последнему высказыванию (участника разговора, включая вас), либо в целом по отношению к какому-либо событию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-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 Среднее межд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-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-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 Можно охарактеризовать как неуверенную улыбку с налетом  печали / груст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-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 Вы только что сделали саркастическое замеч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атюр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)    Standard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]    Веселы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@    Вопящи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gt;:-@ (еще один вариант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-D    Ржущи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I    Думающи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(    Опечаленны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[    Лодырь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96000" y="4292640"/>
            <a:ext cx="2160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лыбка,   — гру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*) — улыбаюсь и цел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-~) — у меня насморк,     -  подмигива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ивляюсь,      — не зна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-|| — злюс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-O — скуча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-&amp; — нет сл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зна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-V — крич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-) — завис перед монитор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:-) — слушаю плее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-}- — дарю роз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-(____) — очень сильно удиви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:-)"/>
          <p:cNvPicPr/>
          <p:nvPr/>
        </p:nvPicPr>
        <p:blipFill>
          <a:blip r:embed="rId1"/>
          <a:stretch/>
        </p:blipFill>
        <p:spPr>
          <a:xfrm>
            <a:off x="539640" y="162864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:("/>
          <p:cNvPicPr/>
          <p:nvPr/>
        </p:nvPicPr>
        <p:blipFill>
          <a:blip r:embed="rId2"/>
          <a:stretch/>
        </p:blipFill>
        <p:spPr>
          <a:xfrm>
            <a:off x="3203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;-)"/>
          <p:cNvPicPr/>
          <p:nvPr/>
        </p:nvPicPr>
        <p:blipFill>
          <a:blip r:embed="rId3"/>
          <a:stretch/>
        </p:blipFill>
        <p:spPr>
          <a:xfrm>
            <a:off x="471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:-o"/>
          <p:cNvPicPr/>
          <p:nvPr/>
        </p:nvPicPr>
        <p:blipFill>
          <a:blip r:embed="rId4"/>
          <a:stretch/>
        </p:blipFill>
        <p:spPr>
          <a:xfrm>
            <a:off x="395280" y="3068640"/>
            <a:ext cx="430200" cy="430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:-?"/>
          <p:cNvPicPr/>
          <p:nvPr/>
        </p:nvPicPr>
        <p:blipFill>
          <a:blip r:embed="rId5"/>
          <a:stretch/>
        </p:blipFill>
        <p:spPr>
          <a:xfrm rot="20685600">
            <a:off x="468000" y="357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7520040" y="5234040"/>
            <a:ext cx="16239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144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Меня коробит при одном их виде! – заявляет кинокритик Роджер Эберт. – Возможно, смайлики могут помочь, к примеру, сегодняшним студентам, выросшим на телесериалах и неспособных различить шутку без «вспомогательного» закадрового смеха. Но превращать смайлик в непременного спутника нашей жизни?!»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1108080" cy="1077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5300640"/>
            <a:ext cx="1371600" cy="1324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8000" y="2205000"/>
            <a:ext cx="12128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04800" y="171360"/>
            <a:ext cx="61344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Используете ли вы при общении смай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 –   94%                      Нет-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В каких ситуациях вы используете смай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онтактах , смс, асик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Необходимы ли смайлы в наше вре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-  82%                               Нет- 1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.В чем видите плюсы использования смайло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? Наибольшее количество ответов получили вариа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улучшают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 ними текст становится нескуч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меньше пис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экономишь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оротко и понят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380360" y="69228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5.В чем вы видите минусы использования смайлов?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Наибольшее количество ответов получили вариа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минусов нет – 7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ет диалога – 1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ухудшают грамо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4%-примитивность речи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6.Предложите будущее языка смайлов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арианты ответов следующи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майлы будут двигаться и издавать зву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будут в реале 3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-полностью заменят сл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внедрятся во все сферы жиз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732720" y="126828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майлы Дэвида Сандерс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-)-0 улыбающийся доктор со стетоскопом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'( «я плачу»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-# «нем, как могила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:-) «я панк-рокер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-o «скучно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,'%/ «слишком долго спал на одном боку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) «хорошо бы подстричься» 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5029200"/>
            <a:ext cx="1868400" cy="1828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740720" y="2492280"/>
            <a:ext cx="12142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59280" y="1936800"/>
            <a:ext cx="5905440" cy="4921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60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0e13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14680" y="1052640"/>
            <a:ext cx="5715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ма́йлик (англ. smiley — «улыбающийся») –является стилизованным изображением улыбающегося человеческого лиц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50133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59640" y="1844640"/>
            <a:ext cx="21700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Текстовые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составленные из знаков препинания, букв и цифр, которые  можно  найти на клавиатуре компьютер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-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улыбка        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-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печал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Графические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виде маленькой картинки-иконки, правильнее было бы их называть эмотиконами (от англ.emotic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rot="20551800">
            <a:off x="6372000" y="414972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екстовые смай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91380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нтябрь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2 го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4327560" cy="4365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59280" y="0"/>
            <a:ext cx="5184720" cy="3460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43280" y="4109040"/>
            <a:ext cx="669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тт Фалман -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есс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ериканского университета    Карнеги - Мелл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4103640" cy="5184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32720" y="465444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зайн  Харви Болла использовался в рекламной кампании Университета федеральных сбережений и займа в Сиэт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2674800" cy="2674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869080" y="4365720"/>
            <a:ext cx="32749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284720" y="76320"/>
            <a:ext cx="4680000" cy="4093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108000" y="1886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арви Болл – американский худо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380664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319640" y="2133720"/>
            <a:ext cx="4824360" cy="3449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200160"/>
            <a:ext cx="431496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03:32:07Z</dcterms:created>
  <dc:creator>Customer</dc:creator>
  <dc:description/>
  <dc:language>en-US</dc:language>
  <cp:lastModifiedBy>Customer</cp:lastModifiedBy>
  <dcterms:modified xsi:type="dcterms:W3CDTF">2012-03-13T04:51:29Z</dcterms:modified>
  <cp:revision>10</cp:revision>
  <dc:subject/>
  <dc:title>Слайд 1</dc:title>
</cp:coreProperties>
</file>