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4.gif" ContentType="image/gif"/>
  <Override PartName="/ppt/media/image26.gif" ContentType="image/gif"/>
  <Override PartName="/ppt/media/image19.png" ContentType="image/png"/>
  <Override PartName="/ppt/media/image28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29.gif" ContentType="image/gif"/>
  <Override PartName="/ppt/media/image9.png" ContentType="image/png"/>
  <Override PartName="/ppt/media/image30.jpeg" ContentType="image/jpeg"/>
  <Override PartName="/ppt/media/image31.jpeg" ContentType="image/jpeg"/>
  <Override PartName="/ppt/media/image25.jpeg" ContentType="image/jpeg"/>
  <Override PartName="/ppt/media/image11.jpeg" ContentType="image/jpeg"/>
  <Override PartName="/ppt/media/image33.gif" ContentType="image/gif"/>
  <Override PartName="/ppt/media/image18.png" ContentType="image/png"/>
  <Override PartName="/ppt/media/image6.jpeg" ContentType="image/jpeg"/>
  <Override PartName="/ppt/media/image1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0.jpeg" ContentType="image/jpeg"/>
  <Override PartName="/ppt/media/image21.gif" ContentType="image/gif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D8BB-19C1-496E-BAD5-B494EFB4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C49-77DF-4318-9C38-3B1281D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C1D-1FA8-4D00-8D6A-A865C93B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9D7-7B7F-405C-A91E-92E0D4CC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AB8-9B8D-4F47-AF65-4052D8B2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984-6839-436E-B7A9-30AF8C0D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B785-4697-443D-844D-DD9219CB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37F-493D-43A5-921D-8E533B25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1CA-AEE6-4519-B8B7-DB929744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6C4-FB3B-4ED3-B048-FDF2825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272-BEB4-4A58-9C5E-2DF0F0CD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3DE-747C-487D-8E7F-B6B954B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44F0-7B9A-4306-A2FD-55B86866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777080" cy="355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404640"/>
            <a:ext cx="6696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Язык   смайл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0755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-)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Шут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)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Улыбка - чувст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-)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Шутка с намеком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(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Печальная улыбка. Вы чем-то огорчены, и это относится либо к последнему высказыванию (участника разговора, включая вас), либо в целом по отношению к какому-либо событию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-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Среднее межд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-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-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Можно охарактеризовать как неуверенную улыбку с налетом  печали / груст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-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Вы только что сделали саркастическое замеч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атю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)    Standar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]    Весел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@    Вопящ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gt;:-@ (еще один вариант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-D    Ржущ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I    Думающ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(    Опечаленны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[    Лодырь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6000" y="4292640"/>
            <a:ext cx="21607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лыбка,   — гру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*) — улыбаюсь и цел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~) — у меня насморк,     -  подмигив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ивляюсь,      — не зн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|| — злюс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-O — скуч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&amp; — нет сл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на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V — крич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-) — завис перед монитор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:-) — слушаю плее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-}- — дарю роз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(____) — очень сильно удив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:-)"/>
          <p:cNvPicPr/>
          <p:nvPr/>
        </p:nvPicPr>
        <p:blipFill>
          <a:blip r:embed="rId1"/>
          <a:stretch/>
        </p:blipFill>
        <p:spPr>
          <a:xfrm>
            <a:off x="539640" y="162864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:("/>
          <p:cNvPicPr/>
          <p:nvPr/>
        </p:nvPicPr>
        <p:blipFill>
          <a:blip r:embed="rId2"/>
          <a:stretch/>
        </p:blipFill>
        <p:spPr>
          <a:xfrm>
            <a:off x="3203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;-)"/>
          <p:cNvPicPr/>
          <p:nvPr/>
        </p:nvPicPr>
        <p:blipFill>
          <a:blip r:embed="rId3"/>
          <a:stretch/>
        </p:blipFill>
        <p:spPr>
          <a:xfrm>
            <a:off x="471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:-o"/>
          <p:cNvPicPr/>
          <p:nvPr/>
        </p:nvPicPr>
        <p:blipFill>
          <a:blip r:embed="rId4"/>
          <a:stretch/>
        </p:blipFill>
        <p:spPr>
          <a:xfrm>
            <a:off x="395280" y="3068640"/>
            <a:ext cx="430200" cy="430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:-?"/>
          <p:cNvPicPr/>
          <p:nvPr/>
        </p:nvPicPr>
        <p:blipFill>
          <a:blip r:embed="rId5"/>
          <a:stretch/>
        </p:blipFill>
        <p:spPr>
          <a:xfrm rot="20685600">
            <a:off x="468000" y="357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7520040" y="5234040"/>
            <a:ext cx="16239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144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еня коробит при одном их виде! – заявляет кинокритик Роджер Эберт. – Возможно, смайлики могут помочь, к примеру, сегодняшним студентам, выросшим на телесериалах и неспособных различить шутку без «вспомогательного» закадрового смеха. Но превращать смайлик в непременного спутника нашей жизни?!»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108080" cy="10778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8000" y="2205000"/>
            <a:ext cx="12128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04800" y="171360"/>
            <a:ext cx="61344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Используете ли вы при общении смай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 –   94%                      Нет-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В каких ситуациях вы используете смай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нтактах , смс, асик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Необходимы ли смайлы в наше вре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-  82%                               Нет- 1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В чем видите плюсы использования смайло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? Наибольшее количество ответов получили вари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лучшают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 ними текст становится нескуч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еньше пис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экономишь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ротко и поня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В чем вы видите минусы использования смайлов?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аибольшее количество ответов получили вари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инусов нет – 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т диалога – 1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худшают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4%-примитивность речи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6.Предложите будущее языка смайлов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ианты ответов следующи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майлы будут двигаться и издавать зву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будут в реале 3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-полностью заменят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недрятся во все сферы жиз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216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майлы Дэвида Сандер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)-0 улыбающийся доктор со стетоскопом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'( «я плачу»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# «нем, как могил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:-) «я панк-рокер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-o «скучно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,'%/ «слишком долго спал на одном боку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) «хорошо бы подстричься»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868400" cy="1828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740720" y="2492280"/>
            <a:ext cx="1214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59280" y="1936800"/>
            <a:ext cx="5905440" cy="4921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60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e13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14680" y="1052640"/>
            <a:ext cx="5715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ма́йлик (англ. smiley — «улыбающийся») –является стилизованным изображением улыбающегося человеческого лиц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501336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59640" y="1844640"/>
            <a:ext cx="21700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Текстовые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составленные из знаков препинания, букв и цифр, которые  можно  найти на клавиатуре компьютер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-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улыбка         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-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печал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Графические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виде маленькой картинки-иконки, правильнее было бы их называть эмотиконами (от англ.emotic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20551800">
            <a:off x="6372000" y="414972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екстовые смай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9138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нтябрь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2 г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327560" cy="436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9280" y="0"/>
            <a:ext cx="5184720" cy="3460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43280" y="4109040"/>
            <a:ext cx="66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тт Фалман -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есс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ого университета    Карнеги - Мелл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4103640" cy="5184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32720" y="465444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зайн  Харви Болла использовался в рекламной кампании Университета федеральных сбережений и займа в Сиэт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2674800" cy="267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69080" y="4365720"/>
            <a:ext cx="32749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84720" y="76320"/>
            <a:ext cx="4680000" cy="409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08000" y="1886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рви Болл – американский 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80664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319640" y="2133720"/>
            <a:ext cx="4824360" cy="3449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00160"/>
            <a:ext cx="43149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3:32:07Z</dcterms:created>
  <dc:creator>Customer</dc:creator>
  <dc:description/>
  <dc:language>en-US</dc:language>
  <cp:lastModifiedBy>Customer</cp:lastModifiedBy>
  <dcterms:modified xsi:type="dcterms:W3CDTF">2012-03-13T04:51:29Z</dcterms:modified>
  <cp:revision>10</cp:revision>
  <dc:subject/>
  <dc:title>Слайд 1</dc:title>
</cp:coreProperties>
</file>