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DBF-FD18-4C84-9048-416FAFB6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856-3A09-4177-9A95-4C037B04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FA1-67BD-429D-863F-5EAF53F1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196E-4560-4287-BBEC-4EABA1D8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9CD7-3FBD-4B34-B496-9644C909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914A-989D-479F-B212-70B993B6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FF9C-FF9E-42F3-8A21-EFF6F42D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CD8C-CF34-4D9E-87D0-EA9C2B82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06AF-EDD5-4925-9C3C-61C450BE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7136-E22D-46E4-B087-573342BF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0F2A-1DAB-43C3-96F1-4F646BD7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A77C-E5B7-4BA3-BBB9-47CD8170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0A53-9056-4E7C-84B1-BC0F708D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CDF4-4BB0-4A66-AC69-2220C80E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5930-20CB-4A7A-A9F5-1CD38EDB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CEBD-742A-4A27-9F5A-27D43625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0FB0-1E9E-45EA-98D3-D0F5FAFD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B6B-1FF1-4AA6-AFE2-262FB40B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F37-7547-4DDC-9DF8-CE383524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6FE-BD3F-47FE-8863-21B7B7C4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7A4-E087-4BE1-AA44-F2251F33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4768-5809-4CC1-BDBA-109C540E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F29-D780-4EAF-9647-75CA542F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E00D-E49C-4B23-9BF3-2E69F16F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F546-7DFB-429C-AB6A-789B6C528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F995-8D0A-4DF8-BFBC-DECA68B789F1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71640" y="4652640"/>
            <a:ext cx="7416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Tahoma"/>
              </a:rPr>
              <a:t>Тыва Республиканың Бай-Тайга кожууннуң Шуй ортумак ниити билиг школазының тыва дыл болгаш чогаал башкызы Хертек Айлаңмаа Очуровнаның ажы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8680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Чедиишкинниг  өөренириниң  шынарлары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4280" y="1857240"/>
            <a:ext cx="774072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1. Өөредилгениң эгелээшкини өөрушку болгаш хандыкшыл болур ужурлу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2.Кичээл γезинде өөреникчи б</a:t>
            </a:r>
            <a:r>
              <a:rPr b="0" i="1" lang="el-GR" sz="32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р</a:t>
            </a:r>
            <a:r>
              <a:rPr b="0" i="1" lang="el-GR" sz="32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-з</a:t>
            </a:r>
            <a:r>
              <a:rPr b="0" i="1" lang="el-GR" sz="32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нге чедимчелиг билигниң  оруун  шын  айты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3. Өөреникчи б</a:t>
            </a:r>
            <a:r>
              <a:rPr b="0" i="1" lang="el-GR" sz="32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р</a:t>
            </a:r>
            <a:r>
              <a:rPr b="0" i="1" lang="el-GR" sz="32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з</a:t>
            </a:r>
            <a:r>
              <a:rPr b="0" i="1" lang="el-GR" sz="32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нге чедиишкин турар кылдыр байдалды тургуза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11-ги класстың билиг талазы-биле көрг</a:t>
            </a:r>
            <a:r>
              <a:rPr b="1" i="1" lang="el-GR" sz="40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з</a:t>
            </a:r>
            <a:r>
              <a:rPr b="1" i="1" lang="el-GR" sz="40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глер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838080" y="1905120"/>
          <a:ext cx="7877160" cy="4228920"/>
        </p:xfrm>
        <a:graphic>
          <a:graphicData uri="http://schemas.openxmlformats.org/drawingml/2006/table">
            <a:tbl>
              <a:tblPr/>
              <a:tblGrid>
                <a:gridCol w="3591000"/>
                <a:gridCol w="1357200"/>
                <a:gridCol w="1571760"/>
                <a:gridCol w="1357200"/>
              </a:tblGrid>
              <a:tr h="823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Шуп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Билиг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шынары-ның  хууз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Өөредилге  хууз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Эге били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1 улду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ң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 10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2 улду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ң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 10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3 улду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ң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 10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4 улду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ң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 10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1-ги чартык чыл  11 к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2 –ги чартык чыл 11 к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9328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Мөөрейлерге киржилгези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95280" y="1268280"/>
          <a:ext cx="8317080" cy="5048280"/>
        </p:xfrm>
        <a:graphic>
          <a:graphicData uri="http://schemas.openxmlformats.org/drawingml/2006/table">
            <a:tbl>
              <a:tblPr/>
              <a:tblGrid>
                <a:gridCol w="3790800"/>
                <a:gridCol w="1433520"/>
                <a:gridCol w="1659240"/>
                <a:gridCol w="1433520"/>
              </a:tblGrid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Мөөрейниң а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Чы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Че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Т</a:t>
                      </a: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уң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не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«Чылд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 Cyr"/>
                        </a:rPr>
                        <a:t>ы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ң</a:t>
                      </a: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класс башкызы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Кожуу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вид-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«Чылды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ң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 башкызы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3 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«Чылды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ң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 башкызы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Кожуу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 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Номи-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«Чылды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ң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 башкызы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14200" y="0"/>
            <a:ext cx="78868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Ажылды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  <a:ea typeface="Tahoma"/>
              </a:rPr>
              <a:t>ң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 ту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  <a:ea typeface="Tahoma"/>
              </a:rPr>
              <a:t>ң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нелдер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Прямоугольник 3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583236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826920" y="1484280"/>
          <a:ext cx="7604280" cy="446400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  <a:gridCol w="2060640"/>
                <a:gridCol w="979200"/>
                <a:gridCol w="1440000"/>
              </a:tblGrid>
              <a:tr h="83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ы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р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Ө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ө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никчини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ң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Ф.А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а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лган че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01-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ыва ды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Кочаа Ал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4-ку чер (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07-20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ыва ды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Кочаа Айды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З- ку чер (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65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08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ыва ды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Салчак Аржа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-ку чер (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5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ыва чога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Донгак Хою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-ку чер (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09-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ыва ды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Дажый-оол Ага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Салчак Аржа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Кочаа Айды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-ги чер (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-ги чер (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-ги чер (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ыва чога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Донгак Хою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Кочаа Айды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-ку чер (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-ку чер (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87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ыва ды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Салчак Аржа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-ги чер (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ыва чога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Донгак Хою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-ку чер (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85880" y="1428840"/>
          <a:ext cx="8072280" cy="4937040"/>
        </p:xfrm>
        <a:graphic>
          <a:graphicData uri="http://schemas.openxmlformats.org/drawingml/2006/table">
            <a:tbl>
              <a:tblPr/>
              <a:tblGrid>
                <a:gridCol w="676080"/>
                <a:gridCol w="3878280"/>
                <a:gridCol w="1230480"/>
                <a:gridCol w="2287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Ө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ө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никчинин Ф.А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ирген чы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Ө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ө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дилге че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Намзырай Шончала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Сарыг-оол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КУ филфак.  Тыва дыл, чога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Хирлиг-оол А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  <a:ea typeface="Tahoma"/>
                        </a:rPr>
                        <a:t>ң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наар-оол Александ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КУ филфак.  Тыва дыл, чога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Донгак Орланма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Эрес-оол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КУ филфак.  Тыва дыл, чога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Иргит Ше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  <a:ea typeface="Tahoma"/>
                        </a:rPr>
                        <a:t>ң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н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Григор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КУ филфак.  Тыва дыл, чога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5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Насык-оол Ай-Су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Адыг-оол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КУ филфак.  Тыва дыл, чога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  <p:pic>
        <p:nvPicPr>
          <p:cNvPr id="157" name="Заголовок 3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8026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жык кичээлдер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14240" y="1143000"/>
          <a:ext cx="8286840" cy="4643280"/>
        </p:xfrm>
        <a:graphic>
          <a:graphicData uri="http://schemas.openxmlformats.org/drawingml/2006/table">
            <a:tbl>
              <a:tblPr/>
              <a:tblGrid>
                <a:gridCol w="690840"/>
                <a:gridCol w="4241520"/>
                <a:gridCol w="1008360"/>
                <a:gridCol w="1027080"/>
                <a:gridCol w="13190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ма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а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ы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рттирген че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кси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т ор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ыва бижикт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ң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тывылган 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өө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уз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 «б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т орунна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«б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ң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ыс  аймак кежигуннерлиг домакт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«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ылыг  с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ө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γ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γ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ң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болуушкун  наклонениезин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ң  γ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ле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«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.Куулар «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ң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ашкын соонда болчаг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емчик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мактын кежиг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γ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не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емчик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онетикага катаптаашкын кичээ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«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юн-кичээл «Ак-кок отчугаштар». Лексикага тунн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«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ээли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.Кок-оол «Самбажык» деп шииге туннел-кичээ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 «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чээл аян чорук «Фонетика чурту» Фонетикага тунн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«б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9328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Илеткелдер болгаш дыннадыглар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836640"/>
          <a:ext cx="8496360" cy="5857920"/>
        </p:xfrm>
        <a:graphic>
          <a:graphicData uri="http://schemas.openxmlformats.org/drawingml/2006/table">
            <a:tbl>
              <a:tblPr/>
              <a:tblGrid>
                <a:gridCol w="496800"/>
                <a:gridCol w="4184640"/>
                <a:gridCol w="861840"/>
                <a:gridCol w="1297080"/>
                <a:gridCol w="1656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мал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е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рттирген че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уседикчинин Ф.А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Тыва дыл кичээлдеринге оюннар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ертек А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Тыва дыл кичээлдеринге чурук-биле ажылдар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ертек А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ругларн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ң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ө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  курлавырын байыдар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ертек А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ыва дыл эртеминге тестил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ертек А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ыва дыл эртеминге ребустарны ажыгла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ертек А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С.Токанын «Борулерни аннаары» деп чогаалында малчыннын овур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ТДЛЭШ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ертек А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ыва дыл, чогаал кичээлдеринге информастыг харылзажылга технологиязын ажыгла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ертек А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23744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  <a:ea typeface="Tahoma"/>
              </a:rPr>
              <a:t>О</a:t>
            </a:r>
            <a:r>
              <a:rPr b="1" lang="el-GR" sz="2800" spc="-1" strike="noStrike">
                <a:solidFill>
                  <a:srgbClr val="0000cc"/>
                </a:solidFill>
                <a:latin typeface="Tahoma"/>
                <a:ea typeface="Tahoma"/>
              </a:rPr>
              <a:t>ө</a:t>
            </a: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реникчилерни</a:t>
            </a:r>
            <a:r>
              <a:rPr b="1" lang="ru-RU" sz="2800" spc="-1" strike="noStrike">
                <a:solidFill>
                  <a:srgbClr val="0000cc"/>
                </a:solidFill>
                <a:latin typeface="Tahoma"/>
                <a:ea typeface="Tahoma"/>
              </a:rPr>
              <a:t>ң</a:t>
            </a: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 ажылдары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5280" y="981000"/>
          <a:ext cx="8496360" cy="5184360"/>
        </p:xfrm>
        <a:graphic>
          <a:graphicData uri="http://schemas.openxmlformats.org/drawingml/2006/table">
            <a:tbl>
              <a:tblPr/>
              <a:tblGrid>
                <a:gridCol w="496800"/>
                <a:gridCol w="4111560"/>
                <a:gridCol w="935280"/>
                <a:gridCol w="1297080"/>
                <a:gridCol w="1655640"/>
              </a:tblGrid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мал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е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рттирген че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уседикчинин Ф.А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ыннадыг «Өк-биле адаар ажык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γ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нерлиг с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ө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ер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лчак Аржаана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ыннадыг «Тыва дылда омографтар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нгак Хоюна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ыннадыг «Ч.Куулар «Шораан»  деп чогаалда деннелгелерни ажыгла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лчак Аржаана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Пейзаж – овур-хевирлерни ажыдарынын уран аргаз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ча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тыш 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А.А. Даржайнын чогаалдарында ава темазын чырыткан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ертек Саглай 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23744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  <a:ea typeface="Tahoma"/>
              </a:rPr>
              <a:t>Моорейлерге киржилгенин коргузуглер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981000"/>
          <a:ext cx="8496360" cy="5184360"/>
        </p:xfrm>
        <a:graphic>
          <a:graphicData uri="http://schemas.openxmlformats.org/drawingml/2006/table">
            <a:tbl>
              <a:tblPr/>
              <a:tblGrid>
                <a:gridCol w="496800"/>
                <a:gridCol w="4111560"/>
                <a:gridCol w="935280"/>
                <a:gridCol w="1297080"/>
                <a:gridCol w="1655640"/>
              </a:tblGrid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мал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е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рттирген че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уседикчинин Ф.А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ыннадыг «Өк-биле адаар ажык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γ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нерлиг с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ө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ер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лчак Аржаана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ыннадыг «Тыва дылда омографтар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нгак Хоюна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ыннадыг «Ч.Куулар «Шораан»  деп чогаалда деннелгелерни ажыгла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лчак Аржаана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Пейзаж – овур-хевирлерни ажыдарынын уран аргаз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ча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тыш 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А.А. Даржайнын чогаалдарында ава темазын чырыткан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ертек Саглай 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068640"/>
            <a:ext cx="81756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ru-RU" sz="5400" spc="-1" strike="noStrike">
                <a:solidFill>
                  <a:srgbClr val="333399"/>
                </a:solidFill>
                <a:latin typeface="Tahoma"/>
              </a:rPr>
              <a:t>«Сөс б</a:t>
            </a:r>
            <a:r>
              <a:rPr b="0" i="1" lang="el-GR" sz="54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5400" spc="-1" strike="noStrike">
                <a:solidFill>
                  <a:srgbClr val="333399"/>
                </a:solidFill>
                <a:latin typeface="Tahoma"/>
              </a:rPr>
              <a:t>р</a:t>
            </a:r>
            <a:r>
              <a:rPr b="0" i="1" lang="el-GR" sz="54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5400" spc="-1" strike="noStrike">
                <a:solidFill>
                  <a:srgbClr val="333399"/>
                </a:solidFill>
                <a:latin typeface="Tahoma"/>
              </a:rPr>
              <a:t>з</a:t>
            </a:r>
            <a:r>
              <a:rPr b="0" i="1" lang="el-GR" sz="54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5400" spc="-1" strike="noStrike">
                <a:solidFill>
                  <a:srgbClr val="333399"/>
                </a:solidFill>
                <a:latin typeface="Tahoma"/>
              </a:rPr>
              <a:t>н</a:t>
            </a:r>
            <a:r>
              <a:rPr b="0" i="1" lang="el-GR" sz="54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5400" spc="-1" strike="noStrike">
                <a:solidFill>
                  <a:srgbClr val="333399"/>
                </a:solidFill>
                <a:latin typeface="Tahoma"/>
              </a:rPr>
              <a:t>ң утказын ханы сайгарбышаан, уругларның  сөс курлавырын байыдары».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611280" y="620640"/>
            <a:ext cx="75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ahoma"/>
              </a:rPr>
              <a:t>Шиитпирлээр айтырыг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39640" y="5084640"/>
            <a:ext cx="8175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cc00cc"/>
                </a:solidFill>
                <a:latin typeface="Tahoma"/>
              </a:rPr>
              <a:t>2007-2011 өөредилге чылдар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Өөренири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4200" y="2349360"/>
            <a:ext cx="822960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1763640" y="1700280"/>
            <a:ext cx="5904000" cy="1297080"/>
          </a:xfrm>
          <a:prstGeom prst="ellipse">
            <a:avLst/>
          </a:prstGeom>
          <a:solidFill>
            <a:srgbClr val="ffff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771640" y="1844640"/>
            <a:ext cx="41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Чедиишкинниг өөренириниң 3 кол принциптер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11"/>
          <p:cNvSpPr/>
          <p:nvPr/>
        </p:nvSpPr>
        <p:spPr>
          <a:xfrm>
            <a:off x="468360" y="3429000"/>
            <a:ext cx="2303280" cy="2232000"/>
          </a:xfrm>
          <a:prstGeom prst="ellipse">
            <a:avLst/>
          </a:prstGeom>
          <a:solidFill>
            <a:srgbClr val="ffff63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Oval 12"/>
          <p:cNvSpPr/>
          <p:nvPr/>
        </p:nvSpPr>
        <p:spPr>
          <a:xfrm>
            <a:off x="3059280" y="3500280"/>
            <a:ext cx="2519280" cy="2305080"/>
          </a:xfrm>
          <a:prstGeom prst="ellipse">
            <a:avLst/>
          </a:prstGeom>
          <a:solidFill>
            <a:srgbClr val="ffff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5867280" y="3500280"/>
            <a:ext cx="2521080" cy="2232360"/>
          </a:xfrm>
          <a:prstGeom prst="ellipse">
            <a:avLst/>
          </a:prstGeom>
          <a:solidFill>
            <a:srgbClr val="ffff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684360" y="4076640"/>
            <a:ext cx="180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өөренир ч</a:t>
            </a:r>
            <a:r>
              <a:rPr b="0" i="1" lang="el-GR" sz="1800" spc="-1" strike="noStrike">
                <a:solidFill>
                  <a:srgbClr val="333399"/>
                </a:solidFill>
                <a:latin typeface="Arial"/>
              </a:rPr>
              <a:t>γγ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лд</a:t>
            </a:r>
            <a:r>
              <a:rPr b="0" i="1" lang="el-GR" sz="1800" spc="-1" strike="noStrike">
                <a:solidFill>
                  <a:srgbClr val="333399"/>
                </a:solidFill>
                <a:latin typeface="Arial"/>
              </a:rPr>
              <a:t>γ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ң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билдингир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тодазы.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276720" y="414972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өөренип алырының чугулазын медереп билир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6227640" y="414972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Кичээлге солун болур ужурлу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17"/>
          <p:cNvSpPr/>
          <p:nvPr/>
        </p:nvSpPr>
        <p:spPr>
          <a:xfrm flipH="1">
            <a:off x="1692360" y="2781360"/>
            <a:ext cx="79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3851280" y="292428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5724360" y="2997360"/>
            <a:ext cx="115272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765000"/>
            <a:ext cx="7792920" cy="18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Тыва дыл болгаш тыва чогаал кичээлдериниң кол сорулгалары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700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1. Уруглар өөренип турар ч</a:t>
            </a:r>
            <a:r>
              <a:rPr b="0" i="1" lang="el-GR" sz="2800" spc="-1" strike="noStrike">
                <a:solidFill>
                  <a:srgbClr val="333399"/>
                </a:solidFill>
                <a:latin typeface="Tahoma"/>
              </a:rPr>
              <a:t>γγ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л</a:t>
            </a:r>
            <a:r>
              <a:rPr b="0" i="1" lang="el-GR" sz="28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н  угаан-биле сайгарып, медереп билген турарын чедип алыр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2. Уруглар боттарының бодалдарын шын илередип билир кылдыр өөредир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3. Уругларны  шын бижииринге өөреди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4"/>
          <p:cNvSpPr/>
          <p:nvPr/>
        </p:nvSpPr>
        <p:spPr>
          <a:xfrm>
            <a:off x="1692360" y="1413000"/>
            <a:ext cx="5184720" cy="4390920"/>
          </a:xfrm>
          <a:prstGeom prst="triangle">
            <a:avLst>
              <a:gd name="adj" fmla="val 50000"/>
            </a:avLst>
          </a:prstGeom>
          <a:solidFill>
            <a:srgbClr val="ffff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843280" y="836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Сонуурга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68360" y="59500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ашк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300720" y="602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Өөреникч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276720" y="3429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ичээ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Ол сонуургалдарны канчаар чедип алырыл??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1785960" y="1000080"/>
            <a:ext cx="5400720" cy="1008000"/>
          </a:xfrm>
          <a:prstGeom prst="ellipse">
            <a:avLst/>
          </a:prstGeom>
          <a:solidFill>
            <a:srgbClr val="ffff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928960" y="121428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Шиитпирлээр оруктар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611280" y="1989000"/>
            <a:ext cx="3456000" cy="1441440"/>
          </a:xfrm>
          <a:prstGeom prst="ellipse">
            <a:avLst/>
          </a:prstGeom>
          <a:solidFill>
            <a:srgbClr val="ffff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4572000" y="1989000"/>
            <a:ext cx="3743280" cy="1368720"/>
          </a:xfrm>
          <a:prstGeom prst="ellipse">
            <a:avLst/>
          </a:prstGeom>
          <a:solidFill>
            <a:srgbClr val="ffff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11280" y="2349360"/>
            <a:ext cx="31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Катап-катап шиңгээдир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5219640" y="234936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Чаа хевирниң кичээлдер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428760" y="4143240"/>
            <a:ext cx="3600360" cy="1584360"/>
          </a:xfrm>
          <a:prstGeom prst="ellipse">
            <a:avLst/>
          </a:prstGeom>
          <a:solidFill>
            <a:srgbClr val="ffff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13"/>
          <p:cNvSpPr/>
          <p:nvPr/>
        </p:nvSpPr>
        <p:spPr>
          <a:xfrm>
            <a:off x="4716360" y="4005360"/>
            <a:ext cx="3600720" cy="1584360"/>
          </a:xfrm>
          <a:prstGeom prst="ellipse">
            <a:avLst/>
          </a:prstGeom>
          <a:solidFill>
            <a:srgbClr val="ffff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187280" y="436572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Чалгааранчыг кичээлде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5003640" y="4221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Эртемни сонуургаары, ынак болур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16"/>
          <p:cNvSpPr/>
          <p:nvPr/>
        </p:nvSpPr>
        <p:spPr>
          <a:xfrm flipH="1">
            <a:off x="2484000" y="1700280"/>
            <a:ext cx="574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17"/>
          <p:cNvSpPr/>
          <p:nvPr/>
        </p:nvSpPr>
        <p:spPr>
          <a:xfrm>
            <a:off x="6012000" y="1773360"/>
            <a:ext cx="720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18"/>
          <p:cNvSpPr/>
          <p:nvPr/>
        </p:nvSpPr>
        <p:spPr>
          <a:xfrm>
            <a:off x="2268360" y="342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6588000" y="33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0"/>
          <p:cNvSpPr/>
          <p:nvPr/>
        </p:nvSpPr>
        <p:spPr>
          <a:xfrm flipV="1">
            <a:off x="6732720" y="3357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Кичээл! – сен – х</a:t>
            </a:r>
            <a:r>
              <a:rPr b="0" i="1" lang="el-GR" sz="36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н сен!</a:t>
            </a:r>
            <a:br>
              <a:rPr sz="3600"/>
            </a:b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Ш. Амонашвил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2682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1. Эртемге </a:t>
            </a:r>
            <a:r>
              <a:rPr b="0" i="1" lang="el-GR" sz="28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ндезилеттинген материалды бедик деңнелге бээр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2. Эртемни херек кырында амыдыралга ажыглаары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3. Тода, билдингир болур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4. Эртем херек дээрзин уругнуң медереп билири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5. Быжыг билиглиг болуру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6. Бодал чок шээжилээриниң орнунга, угаан-биле сайгарып билири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7.Көрг</a:t>
            </a:r>
            <a:r>
              <a:rPr b="0" i="1" lang="el-GR" sz="28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з</a:t>
            </a:r>
            <a:r>
              <a:rPr b="0" i="1" lang="el-GR" sz="28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г материалдарын ажыглаа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Кичээлдиң бедик т</a:t>
            </a:r>
            <a:r>
              <a:rPr b="1" i="1" lang="el-GR" sz="36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ңнелдерлиг болганын ч</a:t>
            </a:r>
            <a:r>
              <a:rPr b="1" i="1" lang="el-GR" sz="36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ден </a:t>
            </a:r>
            <a:r>
              <a:rPr b="1" i="1" lang="el-GR" sz="36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нелээрил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1. Уругларның билигге сонуургалының болгаш угаан-медерелиниң сайзыралының бед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2. Кичээлдиң γезин камналгалыг болгаш сорулга чедип алыры-биле ажыглаа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3. Янзы-буру методтар болгаш аргаларны ажыглаа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4.  Өөреникчи болгаш башкының аразында харылзааның болгаш хамаарылганың онзагай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5. Өөреникчилерниң билиг шынарының делгеми болгаш быжы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60640" y="229680"/>
            <a:ext cx="7651440" cy="13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Өөреникчилерниң сонуургалын чедип алыр сорулга-биле ажыглаар аргалар (технологиялар)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30088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Каттышкан кичээлдер (интегрированные уроки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Маргылдаа болгаш оюн хевирлиг  кичээлде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Болуушкуннарга γндезилээн кичээлдер (кичээл-суд, кичээл-концерт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Фантазия ажыглап эрттирер кичээлде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Хөй ниитилелдиң болуушкуннарынга γндезилеп эрттирген кичээлде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Класстан дашкаар ажылдарның хевирлерин кичээлге ажыглаа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0:10Z</dcterms:created>
  <dc:creator>USER</dc:creator>
  <dc:description/>
  <dc:language>en-US</dc:language>
  <cp:lastModifiedBy>Связной</cp:lastModifiedBy>
  <dcterms:modified xsi:type="dcterms:W3CDTF">2012-02-11T16:45:26Z</dcterms:modified>
  <cp:revision>70</cp:revision>
  <dc:subject/>
  <dc:title>Педагогические технологии на основе активизации и интенсификации познавательного интереса в мыслительной деятельности учащихся</dc:title>
</cp:coreProperties>
</file>