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827-76D6-4173-852E-BB1F5A00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2D5-F144-485A-9647-8F39AD67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888-F473-4A70-A685-E0145FB4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3C6-93C5-46FC-AFCC-D315CE3B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C9F1-DFB0-4020-8799-229DE36F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1B4B-95F9-4284-9CE1-DE8F98E1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042E-21C8-45C9-990F-DFBEDB43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53CA-1592-45C5-B0A9-700EDC66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0571-C66E-4EF5-9896-E594FB2B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C74F-8E61-40D0-B0EC-B7599B6E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8E47-9657-41D4-BC72-0503E4E3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5442-C5E5-4BEB-BF35-CA59899D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CEF3-DEFF-458E-A0D7-C67BE97B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E906-73AC-4211-8694-9075D604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618C-77C1-438A-8872-7070D20D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5B26-5398-42A1-AD01-D1F7A319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2912-5F17-4776-8F18-858152EA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41B-84EF-4D20-8358-E07A1FF2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87C-B842-4770-A5F2-1AF4D220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58DE-EF14-4923-98CF-F2B25044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1C6-F3D4-469E-9A79-8D69414C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B90-DF1D-49D3-8CC1-769E6A5D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4DF-0F58-4F62-9E16-420525D0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041F-8205-467D-A39F-9C1E2114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D84B-D2AC-4AC3-9588-AAA088123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2EC8-D5F5-4427-A9A3-6FD76FA41C0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416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ahoma"/>
              </a:rPr>
              <a:t>Тыва Республиканың Бай-Тайга кожууннуң Шуй ортумак ниити билиг школазының тыва дыл болгаш чогаал башкызы Хертек Айлаңмаа Очуровнаның ажы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8680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Чедиишкинниг  өөренириниң  шынарлар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4280" y="1857240"/>
            <a:ext cx="774072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1. Өөредилгениң эгелээшкини өөрушку болгаш хандыкшыл болур ужурлуг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2.Кичээл γезинде өөреникчи б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р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-з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нге чедимчелиг билигниң  оруун  шын  айты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3. Өөреникчи б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р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i="1" lang="el-GR" sz="32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нге чедиишкин турар кылдыр байдалды тургузар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11-ги класстың билиг талазы-биле көрг</a:t>
            </a:r>
            <a:r>
              <a:rPr b="1" i="1" lang="el-GR" sz="40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1" i="1" lang="el-GR" sz="40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глер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38080" y="1905120"/>
          <a:ext cx="7877160" cy="4228920"/>
        </p:xfrm>
        <a:graphic>
          <a:graphicData uri="http://schemas.openxmlformats.org/drawingml/2006/table">
            <a:tbl>
              <a:tblPr/>
              <a:tblGrid>
                <a:gridCol w="3591000"/>
                <a:gridCol w="1357200"/>
                <a:gridCol w="1571760"/>
                <a:gridCol w="1357200"/>
              </a:tblGrid>
              <a:tr h="82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Шуп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Билиг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шынары-ның  хуу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Өөредилге  хуу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Эге били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1 улду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10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 улду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10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3 улду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10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4 улду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10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1-ги чартык чыл  11 к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 –ги чартык чыл 11 к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9328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Мөөрейлерге киржилгез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1268280"/>
          <a:ext cx="8317080" cy="5048280"/>
        </p:xfrm>
        <a:graphic>
          <a:graphicData uri="http://schemas.openxmlformats.org/drawingml/2006/table">
            <a:tbl>
              <a:tblPr/>
              <a:tblGrid>
                <a:gridCol w="3790800"/>
                <a:gridCol w="1433520"/>
                <a:gridCol w="1659240"/>
                <a:gridCol w="1433520"/>
              </a:tblGrid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Мөөрейниң а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Чыл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Че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</a:t>
                      </a:r>
                      <a:r>
                        <a:rPr b="0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уң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н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«Чылд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Arial Cyr"/>
                        </a:rPr>
                        <a:t>ы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ң</a:t>
                      </a: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класс башкызы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Кожу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Свид-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«Чылды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башкызы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«Чылды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башкызы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Кожуу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 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Номи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«Чылды</a:t>
                      </a: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ң</a:t>
                      </a: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Cyr"/>
                        </a:rPr>
                        <a:t> башкызы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14200" y="0"/>
            <a:ext cx="78868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Ажылды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  <a:ea typeface="Tahoma"/>
              </a:rPr>
              <a:t>ң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ту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  <a:ea typeface="Tahoma"/>
              </a:rPr>
              <a:t>ң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нелде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Прямоугольник 3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583236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826920" y="1484280"/>
          <a:ext cx="7604280" cy="446400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2060640"/>
                <a:gridCol w="979200"/>
                <a:gridCol w="1440000"/>
              </a:tblGrid>
              <a:tr h="83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ы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никчини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Ф.А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лган ч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1-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ды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Кочаа А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4-ку чер (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7-20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ды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Кочаа Айды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З- 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5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8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ды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алчак Аржа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-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5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чога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Донгак Хою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-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ды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Дажый-оол Ага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алчак Аржа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Кочаа Айды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-ги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-ги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-ги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чога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Донгак Хою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Кочаа Айды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-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-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87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ды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алчак Аржа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-ги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ыва чога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Донгак Хою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-ку чер (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85880" y="1428840"/>
          <a:ext cx="8072280" cy="4937040"/>
        </p:xfrm>
        <a:graphic>
          <a:graphicData uri="http://schemas.openxmlformats.org/drawingml/2006/table">
            <a:tbl>
              <a:tblPr/>
              <a:tblGrid>
                <a:gridCol w="676080"/>
                <a:gridCol w="3878280"/>
                <a:gridCol w="1230480"/>
                <a:gridCol w="228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никчинин Ф.А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ирген чы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дилге ч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Намзырай Шончала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Сарыг-оо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КУ филфак.  Тыва дыл, чога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Хирлиг-оол А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наар-оол Александрови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КУ филфак.  Тыва дыл, чога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Донгак Орланма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Эрес-оо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КУ филфак.  Тыва дыл, чога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Иргит Ше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Григорье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КУ филфак.  Тыва дыл, чога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5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Насык-оол Ай-Суу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Адыг-оо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ТКУ филфак.  Тыва дыл, чога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pic>
        <p:nvPicPr>
          <p:cNvPr id="157" name="Заголовок 3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8026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жык кичээлдер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14240" y="1143000"/>
          <a:ext cx="8286840" cy="4643280"/>
        </p:xfrm>
        <a:graphic>
          <a:graphicData uri="http://schemas.openxmlformats.org/drawingml/2006/table">
            <a:tbl>
              <a:tblPr/>
              <a:tblGrid>
                <a:gridCol w="690840"/>
                <a:gridCol w="4241520"/>
                <a:gridCol w="1008360"/>
                <a:gridCol w="1027080"/>
                <a:gridCol w="13190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а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ла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Чы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ттирген ч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кси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т ор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ва бижикт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тывылган т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өө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уз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«б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т орунна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«б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ыс  аймак кежигуннерлиг домакт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«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ылыг  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γ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γ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болуушкун  наклонениезин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  γ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л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«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.Куулар «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ашкын соонда болчаг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мчик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мактын кежиг</a:t>
                      </a:r>
                      <a:r>
                        <a:rPr b="0" lang="el-G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γ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не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мчик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нетикага катаптаашкын кичээ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«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юн-кичээл «Ак-кок отчугаштар». Лексикага тунн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«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ээли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.Кок-оол «Самбажык» деп шииге туннел-кичээ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 «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чээл аян чорук «Фонетика чурту» Фонетикага тунн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«б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932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Илеткелдер болгаш дыннадыглар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836640"/>
          <a:ext cx="8496360" cy="5857920"/>
        </p:xfrm>
        <a:graphic>
          <a:graphicData uri="http://schemas.openxmlformats.org/drawingml/2006/table">
            <a:tbl>
              <a:tblPr/>
              <a:tblGrid>
                <a:gridCol w="496800"/>
                <a:gridCol w="4184640"/>
                <a:gridCol w="861840"/>
                <a:gridCol w="1297080"/>
                <a:gridCol w="165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е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ттирген ч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уседикчинин Ф.А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Тыва дыл кичээлдеринге оюнна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Тыва дыл кичээлдеринге чурук-биле ажылда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ругларн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ң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  курлавырын байыдар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ва дыл эртеминге тестил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ва дыл эртеминге ребустарны ажыгла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.Токанын «Борулерни аннаары» деп чогаалында малчыннын овур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ТДЛЭ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ыва дыл, чогаал кичээлдеринге информастыг харылзажылга технологиязын ажыгла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23744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  <a:ea typeface="Tahoma"/>
              </a:rPr>
              <a:t>О</a:t>
            </a:r>
            <a:r>
              <a:rPr b="1" lang="el-GR" sz="2800" spc="-1" strike="noStrike">
                <a:solidFill>
                  <a:srgbClr val="0000cc"/>
                </a:solidFill>
                <a:latin typeface="Tahoma"/>
                <a:ea typeface="Tahoma"/>
              </a:rPr>
              <a:t>ө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реникчилерни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  <a:ea typeface="Tahoma"/>
              </a:rPr>
              <a:t>ң</a:t>
            </a: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 ажылдар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95280" y="981000"/>
          <a:ext cx="8496360" cy="5184360"/>
        </p:xfrm>
        <a:graphic>
          <a:graphicData uri="http://schemas.openxmlformats.org/drawingml/2006/table">
            <a:tbl>
              <a:tblPr/>
              <a:tblGrid>
                <a:gridCol w="496800"/>
                <a:gridCol w="4111560"/>
                <a:gridCol w="935280"/>
                <a:gridCol w="1297080"/>
                <a:gridCol w="1655640"/>
              </a:tblGrid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е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ттирген ч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уседикчинин Ф.А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Өк-биле адаар ажык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нерлиг с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е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лчак Аржаан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Тыва дылда омографта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нгак Хоюна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Ч.Куулар «Шораан»  деп чогаалда деннелгелерни ажыгла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лчак Аржаан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Пейзаж – овур-хевирлерни ажыдарынын уран аргаз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ча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тыш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А.А. Даржайнын чогаалдарында ава темазын чырыткан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Саглай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23744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  <a:ea typeface="Tahoma"/>
              </a:rPr>
              <a:t>Моорейлерге киржилгенин коргузуглер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95280" y="981000"/>
          <a:ext cx="8496360" cy="5184360"/>
        </p:xfrm>
        <a:graphic>
          <a:graphicData uri="http://schemas.openxmlformats.org/drawingml/2006/table">
            <a:tbl>
              <a:tblPr/>
              <a:tblGrid>
                <a:gridCol w="496800"/>
                <a:gridCol w="4111560"/>
                <a:gridCol w="935280"/>
                <a:gridCol w="1297080"/>
                <a:gridCol w="1655640"/>
              </a:tblGrid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мал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е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рттирген ч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ууседикчинин Ф.А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Өк-биле адаар ажык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нерлиг с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ө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е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лчак Аржаан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Тыва дылда омографта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нгак Хоюна 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ыннадыг «Ч.Куулар «Шораан»  деп чогаалда деннелгелерни ажыгла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лчак Аржаан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Пейзаж – овур-хевирлерни ажыдарынын уран аргаз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ча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тыш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А.А. Даржайнын чогаалдарында ава темазын чырыткан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ертек Саглай 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уй 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175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333399"/>
                </a:solidFill>
                <a:latin typeface="Tahoma"/>
              </a:rPr>
              <a:t>«Сөс б</a:t>
            </a:r>
            <a:r>
              <a:rPr b="0" i="1" lang="el-GR" sz="54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5400" spc="-1" strike="noStrike">
                <a:solidFill>
                  <a:srgbClr val="333399"/>
                </a:solidFill>
                <a:latin typeface="Tahoma"/>
              </a:rPr>
              <a:t>р</a:t>
            </a:r>
            <a:r>
              <a:rPr b="0" i="1" lang="el-GR" sz="54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54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i="1" lang="el-GR" sz="54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5400" spc="-1" strike="noStrike">
                <a:solidFill>
                  <a:srgbClr val="333399"/>
                </a:solidFill>
                <a:latin typeface="Tahoma"/>
              </a:rPr>
              <a:t>н</a:t>
            </a:r>
            <a:r>
              <a:rPr b="0" i="1" lang="el-GR" sz="54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5400" spc="-1" strike="noStrike">
                <a:solidFill>
                  <a:srgbClr val="333399"/>
                </a:solidFill>
                <a:latin typeface="Tahoma"/>
              </a:rPr>
              <a:t>ң утказын ханы сайгарбышаан, уругларның  сөс курлавырын байыдары».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611280" y="620640"/>
            <a:ext cx="75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ahoma"/>
              </a:rPr>
              <a:t>Шиитпирлээр айтырыг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539640" y="5084640"/>
            <a:ext cx="8175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cc00cc"/>
                </a:solidFill>
                <a:latin typeface="Tahoma"/>
              </a:rPr>
              <a:t>2007-2011 өөредилге чылда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Өөренири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4200" y="2349360"/>
            <a:ext cx="822960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1763640" y="1700280"/>
            <a:ext cx="5904000" cy="129708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771640" y="184464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едиишкинниг өөренириниң 3 кол принциптер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468360" y="3429000"/>
            <a:ext cx="2303280" cy="2232000"/>
          </a:xfrm>
          <a:prstGeom prst="ellipse">
            <a:avLst/>
          </a:prstGeom>
          <a:solidFill>
            <a:srgbClr val="ffff63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3059280" y="3500280"/>
            <a:ext cx="2519280" cy="230508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5867280" y="3500280"/>
            <a:ext cx="2521080" cy="223236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684360" y="4076640"/>
            <a:ext cx="180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өөренир ч</a:t>
            </a:r>
            <a:r>
              <a:rPr b="0" i="1" lang="el-GR" sz="1800" spc="-1" strike="noStrike">
                <a:solidFill>
                  <a:srgbClr val="333399"/>
                </a:solidFill>
                <a:latin typeface="Arial"/>
              </a:rPr>
              <a:t>γγ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лд</a:t>
            </a:r>
            <a:r>
              <a:rPr b="0" i="1" lang="el-GR" sz="1800" spc="-1" strike="noStrike">
                <a:solidFill>
                  <a:srgbClr val="333399"/>
                </a:solidFill>
                <a:latin typeface="Arial"/>
              </a:rPr>
              <a:t>γ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ң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билдингир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тодазы.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276720" y="414972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өөренип алырының чугулазын медереп билир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6227640" y="414972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Кичээлге солун болур ужурлу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17"/>
          <p:cNvSpPr/>
          <p:nvPr/>
        </p:nvSpPr>
        <p:spPr>
          <a:xfrm flipH="1">
            <a:off x="1692360" y="278136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3851280" y="292428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5724360" y="2997360"/>
            <a:ext cx="115272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792920" cy="18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ahoma"/>
              </a:rPr>
              <a:t>Тыва дыл болгаш тыва чогаал кичээлдериниң кол сорулгалары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700360"/>
            <a:ext cx="7772400" cy="34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1. Уруглар өөренип турар ч</a:t>
            </a:r>
            <a:r>
              <a:rPr b="0" i="1" lang="el-GR" sz="2800" spc="-1" strike="noStrike">
                <a:solidFill>
                  <a:srgbClr val="333399"/>
                </a:solidFill>
                <a:latin typeface="Tahoma"/>
              </a:rPr>
              <a:t>γγ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л</a:t>
            </a:r>
            <a:r>
              <a:rPr b="0" i="1" lang="el-GR" sz="28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н  угаан-биле сайгарып, медереп билген турарын чедип алы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2. Уруглар боттарының бодалдарын шын илередип билир кылдыр өөреди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3. Уругларны  шын бижииринге өөреди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1692360" y="1413000"/>
            <a:ext cx="5184720" cy="4390920"/>
          </a:xfrm>
          <a:prstGeom prst="triangle">
            <a:avLst>
              <a:gd name="adj" fmla="val 50000"/>
            </a:avLst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843280" y="836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Сонуурга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68360" y="59500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ашк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300720" y="602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Өөреник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276720" y="3429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ичээ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л сонуургалдарны канчаар чедип алырыл?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1785960" y="1000080"/>
            <a:ext cx="5400720" cy="100800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928960" y="121428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Шиитпирлээр орукта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611280" y="1989000"/>
            <a:ext cx="3456000" cy="144144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4572000" y="1989000"/>
            <a:ext cx="3743280" cy="136872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611280" y="234936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Катап-катап шиңгээди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219640" y="23493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Чаа хевирниң кичээлдер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428760" y="4143240"/>
            <a:ext cx="3600360" cy="158436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4716360" y="4005360"/>
            <a:ext cx="3600720" cy="1584360"/>
          </a:xfrm>
          <a:prstGeom prst="ellipse">
            <a:avLst/>
          </a:prstGeom>
          <a:solidFill>
            <a:srgbClr val="ffff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187280" y="4365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Чалгааранчыг кичээлде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003640" y="4221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Эртемни сонуургаары, ынак болур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6"/>
          <p:cNvSpPr/>
          <p:nvPr/>
        </p:nvSpPr>
        <p:spPr>
          <a:xfrm flipH="1">
            <a:off x="2484000" y="1700280"/>
            <a:ext cx="574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6012000" y="1773360"/>
            <a:ext cx="720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2268360" y="342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658800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6732720" y="335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Кичээл! – сен – х</a:t>
            </a:r>
            <a:r>
              <a:rPr b="0" i="1" lang="el-GR" sz="36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3600" spc="-1" strike="noStrike">
                <a:solidFill>
                  <a:srgbClr val="333399"/>
                </a:solidFill>
                <a:latin typeface="Tahoma"/>
              </a:rPr>
              <a:t>н сен!</a:t>
            </a:r>
            <a:br>
              <a:rPr sz="3600"/>
            </a:b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Ш. Амонашвил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268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1. Эртемге </a:t>
            </a:r>
            <a:r>
              <a:rPr b="0" i="1" lang="el-GR" sz="28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ндезилеттинген материалды бедик деңнелге бээр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2. Эртемни херек кырында амыдыралга ажыглаары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3. Тода, билдингир болур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4. Эртем херек дээрзин уругнуң медереп билири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5. Быжыг билиглиг болуру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6. Бодал чок шээжилээриниң орнунга, угаан-биле сайгарып билири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7.Көрг</a:t>
            </a:r>
            <a:r>
              <a:rPr b="0" i="1" lang="el-GR" sz="28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i="1" lang="el-GR" sz="28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0" i="1" lang="ru-RU" sz="2800" spc="-1" strike="noStrike">
                <a:solidFill>
                  <a:srgbClr val="333399"/>
                </a:solidFill>
                <a:latin typeface="Tahoma"/>
              </a:rPr>
              <a:t>г материалдарын ажыглаа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Кичээлдиң бедик т</a:t>
            </a:r>
            <a:r>
              <a:rPr b="1" i="1" lang="el-GR" sz="36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ңнелдерлиг болганын ч</a:t>
            </a:r>
            <a:r>
              <a:rPr b="1" i="1" lang="el-GR" sz="36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ден </a:t>
            </a:r>
            <a:r>
              <a:rPr b="1" i="1" lang="el-GR" sz="3600" spc="-1" strike="noStrike">
                <a:solidFill>
                  <a:srgbClr val="333399"/>
                </a:solidFill>
                <a:latin typeface="Tahoma"/>
              </a:rPr>
              <a:t>γ</a:t>
            </a: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нелээрил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1. Уругларның билигге сонуургалының болгаш угаан-медерелиниң сайзыралының бед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2. Кичээлдиң γезин камналгалыг болгаш сорулга чедип алыры-биле ажыглаа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3. Янзы-буру методтар болгаш аргаларны ажыглаа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4.  Өөреникчи болгаш башкының аразында харылзааның болгаш хамаарылганың онзагай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5. Өөреникчилерниң билиг шынарының делгеми болгаш быжы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60640" y="229680"/>
            <a:ext cx="765144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Өөреникчилерниң сонуургалын чедип алыр сорулга-биле ажыглаар аргалар (технологиялар)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3008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Каттышкан кичээлдер (интегрированные уроки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Маргылдаа болгаш оюн хевирлиг  кичээлде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Болуушкуннарга γндезилээн кичээлдер (кичээл-суд, кичээл-концер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Фантазия ажыглап эрттирер кичээлде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Хөй ниитилелдиң болуушкуннарынга γндезилеп эрттирген кичээлде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Класстан дашкаар ажылдарның хевирлерин кичээлге ажыглаа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0:40:10Z</dcterms:created>
  <dc:creator>USER</dc:creator>
  <dc:description/>
  <dc:language>en-US</dc:language>
  <cp:lastModifiedBy>Связной</cp:lastModifiedBy>
  <dcterms:modified xsi:type="dcterms:W3CDTF">2012-02-11T16:45:26Z</dcterms:modified>
  <cp:revision>70</cp:revision>
  <dc:subject/>
  <dc:title>Педагогические технологии на основе активизации и интенсификации познавательного интереса в мыслительной деятельности учащихся</dc:title>
</cp:coreProperties>
</file>