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59B-A298-4873-9997-CD7E430E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24B-2B80-493D-ABC6-5BD322DA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A98-B3E9-4E68-AF14-4CC3C7D6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98A-E9E5-4A2B-9C40-051BD0CA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82D-33B8-4237-92F3-A39A36B8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BFF-9F27-47BD-8404-A49E9A53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5B9-9BB0-4CC8-AFE4-270D77E1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E84-51CB-41CA-A9CD-983A4F2B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F79-823A-466F-9E30-52F10083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2A50-E370-4EC8-9B4E-CBFAE896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F62A-0C6F-474C-909B-1DA951C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0C0-4769-4F35-BD09-FFB9B3A9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6387-808D-49AC-A574-37250CCBB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5800" y="380880"/>
            <a:ext cx="7788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Частиц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как служебная  часть 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343400" y="4906800"/>
            <a:ext cx="450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7 классе по учебник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В. Бабайц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914400"/>
          <a:ext cx="8686800" cy="5686560"/>
        </p:xfrm>
        <a:graphic>
          <a:graphicData uri="http://schemas.openxmlformats.org/drawingml/2006/table">
            <a:tbl>
              <a:tblPr/>
              <a:tblGrid>
                <a:gridCol w="3208320"/>
                <a:gridCol w="2973240"/>
                <a:gridCol w="250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Формообразу-ю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Отрицатель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ff3399"/>
                          </a:solidFill>
                          <a:uFillTx/>
                          <a:latin typeface="Arial"/>
                        </a:rPr>
                        <a:t>Мода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 дл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я наклонений глагол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условного и повелитель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ходил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ют отрицательное значен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сему предложению или отдельным его член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лесом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ольшой, а маленький овра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жают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, восклицание, указание, сомнение, уточнение, усиление, смягчение треб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Ну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что 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ейка,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что з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лазки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32"/>
          <p:cNvSpPr/>
          <p:nvPr/>
        </p:nvSpPr>
        <p:spPr>
          <a:xfrm>
            <a:off x="380880" y="2286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азряды частиц по зна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ормообразующие час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ное накло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лительное накло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ы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Б 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ва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Давайт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усть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ускай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Модальные час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371600"/>
          <a:ext cx="8229600" cy="512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опро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, разве, неуже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осклиц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, к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каз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(а вот), вон (а во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Сом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яд ли, едва 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точн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о, как р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Выделение, огранич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, лишь, исключительно, поч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Уси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же, даже и, ни, же, ведь, уж, 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Отрицательные частиц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28600" y="914400"/>
          <a:ext cx="8686800" cy="5097600"/>
        </p:xfrm>
        <a:graphic>
          <a:graphicData uri="http://schemas.openxmlformats.org/drawingml/2006/table">
            <a:tbl>
              <a:tblPr/>
              <a:tblGrid>
                <a:gridCol w="3429000"/>
                <a:gridCol w="5257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Придает отрицательное значение всему предложению или отдельным его член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ывать этому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дает отрицательное значение предложению без подлежащег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Кругом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деревц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иливает отрицание, выраженное частицей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словом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НЕ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Н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ышно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а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вторении приобретает значение сочинительного союза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небе нет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уч, </a:t>
                      </a:r>
                      <a:r>
                        <a:rPr b="0" lang="ru-RU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ла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Е или Н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тобы отличить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НЕ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от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Н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нужно попытаться 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тпустить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частиц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пропуск частицы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е измен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мысла предложения – пиши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смысл предложения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измени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противоположный -  пиши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(НЕ/НИ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тал, всем она понрав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читал, всем она понравилас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ужно писать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эту книгу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итал, всем она понрав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7620120" y="5334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Правописание частицы Н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685800"/>
          <a:ext cx="8686800" cy="6035760"/>
        </p:xfrm>
        <a:graphic>
          <a:graphicData uri="http://schemas.openxmlformats.org/drawingml/2006/table">
            <a:tbl>
              <a:tblPr/>
              <a:tblGrid>
                <a:gridCol w="4492440"/>
                <a:gridCol w="419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ловами, которые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употребляются без НЕ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ряха, негодо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глаголами, краткими причастиями, деепричастиями, числительными, словами состоян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 с НЕ образуется новое слово, которое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можно заменить синонимом без 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есть или подразумевается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противопоставл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лными причастиями, если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т зависимых слов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решенная задач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лными причастиями, </a:t>
                      </a:r>
                      <a:r>
                        <a:rPr b="0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если есть зависимые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ефисное написание части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562720"/>
                <a:gridCol w="26668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ы </a:t>
                      </a: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ТО, ЛИБО, НИБУДЬ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 всем словам на письме присоединяются при помощи дефис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-то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 –либо, где- нибуд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а </a:t>
                      </a: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КА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глаголами пишется через дефи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жи-ка, присядь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КО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вопросительное сло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е - ч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е - кт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Различ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мног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кт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ного раз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у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когда, совсем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ного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Ни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о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ичуть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2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