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71E-3708-4583-A2B9-F0D6CF8E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F33-7C83-45B8-9FBA-57A34347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EA8-C726-4A70-B963-54438E0F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138-5046-4500-988A-F987ABC8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5D3-65E6-44F4-AF18-F9BA6CC6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F85-C5E5-460A-82DB-957AF503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A80-1CE4-4E4C-9F08-C05777E5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58F-2037-4634-B840-2628D9DC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E8C-15E5-4F76-B9EE-401B956E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037-C6B8-44C4-9529-2B9D773C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274-AD39-4FF4-9CBE-5AD93521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5BAB-1B9A-434C-9CA9-9DBB3CA2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3688-1B44-4F13-B6A0-345BD6C0D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5800" y="380880"/>
            <a:ext cx="7788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Частиц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как служебная  часть 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343400" y="4906800"/>
            <a:ext cx="450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 к урокам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7 классе по учебник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В. Бабайце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презентации учитель русского языка и литературы Мечкова Т.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914400"/>
          <a:ext cx="8686800" cy="5686560"/>
        </p:xfrm>
        <a:graphic>
          <a:graphicData uri="http://schemas.openxmlformats.org/drawingml/2006/table">
            <a:tbl>
              <a:tblPr/>
              <a:tblGrid>
                <a:gridCol w="3208320"/>
                <a:gridCol w="2973240"/>
                <a:gridCol w="250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Формообразу-ю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Отрицатель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Мод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т для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я наклонений глаго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словного и повелитель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ходил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б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ают отрицательное значе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сему предложению или отдельным его члена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лесом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ольшой, а маленький овр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жают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, восклицание, указание, сомнение, уточнение, усиление, смягчение треб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Ну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что з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ейка,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что з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лазки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32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зряды частиц по зна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ормообразующие час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ное наклон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лительное наклон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Бы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Б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Д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Дава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Давайт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Пусть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Пуска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одальные час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371600"/>
          <a:ext cx="8229600" cy="512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опро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, разве, неуж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осклиц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, к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Указ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(а вот), вон (а во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Сомн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яд ли, едва 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Уточн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о, как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ыделение, огранич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, лишь, исключительно, поч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Уси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же, даже и, ни, же, ведь, уж, 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Отрицательные час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914400"/>
          <a:ext cx="8686800" cy="5097600"/>
        </p:xfrm>
        <a:graphic>
          <a:graphicData uri="http://schemas.openxmlformats.org/drawingml/2006/table">
            <a:tbl>
              <a:tblPr/>
              <a:tblGrid>
                <a:gridCol w="3429000"/>
                <a:gridCol w="525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ридает отрицательное значение всему предложению или отдельным его члена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ывать этом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ает отрицательное значение предложению без подлежащег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Кругом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еревц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ивает отрицание, выраженное частицей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словом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Н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Н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ышно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а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вторении приобретает значение сочинительного сою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 небе нет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уч,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ла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Е или Н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тобы отличить </a:t>
            </a:r>
            <a:r>
              <a:rPr b="1" lang="ru-RU" sz="3200" spc="-1" strike="noStrike" u="sng">
                <a:solidFill>
                  <a:srgbClr val="ff00ff"/>
                </a:solidFill>
                <a:uFillTx/>
                <a:latin typeface="Arial"/>
              </a:rPr>
              <a:t>Н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от </a:t>
            </a:r>
            <a:r>
              <a:rPr b="1" lang="ru-RU" sz="3200" spc="-1" strike="noStrike" u="sng">
                <a:solidFill>
                  <a:srgbClr val="ff00ff"/>
                </a:solidFill>
                <a:uFillTx/>
                <a:latin typeface="Arial"/>
              </a:rPr>
              <a:t>Н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нужно попытаться 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отпустить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частиц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ропуск частицы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е измен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мысла предложения – пиши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мысл предложения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измени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противоположный -  пиши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эту книгу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(НЕ/НИ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итал, всем она понрав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эту книгу читал, всем она понравила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ужно писать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эту книгу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итал, всем она понрав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7620120" y="533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авописание частицы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685800"/>
          <a:ext cx="8686800" cy="6035760"/>
        </p:xfrm>
        <a:graphic>
          <a:graphicData uri="http://schemas.openxmlformats.org/drawingml/2006/table">
            <a:tbl>
              <a:tblPr/>
              <a:tblGrid>
                <a:gridCol w="4492440"/>
                <a:gridCol w="419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ловами, которые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 употребляются без НЕ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ряха, негод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глаголами, краткими причастиями, деепричастиями, числительными, словами состоя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с НЕ образуется новое слово, которое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можно заменить синонимом без 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есть или подразумевается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противопостав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лными причастиями, если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т зависимых слов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решенная задач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лными причастиями,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если есть зависим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ефисное написание части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562720"/>
                <a:gridCol w="26668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ы </a:t>
                      </a: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ТО, ЛИБО, НИБУД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 всем словам на письме присоединяются при помощи дефи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-т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–либо, где- нибуд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</a:t>
                      </a: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К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глаголами пишется через дефи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жи-ка, присядь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К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вопросительное слов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е - ч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е - к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Различа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много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икто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ного раз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у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икогда, совсем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ного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ичуть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1T15:2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