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.jpeg" ContentType="image/jpeg"/>
  <Override PartName="/ppt/media/image15.wmf" ContentType="image/x-wmf"/>
  <Override PartName="/ppt/media/image2.jpeg" ContentType="image/jpeg"/>
  <Override PartName="/ppt/media/image3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1766-3F5D-49D7-95D3-501FD905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2920" y="4126680"/>
            <a:ext cx="7129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F0A-BE63-4C39-B3A0-589942B8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620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2920" y="412668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6200" y="412668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5F6-0B6A-410F-B039-0A552631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53480" y="213336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4040" y="213336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2920" y="412668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53480" y="412668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4040" y="412668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0A36-E4C8-40E8-B41D-48DB4D8F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B58B-B709-4757-B344-3E0F8506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12944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0309-1562-44A4-8100-32AB7ACD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2D38-2267-4819-87CB-4521B9E4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3479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6200" y="2133360"/>
            <a:ext cx="3479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57E5-E66E-4778-B011-1B76D3CC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10B2-13D8-44DE-A9B1-541CB181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920" y="90756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F2F7-E3FD-4FC2-B44A-2FABDF14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200" y="2133360"/>
            <a:ext cx="3479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920" y="412668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07B0-D7E2-4C03-AC5D-7587B8EA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12944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0C0C-6F80-4C53-A7DC-00E218BE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3479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620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6200" y="412668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CF9C-05C4-4BAE-81F2-4F1077F7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620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920" y="4126680"/>
            <a:ext cx="7129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DEA0-5A92-4FF6-9B29-0A2D1F47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920" y="4126680"/>
            <a:ext cx="7129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827D-65D1-498E-8835-EB6EC57C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20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920" y="412668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6200" y="412668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2658-2AB3-49D3-8D47-F34A7055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3480" y="213336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64040" y="213336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920" y="412668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53480" y="412668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64040" y="412668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42C8-FF67-4BF6-8E4C-2943726E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CB59-5E7D-4C86-B7C4-3BCFB1EC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3479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6200" y="2133360"/>
            <a:ext cx="3479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DA47-DE26-44E8-9015-068E459D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5A47-DE0F-4F73-90FE-2DCFE273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2920" y="90756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DCF-5FFE-4CE2-B92B-38E9B0F9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6200" y="2133360"/>
            <a:ext cx="3479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2920" y="412668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978-E357-464F-9F39-96D4F8D4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3479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20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6200" y="412668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C39-4E21-41D4-B64B-3E99B573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20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2920" y="4126680"/>
            <a:ext cx="7129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3D7-5D1A-4615-ADE1-376C6C53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920" y="2133360"/>
            <a:ext cx="7129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6093000"/>
            <a:ext cx="190656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3000"/>
            <a:ext cx="2895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7440" y="6524280"/>
            <a:ext cx="190656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2FA9-5D6E-406E-A71E-424BFDCDAD9B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nextslide"/>
          </p:cNvPr>
          <p:cNvSpPr/>
          <p:nvPr/>
        </p:nvSpPr>
        <p:spPr>
          <a:xfrm>
            <a:off x="179280" y="43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920" y="2133360"/>
            <a:ext cx="7129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10920" y="6021000"/>
            <a:ext cx="19796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021000"/>
            <a:ext cx="2895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021000"/>
            <a:ext cx="19796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D2D5-AC77-4F85-B0A2-3F40A3C4DD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vs.ing.sudrf.ru/userimages/sld0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6.wmf"/><Relationship Id="rId11" Type="http://schemas.openxmlformats.org/officeDocument/2006/relationships/image" Target="../media/image16.wmf"/><Relationship Id="rId12" Type="http://schemas.openxmlformats.org/officeDocument/2006/relationships/image" Target="../media/image16.wmf"/><Relationship Id="rId13" Type="http://schemas.openxmlformats.org/officeDocument/2006/relationships/image" Target="../media/image16.wmf"/><Relationship Id="rId14" Type="http://schemas.openxmlformats.org/officeDocument/2006/relationships/image" Target="../media/image16.wmf"/><Relationship Id="rId15" Type="http://schemas.openxmlformats.org/officeDocument/2006/relationships/image" Target="../media/image15.wmf"/><Relationship Id="rId16" Type="http://schemas.openxmlformats.org/officeDocument/2006/relationships/image" Target="../media/image17.wmf"/><Relationship Id="rId17" Type="http://schemas.openxmlformats.org/officeDocument/2006/relationships/image" Target="../media/image15.wmf"/><Relationship Id="rId18" Type="http://schemas.openxmlformats.org/officeDocument/2006/relationships/image" Target="../media/image17.wmf"/><Relationship Id="rId19" Type="http://schemas.openxmlformats.org/officeDocument/2006/relationships/image" Target="../media/image15.wmf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8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7237440" y="6524640"/>
            <a:ext cx="190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88C6-C762-4BB6-BC78-8A1D105F8B92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1547640" y="907920"/>
            <a:ext cx="6343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еньги и денежные системы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3492360" y="2205000"/>
            <a:ext cx="244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ль  урока: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336680" y="3284640"/>
            <a:ext cx="69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становить  причины возникновения денег и  их роль в современной экономи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7237440" y="6524640"/>
            <a:ext cx="190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6507-E869-45A1-8DF9-7BF497EBCB07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132000" y="907920"/>
            <a:ext cx="3038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НЬГИ - эт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987640" y="155736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обый товар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i?id=2925477&amp;tov=4"/>
          <p:cNvPicPr/>
          <p:nvPr/>
        </p:nvPicPr>
        <p:blipFill>
          <a:blip r:embed="rId1"/>
          <a:stretch/>
        </p:blipFill>
        <p:spPr>
          <a:xfrm>
            <a:off x="971640" y="4941720"/>
            <a:ext cx="1333440" cy="1019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i?id=21931113&amp;tov=5"/>
          <p:cNvPicPr/>
          <p:nvPr/>
        </p:nvPicPr>
        <p:blipFill>
          <a:blip r:embed="rId2"/>
          <a:stretch/>
        </p:blipFill>
        <p:spPr>
          <a:xfrm>
            <a:off x="7236000" y="5084640"/>
            <a:ext cx="1238040" cy="12477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2"/>
          <p:cNvSpPr/>
          <p:nvPr/>
        </p:nvSpPr>
        <p:spPr>
          <a:xfrm>
            <a:off x="2970000" y="1916280"/>
            <a:ext cx="361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вляющийся  всеобщ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вивален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547640" y="213372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оминальная стоим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число, обозначенное на денежной купюре или монете. Номинальная стоимость остается неизменной до тех пор, пока данный денежный знак не будет изъят из обращ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1476360" y="3429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обственная стоим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– затраты, связанные с производством дене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WordArt 15"/>
          <p:cNvSpPr txBox="1"/>
          <p:nvPr/>
        </p:nvSpPr>
        <p:spPr>
          <a:xfrm>
            <a:off x="2843280" y="4221000"/>
            <a:ext cx="4133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ноценные деньг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WordArt 16"/>
          <p:cNvSpPr txBox="1"/>
          <p:nvPr/>
        </p:nvSpPr>
        <p:spPr>
          <a:xfrm>
            <a:off x="2843280" y="4869000"/>
            <a:ext cx="4133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полноценные деньг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3"/>
          <p:cNvSpPr/>
          <p:nvPr/>
        </p:nvSpPr>
        <p:spPr>
          <a:xfrm>
            <a:off x="7237440" y="6524640"/>
            <a:ext cx="190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4C46-EF03-41BA-9008-679A1A1AA4EE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WordArt 2"/>
          <p:cNvSpPr txBox="1"/>
          <p:nvPr/>
        </p:nvSpPr>
        <p:spPr>
          <a:xfrm>
            <a:off x="1547640" y="907920"/>
            <a:ext cx="6343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еньги и денежные системы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8" name="WordArt 3"/>
          <p:cNvSpPr txBox="1"/>
          <p:nvPr/>
        </p:nvSpPr>
        <p:spPr>
          <a:xfrm>
            <a:off x="4140360" y="2205000"/>
            <a:ext cx="1095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лан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187280" y="3068640"/>
            <a:ext cx="6985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ущность денег (с.с. 254-25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Функции денег (с.с. 253-25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ипы денежных систем (с .с. 252, 259-2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енежные агрегаты (с.с. 277-27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емонетизация золота (с.с.264-266) – с.г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Гипотезы  о  происхождении  денег  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7237440" y="6524640"/>
            <a:ext cx="190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DC78-4432-4506-B8E9-962C4D4B8EA5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5" descr="Картинка 85 из 13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484280"/>
            <a:ext cx="4057560" cy="288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IS-277a_Mughal_Shah_Jahan_Mohur_year_2_Surat"/>
          <p:cNvPicPr/>
          <p:nvPr/>
        </p:nvPicPr>
        <p:blipFill>
          <a:blip r:embed="rId3"/>
          <a:stretch/>
        </p:blipFill>
        <p:spPr>
          <a:xfrm>
            <a:off x="5435640" y="3213000"/>
            <a:ext cx="2604960" cy="1325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Aegina"/>
          <p:cNvPicPr/>
          <p:nvPr/>
        </p:nvPicPr>
        <p:blipFill>
          <a:blip r:embed="rId4"/>
          <a:stretch/>
        </p:blipFill>
        <p:spPr>
          <a:xfrm>
            <a:off x="5435640" y="1700280"/>
            <a:ext cx="2627280" cy="1314360"/>
          </a:xfrm>
          <a:prstGeom prst="rect">
            <a:avLst/>
          </a:prstGeom>
          <a:ln w="0">
            <a:noFill/>
          </a:ln>
        </p:spPr>
      </p:pic>
      <p:sp>
        <p:nvSpPr>
          <p:cNvPr id="93" name="WordArt 12"/>
          <p:cNvSpPr txBox="1"/>
          <p:nvPr/>
        </p:nvSpPr>
        <p:spPr>
          <a:xfrm>
            <a:off x="1258920" y="4581360"/>
            <a:ext cx="6896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волюционная гипотеза -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рл Марк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WordArt 15"/>
          <p:cNvSpPr txBox="1"/>
          <p:nvPr/>
        </p:nvSpPr>
        <p:spPr>
          <a:xfrm>
            <a:off x="1403280" y="981000"/>
            <a:ext cx="6896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ционалистическая гипотеза -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ристотель, Самуэльсо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5" name="Picture 28" descr="moneys"/>
          <p:cNvPicPr/>
          <p:nvPr/>
        </p:nvPicPr>
        <p:blipFill>
          <a:blip r:embed="rId5"/>
          <a:stretch/>
        </p:blipFill>
        <p:spPr>
          <a:xfrm>
            <a:off x="557280" y="5681520"/>
            <a:ext cx="990360" cy="771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9" descr="Картинка 18 из 73331"/>
          <p:cNvPicPr/>
          <p:nvPr/>
        </p:nvPicPr>
        <p:blipFill>
          <a:blip r:embed="rId6"/>
          <a:stretch/>
        </p:blipFill>
        <p:spPr>
          <a:xfrm>
            <a:off x="1521000" y="5229360"/>
            <a:ext cx="1715760" cy="1212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grain_234"/>
          <p:cNvPicPr/>
          <p:nvPr/>
        </p:nvPicPr>
        <p:blipFill>
          <a:blip r:embed="rId7"/>
          <a:srcRect l="0" t="5433" r="0" b="0"/>
          <a:stretch/>
        </p:blipFill>
        <p:spPr>
          <a:xfrm>
            <a:off x="3176640" y="5229360"/>
            <a:ext cx="1752480" cy="1245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"/>
          <p:cNvPicPr/>
          <p:nvPr/>
        </p:nvPicPr>
        <p:blipFill>
          <a:blip r:embed="rId8"/>
          <a:stretch/>
        </p:blipFill>
        <p:spPr>
          <a:xfrm>
            <a:off x="4859280" y="5229360"/>
            <a:ext cx="1874880" cy="1231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2" descr="i?id=143018038&amp;tov=6"/>
          <p:cNvPicPr/>
          <p:nvPr/>
        </p:nvPicPr>
        <p:blipFill>
          <a:blip r:embed="rId9"/>
          <a:srcRect l="0" t="15111" r="0" b="0"/>
          <a:stretch/>
        </p:blipFill>
        <p:spPr>
          <a:xfrm>
            <a:off x="6705720" y="5229360"/>
            <a:ext cx="961920" cy="1212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3" descr="Картинка 55 из 10401"/>
          <p:cNvPicPr/>
          <p:nvPr/>
        </p:nvPicPr>
        <p:blipFill>
          <a:blip r:embed="rId10"/>
          <a:stretch/>
        </p:blipFill>
        <p:spPr>
          <a:xfrm>
            <a:off x="7643880" y="5661000"/>
            <a:ext cx="960480" cy="72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1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7237440" y="6524640"/>
            <a:ext cx="190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2BD2-65C6-453E-9F13-14C5CEAFE281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WordArt 2"/>
          <p:cNvSpPr txBox="1"/>
          <p:nvPr/>
        </p:nvSpPr>
        <p:spPr>
          <a:xfrm>
            <a:off x="1403280" y="189000"/>
            <a:ext cx="676908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волюционная гипотеза происхождения  денег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1042920" y="1844640"/>
            <a:ext cx="2419560" cy="2828880"/>
            <a:chOff x="1042920" y="1844640"/>
            <a:chExt cx="2419560" cy="2828880"/>
          </a:xfrm>
        </p:grpSpPr>
        <p:pic>
          <p:nvPicPr>
            <p:cNvPr id="105" name="Picture 4" descr=""/>
            <p:cNvPicPr/>
            <p:nvPr/>
          </p:nvPicPr>
          <p:blipFill>
            <a:blip r:embed="rId3"/>
            <a:stretch/>
          </p:blipFill>
          <p:spPr>
            <a:xfrm>
              <a:off x="1042920" y="1844640"/>
              <a:ext cx="2419560" cy="2158920"/>
            </a:xfrm>
            <a:prstGeom prst="rect">
              <a:avLst/>
            </a:prstGeom>
            <a:ln w="57240">
              <a:solidFill>
                <a:srgbClr val="ff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6" name="WordArt 5"/>
            <p:cNvSpPr txBox="1"/>
            <p:nvPr/>
          </p:nvSpPr>
          <p:spPr>
            <a:xfrm>
              <a:off x="1332000" y="4149720"/>
              <a:ext cx="1944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самообеспечение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7" name="Group 6"/>
          <p:cNvGrpSpPr/>
          <p:nvPr/>
        </p:nvGrpSpPr>
        <p:grpSpPr>
          <a:xfrm>
            <a:off x="5940360" y="2781360"/>
            <a:ext cx="2160720" cy="3095640"/>
            <a:chOff x="5940360" y="2781360"/>
            <a:chExt cx="2160720" cy="3095640"/>
          </a:xfrm>
        </p:grpSpPr>
        <p:pic>
          <p:nvPicPr>
            <p:cNvPr id="108" name="Picture 7" descr=""/>
            <p:cNvPicPr/>
            <p:nvPr/>
          </p:nvPicPr>
          <p:blipFill>
            <a:blip r:embed="rId4"/>
            <a:stretch/>
          </p:blipFill>
          <p:spPr>
            <a:xfrm>
              <a:off x="5940360" y="2781360"/>
              <a:ext cx="2156040" cy="2158920"/>
            </a:xfrm>
            <a:prstGeom prst="rect">
              <a:avLst/>
            </a:prstGeom>
            <a:ln w="57240">
              <a:solidFill>
                <a:srgbClr val="ff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9" name="WordArt 8"/>
            <p:cNvSpPr txBox="1"/>
            <p:nvPr/>
          </p:nvSpPr>
          <p:spPr>
            <a:xfrm>
              <a:off x="5940360" y="5013360"/>
              <a:ext cx="216072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опосредованный обмен 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(централизованный)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0" name="Group 9"/>
          <p:cNvGrpSpPr/>
          <p:nvPr/>
        </p:nvGrpSpPr>
        <p:grpSpPr>
          <a:xfrm>
            <a:off x="3419640" y="2276640"/>
            <a:ext cx="2371680" cy="3168360"/>
            <a:chOff x="3419640" y="2276640"/>
            <a:chExt cx="2371680" cy="3168360"/>
          </a:xfrm>
        </p:grpSpPr>
        <p:pic>
          <p:nvPicPr>
            <p:cNvPr id="111" name="Picture 10" descr=""/>
            <p:cNvPicPr/>
            <p:nvPr/>
          </p:nvPicPr>
          <p:blipFill>
            <a:blip r:embed="rId5"/>
            <a:stretch/>
          </p:blipFill>
          <p:spPr>
            <a:xfrm>
              <a:off x="3635280" y="2276640"/>
              <a:ext cx="2156040" cy="2158920"/>
            </a:xfrm>
            <a:prstGeom prst="rect">
              <a:avLst/>
            </a:prstGeom>
            <a:ln w="57240">
              <a:solidFill>
                <a:srgbClr val="ff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12" name="WordArt 11"/>
            <p:cNvSpPr txBox="1"/>
            <p:nvPr/>
          </p:nvSpPr>
          <p:spPr>
            <a:xfrm>
              <a:off x="3419640" y="4508640"/>
              <a:ext cx="2303280" cy="93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прямой обмен 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(децентрализованный)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3" name="Group 28"/>
          <p:cNvGrpSpPr/>
          <p:nvPr/>
        </p:nvGrpSpPr>
        <p:grpSpPr>
          <a:xfrm>
            <a:off x="1042920" y="4653000"/>
            <a:ext cx="3611160" cy="1227240"/>
            <a:chOff x="1042920" y="4653000"/>
            <a:chExt cx="3611160" cy="1227240"/>
          </a:xfrm>
        </p:grpSpPr>
        <p:pic>
          <p:nvPicPr>
            <p:cNvPr id="114" name="Picture 14" descr="j0330266"/>
            <p:cNvPicPr/>
            <p:nvPr/>
          </p:nvPicPr>
          <p:blipFill>
            <a:blip r:embed="rId6"/>
            <a:stretch/>
          </p:blipFill>
          <p:spPr>
            <a:xfrm flipH="1">
              <a:off x="1042920" y="5084640"/>
              <a:ext cx="94608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WordArt 15"/>
            <p:cNvSpPr txBox="1"/>
            <p:nvPr/>
          </p:nvSpPr>
          <p:spPr>
            <a:xfrm>
              <a:off x="2266920" y="5372280"/>
              <a:ext cx="2667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=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116" name="Group 16"/>
            <p:cNvGrpSpPr/>
            <p:nvPr/>
          </p:nvGrpSpPr>
          <p:grpSpPr>
            <a:xfrm>
              <a:off x="2556000" y="4941720"/>
              <a:ext cx="1234440" cy="935280"/>
              <a:chOff x="2556000" y="4941720"/>
              <a:chExt cx="1234440" cy="935280"/>
            </a:xfrm>
          </p:grpSpPr>
          <p:grpSp>
            <p:nvGrpSpPr>
              <p:cNvPr id="117" name="Group 17"/>
              <p:cNvGrpSpPr/>
              <p:nvPr/>
            </p:nvGrpSpPr>
            <p:grpSpPr>
              <a:xfrm>
                <a:off x="2556000" y="4941720"/>
                <a:ext cx="1031760" cy="779040"/>
                <a:chOff x="2556000" y="4941720"/>
                <a:chExt cx="1031760" cy="779040"/>
              </a:xfrm>
            </p:grpSpPr>
            <p:pic>
              <p:nvPicPr>
                <p:cNvPr id="118" name="Picture 18" descr="j0290087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556000" y="4941720"/>
                  <a:ext cx="58716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19" descr="j0290087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784600" y="5097240"/>
                  <a:ext cx="58716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20" descr="j0290087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000600" y="5252760"/>
                  <a:ext cx="58716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21" name="Picture 21" descr="j0290087"/>
              <p:cNvPicPr/>
              <p:nvPr/>
            </p:nvPicPr>
            <p:blipFill>
              <a:blip r:embed="rId10"/>
              <a:stretch/>
            </p:blipFill>
            <p:spPr>
              <a:xfrm>
                <a:off x="3203280" y="5409000"/>
                <a:ext cx="587160" cy="468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" name="Group 22"/>
            <p:cNvGrpSpPr/>
            <p:nvPr/>
          </p:nvGrpSpPr>
          <p:grpSpPr>
            <a:xfrm>
              <a:off x="3419640" y="4653000"/>
              <a:ext cx="1234440" cy="934560"/>
              <a:chOff x="3419640" y="4653000"/>
              <a:chExt cx="1234440" cy="934560"/>
            </a:xfrm>
          </p:grpSpPr>
          <p:grpSp>
            <p:nvGrpSpPr>
              <p:cNvPr id="123" name="Group 23"/>
              <p:cNvGrpSpPr/>
              <p:nvPr/>
            </p:nvGrpSpPr>
            <p:grpSpPr>
              <a:xfrm>
                <a:off x="3419640" y="4653000"/>
                <a:ext cx="1031760" cy="779040"/>
                <a:chOff x="3419640" y="4653000"/>
                <a:chExt cx="1031760" cy="779040"/>
              </a:xfrm>
            </p:grpSpPr>
            <p:pic>
              <p:nvPicPr>
                <p:cNvPr id="124" name="Picture 24" descr="j0290087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419640" y="4653000"/>
                  <a:ext cx="58716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25" descr="j0290087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648240" y="4808520"/>
                  <a:ext cx="587160" cy="46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26" descr="j0290087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864240" y="4964040"/>
                  <a:ext cx="58716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27" name="Picture 27" descr="j0290087"/>
              <p:cNvPicPr/>
              <p:nvPr/>
            </p:nvPicPr>
            <p:blipFill>
              <a:blip r:embed="rId14"/>
              <a:stretch/>
            </p:blipFill>
            <p:spPr>
              <a:xfrm>
                <a:off x="4066920" y="5119920"/>
                <a:ext cx="587160" cy="467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8" name="Group 30"/>
          <p:cNvGrpSpPr/>
          <p:nvPr/>
        </p:nvGrpSpPr>
        <p:grpSpPr>
          <a:xfrm>
            <a:off x="1177560" y="4076640"/>
            <a:ext cx="2241720" cy="1730520"/>
            <a:chOff x="1177560" y="4076640"/>
            <a:chExt cx="2241720" cy="1730520"/>
          </a:xfrm>
        </p:grpSpPr>
        <p:pic>
          <p:nvPicPr>
            <p:cNvPr id="129" name="Picture 31" descr="j0330266"/>
            <p:cNvPicPr/>
            <p:nvPr/>
          </p:nvPicPr>
          <p:blipFill>
            <a:blip r:embed="rId15"/>
            <a:stretch/>
          </p:blipFill>
          <p:spPr>
            <a:xfrm>
              <a:off x="2473200" y="5011920"/>
              <a:ext cx="94608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WordArt 32"/>
            <p:cNvSpPr txBox="1"/>
            <p:nvPr/>
          </p:nvSpPr>
          <p:spPr>
            <a:xfrm>
              <a:off x="1969920" y="4795920"/>
              <a:ext cx="2667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=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pic>
          <p:nvPicPr>
            <p:cNvPr id="131" name="Picture 33" descr="j0350587"/>
            <p:cNvPicPr/>
            <p:nvPr/>
          </p:nvPicPr>
          <p:blipFill>
            <a:blip r:embed="rId16"/>
            <a:stretch/>
          </p:blipFill>
          <p:spPr>
            <a:xfrm flipH="1">
              <a:off x="1177560" y="4724640"/>
              <a:ext cx="5475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34" descr="j0330266"/>
            <p:cNvPicPr/>
            <p:nvPr/>
          </p:nvPicPr>
          <p:blipFill>
            <a:blip r:embed="rId17"/>
            <a:stretch/>
          </p:blipFill>
          <p:spPr>
            <a:xfrm>
              <a:off x="2473200" y="4076640"/>
              <a:ext cx="946080" cy="79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oup 40"/>
          <p:cNvGrpSpPr/>
          <p:nvPr/>
        </p:nvGrpSpPr>
        <p:grpSpPr>
          <a:xfrm>
            <a:off x="3635280" y="981000"/>
            <a:ext cx="2563560" cy="795240"/>
            <a:chOff x="3635280" y="981000"/>
            <a:chExt cx="2563560" cy="795240"/>
          </a:xfrm>
        </p:grpSpPr>
        <p:sp>
          <p:nvSpPr>
            <p:cNvPr id="134" name="WordArt 41"/>
            <p:cNvSpPr txBox="1"/>
            <p:nvPr/>
          </p:nvSpPr>
          <p:spPr>
            <a:xfrm>
              <a:off x="4716360" y="1268280"/>
              <a:ext cx="2667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=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pic>
          <p:nvPicPr>
            <p:cNvPr id="135" name="Picture 42" descr="j0350587"/>
            <p:cNvPicPr/>
            <p:nvPr/>
          </p:nvPicPr>
          <p:blipFill>
            <a:blip r:embed="rId18"/>
            <a:stretch/>
          </p:blipFill>
          <p:spPr>
            <a:xfrm flipH="1">
              <a:off x="5651280" y="1197000"/>
              <a:ext cx="5475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43" descr="j0330266"/>
            <p:cNvPicPr/>
            <p:nvPr/>
          </p:nvPicPr>
          <p:blipFill>
            <a:blip r:embed="rId19"/>
            <a:stretch/>
          </p:blipFill>
          <p:spPr>
            <a:xfrm>
              <a:off x="3635280" y="981000"/>
              <a:ext cx="94644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WordArt 44"/>
            <p:cNvSpPr txBox="1"/>
            <p:nvPr/>
          </p:nvSpPr>
          <p:spPr>
            <a:xfrm>
              <a:off x="5148360" y="1125360"/>
              <a:ext cx="4316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ffcc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7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-2.18316E-006 L -0.24775 -0.18871 E">
                                      <p:cBhvr>
                                        <p:cTn id="70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-1717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7237440" y="6524640"/>
            <a:ext cx="190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F8AE-2D35-455E-B5A8-3A1B5827D7C6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Group 5"/>
          <p:cNvGrpSpPr/>
          <p:nvPr/>
        </p:nvGrpSpPr>
        <p:grpSpPr>
          <a:xfrm>
            <a:off x="5867280" y="907920"/>
            <a:ext cx="2305080" cy="3097080"/>
            <a:chOff x="5867280" y="907920"/>
            <a:chExt cx="2305080" cy="3097080"/>
          </a:xfrm>
        </p:grpSpPr>
        <p:pic>
          <p:nvPicPr>
            <p:cNvPr id="141" name="Picture 6" descr=""/>
            <p:cNvPicPr/>
            <p:nvPr/>
          </p:nvPicPr>
          <p:blipFill>
            <a:blip r:embed="rId1"/>
            <a:stretch/>
          </p:blipFill>
          <p:spPr>
            <a:xfrm>
              <a:off x="5867280" y="907920"/>
              <a:ext cx="2155680" cy="2158920"/>
            </a:xfrm>
            <a:prstGeom prst="rect">
              <a:avLst/>
            </a:prstGeom>
            <a:ln w="57240">
              <a:solidFill>
                <a:srgbClr val="ff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42" name="WordArt 7"/>
            <p:cNvSpPr txBox="1"/>
            <p:nvPr/>
          </p:nvSpPr>
          <p:spPr>
            <a:xfrm>
              <a:off x="6011640" y="3141360"/>
              <a:ext cx="216072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опосредованный обмен 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(через товар-посредник)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143" name="Picture 8" descr="Картинка 18 из 73331"/>
          <p:cNvPicPr/>
          <p:nvPr/>
        </p:nvPicPr>
        <p:blipFill>
          <a:blip r:embed="rId2"/>
          <a:stretch/>
        </p:blipFill>
        <p:spPr>
          <a:xfrm>
            <a:off x="1521000" y="5229360"/>
            <a:ext cx="1715760" cy="1212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grain_234"/>
          <p:cNvPicPr/>
          <p:nvPr/>
        </p:nvPicPr>
        <p:blipFill>
          <a:blip r:embed="rId3"/>
          <a:srcRect l="0" t="5433" r="0" b="0"/>
          <a:stretch/>
        </p:blipFill>
        <p:spPr>
          <a:xfrm>
            <a:off x="3176640" y="5229360"/>
            <a:ext cx="1752480" cy="1245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4"/>
          <a:stretch/>
        </p:blipFill>
        <p:spPr>
          <a:xfrm>
            <a:off x="4859280" y="5229360"/>
            <a:ext cx="1874880" cy="1231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i?id=143018038&amp;tov=6"/>
          <p:cNvPicPr/>
          <p:nvPr/>
        </p:nvPicPr>
        <p:blipFill>
          <a:blip r:embed="rId5"/>
          <a:srcRect l="0" t="15111" r="0" b="0"/>
          <a:stretch/>
        </p:blipFill>
        <p:spPr>
          <a:xfrm>
            <a:off x="6732720" y="5229360"/>
            <a:ext cx="961920" cy="1212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Картинка 55 из 10401"/>
          <p:cNvPicPr/>
          <p:nvPr/>
        </p:nvPicPr>
        <p:blipFill>
          <a:blip r:embed="rId6"/>
          <a:stretch/>
        </p:blipFill>
        <p:spPr>
          <a:xfrm>
            <a:off x="7643880" y="5661000"/>
            <a:ext cx="960480" cy="720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h_dff88f92bbab836f6fb15c6b747511a9"/>
          <p:cNvPicPr/>
          <p:nvPr/>
        </p:nvPicPr>
        <p:blipFill>
          <a:blip r:embed="rId7"/>
          <a:stretch/>
        </p:blipFill>
        <p:spPr>
          <a:xfrm>
            <a:off x="324000" y="5157720"/>
            <a:ext cx="1170000" cy="1562040"/>
          </a:xfrm>
          <a:prstGeom prst="rect">
            <a:avLst/>
          </a:prstGeom>
          <a:ln w="0">
            <a:noFill/>
          </a:ln>
        </p:spPr>
      </p:pic>
      <p:sp>
        <p:nvSpPr>
          <p:cNvPr id="149" name="WordArt 14"/>
          <p:cNvSpPr txBox="1"/>
          <p:nvPr/>
        </p:nvSpPr>
        <p:spPr>
          <a:xfrm>
            <a:off x="1332000" y="0"/>
            <a:ext cx="676908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волюционная   гипотеза   происхождения  денег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0" name="Group 15"/>
          <p:cNvGrpSpPr/>
          <p:nvPr/>
        </p:nvGrpSpPr>
        <p:grpSpPr>
          <a:xfrm>
            <a:off x="1187280" y="1484280"/>
            <a:ext cx="6913800" cy="3529080"/>
            <a:chOff x="1187280" y="1484280"/>
            <a:chExt cx="6913800" cy="3529080"/>
          </a:xfrm>
        </p:grpSpPr>
        <p:sp>
          <p:nvSpPr>
            <p:cNvPr id="151" name="WordArt 16"/>
            <p:cNvSpPr txBox="1"/>
            <p:nvPr/>
          </p:nvSpPr>
          <p:spPr>
            <a:xfrm>
              <a:off x="1187280" y="4292640"/>
              <a:ext cx="2376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Товарно-денежный 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обмен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52" name="AutoShape 17"/>
            <p:cNvSpPr/>
            <p:nvPr/>
          </p:nvSpPr>
          <p:spPr>
            <a:xfrm>
              <a:off x="3708360" y="443700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WordArt 18"/>
            <p:cNvSpPr txBox="1"/>
            <p:nvPr/>
          </p:nvSpPr>
          <p:spPr>
            <a:xfrm>
              <a:off x="4645080" y="4365360"/>
              <a:ext cx="1368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Т - Д -Т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154" name="Group 19"/>
            <p:cNvGrpSpPr/>
            <p:nvPr/>
          </p:nvGrpSpPr>
          <p:grpSpPr>
            <a:xfrm>
              <a:off x="1187280" y="1484280"/>
              <a:ext cx="6913800" cy="2160360"/>
              <a:chOff x="1187280" y="1484280"/>
              <a:chExt cx="6913800" cy="2160360"/>
            </a:xfrm>
          </p:grpSpPr>
          <p:sp>
            <p:nvSpPr>
              <p:cNvPr id="155" name="WordArt 20"/>
              <p:cNvSpPr txBox="1"/>
              <p:nvPr/>
            </p:nvSpPr>
            <p:spPr>
              <a:xfrm>
                <a:off x="1187280" y="1484280"/>
                <a:ext cx="2376720" cy="533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>
                          <a:alpha val="80000"/>
                        </a:srgbClr>
                      </a:outerShdw>
                    </a:effectLst>
                    <a:latin typeface="Arial"/>
                  </a:rPr>
                  <a:t>Непосредственный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>
                          <a:alpha val="80000"/>
                        </a:srgbClr>
                      </a:outerShdw>
                    </a:effectLst>
                    <a:latin typeface="Arial"/>
                  </a:rPr>
                  <a:t>товарообмен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  <p:sp>
            <p:nvSpPr>
              <p:cNvPr id="156" name="WordArt 21"/>
              <p:cNvSpPr txBox="1"/>
              <p:nvPr/>
            </p:nvSpPr>
            <p:spPr>
              <a:xfrm>
                <a:off x="1187280" y="2636640"/>
                <a:ext cx="2376720" cy="1008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>
                          <a:alpha val="80000"/>
                        </a:srgbClr>
                      </a:outerShdw>
                    </a:effectLst>
                    <a:latin typeface="Arial"/>
                  </a:rPr>
                  <a:t>Обмен через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>
                          <a:alpha val="80000"/>
                        </a:srgbClr>
                      </a:outerShdw>
                    </a:effectLst>
                    <a:latin typeface="Arial"/>
                  </a:rPr>
                  <a:t>товар-посредник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>
                          <a:alpha val="80000"/>
                        </a:srgbClr>
                      </a:outerShdw>
                    </a:effectLst>
                    <a:latin typeface="Arial"/>
                  </a:rPr>
                  <a:t>(скот, ракушки, меха, зерно)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  <p:sp>
            <p:nvSpPr>
              <p:cNvPr id="157" name="AutoShape 22"/>
              <p:cNvSpPr/>
              <p:nvPr/>
            </p:nvSpPr>
            <p:spPr>
              <a:xfrm>
                <a:off x="3780000" y="1628640"/>
                <a:ext cx="576000" cy="287280"/>
              </a:xfrm>
              <a:custGeom>
                <a:avLst/>
                <a:gdLst>
                  <a:gd name="textAreaLeft" fmla="*/ 0 w 576000"/>
                  <a:gd name="textAreaRight" fmla="*/ 576000 w 5760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3399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AutoShape 23"/>
              <p:cNvSpPr/>
              <p:nvPr/>
            </p:nvSpPr>
            <p:spPr>
              <a:xfrm>
                <a:off x="3780000" y="2997000"/>
                <a:ext cx="576000" cy="287280"/>
              </a:xfrm>
              <a:custGeom>
                <a:avLst/>
                <a:gdLst>
                  <a:gd name="textAreaLeft" fmla="*/ 0 w 576000"/>
                  <a:gd name="textAreaRight" fmla="*/ 576000 w 5760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3399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WordArt 24"/>
              <p:cNvSpPr txBox="1"/>
              <p:nvPr/>
            </p:nvSpPr>
            <p:spPr>
              <a:xfrm>
                <a:off x="4643280" y="2923920"/>
                <a:ext cx="1368720" cy="52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>
                          <a:alpha val="80000"/>
                        </a:srgbClr>
                      </a:outerShdw>
                    </a:effectLst>
                    <a:latin typeface="Arial"/>
                  </a:rPr>
                  <a:t>Т - т -Т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  <p:sp>
            <p:nvSpPr>
              <p:cNvPr id="160" name="WordArt 25"/>
              <p:cNvSpPr txBox="1"/>
              <p:nvPr/>
            </p:nvSpPr>
            <p:spPr>
              <a:xfrm>
                <a:off x="4645080" y="1484280"/>
                <a:ext cx="1368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>
                          <a:alpha val="80000"/>
                        </a:srgbClr>
                      </a:outerShdw>
                    </a:effectLst>
                    <a:latin typeface="Arial"/>
                  </a:rPr>
                  <a:t>Т - Т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  <p:sp>
            <p:nvSpPr>
              <p:cNvPr id="161" name="AutoShape 26"/>
              <p:cNvSpPr/>
              <p:nvPr/>
            </p:nvSpPr>
            <p:spPr>
              <a:xfrm>
                <a:off x="6084720" y="1557360"/>
                <a:ext cx="216000" cy="1800000"/>
              </a:xfrm>
              <a:custGeom>
                <a:avLst/>
                <a:gdLst>
                  <a:gd name="textAreaLeft" fmla="*/ 0 w 216000"/>
                  <a:gd name="textAreaRight" fmla="*/ 78120 w 216000"/>
                  <a:gd name="textAreaTop" fmla="*/ 46800 h 1800000"/>
                  <a:gd name="textAreaBottom" fmla="*/ 1753200 h 180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WordArt 27"/>
              <p:cNvSpPr txBox="1"/>
              <p:nvPr/>
            </p:nvSpPr>
            <p:spPr>
              <a:xfrm>
                <a:off x="6227640" y="1844640"/>
                <a:ext cx="1873440" cy="1152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"/>
                  </a:rPr>
                  <a:t>натуральный</a:t>
                </a:r>
                <a:endPara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"/>
                  </a:rPr>
                  <a:t>(бартерный)</a:t>
                </a:r>
                <a:endPara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"/>
                  </a:rPr>
                  <a:t>обмен</a:t>
                </a:r>
                <a:endPara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</p:grpSp>
        <p:sp>
          <p:nvSpPr>
            <p:cNvPr id="163" name="WordArt 28"/>
            <p:cNvSpPr txBox="1"/>
            <p:nvPr/>
          </p:nvSpPr>
          <p:spPr>
            <a:xfrm>
              <a:off x="6443640" y="4147920"/>
              <a:ext cx="144144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обмен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через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деньги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32000" y="184428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7237440" y="6524640"/>
            <a:ext cx="190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D1D5-D167-449E-BFAF-497416178522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4716360" y="2205000"/>
            <a:ext cx="3038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НЬГИ - эт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140360" y="328464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обый товар, являющийся  всеобщим эквивален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7" descr="ris2"/>
          <p:cNvPicPr/>
          <p:nvPr/>
        </p:nvPicPr>
        <p:blipFill>
          <a:blip r:embed="rId1"/>
          <a:stretch/>
        </p:blipFill>
        <p:spPr>
          <a:xfrm>
            <a:off x="1042920" y="2997360"/>
            <a:ext cx="2914560" cy="294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1294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7237440" y="6524640"/>
            <a:ext cx="190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C087-597A-4BF4-8BB7-65311128B760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2195640" y="0"/>
            <a:ext cx="4390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ОЙСТВА  ДЕНЕГ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755640" y="981000"/>
            <a:ext cx="7488360" cy="548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Делим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возможность  размена крупных денег на мелкие без потери качества. Стоимость денег не должна уменьшаться при разделении их на ч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Портатив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удобны, малы, легки для транспортиров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зносостойкость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не терять качество при  длительном хранении и перемещении на дальние расстоя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Однородность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деньги одного и того же достоинства должны обладать равной покупательской способностью вне зависимости от формы, в которой они представлены (металлические или бумажны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добство пользов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 деньги должны быть легко узнаваемы, различаемы и защищены от поддел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Стабильность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тоимость денег должна быть более или менее одинакова и сегодня и завт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Ликвидность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гкость реализации и обм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7237440" y="6524640"/>
            <a:ext cx="190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9072-BEBE-4917-A22C-D1F5F76F5220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1187280" y="907920"/>
            <a:ext cx="676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сположите по степени ликвидности следующие актив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16000" y="1628640"/>
          <a:ext cx="3600360" cy="373860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городный д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-рублевая купю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ывший в употреблении проржавевший холодиль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лотые укра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ства на депозите до востреб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684360" y="1989000"/>
          <a:ext cx="3743280" cy="4370400"/>
        </p:xfrm>
        <a:graphic>
          <a:graphicData uri="http://schemas.openxmlformats.org/drawingml/2006/table">
            <a:tbl>
              <a:tblPr/>
              <a:tblGrid>
                <a:gridCol w="374328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93"/>
          <p:cNvSpPr/>
          <p:nvPr/>
        </p:nvSpPr>
        <p:spPr>
          <a:xfrm>
            <a:off x="4790520" y="162864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100-рублевая купю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94"/>
          <p:cNvSpPr/>
          <p:nvPr/>
        </p:nvSpPr>
        <p:spPr>
          <a:xfrm>
            <a:off x="4859280" y="2276640"/>
            <a:ext cx="35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Средства на депозите до востреб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95"/>
          <p:cNvSpPr/>
          <p:nvPr/>
        </p:nvSpPr>
        <p:spPr>
          <a:xfrm>
            <a:off x="4934160" y="306864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Золотые укра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96"/>
          <p:cNvSpPr/>
          <p:nvPr/>
        </p:nvSpPr>
        <p:spPr>
          <a:xfrm>
            <a:off x="4933440" y="378936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Загородный д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97"/>
          <p:cNvSpPr/>
          <p:nvPr/>
        </p:nvSpPr>
        <p:spPr>
          <a:xfrm>
            <a:off x="4932360" y="450864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Бывший в употреблении проржавевший холоди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7237440" y="6524640"/>
            <a:ext cx="190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034B-A0AB-4F3A-B865-7D3DE66B0ED9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4"/>
          <p:cNvSpPr txBox="1"/>
          <p:nvPr/>
        </p:nvSpPr>
        <p:spPr>
          <a:xfrm>
            <a:off x="1835280" y="1413000"/>
            <a:ext cx="3038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НЬГИ - эт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116000" y="2276640"/>
            <a:ext cx="6408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общий эквивалент, используемый ка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ра стоим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о обращения (обмена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о платеж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о нако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ровые день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6408720" y="0"/>
            <a:ext cx="2735280" cy="2276640"/>
          </a:xfrm>
          <a:prstGeom prst="wedgeRectCallout">
            <a:avLst>
              <a:gd name="adj1" fmla="val -142106"/>
              <a:gd name="adj2" fmla="val 85078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помощью денег измеряется стоимость всех других това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оимость товара, выраженная в деньгах, есть ц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5867280" y="2852640"/>
            <a:ext cx="3276720" cy="1225800"/>
          </a:xfrm>
          <a:prstGeom prst="wedgeEllipseCallout">
            <a:avLst>
              <a:gd name="adj1" fmla="val -103004"/>
              <a:gd name="adj2" fmla="val 60490"/>
            </a:avLst>
          </a:prstGeom>
          <a:solidFill>
            <a:srgbClr val="ffff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денег не связана с передачей бла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4788000" y="4221000"/>
            <a:ext cx="4356000" cy="1584360"/>
          </a:xfrm>
          <a:prstGeom prst="cloudCallout">
            <a:avLst>
              <a:gd name="adj1" fmla="val -67347"/>
              <a:gd name="adj2" fmla="val 18236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осуществлении внешнеэкономических опера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920" y="-2433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7237440" y="6524640"/>
            <a:ext cx="190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3425-0472-497C-BCD6-94E4A8E0DC77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1042920" y="836640"/>
            <a:ext cx="3025800" cy="14400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стема металличес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щ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монетарна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5076720" y="836640"/>
            <a:ext cx="3025800" cy="14400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щения денеж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195640" y="4005360"/>
            <a:ext cx="2232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нометалл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золотой стандар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156360" y="2781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мажные день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2484360" y="2924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металл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6012000" y="350028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лл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5724360" y="422100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едитные день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15"/>
          <p:cNvSpPr/>
          <p:nvPr/>
        </p:nvSpPr>
        <p:spPr>
          <a:xfrm>
            <a:off x="1835280" y="2997360"/>
            <a:ext cx="576000" cy="215640"/>
          </a:xfrm>
          <a:custGeom>
            <a:avLst/>
            <a:gdLst>
              <a:gd name="textAreaLeft" fmla="*/ 0 w 576000"/>
              <a:gd name="textAreaRight" fmla="*/ 576000 w 576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16"/>
          <p:cNvSpPr/>
          <p:nvPr/>
        </p:nvSpPr>
        <p:spPr>
          <a:xfrm>
            <a:off x="1547640" y="4149720"/>
            <a:ext cx="576360" cy="216000"/>
          </a:xfrm>
          <a:custGeom>
            <a:avLst/>
            <a:gdLst>
              <a:gd name="textAreaLeft" fmla="*/ 0 w 576360"/>
              <a:gd name="textAreaRight" fmla="*/ 576720 w 576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Group 18"/>
          <p:cNvGrpSpPr/>
          <p:nvPr/>
        </p:nvGrpSpPr>
        <p:grpSpPr>
          <a:xfrm>
            <a:off x="1186920" y="2349360"/>
            <a:ext cx="2953440" cy="2374920"/>
            <a:chOff x="1186920" y="2349360"/>
            <a:chExt cx="2953440" cy="2374920"/>
          </a:xfrm>
        </p:grpSpPr>
        <p:sp>
          <p:nvSpPr>
            <p:cNvPr id="202" name="Line 14"/>
            <p:cNvSpPr/>
            <p:nvPr/>
          </p:nvSpPr>
          <p:spPr>
            <a:xfrm flipH="1">
              <a:off x="1186920" y="2349360"/>
              <a:ext cx="792360" cy="237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7"/>
            <p:cNvSpPr/>
            <p:nvPr/>
          </p:nvSpPr>
          <p:spPr>
            <a:xfrm>
              <a:off x="1187280" y="4724280"/>
              <a:ext cx="2953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Group 19"/>
          <p:cNvGrpSpPr/>
          <p:nvPr/>
        </p:nvGrpSpPr>
        <p:grpSpPr>
          <a:xfrm>
            <a:off x="4788000" y="2349360"/>
            <a:ext cx="2952720" cy="2374920"/>
            <a:chOff x="4788000" y="2349360"/>
            <a:chExt cx="2952720" cy="2374920"/>
          </a:xfrm>
        </p:grpSpPr>
        <p:sp>
          <p:nvSpPr>
            <p:cNvPr id="205" name="Line 20"/>
            <p:cNvSpPr/>
            <p:nvPr/>
          </p:nvSpPr>
          <p:spPr>
            <a:xfrm flipH="1">
              <a:off x="4788000" y="2349360"/>
              <a:ext cx="792000" cy="237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1"/>
            <p:cNvSpPr/>
            <p:nvPr/>
          </p:nvSpPr>
          <p:spPr>
            <a:xfrm>
              <a:off x="4788000" y="4724280"/>
              <a:ext cx="29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AutoShape 22"/>
          <p:cNvSpPr/>
          <p:nvPr/>
        </p:nvSpPr>
        <p:spPr>
          <a:xfrm>
            <a:off x="5508720" y="2781360"/>
            <a:ext cx="576000" cy="216000"/>
          </a:xfrm>
          <a:custGeom>
            <a:avLst/>
            <a:gdLst>
              <a:gd name="textAreaLeft" fmla="*/ 0 w 576000"/>
              <a:gd name="textAreaRight" fmla="*/ 576000 w 57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23"/>
          <p:cNvSpPr/>
          <p:nvPr/>
        </p:nvSpPr>
        <p:spPr>
          <a:xfrm>
            <a:off x="5003640" y="4292640"/>
            <a:ext cx="576360" cy="216000"/>
          </a:xfrm>
          <a:custGeom>
            <a:avLst/>
            <a:gdLst>
              <a:gd name="textAreaLeft" fmla="*/ 0 w 576360"/>
              <a:gd name="textAreaRight" fmla="*/ 576720 w 576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24"/>
          <p:cNvSpPr/>
          <p:nvPr/>
        </p:nvSpPr>
        <p:spPr>
          <a:xfrm>
            <a:off x="5219640" y="3573360"/>
            <a:ext cx="576360" cy="216000"/>
          </a:xfrm>
          <a:custGeom>
            <a:avLst/>
            <a:gdLst>
              <a:gd name="textAreaLeft" fmla="*/ 0 w 576360"/>
              <a:gd name="textAreaRight" fmla="*/ 576720 w 576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25"/>
          <p:cNvSpPr/>
          <p:nvPr/>
        </p:nvSpPr>
        <p:spPr>
          <a:xfrm rot="16200000">
            <a:off x="2519280" y="3537000"/>
            <a:ext cx="216000" cy="3168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6"/>
          <p:cNvSpPr/>
          <p:nvPr/>
        </p:nvSpPr>
        <p:spPr>
          <a:xfrm rot="16200000">
            <a:off x="6264360" y="3537000"/>
            <a:ext cx="216000" cy="3168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WordArt 27"/>
          <p:cNvSpPr txBox="1"/>
          <p:nvPr/>
        </p:nvSpPr>
        <p:spPr>
          <a:xfrm>
            <a:off x="1258920" y="5445000"/>
            <a:ext cx="28670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ffffff">
                      <a:alpha val="80000"/>
                    </a:srgbClr>
                  </a:outerShdw>
                </a:effectLst>
                <a:latin typeface="Arial"/>
              </a:rPr>
              <a:t>полноцен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ffff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ffffff">
                      <a:alpha val="80000"/>
                    </a:srgbClr>
                  </a:outerShdw>
                </a:effectLst>
                <a:latin typeface="Arial"/>
              </a:rPr>
              <a:t>деньг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ffff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WordArt 28"/>
          <p:cNvSpPr txBox="1"/>
          <p:nvPr/>
        </p:nvSpPr>
        <p:spPr>
          <a:xfrm>
            <a:off x="5003640" y="5445000"/>
            <a:ext cx="28670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ffffff">
                      <a:alpha val="80000"/>
                    </a:srgbClr>
                  </a:outerShdw>
                </a:effectLst>
                <a:latin typeface="Arial"/>
              </a:rPr>
              <a:t>неполноцен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ffff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ffffff">
                      <a:alpha val="80000"/>
                    </a:srgbClr>
                  </a:outerShdw>
                </a:effectLst>
                <a:latin typeface="Arial"/>
              </a:rPr>
              <a:t>деньг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ffff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4" name="WordArt 29"/>
          <p:cNvSpPr txBox="1"/>
          <p:nvPr/>
        </p:nvSpPr>
        <p:spPr>
          <a:xfrm>
            <a:off x="1866960" y="0"/>
            <a:ext cx="5010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ИПЫ  ДЕНЕЖНЫХ  СИСТЕ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46:24Z</dcterms:created>
  <dc:creator>Ридин</dc:creator>
  <dc:description/>
  <cp:keywords/>
  <dc:language>en-US</dc:language>
  <cp:lastModifiedBy>Лидия</cp:lastModifiedBy>
  <dcterms:modified xsi:type="dcterms:W3CDTF">2013-04-11T18:37:56Z</dcterms:modified>
  <cp:revision>3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01049</vt:lpwstr>
  </property>
</Properties>
</file>