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CFF-165B-4E93-B132-BBDBD709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276-2023-4791-8C1A-74E7485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D50-FD3A-4FF9-8B62-12D46142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2FA-791F-4B3B-A921-4BF8EA86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5FC-C0C4-4724-B42A-2517A4F9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D12-261C-4CD3-9D0A-62281E0D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914-9B60-46D9-9089-5F6297FE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CEB-4441-4513-A57B-2A235724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CED-07C7-4C87-95F9-F704865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973-AA96-4A95-8354-673C0CB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A8D-6D7B-4A66-831B-CF5548A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B8D-09AD-4883-8F09-C596C051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5338-4613-4175-9B1F-C346FFF61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67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7:54:19Z</dcterms:created>
  <dc:creator>User</dc:creator>
  <dc:description/>
  <dc:language>en-US</dc:language>
  <cp:lastModifiedBy>User</cp:lastModifiedBy>
  <dcterms:modified xsi:type="dcterms:W3CDTF">2013-02-14T18:06:02Z</dcterms:modified>
  <cp:revision>2</cp:revision>
  <dc:subject/>
  <dc:title>Слайд 1</dc:title>
</cp:coreProperties>
</file>