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D32-70F2-49A9-9D4A-7852F42D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9CA-A250-4B91-945B-ACC71778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B16-C72E-42F0-864A-A04BED09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32E1-DA66-4D62-961B-E14E435A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24CC-0BBA-4DE6-8B53-1607F2C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4CC-01E1-4987-8DC2-A39A666A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33F-5E73-4252-A921-F06F219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8F9-AC4D-4CF3-AB3C-116003E3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B51-FD14-4040-928F-72E6985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C0E-87C3-41D4-B68D-A0A7827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2D9-8F0A-4098-80C6-E2B1BAF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F3F-9762-45F9-BA31-9CFDE73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E144-96AF-4F47-900A-DC995DE8F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071720" y="0"/>
            <a:ext cx="67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7:54:19Z</dcterms:created>
  <dc:creator>User</dc:creator>
  <dc:description/>
  <dc:language>en-US</dc:language>
  <cp:lastModifiedBy>User</cp:lastModifiedBy>
  <dcterms:modified xsi:type="dcterms:W3CDTF">2013-02-14T18:06:02Z</dcterms:modified>
  <cp:revision>2</cp:revision>
  <dc:subject/>
  <dc:title>Слайд 1</dc:title>
</cp:coreProperties>
</file>