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66AE-FBE3-4D1F-8B4C-59DFDE21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545A-B97D-411C-B36E-81BC6B42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298-58AD-4266-BC6D-2811C8A0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C88-EA90-440D-BD0B-B4E681035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BBF-CA83-4923-8A5A-221F1424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354-8B6A-4E39-8A06-31DE74BA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475-52B4-4730-9E00-8BBA79DB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85A-BE1C-4C1D-8729-2D7CE157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A0B-AA42-49D1-A59E-DDDDFD0B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485F-CEB5-48D3-AFD1-28518195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3E7-B1CC-4744-8835-699072CE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E90-E8FC-4521-9104-73E3AFAD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22BA-DB56-4008-A4AC-DA2D53C62F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put.ru/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Дымковская сказ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cc-m-imagesubtitle-image-5281360209" descr="Дымковская роспись картинки фотографии клипарт"/>
          <p:cNvPicPr/>
          <p:nvPr/>
        </p:nvPicPr>
        <p:blipFill>
          <a:blip r:embed="rId2"/>
          <a:stretch/>
        </p:blipFill>
        <p:spPr>
          <a:xfrm>
            <a:off x="1219320" y="1295280"/>
            <a:ext cx="7086600" cy="4502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571500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Б ДОУ «ЦРР – детский сад №99»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оспитатель ИЗО студии Круговая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889440" cy="487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Дымковская игрушка(история+фотографии)."/>
          <p:cNvPicPr/>
          <p:nvPr/>
        </p:nvPicPr>
        <p:blipFill>
          <a:blip r:embed="rId3"/>
          <a:stretch/>
        </p:blipFill>
        <p:spPr>
          <a:xfrm>
            <a:off x="5105520" y="304920"/>
            <a:ext cx="3652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Дымковская игрушка(история+фотографии)."/>
          <p:cNvPicPr/>
          <p:nvPr/>
        </p:nvPicPr>
        <p:blipFill>
          <a:blip r:embed="rId2"/>
          <a:stretch/>
        </p:blipFill>
        <p:spPr>
          <a:xfrm>
            <a:off x="2209680" y="380880"/>
            <a:ext cx="4950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c-m-imagesubtitle-image-5281326009" descr="Дымковская игрушка"/>
          <p:cNvPicPr/>
          <p:nvPr/>
        </p:nvPicPr>
        <p:blipFill>
          <a:blip r:embed="rId2"/>
          <a:stretch/>
        </p:blipFill>
        <p:spPr>
          <a:xfrm>
            <a:off x="457200" y="304920"/>
            <a:ext cx="3809880" cy="4943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Дымковская игрушка(история+фотографии)."/>
          <p:cNvPicPr/>
          <p:nvPr/>
        </p:nvPicPr>
        <p:blipFill>
          <a:blip r:embed="rId3"/>
          <a:stretch/>
        </p:blipFill>
        <p:spPr>
          <a:xfrm>
            <a:off x="5295960" y="0"/>
            <a:ext cx="38480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ымковская игрушка — едва ли не единственный вид народного искусства, который дает уникальную возможность проследить его развитие на протяжении почти полутора столетий, развитие последовательное и непрерывное в смене многих поколений и династий маст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ымковская игрушка, один из самых старинных промыслов России. Он возник из любви к гончарной традиции вятских земель в глубокой древности. Название игрушки происходит от слободы Дымково, сегодня это район города Вятки. По мнению многих исследователей, развитие дымковской глиняной игрушки связано с обрядовым весенним праздником «свистопляской», который был посвящён солнцу. Чтобы принять участие в празднике, нужна была глиняная свистулька и расписной глиняный шарик, которым можно было перекиды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истульки имели формы различных тотемных животных: медведь, козёл, баран, олень, но по сути своей были очень просты, так их основная функция была магическая, а не декоративная. Несмотря на ритуальное значение глиняных свистулек, заметна некоторая ирония, с которой мастера их лепили. Медведь, например, мог играть на каком-нибудь музыкальном инструменте, козёл мог быть одет в смешные штаны. Такие глиняные фигурки-свистульки лепили женщины и девочки задолго до праздника. Эта работа считалась исключительно женс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XIX веке праздник превратился в оживлённую ярмарку «свистунью», с непременным свистом. Магическое значение празднества утратилось. Свистульки сохранялись, но приобретали всё более вычурные, декоративные формы. Если в древности основным сюжетом были животные, то в XIX столетии появляются женщины в нарядных одеждах, с младенцами, птицами, с корзинами с пирогами, с коромыслами, на скамеечках и в лодочках. Позже мастера дымковской игрушки обращаются к городским сюжетам: дамы-модницы, горожане, офицеры, купчихи, скоморо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ы не изображала дымковская игрушка, её всегда можно отличить своей неповторимой нарядной раскраской. На белом фоне очень весело смотрятся синий, голубой, зелёный, жёлто-оранжевый, малиновый цвета. Их может быть до десяти. Орнамент всегда прост: клетки, полоски, круги, точки, ромбики, зигзаги в разных сочетаниях. Но эти простые геометрические узоры несут некую информацию. Например, синяя волнистая полоса обозначает воду, перекрещенные полоски – сруб колодца, круг с серединкой-звёздочкой – солнце и другие свет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029200" y="304920"/>
            <a:ext cx="3657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мое раннее упоминание о дымковских глиняных игрушках относится к 1811 году. Сосланный в Вятку генерал-майор Хитрово описывал местный народный праздник – «Свистопляску» и между прочим отмечал: «…продаются на тех местах куклы из глины, расписанные разными красками и раззолоченные». С легкой руки генерала, все материалы о Вятке 19 века подробно рассказывали о «свистопляске», или «свистунье», во время которой несколько дней продолжались в городе веселье, шум, смех и непременный свист в глиняные свистульки, изображавшие разноцветных зверей и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524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995560" cy="4486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51055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хника изготовления дымковской игрушки тоже очень проста. Игрушку лепят руками из местной красной глины, перемешанной с речным песком. Свистульки прокалывают палочкой. Фигурку лепят по частям. Отдельные элементы соединяют между собой жидкой глиной. Швы сглаживают мокрой тряпкой. Игрушку просушивают и обжигают, а затем покрывают белилами (мел, разведённый с молоком) и расписыв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44956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ая дымковская игрушка – это ручная работа, которая существует только в единственном экземпляре. Каждая мастерица вносит свой почерк и колорит. Промысел дымковской игрушки и по сей день не имеет серийного производства, что отличает его от других народных промы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годня дымковскую игрушку может попробовать изготовить любой взрослый и ребёнок, даже не имеющий специального образования. Нужна только глина, кисточка, краски и ваша фантаз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380880"/>
            <a:ext cx="3809880" cy="283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334120" y="3276720"/>
            <a:ext cx="3220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c-m-imagesubtitle-image-5444671309" descr="дымковская, жостово, гжель, хохлома, городец картинки"/>
          <p:cNvPicPr/>
          <p:nvPr/>
        </p:nvPicPr>
        <p:blipFill>
          <a:blip r:embed="rId2"/>
          <a:stretch/>
        </p:blipFill>
        <p:spPr>
          <a:xfrm>
            <a:off x="19051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10:57:16Z</dcterms:created>
  <dc:creator>СВЕТОЧКА</dc:creator>
  <dc:description/>
  <dc:language>en-US</dc:language>
  <cp:lastModifiedBy>СВЕТА</cp:lastModifiedBy>
  <dcterms:modified xsi:type="dcterms:W3CDTF">2013-04-11T10:17:5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