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7A7-BB4A-4A6A-882C-FC9FA099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9BE-C333-49E6-93AC-FDEECBE9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C8B-5B50-461D-9A86-6E64E6AA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C08-BD0F-49DD-A0A6-D2A7F63B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22E-C265-464E-8108-B6DAC499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0778-F651-44A5-8425-4225B95F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CBC-5A27-43AD-A36F-7DD94F89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A59-DE19-4137-9594-C5736197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596-B4E8-4442-BF03-1A7F53C9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34AF-1D00-4DE4-8BC1-658DFC6C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09A-9BF4-459F-873E-57930CBB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1F2-40D6-4168-A5B3-D6F6C886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E36C-4494-4ED5-9887-8615CABFB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ворческий проект по тем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Экология нашего города,      и что я могу сделать, чтобы улучшить экологическую          обстановку в городе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Documents and Settings\Admin\Local Settings\Temporary Internet Files\Content.IE5\E7YWNSV2\MC900437553[1].wmf"/>
          <p:cNvPicPr/>
          <p:nvPr/>
        </p:nvPicPr>
        <p:blipFill>
          <a:blip r:embed="rId1"/>
          <a:stretch/>
        </p:blipFill>
        <p:spPr>
          <a:xfrm>
            <a:off x="304920" y="4191120"/>
            <a:ext cx="3000240" cy="22827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8"/>
          <p:cNvSpPr/>
          <p:nvPr/>
        </p:nvSpPr>
        <p:spPr>
          <a:xfrm>
            <a:off x="3352680" y="3809880"/>
            <a:ext cx="513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ила: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аева Вероника, ученица 2 «А»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БОУ «Средняя общеобразовательная школа№4»  Г.Горн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2"/>
          <p:cNvSpPr/>
          <p:nvPr/>
        </p:nvSpPr>
        <p:spPr>
          <a:xfrm>
            <a:off x="4267080" y="5105520"/>
            <a:ext cx="4430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уководитель: Клюева Ольга Васильевна,                                                                            учитель начальных классов                                                                              МБОУ «Средняя общеобразовательная                                                                                школа №4»  Г.Горн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положение города Горня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34880" y="1428840"/>
            <a:ext cx="8099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ш город постепенно  расцвет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58112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0" y="3657600"/>
            <a:ext cx="487368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818240" y="3657600"/>
            <a:ext cx="432576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4"/>
          <a:stretch/>
        </p:blipFill>
        <p:spPr>
          <a:xfrm>
            <a:off x="0" y="1523880"/>
            <a:ext cx="3505320" cy="221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5"/>
          <a:stretch/>
        </p:blipFill>
        <p:spPr>
          <a:xfrm>
            <a:off x="6404040" y="1523880"/>
            <a:ext cx="273996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6"/>
          <a:stretch/>
        </p:blipFill>
        <p:spPr>
          <a:xfrm>
            <a:off x="3632040" y="1600200"/>
            <a:ext cx="26164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заметила ужасные карти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0" y="351468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4471920" y="3886200"/>
            <a:ext cx="467208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0" y="1066680"/>
            <a:ext cx="474804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4"/>
          <a:stretch/>
        </p:blipFill>
        <p:spPr>
          <a:xfrm>
            <a:off x="4800600" y="685800"/>
            <a:ext cx="41911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838080" y="0"/>
            <a:ext cx="76201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дрые люди говорят:</a:t>
            </a: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 «Кто содержит в чистоте родник, тот пьёт чистую вод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м исследованием я хо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тавить людей задуматься о чистоте нашего гор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тить внимание людей на своё поведение на улицах г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3581280" cy="2415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3632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востохранилище, « где птицы не поют, деревья не растут, нет даже ни единой трави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96080" cy="6172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Admin\Local Settings\Temporary Internet Files\Content.IE5\9T71BQ40\MC900437553[2].wmf"/>
          <p:cNvPicPr/>
          <p:nvPr/>
        </p:nvPicPr>
        <p:blipFill>
          <a:blip r:embed="rId2"/>
          <a:stretch/>
        </p:blipFill>
        <p:spPr>
          <a:xfrm>
            <a:off x="5029200" y="1676520"/>
            <a:ext cx="34354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61722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7"/>
          <p:cNvSpPr/>
          <p:nvPr/>
        </p:nvSpPr>
        <p:spPr>
          <a:xfrm>
            <a:off x="4876920" y="64771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м за милю от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1T18:42:39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