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8F0E-0583-437B-897E-3AC5BBE07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75D1-FD61-4114-9A6A-05FCB671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F18A-101A-439E-8199-C3F65ECD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57F6-6C39-4F9A-9382-6F882E15B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D8E8-88F4-4591-8C3F-A0FBEC81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370E-BC80-47A9-86EB-110CE35E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F986-3DF5-4288-8C4F-DB18C70E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EFB2-D4C5-4D1D-A5DD-9F1FB456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806F-9B78-4C78-BDA5-7830C413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42C8-B348-433B-A4BD-07BEE653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E91F-643C-4E8E-AB5D-473A6B31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0B1F-9E89-4D3C-8378-613AF1B0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6A52-EF82-4D0A-865F-A25B6D9D77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ворческий проект по теме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Экология нашего города,      и что я могу сделать, чтобы улучшить экологическую          обстановку в городе?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C:\Documents and Settings\Admin\Local Settings\Temporary Internet Files\Content.IE5\E7YWNSV2\MC900437553[1].wmf"/>
          <p:cNvPicPr/>
          <p:nvPr/>
        </p:nvPicPr>
        <p:blipFill>
          <a:blip r:embed="rId1"/>
          <a:stretch/>
        </p:blipFill>
        <p:spPr>
          <a:xfrm>
            <a:off x="304920" y="4191120"/>
            <a:ext cx="3000240" cy="22827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8"/>
          <p:cNvSpPr/>
          <p:nvPr/>
        </p:nvSpPr>
        <p:spPr>
          <a:xfrm>
            <a:off x="3352680" y="3809880"/>
            <a:ext cx="513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олнила: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асаева Вероника, ученица 2 «А»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БОУ «Средняя общеобразовательная школа№4»  Г.Горня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2"/>
          <p:cNvSpPr/>
          <p:nvPr/>
        </p:nvSpPr>
        <p:spPr>
          <a:xfrm>
            <a:off x="4267080" y="5105520"/>
            <a:ext cx="4430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уководитель: Клюева Ольга Васильевна,                                                                            учитель начальных классов                                                                              МБОУ «Средняя общеобразовательная                                                                                школа №4»  Г.Горня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положение города Горня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434880" y="1428840"/>
            <a:ext cx="80996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ш город постепенно  расцвет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581120" cy="1428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0" y="3657600"/>
            <a:ext cx="4873680" cy="3200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818240" y="3657600"/>
            <a:ext cx="4325760" cy="3200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4"/>
          <a:stretch/>
        </p:blipFill>
        <p:spPr>
          <a:xfrm>
            <a:off x="0" y="1523880"/>
            <a:ext cx="3505320" cy="2210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"/>
          <p:cNvPicPr/>
          <p:nvPr/>
        </p:nvPicPr>
        <p:blipFill>
          <a:blip r:embed="rId5"/>
          <a:stretch/>
        </p:blipFill>
        <p:spPr>
          <a:xfrm>
            <a:off x="6404040" y="1523880"/>
            <a:ext cx="2739960" cy="205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"/>
          <p:cNvPicPr/>
          <p:nvPr/>
        </p:nvPicPr>
        <p:blipFill>
          <a:blip r:embed="rId6"/>
          <a:stretch/>
        </p:blipFill>
        <p:spPr>
          <a:xfrm>
            <a:off x="3632040" y="1600200"/>
            <a:ext cx="261648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 заметила ужасные картин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"/>
          <p:cNvPicPr/>
          <p:nvPr/>
        </p:nvPicPr>
        <p:blipFill>
          <a:blip r:embed="rId1"/>
          <a:stretch/>
        </p:blipFill>
        <p:spPr>
          <a:xfrm>
            <a:off x="0" y="3514680"/>
            <a:ext cx="4457880" cy="3343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2"/>
          <a:stretch/>
        </p:blipFill>
        <p:spPr>
          <a:xfrm>
            <a:off x="4471920" y="3886200"/>
            <a:ext cx="4672080" cy="2971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3"/>
          <a:stretch/>
        </p:blipFill>
        <p:spPr>
          <a:xfrm>
            <a:off x="0" y="1066680"/>
            <a:ext cx="4748040" cy="2438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4"/>
          <a:stretch/>
        </p:blipFill>
        <p:spPr>
          <a:xfrm>
            <a:off x="4800600" y="685800"/>
            <a:ext cx="419112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3"/>
          <p:cNvSpPr/>
          <p:nvPr/>
        </p:nvSpPr>
        <p:spPr>
          <a:xfrm>
            <a:off x="838080" y="0"/>
            <a:ext cx="762012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дрые люди говорят:</a:t>
            </a: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 «Кто содержит в чистоте родник, тот пьёт чистую вод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им исследованием я хо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ставить людей задуматься о чистоте нашего горо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тить внимание людей на своё поведение на улицах го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"/>
          <p:cNvPicPr/>
          <p:nvPr/>
        </p:nvPicPr>
        <p:blipFill>
          <a:blip r:embed="rId1"/>
          <a:stretch/>
        </p:blipFill>
        <p:spPr>
          <a:xfrm>
            <a:off x="5029200" y="4191120"/>
            <a:ext cx="3581280" cy="2415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2"/>
          <a:stretch/>
        </p:blipFill>
        <p:spPr>
          <a:xfrm>
            <a:off x="304920" y="4267080"/>
            <a:ext cx="36320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востохранилище, « где птицы не поют, деревья не растут, нет даже ни единой травин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696080" cy="6172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Documents and Settings\Admin\Local Settings\Temporary Internet Files\Content.IE5\9T71BQ40\MC900437553[2].wmf"/>
          <p:cNvPicPr/>
          <p:nvPr/>
        </p:nvPicPr>
        <p:blipFill>
          <a:blip r:embed="rId2"/>
          <a:stretch/>
        </p:blipFill>
        <p:spPr>
          <a:xfrm>
            <a:off x="5029200" y="1676520"/>
            <a:ext cx="343548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Содержимое 5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153280" cy="61722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7"/>
          <p:cNvSpPr/>
          <p:nvPr/>
        </p:nvSpPr>
        <p:spPr>
          <a:xfrm>
            <a:off x="4876920" y="64771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м за милю от г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11T18:42:39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