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6D1D-4F3E-4D66-80EF-7664B91C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9CA2-C8FE-4869-9481-C5E2181D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45D-4B03-4214-9BD6-663C5820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2B7-B01C-4617-BBEC-BF187DD1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DA2C-CD1A-431F-BD18-C3103DCF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EAFD-D494-4F6C-AE1B-E3AA67D5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8D25-AE25-4A69-9B5C-77D49053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B749-1E77-4F9F-83E9-45F587DE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81FF-DF1C-443B-BF9B-C3E77CF6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C4ED-CE05-4AC6-8F69-0FEBF7C2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6BB4-1824-46AB-84CB-FB75A79B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0CE-FFEC-4462-9D42-D3A5FA5B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2EFB-8100-444C-8C89-3934F7CD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410F-5FBD-4387-B2FE-D52B5F96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828E-B47E-4A6B-BA2C-849B55D8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377A-00DF-422D-BC91-FA1D7E40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390C-A7F4-4881-B87B-2A1FE6F0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BA0-246B-4EEB-A669-54F725CE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EEA-FF02-4915-A739-1D256EBC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874-B590-4593-9D70-E5F7F55F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425-DE3F-45C7-B11E-6763D0B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520-0BB1-4503-892E-DBC0EAE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C39-4BB9-476E-AADC-E1BEE1D5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58D-379D-4102-83D7-99D8E88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CBB4-9C1C-4C85-B960-2C3F04FC02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C4F1-9B59-4676-AB1B-C4B76BB1D7F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Федя Мелехинлöн сьöлöомкылöмъяс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.Г.Тороповлöн «Проса рок» висьт сер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Федя оз повзьы уна сьöкыдлунысь, но бöрдö Наташаöс воштöмысь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57200" y="1600200"/>
            <a:ext cx="4038480" cy="4495680"/>
            <a:chOff x="457200" y="1600200"/>
            <a:chExt cx="4038480" cy="449568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45720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ff99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648320" y="1600200"/>
            <a:ext cx="4038480" cy="4495680"/>
            <a:chOff x="4648320" y="1600200"/>
            <a:chExt cx="4038480" cy="449568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4648320" y="1600200"/>
              <a:ext cx="40384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4648320" y="1600200"/>
              <a:ext cx="4038480" cy="449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ff99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Зонм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 о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ыс ве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і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, мый ов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и доя муслун…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2124000"/>
            <a:ext cx="4038480" cy="3446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8320" y="1744560"/>
            <a:ext cx="403848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о воас здук, кор муслун- бобув бара пуксяс пельпом вылад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 кодк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бытьысь шуас: Ме тэн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некодлы ог сет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ед олас му вылын ыджыд муслун!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Уджс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дасьт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і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сны 8 классын ве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дчысьяс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ьнырова Ири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ретьякова Наташ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жöг, 2011 в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212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зентациялöн мог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зявны, кыдзи вежласьö геройлöн сьöлöмкылöмы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ткдöлыны тайöс серпас- образъяс отсогö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Наташаöс медводдзаысь аддзöм бöрын Федялы сійö кажитчис мойдса герой кодь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«Менам сьöлöм кутіс косьмыны Наташа вöсна» (ёна кыскö сы дорö, овны ог вермы)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Наташа вылö видзöдігöн Федялы окота лоны матынджык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Федя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 муслуныс ю весьтын 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шкам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шка кодь уна р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а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Збыльсö тöдмалöм бöрын Федялöн сьöлöм доймö восьса, вируля рана моз.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Федя некыдз оз гöгöрво, мыйысь Наташа радейтö тайö «пельтöм мырсö»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таша оз г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г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во, кутш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 ыджыд сь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л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ö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а  морт Федяыс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0:38:04Z</dcterms:created>
  <dc:creator>Администратор</dc:creator>
  <dc:description/>
  <dc:language>en-US</dc:language>
  <cp:lastModifiedBy>Администратор</cp:lastModifiedBy>
  <dcterms:modified xsi:type="dcterms:W3CDTF">2013-04-12T18:01:27Z</dcterms:modified>
  <cp:revision>4</cp:revision>
  <dc:subject/>
  <dc:title>Федя Мелехинлон сьоломкыломъяс</dc:title>
</cp:coreProperties>
</file>