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B68-1267-43E0-A3BF-CD8FCFB1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DD4-228A-4073-BA4F-ECCDCC49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974-9319-4635-AD9A-C79C8F0B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6CC-8E7D-49AD-980A-01C8E54D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686-09B0-4AA2-A077-EDB2AAA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3655-4A9A-4D02-9644-2C3D6B4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8E9B-E016-4A14-A83D-F06389E3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A498-B4D2-497B-ADFC-9F33148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146-316F-4A47-B038-E4FC946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F176-1A89-45EA-88B6-D03ADFA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B1E-A783-40AE-9DDC-FCB1B96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AB6-001A-4322-A0E7-B88280F9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2B48-2B71-4A05-A12B-E7FF28D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3D48-EBD1-4662-AA04-463A4C8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11C-7392-47D1-B1CA-2412CC55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9B18-ED9C-4690-B423-B5590F19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E27-0BDE-4498-94CC-324E1AB9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DC2-38A1-4893-BBC3-6B90817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314-8589-4D01-AA7A-9966DAF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EFA-A409-4F13-A0A2-88CDDF0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673-3A8C-4C8B-8045-9988E1DA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F4D-7FDD-4AE7-A017-5B328DB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011-8D6A-42B3-98D6-52BF462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AC0-D80B-40C1-8933-CAD9866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A96-82C3-4299-A520-816D4F1858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678-ADF8-42AA-80AB-A745561619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Федя Мелехинлöн сьöлöомкылöмъя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.Г.Тороповлöн «Проса рок» висьт сер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Федя оз повзьы уна сьöкыдлунысь, но бöрдö Наташаöс воштöмысь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1600200"/>
            <a:ext cx="4038480" cy="4495680"/>
            <a:chOff x="457200" y="1600200"/>
            <a:chExt cx="4038480" cy="44956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572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онм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 о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ыс ве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і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, мый ов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и доя муслун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124000"/>
            <a:ext cx="4038480" cy="344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8320" y="1744560"/>
            <a:ext cx="403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о воас здук, кор муслун- бобув бара пуксяс пельпом вылад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 код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бытьысь шуас: Ме тэн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некодлы ог сет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ед олас му вылын ыджыд муслун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Уджс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дасьт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і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ны 8 классын ве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чысьяс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ьнырова Ир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тьякова Наташ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жöг, 2011 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зентациялöн мог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явны, кыдзи вежласьö геройлöн сьöлöмкылöмы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ткдöлыны тайöс серпас- образъяс отсогö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аташаöс медводдзаысь аддзöм бöрын Федялы сійö кажитчис мойдса герой кодь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«Менам сьöлöм кутіс косьмыны Наташа вöсна» (ёна кыскö сы дорö, овны ог вермы)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аташа вылö видзöдігöн Федялы окота лоны матынджык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едя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 муслуныс ю весьтын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шкам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шка кодь уна 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Збыльсö тöдмалöм бöрын Федялöн сьöлöм доймö восьса, вируля рана моз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Федя некыдз оз гöгöрво, мыйысь Наташа радейтö тайö «пельтöм мырсö»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таша оз 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во, кутш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 ыджыд сь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а  морт Федяыс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0:38:04Z</dcterms:created>
  <dc:creator>Администратор</dc:creator>
  <dc:description/>
  <dc:language>en-US</dc:language>
  <cp:lastModifiedBy>Администратор</cp:lastModifiedBy>
  <dcterms:modified xsi:type="dcterms:W3CDTF">2013-04-12T18:01:27Z</dcterms:modified>
  <cp:revision>4</cp:revision>
  <dc:subject/>
  <dc:title>Федя Мелехинлон сьоломкыломъяс</dc:title>
</cp:coreProperties>
</file>