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D5A4-B930-484C-83D2-A6EBA9DEBF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584E-96F3-449C-9CFE-2B55D75917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7C1-2EF1-457F-8711-693E75C1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DB7-E345-4C3A-9D0D-A0765B8E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C55-1ADF-407D-A6A9-EB7A778F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3C8-14FE-45BF-9426-5E1B2475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277-A9CD-4EB1-BAAA-44485990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061-3511-41A6-979C-6B13CD78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4D8F-519C-46F4-B0F8-744E3995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CD7A-1C16-4F16-9C2D-A3975EC4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1F3-CDC8-4CC4-B9CA-6291F820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498-210E-4AA0-863B-666C374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8D6-404A-4C7C-8611-604AC21F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3B5C-A929-4CEF-9AC8-563B44D4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75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6834-960F-4853-BB9E-35C676786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539640" y="428760"/>
            <a:ext cx="7993080" cy="580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 rot="18609000">
            <a:off x="-87840" y="51624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 rot="13254000">
            <a:off x="7585920" y="45720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 rot="18717000">
            <a:off x="7558920" y="5696280"/>
            <a:ext cx="1585800" cy="5050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9680" y="500040"/>
            <a:ext cx="81867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80070"/>
                </a:solidFill>
                <a:latin typeface="Arial"/>
              </a:rPr>
              <a:t>Бинарный урок</a:t>
            </a:r>
            <a:r>
              <a:rPr b="0" lang="en-US" sz="2800" spc="-1" strike="noStrike">
                <a:solidFill>
                  <a:srgbClr val="38007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380070"/>
                </a:solidFill>
                <a:latin typeface="Arial"/>
              </a:rPr>
              <a:t>игра по 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NDUSTRY AND AGRICULTURE OF THE U.K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80070"/>
                </a:solidFill>
                <a:latin typeface="Arial"/>
              </a:rPr>
              <a:t>Подготовили преподава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80070"/>
                </a:solidFill>
                <a:latin typeface="Arial"/>
              </a:rPr>
              <a:t>ФГОУ</a:t>
            </a:r>
            <a:r>
              <a:rPr b="0" lang="en-US" sz="2800" spc="-1" strike="noStrike">
                <a:solidFill>
                  <a:srgbClr val="38007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80070"/>
                </a:solidFill>
                <a:latin typeface="Arial"/>
              </a:rPr>
              <a:t>С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80070"/>
                </a:solidFill>
                <a:latin typeface="Arial"/>
              </a:rPr>
              <a:t>«Брюховецкий аграрный колледж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вод Е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ергеева А.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http://www.wheat-acp.narod.ru/wheat12_m.jpg"/>
          <p:cNvPicPr/>
          <p:nvPr/>
        </p:nvPicPr>
        <p:blipFill>
          <a:blip r:embed="rId1"/>
          <a:stretch/>
        </p:blipFill>
        <p:spPr>
          <a:xfrm rot="19716600">
            <a:off x="1011240" y="2196720"/>
            <a:ext cx="2441520" cy="2100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3"/>
          <p:cNvSpPr/>
          <p:nvPr/>
        </p:nvSpPr>
        <p:spPr>
          <a:xfrm rot="13468800">
            <a:off x="33120" y="5732280"/>
            <a:ext cx="1585800" cy="504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ic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600200"/>
          <a:ext cx="8229600" cy="512136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822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q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q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161645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</a:tbl>
          </a:graphicData>
        </a:graphic>
      </p:graphicFrame>
      <p:cxnSp>
        <p:nvCxnSpPr>
          <p:cNvPr id="96" name="Прямая со стрелкой 5"/>
          <p:cNvCxnSpPr/>
          <p:nvPr/>
        </p:nvCxnSpPr>
        <p:spPr>
          <a:xfrm>
            <a:off x="642600" y="1928880"/>
            <a:ext cx="4429800" cy="7200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97" name="Прямая со стрелкой 6"/>
          <p:cNvCxnSpPr/>
          <p:nvPr/>
        </p:nvCxnSpPr>
        <p:spPr>
          <a:xfrm>
            <a:off x="2214360" y="3214800"/>
            <a:ext cx="2858040" cy="200088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98" name="Прямая со стрелкой 8"/>
          <p:cNvCxnSpPr/>
          <p:nvPr/>
        </p:nvCxnSpPr>
        <p:spPr>
          <a:xfrm>
            <a:off x="2143080" y="5715000"/>
            <a:ext cx="3572640" cy="7200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99" name="Прямая со стрелкой 10"/>
          <p:cNvCxnSpPr/>
          <p:nvPr/>
        </p:nvCxnSpPr>
        <p:spPr>
          <a:xfrm>
            <a:off x="857160" y="6214680"/>
            <a:ext cx="5787000" cy="7236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00" name="Прямая со стрелкой 12"/>
          <p:cNvCxnSpPr/>
          <p:nvPr/>
        </p:nvCxnSpPr>
        <p:spPr>
          <a:xfrm>
            <a:off x="8142840" y="2357280"/>
            <a:ext cx="143640" cy="221544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01" name="Прямая со стрелкой 14"/>
          <p:cNvCxnSpPr/>
          <p:nvPr/>
        </p:nvCxnSpPr>
        <p:spPr>
          <a:xfrm flipV="1">
            <a:off x="1498680" y="2499840"/>
            <a:ext cx="2160" cy="314568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02" name="Прямая со стрелкой 16"/>
          <p:cNvCxnSpPr/>
          <p:nvPr/>
        </p:nvCxnSpPr>
        <p:spPr>
          <a:xfrm>
            <a:off x="6428160" y="2642760"/>
            <a:ext cx="72360" cy="300132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03" name="Прямая со стрелкой 18"/>
          <p:cNvCxnSpPr/>
          <p:nvPr/>
        </p:nvCxnSpPr>
        <p:spPr>
          <a:xfrm>
            <a:off x="3071520" y="3142800"/>
            <a:ext cx="2072520" cy="252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04" name="Прямая со стрелкой 20"/>
          <p:cNvCxnSpPr/>
          <p:nvPr/>
        </p:nvCxnSpPr>
        <p:spPr>
          <a:xfrm flipH="1">
            <a:off x="7500600" y="2571840"/>
            <a:ext cx="2160" cy="321696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2571"/>
                </a:solidFill>
                <a:latin typeface="Arial"/>
              </a:rPr>
              <a:t>Puzzles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Documents and Settings\Admin\Рабочий стол\рабочая\john_deere.jpg"/>
          <p:cNvPicPr/>
          <p:nvPr/>
        </p:nvPicPr>
        <p:blipFill>
          <a:blip r:embed="rId1"/>
          <a:stretch/>
        </p:blipFill>
        <p:spPr>
          <a:xfrm>
            <a:off x="428760" y="1143000"/>
            <a:ext cx="8429400" cy="5357880"/>
          </a:xfrm>
          <a:prstGeom prst="rect">
            <a:avLst/>
          </a:prstGeom>
          <a:ln w="133200">
            <a:solidFill>
              <a:srgbClr val="7030a0"/>
            </a:solidFill>
            <a:bevel/>
          </a:ln>
        </p:spPr>
      </p:pic>
      <p:sp>
        <p:nvSpPr>
          <p:cNvPr id="107" name="Прямоугольник 4"/>
          <p:cNvSpPr/>
          <p:nvPr/>
        </p:nvSpPr>
        <p:spPr>
          <a:xfrm>
            <a:off x="285840" y="1143000"/>
            <a:ext cx="2857320" cy="25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3143160" y="1143000"/>
            <a:ext cx="2857680" cy="2428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"/>
          <p:cNvSpPr/>
          <p:nvPr/>
        </p:nvSpPr>
        <p:spPr>
          <a:xfrm>
            <a:off x="6000840" y="1143000"/>
            <a:ext cx="2857320" cy="2428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6000840" y="3500280"/>
            <a:ext cx="2857320" cy="3000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3214800" y="3571920"/>
            <a:ext cx="2857320" cy="292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357120" y="3571920"/>
            <a:ext cx="2857680" cy="292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1"/>
          <p:cNvSpPr/>
          <p:nvPr/>
        </p:nvSpPr>
        <p:spPr>
          <a:xfrm>
            <a:off x="285840" y="1143000"/>
            <a:ext cx="2786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two branches of agricul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Прямоугольник 12" descr=""/>
          <p:cNvPicPr/>
          <p:nvPr/>
        </p:nvPicPr>
        <p:blipFill>
          <a:blip r:embed="rId2"/>
          <a:stretch/>
        </p:blipFill>
        <p:spPr>
          <a:xfrm>
            <a:off x="3133800" y="1122480"/>
            <a:ext cx="3370320" cy="24858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3"/>
          <p:cNvSpPr/>
          <p:nvPr/>
        </p:nvSpPr>
        <p:spPr>
          <a:xfrm>
            <a:off x="6000840" y="1143000"/>
            <a:ext cx="2428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life possible without pl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5"/>
          <p:cNvSpPr/>
          <p:nvPr/>
        </p:nvSpPr>
        <p:spPr>
          <a:xfrm>
            <a:off x="428760" y="3500280"/>
            <a:ext cx="264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does the Latin word “agre”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212080" y="-652320"/>
            <a:ext cx="314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are the two branches of agricul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17" descr=""/>
          <p:cNvPicPr/>
          <p:nvPr/>
        </p:nvPicPr>
        <p:blipFill>
          <a:blip r:embed="rId3"/>
          <a:stretch/>
        </p:blipFill>
        <p:spPr>
          <a:xfrm>
            <a:off x="3127320" y="3425760"/>
            <a:ext cx="3071880" cy="264636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8" descr=""/>
          <p:cNvPicPr/>
          <p:nvPr/>
        </p:nvPicPr>
        <p:blipFill>
          <a:blip r:embed="rId4"/>
          <a:stretch/>
        </p:blipFill>
        <p:spPr>
          <a:xfrm>
            <a:off x="5827680" y="3408480"/>
            <a:ext cx="31701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6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4"/>
          <p:cNvSpPr/>
          <p:nvPr/>
        </p:nvSpPr>
        <p:spPr>
          <a:xfrm>
            <a:off x="1000080" y="6156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3786120" y="6156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7215120" y="6156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0" descr="лист 1"/>
          <p:cNvPicPr/>
          <p:nvPr/>
        </p:nvPicPr>
        <p:blipFill>
          <a:blip r:embed="rId4"/>
          <a:stretch/>
        </p:blipFill>
        <p:spPr>
          <a:xfrm>
            <a:off x="0" y="285768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0" descr="лист 1"/>
          <p:cNvPicPr/>
          <p:nvPr/>
        </p:nvPicPr>
        <p:blipFill>
          <a:blip r:embed="rId5"/>
          <a:stretch/>
        </p:blipFill>
        <p:spPr>
          <a:xfrm rot="19471800">
            <a:off x="7980120" y="223812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0" descr="лист 1"/>
          <p:cNvPicPr/>
          <p:nvPr/>
        </p:nvPicPr>
        <p:blipFill>
          <a:blip r:embed="rId6"/>
          <a:stretch/>
        </p:blipFill>
        <p:spPr>
          <a:xfrm>
            <a:off x="5286240" y="1857240"/>
            <a:ext cx="790560" cy="675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0" descr="лист 1"/>
          <p:cNvPicPr/>
          <p:nvPr/>
        </p:nvPicPr>
        <p:blipFill>
          <a:blip r:embed="rId7"/>
          <a:stretch/>
        </p:blipFill>
        <p:spPr>
          <a:xfrm>
            <a:off x="3786120" y="57168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0" descr="лист 1"/>
          <p:cNvPicPr/>
          <p:nvPr/>
        </p:nvPicPr>
        <p:blipFill>
          <a:blip r:embed="rId8"/>
          <a:stretch/>
        </p:blipFill>
        <p:spPr>
          <a:xfrm>
            <a:off x="8001000" y="28584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0" descr="лист 1"/>
          <p:cNvPicPr/>
          <p:nvPr/>
        </p:nvPicPr>
        <p:blipFill>
          <a:blip r:embed="rId9"/>
          <a:stretch/>
        </p:blipFill>
        <p:spPr>
          <a:xfrm>
            <a:off x="2428920" y="5715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лист 1"/>
          <p:cNvPicPr/>
          <p:nvPr/>
        </p:nvPicPr>
        <p:blipFill>
          <a:blip r:embed="rId10"/>
          <a:stretch/>
        </p:blipFill>
        <p:spPr>
          <a:xfrm>
            <a:off x="5500800" y="557208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0" descr="лист 1"/>
          <p:cNvPicPr/>
          <p:nvPr/>
        </p:nvPicPr>
        <p:blipFill>
          <a:blip r:embed="rId11"/>
          <a:stretch/>
        </p:blipFill>
        <p:spPr>
          <a:xfrm>
            <a:off x="1428840" y="64296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0" descr="лист 1"/>
          <p:cNvPicPr/>
          <p:nvPr/>
        </p:nvPicPr>
        <p:blipFill>
          <a:blip r:embed="rId12"/>
          <a:stretch/>
        </p:blipFill>
        <p:spPr>
          <a:xfrm>
            <a:off x="2571840" y="164304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0" descr="лист 1"/>
          <p:cNvPicPr/>
          <p:nvPr/>
        </p:nvPicPr>
        <p:blipFill>
          <a:blip r:embed="rId13"/>
          <a:stretch/>
        </p:blipFill>
        <p:spPr>
          <a:xfrm>
            <a:off x="6215040" y="500040"/>
            <a:ext cx="79056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4444E-006 L 0.05139 0.58612 E">
                                      <p:cBhvr>
                                        <p:cTn id="37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8218 L -0.47639 0.51227 E">
                                      <p:cBhvr>
                                        <p:cTn id="37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0.02963 L 0.0474 0.13472 E">
                                      <p:cBhvr>
                                        <p:cTn id="37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85185E-006 L -0.66146 0.27106 E">
                                      <p:cBhvr>
                                        <p:cTn id="37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-0.07864 0.3551 E">
                                      <p:cBhvr>
                                        <p:cTn id="38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38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0185 L -0.37396 0.575 E">
                                      <p:cBhvr>
                                        <p:cTn id="38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06302 0.1155 E">
                                      <p:cBhvr>
                                        <p:cTn id="38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481E-006 L 0.11806 0.44097 E">
                                      <p:cBhvr>
                                        <p:cTn id="39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2222E-006 L 0.15365 0.1662 E">
                                      <p:cBhvr>
                                        <p:cTn id="39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11111E-006 L 0.22448 0.62824 E">
                                      <p:cBhvr>
                                        <p:cTn id="39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L 0.71649 0.48287 E">
                                      <p:cBhvr>
                                        <p:cTn id="39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111E-006 L -0.05902 0.44954 E">
                                      <p:cBhvr>
                                        <p:cTn id="40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35434 0.28171 E">
                                      <p:cBhvr>
                                        <p:cTn id="40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0.05122 0.1243 E">
                                      <p:cBhvr>
                                        <p:cTn id="405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лист 1"/>
          <p:cNvPicPr/>
          <p:nvPr/>
        </p:nvPicPr>
        <p:blipFill>
          <a:blip r:embed="rId5"/>
          <a:stretch/>
        </p:blipFill>
        <p:spPr>
          <a:xfrm>
            <a:off x="6357960" y="15717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лист 1"/>
          <p:cNvPicPr/>
          <p:nvPr/>
        </p:nvPicPr>
        <p:blipFill>
          <a:blip r:embed="rId6"/>
          <a:stretch/>
        </p:blipFill>
        <p:spPr>
          <a:xfrm>
            <a:off x="7715160" y="38577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гномик 4"/>
          <p:cNvPicPr/>
          <p:nvPr/>
        </p:nvPicPr>
        <p:blipFill>
          <a:blip r:embed="rId7"/>
          <a:stretch/>
        </p:blipFill>
        <p:spPr>
          <a:xfrm>
            <a:off x="7337520" y="500040"/>
            <a:ext cx="15825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ain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2560" y="1428480"/>
            <a:ext cx="9001080" cy="507204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hreequartersoftheunitedkingdomslandisdedicatedtoagriculturesuchascropproductionandanimalhusbandry.</a:t>
            </a:r>
            <a:r>
              <a:rPr b="1" lang="en-US" sz="3800" spc="-1" strike="noStrike">
                <a:solidFill>
                  <a:srgbClr val="38007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38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80070"/>
                </a:solidFill>
                <a:latin typeface="Arial"/>
              </a:rPr>
              <a:t>Three quarters of the united kingdoms land is dedicated to agriculture such as crop production and animal husbandr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Captain t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4200" y="1428840"/>
            <a:ext cx="8715600" cy="528624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hepastenglishindustrialprosperityrestedonafewimportantproductssuchastextilescoalandheavymachiner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3800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80070"/>
                </a:solidFill>
                <a:latin typeface="Arial"/>
              </a:rPr>
              <a:t>In the past english industrial prosperity rested on a few important products such as textiles coal and heavy machiner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2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5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68"/>
                </a:solidFill>
                <a:latin typeface="Arial"/>
              </a:rPr>
              <a:t>Home ta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0040" y="1643040"/>
            <a:ext cx="8143920" cy="45259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of th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889360"/>
            <a:ext cx="7444080" cy="19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Phonetic sup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crop prod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растение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animal husband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животно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highly develop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высокоразв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breed</a:t>
            </a:r>
            <a:r>
              <a:rPr b="1" lang="ru-RU" sz="2800" spc="-1" strike="noStrike">
                <a:solidFill>
                  <a:srgbClr val="25257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развод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crop</a:t>
            </a:r>
            <a:r>
              <a:rPr b="1" lang="ru-RU" sz="2800" spc="-1" strike="noStrike">
                <a:solidFill>
                  <a:srgbClr val="25257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культура(с/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cultivat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раб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developme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farm</a:t>
            </a:r>
            <a:r>
              <a:rPr b="1" lang="ru-RU" sz="2800" spc="-1" strike="noStrike">
                <a:solidFill>
                  <a:srgbClr val="25257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52571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фер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525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2571"/>
                </a:solidFill>
                <a:latin typeface="Arial"/>
              </a:rPr>
              <a:t>increas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увелич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3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3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3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6" dur="3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3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3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9000"/>
                            </p:stCondLst>
                            <p:childTnLst>
                              <p:par>
                                <p:cTn id="6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3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3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01040" cy="113184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Compare the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840" y="1142640"/>
            <a:ext cx="8501040" cy="542916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Cor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желая промыш-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 Equipme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 Farm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 Fiel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укуру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. to harves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avy machinery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разнообра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riety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бирать урож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soil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обрабатывать поч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root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поч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crop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саж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planter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5. to cultivate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e)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кор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6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Industries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f)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процве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7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prosperity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g)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358120" cy="141768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the wor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142640"/>
            <a:ext cx="8358120" cy="542916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Cor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укуру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 Equipme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ору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 Farm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 Fiel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. to harves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бирать урож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avy machinery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ежелая промыш-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riety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)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разнообра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soil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поч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root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e)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кор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crop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planter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саж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5. to cultivate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) обрабатывать поч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6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Industries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g)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7. 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prosperity 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22268"/>
                </a:solidFill>
                <a:latin typeface="Arial"/>
              </a:rPr>
              <a:t>f)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процвет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5" dur="2000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Dais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 rot="1191600">
            <a:off x="375840" y="2305440"/>
            <a:ext cx="281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mutt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 rot="3672600">
            <a:off x="1478520" y="1102680"/>
            <a:ext cx="297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 rot="19839600">
            <a:off x="207360" y="3939120"/>
            <a:ext cx="344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livesto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 rot="20716200">
            <a:off x="4488480" y="2225160"/>
            <a:ext cx="415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numero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 rot="18355200">
            <a:off x="3337560" y="1338840"/>
            <a:ext cx="276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pi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 rot="17581200">
            <a:off x="1709280" y="5011920"/>
            <a:ext cx="247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barl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 rot="3070800">
            <a:off x="3769920" y="5090760"/>
            <a:ext cx="236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yiel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"/>
          <p:cNvSpPr/>
          <p:nvPr/>
        </p:nvSpPr>
        <p:spPr>
          <a:xfrm rot="1459200">
            <a:off x="4442400" y="4189680"/>
            <a:ext cx="31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indust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ai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 rot="3940200">
            <a:off x="1874520" y="85932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varie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 rot="20980800">
            <a:off x="4652640" y="2292480"/>
            <a:ext cx="41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agricul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928800" y="3429000"/>
            <a:ext cx="207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co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 rot="2023800">
            <a:off x="882360" y="1857240"/>
            <a:ext cx="23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whe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 rot="4282800">
            <a:off x="3168360" y="5062680"/>
            <a:ext cx="174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oa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 rot="18161400">
            <a:off x="3616560" y="872640"/>
            <a:ext cx="293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pastu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 rot="18244200">
            <a:off x="1363680" y="4759560"/>
            <a:ext cx="219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cat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 rot="2152800">
            <a:off x="3913920" y="4557240"/>
            <a:ext cx="481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61645"/>
                </a:solidFill>
                <a:latin typeface="Arial"/>
              </a:rPr>
              <a:t>cr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dc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Correcting the mistak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362800" cy="4786200"/>
          </a:xfrm>
          <a:prstGeom prst="rect">
            <a:avLst/>
          </a:prstGeom>
          <a:solidFill>
            <a:srgbClr val="dcdcf4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y machiner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t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p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industr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dedic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ga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u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t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to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buildin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en 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dcdc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rehension che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solidFill>
            <a:srgbClr val="dcdc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London is a big port on the River Thames, a major commercial, industrial cen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Leeds is a centre of clothing industry producing woolen 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heep is a source of both wool for textile industry and mutton for food industry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Wheat, barley, oats and potatoes are the most important crops gr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 Liverpool on the River Mersey is a flour milling and engineering cen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Three-quarters of the United Kingdom’s land is dedicated to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The United Kingdom is considered one of the world’s major manufacturing n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Manchester is famous for textiles manufact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Glasgow is a major port on the River Clyde where shipbuilding industry is develo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Birmingham is an iron and steel cen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ic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2920" y="1071720"/>
          <a:ext cx="9001080" cy="5121000"/>
        </p:xfrm>
        <a:graphic>
          <a:graphicData uri="http://schemas.openxmlformats.org/drawingml/2006/table">
            <a:tbl>
              <a:tblPr/>
              <a:tblGrid>
                <a:gridCol w="857160"/>
                <a:gridCol w="943200"/>
                <a:gridCol w="900000"/>
                <a:gridCol w="900000"/>
                <a:gridCol w="900000"/>
                <a:gridCol w="900360"/>
                <a:gridCol w="900000"/>
                <a:gridCol w="900000"/>
                <a:gridCol w="900360"/>
                <a:gridCol w="90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x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q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cxnSp>
        <p:nvCxnSpPr>
          <p:cNvPr id="85" name="Прямая со стрелкой 5"/>
          <p:cNvCxnSpPr/>
          <p:nvPr/>
        </p:nvCxnSpPr>
        <p:spPr>
          <a:xfrm>
            <a:off x="428400" y="1428840"/>
            <a:ext cx="5787000" cy="21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86" name="Прямая со стрелкой 8"/>
          <p:cNvCxnSpPr/>
          <p:nvPr/>
        </p:nvCxnSpPr>
        <p:spPr>
          <a:xfrm>
            <a:off x="3929040" y="4500720"/>
            <a:ext cx="4215600" cy="21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87" name="Прямая со стрелкой 11"/>
          <p:cNvCxnSpPr/>
          <p:nvPr/>
        </p:nvCxnSpPr>
        <p:spPr>
          <a:xfrm flipH="1" flipV="1">
            <a:off x="2999880" y="2571480"/>
            <a:ext cx="3858480" cy="21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88" name="Прямая со стрелкой 14"/>
          <p:cNvCxnSpPr/>
          <p:nvPr/>
        </p:nvCxnSpPr>
        <p:spPr>
          <a:xfrm>
            <a:off x="7571160" y="1500120"/>
            <a:ext cx="72360" cy="25725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89" name="Прямая со стрелкой 18"/>
          <p:cNvCxnSpPr/>
          <p:nvPr/>
        </p:nvCxnSpPr>
        <p:spPr>
          <a:xfrm>
            <a:off x="285840" y="2857320"/>
            <a:ext cx="2929680" cy="1857960"/>
          </a:xfrm>
          <a:prstGeom prst="straightConnector1">
            <a:avLst/>
          </a:prstGeom>
          <a:ln w="255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90" name="Прямая со стрелкой 20"/>
          <p:cNvCxnSpPr/>
          <p:nvPr/>
        </p:nvCxnSpPr>
        <p:spPr>
          <a:xfrm>
            <a:off x="3857400" y="5715000"/>
            <a:ext cx="4857840" cy="21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91" name="Прямая со стрелкой 22"/>
          <p:cNvCxnSpPr/>
          <p:nvPr/>
        </p:nvCxnSpPr>
        <p:spPr>
          <a:xfrm flipH="1">
            <a:off x="498240" y="3930480"/>
            <a:ext cx="2160" cy="21441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92" name="Прямая со стрелкой 24"/>
          <p:cNvCxnSpPr/>
          <p:nvPr/>
        </p:nvCxnSpPr>
        <p:spPr>
          <a:xfrm>
            <a:off x="4928760" y="5143680"/>
            <a:ext cx="3143880" cy="2160"/>
          </a:xfrm>
          <a:prstGeom prst="straightConnector1">
            <a:avLst/>
          </a:prstGeom>
          <a:ln w="2556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93" name="Прямая со стрелкой 26"/>
          <p:cNvCxnSpPr/>
          <p:nvPr/>
        </p:nvCxnSpPr>
        <p:spPr>
          <a:xfrm flipH="1">
            <a:off x="713520" y="1499760"/>
            <a:ext cx="72360" cy="1143720"/>
          </a:xfrm>
          <a:prstGeom prst="straightConnector1">
            <a:avLst/>
          </a:prstGeom>
          <a:ln w="31680">
            <a:solidFill>
              <a:srgbClr val="2222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8:11:39Z</dcterms:created>
  <dc:creator>user</dc:creator>
  <dc:description/>
  <dc:language>en-US</dc:language>
  <cp:lastModifiedBy>Admin</cp:lastModifiedBy>
  <dcterms:modified xsi:type="dcterms:W3CDTF">2011-03-01T17:36:44Z</dcterms:modified>
  <cp:revision>63</cp:revision>
  <dc:subject/>
  <dc:title>Слайд 1</dc:title>
</cp:coreProperties>
</file>