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9.jpeg" ContentType="image/jpeg"/>
  <Override PartName="/ppt/media/image44.jpeg" ContentType="image/jpeg"/>
  <Override PartName="/ppt/media/image38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30.png" ContentType="image/png"/>
  <Override PartName="/ppt/media/image10.png" ContentType="image/png"/>
  <Override PartName="/ppt/media/image35.jpeg" ContentType="image/jpeg"/>
  <Override PartName="/ppt/media/image42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8.png" ContentType="image/png"/>
  <Override PartName="/ppt/media/image50.png" ContentType="image/png"/>
  <Override PartName="/ppt/media/image32.jpeg" ContentType="image/jpeg"/>
  <Override PartName="/ppt/media/image49.jpeg" ContentType="image/jpeg"/>
  <Override PartName="/ppt/media/image2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BD3A-FCEF-49ED-8BB0-24873D8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831-1B1E-41F4-8F90-BC2D6A9D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117-4FE6-4E92-A1EF-7CBB01FF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409-5278-4B4C-9A5E-AABED541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A04E-1058-4D50-AC6A-C819EADA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907D-A1D2-4850-A536-9CF1813B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69A0-4AB2-4093-830D-F0A0716F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A650-41E1-4441-B5EE-835CBF2A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DDE-5652-472A-BB1A-76E5AF67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0A20-21EE-448E-A77E-B321288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86BC-BEB7-4541-8691-D44001A6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AFF-5171-4D5C-AED3-C0142F96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FB00-1C45-43FE-B4D7-8666F72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6DB4-58D1-414C-B559-379C0C4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4AA9-32D7-4274-874D-24F75612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1AD1-4101-4F2C-85E3-20A6BDB6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DAB9-C0A3-4356-A1B6-90D72E95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042C-292D-402E-BC5C-77457D2C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8F63-0261-40C8-8BC2-B9A34FF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94C0-FED1-4B3C-877A-57C20291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4F46-F58C-46CF-B6C0-7E14268D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BA76-22F0-445A-A277-07042B3F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98C-7D1B-4CAC-A309-C418C7B2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362D-4820-4579-A740-4BF5EE3F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7907B-49FB-46D3-BCDB-BBF07F1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C91D-2130-4271-8058-042F2DB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2D48A-EE8F-4458-A47F-5246D1C1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D8B2-B3C6-446C-A19A-41498350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AC80-A447-41DA-AF7D-157B7D67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C7BB9-D392-4D08-859E-24EC5BE8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4E02C-03DD-437F-A3AC-5664838C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DCF2-BEEF-42F2-81D3-188D88C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93D0-ECD6-4626-A73C-4415F08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60C-61D1-447C-9E27-335708F4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F18C-10D0-4B07-8E9A-27A66B97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E423A-9144-4C5B-90AA-2A9BBBC5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ADAAD-2819-40F8-8D6A-C3B5FC44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F394-9D42-4A97-83EB-1C50514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F69C2-F11C-46BC-AD7B-3340EE2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DB66-B46E-484A-BFF1-16AA21B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20CC2-2A8E-42BB-B8B5-1C665683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A783-DEDF-4152-9E56-23621B8A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B6FB-FE30-4F57-9D80-F8292A68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92C82-09C9-46A5-8458-E894045E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737-6A5C-40CE-BD26-B430B653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BFE08-1D43-49BE-80C0-A6C002A6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AC23B-96F1-416C-B804-3E55517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0D1E-DB99-4FE5-97E1-5EBBAAC6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6F158-E567-4585-90D5-76A2443D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81360-9268-4831-9C6E-300F8058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A5140-FD12-404F-9EC7-AB942722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D61B4-3A3F-488E-A64A-38D2565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C95C-A3F1-4611-89AE-05ACAF4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881A-7A0D-4401-B915-09602BF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F5DBA-714E-4C9A-86B4-CB0D56AF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3BF-694E-40E3-A82F-742BC1D0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5597B-0923-41F9-ADF4-304B1212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B546-B79B-4800-B1D9-09B13AF3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BB15-470D-42E1-BAC3-F0313F93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70B9-464A-49CD-8AAE-68130A35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E78E-53CC-453C-A29A-D27DFE7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6EF03-6E21-478C-AB2D-6D8A1813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B6D2-5145-4624-885A-6EF8F1A7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91F8-705B-4598-9093-CDF500B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C1CB8-AA92-422D-97AB-1D94D059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AD32E-5287-4737-9C52-A5367084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7B1-FB74-40F1-AC1B-9242712F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14FCA-73CC-4F4A-A5A1-7507174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13D76-70F1-44C6-9173-CCEE28F9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82961-227B-454A-85A7-5EA60F6A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5C66-2CF3-4AAB-909B-0B14F009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DA00-BC22-43AE-9A1D-F6849BFE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04A48-1D66-40C3-A7CA-89BD72A5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78E7-8CB1-4C1F-BD5F-139184F2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C623B-6401-4C94-8830-16209419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1CEB2-122A-4905-B83F-AAFFA5A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D22D2-91EE-42DE-A810-AE9FB1A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073-3AC0-445E-9DD0-FD4FBAE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6D26D-BB1F-42E9-BC83-BD7E25F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62B3-35F7-4724-9939-7B6156C4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447EC-316F-4A1F-98D3-F9754237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8B695-DECC-495B-ADBB-075DE96D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B5158-07AF-4CEC-9755-2BD532A4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C1D8-90A5-4729-8E4E-C05209E3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D45-3114-4FB4-9C93-5B43C850A03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C1B0-D5EF-4312-BA4A-3B82FB14B4DD}" type="slidenum">
              <a:rPr b="0" lang="ru-RU" sz="13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C532-F6CD-4C24-AB2F-BE5D1B3B1CD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4d4d6">
                  <a:alpha val="1176"/>
                </a:srgbClr>
              </a:gs>
              <a:gs pos="100000">
                <a:srgbClr val="d4d4d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27300"/>
              </a:gs>
              <a:gs pos="100000">
                <a:srgbClr val="ffd065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954F-DDDE-482C-9C7C-2DEF65EA723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4633-BDE1-46A5-B09A-E0EFEEBAC3C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03f63"/>
            </a:gs>
            <a:gs pos="100000">
              <a:srgbClr val="6b7f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73B8-7FB8-4903-B344-9F80DFFA6960}" type="slidenum">
              <a:rPr b="0" lang="ru-RU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4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d0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c6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2052-6610-4A7E-A8BF-B2C265092E17}" type="slidenum">
              <a:rPr b="0" lang="ru-RU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4" descr=""/>
          <p:cNvPicPr/>
          <p:nvPr/>
        </p:nvPicPr>
        <p:blipFill>
          <a:blip r:embed="rId1"/>
          <a:stretch/>
        </p:blipFill>
        <p:spPr>
          <a:xfrm>
            <a:off x="463680" y="493560"/>
            <a:ext cx="8242200" cy="55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1258920" y="1557360"/>
            <a:ext cx="66261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- классный руководит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53028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0" y="714240"/>
            <a:ext cx="8929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строиться на общечеловеческих  ценностях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быть направленно на стимулирование развития и самореализацию лично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строиться с учетом возрастных и индивидуальных особенностей личност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оспитание должно быть направленно на сохранение и защиту прав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d4d4d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Система воспитания должна быть направлена на сохранение единства тела и духа, чувств и разум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0" y="1928880"/>
            <a:ext cx="885816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Мечта любого классного руководителя – создать единый, дружный коллектив. Эта работа сопряжена с большими трудностями. Отличается длительным периодом и порой сопровождается мало заметными положительными качественными проявления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Я работаю над тем, чтобы класс был дружным,  сплоченным, успешным. Осуществляю эту работу систематически, с применением современных комплексных психолого-диагностических методик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Применяю в своей работе с детьми следующие правил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сякое взаимодействие должно быть неформальны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заимодействие должно быть справедливым и объектив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заимодействие должно демонстрировать  личную  заинтересованность взрослого и будить  заинтересованность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e66c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Взаимодействие должно давать шанс на перспективу</a:t>
            </a:r>
            <a:r>
              <a:rPr b="1" lang="ru-RU" sz="1800" spc="-1" strike="noStrike">
                <a:solidFill>
                  <a:srgbClr val="d4d4d6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26" name="Picture 7" descr="DSCN1004"/>
          <p:cNvPicPr/>
          <p:nvPr/>
        </p:nvPicPr>
        <p:blipFill>
          <a:blip r:embed="rId2"/>
          <a:stretch/>
        </p:blipFill>
        <p:spPr>
          <a:xfrm>
            <a:off x="3708360" y="4759200"/>
            <a:ext cx="27972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2981160" y="1889280"/>
            <a:ext cx="4005360" cy="2212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5" descr="f 291"/>
          <p:cNvPicPr/>
          <p:nvPr/>
        </p:nvPicPr>
        <p:blipFill>
          <a:blip r:embed="rId2"/>
          <a:stretch/>
        </p:blipFill>
        <p:spPr>
          <a:xfrm>
            <a:off x="0" y="0"/>
            <a:ext cx="3301920" cy="247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f 296"/>
          <p:cNvPicPr/>
          <p:nvPr/>
        </p:nvPicPr>
        <p:blipFill>
          <a:blip r:embed="rId3"/>
          <a:stretch/>
        </p:blipFill>
        <p:spPr>
          <a:xfrm>
            <a:off x="6132600" y="0"/>
            <a:ext cx="3011400" cy="2259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f 354 - копия"/>
          <p:cNvPicPr/>
          <p:nvPr/>
        </p:nvPicPr>
        <p:blipFill>
          <a:blip r:embed="rId4"/>
          <a:stretch/>
        </p:blipFill>
        <p:spPr>
          <a:xfrm>
            <a:off x="3780000" y="4059360"/>
            <a:ext cx="2098440" cy="2798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f 366"/>
          <p:cNvPicPr/>
          <p:nvPr/>
        </p:nvPicPr>
        <p:blipFill>
          <a:blip r:embed="rId5"/>
          <a:stretch/>
        </p:blipFill>
        <p:spPr>
          <a:xfrm>
            <a:off x="0" y="4105440"/>
            <a:ext cx="3274920" cy="2454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PICT0122"/>
          <p:cNvPicPr/>
          <p:nvPr/>
        </p:nvPicPr>
        <p:blipFill>
          <a:blip r:embed="rId6">
            <a:lum contrast="20000"/>
          </a:blip>
          <a:stretch/>
        </p:blipFill>
        <p:spPr>
          <a:xfrm>
            <a:off x="6012000" y="4149720"/>
            <a:ext cx="31320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6" descr="G:\Люда рисунки детей\Изображение0012.JPG"/>
          <p:cNvPicPr/>
          <p:nvPr/>
        </p:nvPicPr>
        <p:blipFill>
          <a:blip r:embed="rId1"/>
          <a:stretch/>
        </p:blipFill>
        <p:spPr>
          <a:xfrm rot="21007800">
            <a:off x="6552720" y="1360440"/>
            <a:ext cx="997200" cy="1530360"/>
          </a:xfrm>
          <a:prstGeom prst="rect">
            <a:avLst/>
          </a:prstGeom>
          <a:ln w="76320">
            <a:solidFill>
              <a:srgbClr val="00b050"/>
            </a:solidFill>
            <a:miter/>
          </a:ln>
        </p:spPr>
      </p:pic>
      <p:sp>
        <p:nvSpPr>
          <p:cNvPr id="335" name="Прямоугольник 1"/>
          <p:cNvSpPr/>
          <p:nvPr/>
        </p:nvSpPr>
        <p:spPr>
          <a:xfrm>
            <a:off x="2658960" y="428760"/>
            <a:ext cx="419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fae7dc"/>
                </a:solidFill>
                <a:latin typeface="Arial"/>
                <a:ea typeface="Arial"/>
              </a:rPr>
              <a:t>Ребята  моего класса не только веселятся, но и занимают  призовые места в школьных, городских олимпиадах и Всероссийских дистанционных олимпиадах: «Русский медвежонок», «Золотое Руно», </a:t>
            </a:r>
            <a:r>
              <a:rPr b="0" lang="en-US" sz="1800" spc="-1" strike="noStrike">
                <a:solidFill>
                  <a:srgbClr val="fae7dc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ae7dc"/>
                </a:solidFill>
                <a:latin typeface="Arial"/>
                <a:ea typeface="Arial"/>
              </a:rPr>
              <a:t>«Кенгуру», «Британский Бульдог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6" name="Picture 7" descr="G:\Люда рисунки детей\Изображение0004.JPG"/>
          <p:cNvPicPr/>
          <p:nvPr/>
        </p:nvPicPr>
        <p:blipFill>
          <a:blip r:embed="rId2"/>
          <a:stretch/>
        </p:blipFill>
        <p:spPr>
          <a:xfrm rot="324000">
            <a:off x="601200" y="433440"/>
            <a:ext cx="1424160" cy="19461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337" name="Picture 2" descr="C:\Users\Master\Рабочий стол\фото\Люда дипломы 2\Изображение0005.JPG"/>
          <p:cNvPicPr/>
          <p:nvPr/>
        </p:nvPicPr>
        <p:blipFill>
          <a:blip r:embed="rId3"/>
          <a:stretch/>
        </p:blipFill>
        <p:spPr>
          <a:xfrm rot="20654400">
            <a:off x="7639200" y="288720"/>
            <a:ext cx="969840" cy="14842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338" name="Picture 12" descr="C:\Documents and Settings\HomePC\Мои документы\ScanTo\Document_14.tif"/>
          <p:cNvPicPr/>
          <p:nvPr/>
        </p:nvPicPr>
        <p:blipFill>
          <a:blip r:embed="rId4"/>
          <a:stretch/>
        </p:blipFill>
        <p:spPr>
          <a:xfrm rot="444000">
            <a:off x="7881480" y="2068560"/>
            <a:ext cx="1157400" cy="16938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339" name="Picture 12" descr="C:\Documents and Settings\HomePC\Мои документы\ScanTo\Document_14.tif"/>
          <p:cNvPicPr/>
          <p:nvPr/>
        </p:nvPicPr>
        <p:blipFill>
          <a:blip r:embed="rId5"/>
          <a:stretch/>
        </p:blipFill>
        <p:spPr>
          <a:xfrm rot="20873400">
            <a:off x="2125440" y="1800360"/>
            <a:ext cx="952200" cy="13017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340" name="Picture 5" descr="D:\ЛЮДА фотки\уроки\SAM_0713.JPG"/>
          <p:cNvPicPr/>
          <p:nvPr/>
        </p:nvPicPr>
        <p:blipFill>
          <a:blip r:embed="rId6"/>
          <a:stretch/>
        </p:blipFill>
        <p:spPr>
          <a:xfrm>
            <a:off x="4071960" y="3000240"/>
            <a:ext cx="2214720" cy="1660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D:\ЛЮДА фотки\уроки\SAM_0715.JPG"/>
          <p:cNvPicPr/>
          <p:nvPr/>
        </p:nvPicPr>
        <p:blipFill>
          <a:blip r:embed="rId7"/>
          <a:stretch/>
        </p:blipFill>
        <p:spPr>
          <a:xfrm>
            <a:off x="755640" y="4581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D:\ЛЮДА фотки\уроки\SAM_0711.JPG"/>
          <p:cNvPicPr/>
          <p:nvPr/>
        </p:nvPicPr>
        <p:blipFill>
          <a:blip r:embed="rId8"/>
          <a:stretch/>
        </p:blipFill>
        <p:spPr>
          <a:xfrm>
            <a:off x="5796000" y="4581360"/>
            <a:ext cx="2714760" cy="203544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11"/>
          <p:cNvSpPr/>
          <p:nvPr/>
        </p:nvSpPr>
        <p:spPr>
          <a:xfrm>
            <a:off x="28584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деля  иностранного языка. Выставка поделок   учащих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3627360" y="274680"/>
            <a:ext cx="5108760" cy="115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DSCN0986"/>
          <p:cNvPicPr/>
          <p:nvPr/>
        </p:nvPicPr>
        <p:blipFill>
          <a:blip r:embed="rId2"/>
          <a:stretch/>
        </p:blipFill>
        <p:spPr>
          <a:xfrm>
            <a:off x="0" y="4076640"/>
            <a:ext cx="3451320" cy="2589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f 365"/>
          <p:cNvPicPr/>
          <p:nvPr/>
        </p:nvPicPr>
        <p:blipFill>
          <a:blip r:embed="rId3"/>
          <a:stretch/>
        </p:blipFill>
        <p:spPr>
          <a:xfrm>
            <a:off x="0" y="0"/>
            <a:ext cx="3517920" cy="2638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f 524 - копия"/>
          <p:cNvPicPr/>
          <p:nvPr/>
        </p:nvPicPr>
        <p:blipFill>
          <a:blip r:embed="rId4"/>
          <a:stretch/>
        </p:blipFill>
        <p:spPr>
          <a:xfrm>
            <a:off x="4572000" y="1628640"/>
            <a:ext cx="33274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нтлив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любив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ые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еустремленн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ЫЕ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2700360" y="4149720"/>
            <a:ext cx="532764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и учен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Прямоугольник 7" descr=""/>
          <p:cNvPicPr/>
          <p:nvPr/>
        </p:nvPicPr>
        <p:blipFill>
          <a:blip r:embed="rId1"/>
          <a:stretch/>
        </p:blipFill>
        <p:spPr>
          <a:xfrm>
            <a:off x="420840" y="517680"/>
            <a:ext cx="8442000" cy="8902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DSCN1063"/>
          <p:cNvPicPr/>
          <p:nvPr/>
        </p:nvPicPr>
        <p:blipFill>
          <a:blip r:embed="rId2"/>
          <a:stretch/>
        </p:blipFill>
        <p:spPr>
          <a:xfrm>
            <a:off x="250920" y="189000"/>
            <a:ext cx="1936800" cy="2581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3" descr="DSCN1064"/>
          <p:cNvPicPr/>
          <p:nvPr/>
        </p:nvPicPr>
        <p:blipFill>
          <a:blip r:embed="rId3"/>
          <a:stretch/>
        </p:blipFill>
        <p:spPr>
          <a:xfrm>
            <a:off x="3276720" y="1628640"/>
            <a:ext cx="2152440" cy="287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4" descr="DSCN1065"/>
          <p:cNvPicPr/>
          <p:nvPr/>
        </p:nvPicPr>
        <p:blipFill>
          <a:blip r:embed="rId4"/>
          <a:stretch/>
        </p:blipFill>
        <p:spPr>
          <a:xfrm>
            <a:off x="6737400" y="0"/>
            <a:ext cx="2406600" cy="3208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5" descr="DSCN1067"/>
          <p:cNvPicPr/>
          <p:nvPr/>
        </p:nvPicPr>
        <p:blipFill>
          <a:blip r:embed="rId5"/>
          <a:stretch/>
        </p:blipFill>
        <p:spPr>
          <a:xfrm>
            <a:off x="250920" y="3284640"/>
            <a:ext cx="2681280" cy="3573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DSCN1069"/>
          <p:cNvPicPr/>
          <p:nvPr/>
        </p:nvPicPr>
        <p:blipFill>
          <a:blip r:embed="rId6"/>
          <a:stretch/>
        </p:blipFill>
        <p:spPr>
          <a:xfrm>
            <a:off x="6372360" y="3429000"/>
            <a:ext cx="257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6"/>
          <p:cNvSpPr/>
          <p:nvPr/>
        </p:nvSpPr>
        <p:spPr>
          <a:xfrm>
            <a:off x="417600" y="928800"/>
            <a:ext cx="8308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Работа с родителями – большое искусство, как и вообще общение с людь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Я поддерживаю тесный контакт с родителями.  Убеждена, что нравственные ценности, ориентиры и убеждения личности заключаются в сем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Семья – это особого рода коллектив, играющий в воспитании основную, долговременную и важнейшую роль. Поэтому прежде чем начинать свою работу с семьями, я хорошо изучила воспитательный потенциал семь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fae7dc"/>
                </a:solidFill>
                <a:latin typeface="Arial"/>
                <a:ea typeface="Arial"/>
              </a:rPr>
              <a:t>На родительских собраниях я провожу анализ учебных достижений класса, знакомлю родителей с эмоциональным климатом в классе. По этому не возникает в сотрудничестве двусмысленности, обид и недомолвок. Обязательно провожу психолого -педагогическое просвещение. Уходя с собраний родители получают рекомендации в виде памяток. Темы памяток очень разнообразны.</a:t>
            </a:r>
            <a:r>
              <a:rPr b="0" lang="en-US" sz="1600" spc="-1" strike="noStrike">
                <a:solidFill>
                  <a:srgbClr val="fae7d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Прямоугольник 2" descr=""/>
          <p:cNvPicPr/>
          <p:nvPr/>
        </p:nvPicPr>
        <p:blipFill>
          <a:blip r:embed="rId1"/>
          <a:stretch/>
        </p:blipFill>
        <p:spPr>
          <a:xfrm>
            <a:off x="182520" y="73080"/>
            <a:ext cx="8693280" cy="9018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:\SAM_0206.JPG"/>
          <p:cNvPicPr/>
          <p:nvPr/>
        </p:nvPicPr>
        <p:blipFill>
          <a:blip r:embed="rId2"/>
          <a:stretch/>
        </p:blipFill>
        <p:spPr>
          <a:xfrm>
            <a:off x="6286680" y="400068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I:\SAM_0209.JPG"/>
          <p:cNvPicPr/>
          <p:nvPr/>
        </p:nvPicPr>
        <p:blipFill>
          <a:blip r:embed="rId3"/>
          <a:stretch/>
        </p:blipFill>
        <p:spPr>
          <a:xfrm>
            <a:off x="357120" y="43578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I:\SAM_0207.JPG"/>
          <p:cNvPicPr/>
          <p:nvPr/>
        </p:nvPicPr>
        <p:blipFill>
          <a:blip r:embed="rId4"/>
          <a:stretch/>
        </p:blipFill>
        <p:spPr>
          <a:xfrm>
            <a:off x="3357720" y="4214880"/>
            <a:ext cx="276192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2556000" y="2133720"/>
            <a:ext cx="4680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- жена и мам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4" descr="DSCN0241"/>
          <p:cNvPicPr/>
          <p:nvPr/>
        </p:nvPicPr>
        <p:blipFill>
          <a:blip r:embed="rId1"/>
          <a:stretch/>
        </p:blipFill>
        <p:spPr>
          <a:xfrm>
            <a:off x="1116000" y="1563840"/>
            <a:ext cx="7058160" cy="5294160"/>
          </a:xfrm>
          <a:prstGeom prst="rect">
            <a:avLst/>
          </a:prstGeom>
          <a:ln w="0">
            <a:noFill/>
          </a:ln>
        </p:spPr>
      </p:pic>
      <p:sp>
        <p:nvSpPr>
          <p:cNvPr id="368" name="WordArt 5"/>
          <p:cNvSpPr txBox="1"/>
          <p:nvPr/>
        </p:nvSpPr>
        <p:spPr>
          <a:xfrm>
            <a:off x="1403280" y="260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ТО- МОЯ НАГРАДА! ЭТО -МОЯ СЕМЬЯ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c453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WordArt 4"/>
          <p:cNvSpPr txBox="1"/>
          <p:nvPr/>
        </p:nvSpPr>
        <p:spPr>
          <a:xfrm>
            <a:off x="1692360" y="1628640"/>
            <a:ext cx="540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-  учите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Picture 5" descr="bad2673cea4cf7d7c10956350a48b142"/>
          <p:cNvPicPr/>
          <p:nvPr/>
        </p:nvPicPr>
        <p:blipFill>
          <a:blip r:embed="rId2"/>
          <a:stretch/>
        </p:blipFill>
        <p:spPr>
          <a:xfrm>
            <a:off x="0" y="1773360"/>
            <a:ext cx="2346480" cy="1760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getImage227"/>
          <p:cNvPicPr/>
          <p:nvPr/>
        </p:nvPicPr>
        <p:blipFill>
          <a:blip r:embed="rId3"/>
          <a:stretch/>
        </p:blipFill>
        <p:spPr>
          <a:xfrm>
            <a:off x="179280" y="4365720"/>
            <a:ext cx="2551320" cy="19126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0_299d0_82affa5c_L"/>
          <p:cNvPicPr/>
          <p:nvPr/>
        </p:nvPicPr>
        <p:blipFill>
          <a:blip r:embed="rId4"/>
          <a:stretch/>
        </p:blipFill>
        <p:spPr>
          <a:xfrm>
            <a:off x="2843280" y="1844640"/>
            <a:ext cx="2887560" cy="19242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657a97aa8b48"/>
          <p:cNvPicPr/>
          <p:nvPr/>
        </p:nvPicPr>
        <p:blipFill>
          <a:blip r:embed="rId5"/>
          <a:stretch/>
        </p:blipFill>
        <p:spPr>
          <a:xfrm>
            <a:off x="2987640" y="4365720"/>
            <a:ext cx="2903400" cy="19368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9" descr="83042391_gata"/>
          <p:cNvPicPr/>
          <p:nvPr/>
        </p:nvPicPr>
        <p:blipFill>
          <a:blip r:embed="rId6"/>
          <a:stretch/>
        </p:blipFill>
        <p:spPr>
          <a:xfrm>
            <a:off x="5940360" y="1628640"/>
            <a:ext cx="27003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517240" cy="1432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DSCN0210"/>
          <p:cNvPicPr/>
          <p:nvPr/>
        </p:nvPicPr>
        <p:blipFill>
          <a:blip r:embed="rId2"/>
          <a:stretch/>
        </p:blipFill>
        <p:spPr>
          <a:xfrm>
            <a:off x="1523880" y="18828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8242560" cy="1438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500040" y="1500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Georgia"/>
              </a:rPr>
              <a:t>         </a:t>
            </a:r>
            <a:r>
              <a:rPr b="0" i="1" lang="ru-RU" sz="6000" spc="-1" strike="noStrike">
                <a:solidFill>
                  <a:srgbClr val="ffffff"/>
                </a:solidFill>
                <a:latin typeface="Georgia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58400" cy="32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bebec1"/>
              </a:solidFill>
              <a:latin typeface="Georg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50920" y="4220640"/>
            <a:ext cx="8229600" cy="24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ebec1"/>
                </a:solidFill>
                <a:latin typeface="Georgia"/>
              </a:rPr>
              <a:t>Обучая языку, стройте учебный процесс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ebec1"/>
                </a:solidFill>
                <a:latin typeface="Georgia"/>
              </a:rPr>
              <a:t>таким образом, чтобы он открывал ребёнку окно в другой мир и расширял тем самым его понимание собственного быт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ebec1"/>
                </a:solidFill>
                <a:latin typeface="Georgia"/>
              </a:rPr>
              <a:t>И.Л.Би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Picture 5" descr="DSCN1004"/>
          <p:cNvPicPr/>
          <p:nvPr/>
        </p:nvPicPr>
        <p:blipFill>
          <a:blip r:embed="rId1"/>
          <a:stretch/>
        </p:blipFill>
        <p:spPr>
          <a:xfrm>
            <a:off x="1979640" y="549360"/>
            <a:ext cx="4884840" cy="36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Подзаголовок 2" descr=""/>
          <p:cNvPicPr/>
          <p:nvPr/>
        </p:nvPicPr>
        <p:blipFill>
          <a:blip r:embed="rId1"/>
          <a:stretch/>
        </p:blipFill>
        <p:spPr>
          <a:xfrm>
            <a:off x="920880" y="390600"/>
            <a:ext cx="7564320" cy="5187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f 377"/>
          <p:cNvPicPr/>
          <p:nvPr/>
        </p:nvPicPr>
        <p:blipFill>
          <a:blip r:embed="rId2"/>
          <a:stretch/>
        </p:blipFill>
        <p:spPr>
          <a:xfrm>
            <a:off x="3132000" y="2781360"/>
            <a:ext cx="2808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5712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Использование проблемно-поисковых и информационно-коммуникационных технолог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Рейтинговая оценка знани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Организация проектно-исследователь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28760" y="1642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9e"/>
                </a:solidFill>
                <a:latin typeface="Georgia"/>
              </a:rPr>
              <a:t>Краевой педагогический фестиваль «Инновационный поиск - 2010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9e"/>
                </a:solidFill>
                <a:latin typeface="Georgia"/>
              </a:rPr>
              <a:t>Краевой педагогический фестиваль «Инновационный поиск - 2011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93560" y="20808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57120" y="1285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bebec1"/>
                </a:solidFill>
                <a:latin typeface="Georgia"/>
              </a:rPr>
              <a:t>Статьи в сборнике материалов краевой научно-практической конференции «Актуальные вопросы преподавания иностранного языка в школе» за 2010 и 2011гг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f0"/>
                </a:solidFill>
                <a:latin typeface="Georgia"/>
              </a:rPr>
              <a:t>Тема: </a:t>
            </a:r>
            <a:r>
              <a:rPr b="0" i="1" lang="ru-RU" sz="3600" spc="-1" strike="noStrike">
                <a:solidFill>
                  <a:srgbClr val="bebec1"/>
                </a:solidFill>
                <a:latin typeface="Georgia"/>
              </a:rPr>
              <a:t>Формирование коммуникативной компетенции у учащихся 10 класс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иальным положением школьного языкового образования в основной школе становится уровневая дифференциация обучения. Это означает, что, осваивая общий курс, одни школьники в своих результатах ограничиваются уровнем обязательной подготовки, зафиксированным в обязательном стандарте, другие в соответствии со своими склонностями и способностями достигают более высоких рубежей. При этом каждый имеет право самостоятельно решать, ограничиться минимальным уровнем или же продвигаться дальше. Именно на этом пути осуществляются гуманистические начала обучения иностранному языку в школ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я учителем 12лет и обучая детей со 2 по 11 классы, я в первую очередь ставлю перед собой цель: привить интерес к иностранному языку, а также выполнить поставленные передо мной общеобразовательные и воспитательные задачи. В процессе работы , я обращаю внимание на развитие речи учащихся, формирование у них навыков планирования своей работы, поиска рациональных путей её выполнения, критической оценки результатов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Заголовок 2" descr=""/>
          <p:cNvPicPr/>
          <p:nvPr/>
        </p:nvPicPr>
        <p:blipFill>
          <a:blip r:embed="rId1"/>
          <a:stretch/>
        </p:blipFill>
        <p:spPr>
          <a:xfrm>
            <a:off x="-6480" y="371520"/>
            <a:ext cx="66819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9:58:36Z</dcterms:created>
  <dc:creator>Елена Викторовна Покладова</dc:creator>
  <dc:description/>
  <dc:language>en-US</dc:language>
  <cp:lastModifiedBy>класс</cp:lastModifiedBy>
  <dcterms:modified xsi:type="dcterms:W3CDTF">2013-04-11T10:29:19Z</dcterms:modified>
  <cp:revision>37</cp:revision>
  <dc:subject/>
  <dc:title>Виктор Гаврилович Захарченко - </dc:title>
</cp:coreProperties>
</file>