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1.png" ContentType="image/pn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29.jpeg" ContentType="image/jpeg"/>
  <Override PartName="/ppt/media/image44.jpeg" ContentType="image/jpeg"/>
  <Override PartName="/ppt/media/image38.jpeg" ContentType="image/jpeg"/>
  <Override PartName="/ppt/media/image9.png" ContentType="image/png"/>
  <Override PartName="/ppt/media/image33.jpeg" ContentType="image/jpeg"/>
  <Override PartName="/ppt/media/image27.jpeg" ContentType="image/jpeg"/>
  <Override PartName="/ppt/media/image30.png" ContentType="image/png"/>
  <Override PartName="/ppt/media/image10.png" ContentType="image/png"/>
  <Override PartName="/ppt/media/image35.jpeg" ContentType="image/jpeg"/>
  <Override PartName="/ppt/media/image42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48.png" ContentType="image/png"/>
  <Override PartName="/ppt/media/image50.png" ContentType="image/png"/>
  <Override PartName="/ppt/media/image32.jpeg" ContentType="image/jpeg"/>
  <Override PartName="/ppt/media/image49.jpeg" ContentType="image/jpeg"/>
  <Override PartName="/ppt/media/image20.jpeg" ContentType="image/jpeg"/>
  <Override PartName="/ppt/media/image40.jpeg" ContentType="image/jpeg"/>
  <Override PartName="/ppt/media/image13.jpeg" ContentType="image/jpeg"/>
  <Override PartName="/ppt/media/image11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6.png" ContentType="image/png"/>
  <Override PartName="/ppt/media/image5.png" ContentType="image/png"/>
  <Override PartName="/ppt/media/image4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3411-BD70-4CDB-8A7D-D36EF452A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333F-CB18-4D60-B0C7-02E4010D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4FBC-2B55-40C4-9BF1-E7C4BF041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0D1A-C9DC-41BC-BEE0-40341EFE1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B174-C2E4-4BD8-AAA9-E5020E359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919D-E8A2-4098-9922-7971B386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17F2-3D68-4354-B14A-BCC36904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6D02-D936-401D-A079-316ECE6F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8970-E2B0-48EF-A293-D88241EF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2057-6353-43E4-A0DA-2A6CB5F3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FB6C-FB81-4A35-90A2-7EB3ACDC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84E9-2EBF-4C02-846E-E0A68C99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478A-B120-40B8-9B06-4C5660BD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383F-90B9-40E7-86CC-EC2A286E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79B3-D2C8-4E3F-87C2-1F51C080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2DAF-30FE-4671-B18C-ABB69CBA5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541F-D08C-4D47-83AC-F2F104D50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DA0F0-E99C-4573-8879-1EFD54F0F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0E786-6A25-4AE9-A327-C5D460B7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66307-65BE-4719-934B-A37C5349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DD27A-04F9-4837-804B-7D1FA491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3B968-E048-4CB5-AA52-5F9561CC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497D-9B43-4663-9924-D3EBA0DF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46EEC-E510-40E9-AF9C-9939D1DD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67570-316E-4C7D-8592-80BBDA62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A0C9E-8E1B-4E29-A5D7-D97E9835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16081-E953-4B57-9E7B-EB623387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5BCFF-D28C-4DE5-91FC-07AC92A1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B658C-4B5E-4F2A-97D1-725A8090B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30BCE-FD08-4EDD-B4F8-CDA4A2F67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185D9-38AD-4D95-B370-53E945A8D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B9C38-0333-47D3-9DCE-6A1359B7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4121A-27FD-429B-9453-3F9513A9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5450-D451-480D-977B-133C9F9E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081AE-308A-4762-87DC-3F0FD3E4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2AD15-0F3B-4426-8815-404B2BD0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C6C82-4E4D-46F0-B68A-88983A79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AEC9E-EE70-4B8D-AE59-37880264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F28E4-7E5A-4DDC-915A-941C7940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E1B62-A61E-47DF-A8FE-AA389641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D63BC-A9C0-47E4-96EC-543B61D5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029D1-1F5B-408D-B809-E68E9C1E7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E8C1C-0D58-41A5-9BC5-67A0A27C7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C9014-19B0-4C91-BBF9-34C4E4296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8972-6299-4CA8-B7B5-1D916030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83C41-6FE9-4D2C-B419-FD161467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BDDB6-1784-4E79-A15F-941A78DF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3340E-8094-4C9C-8A03-EC2EDE38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D8F60-DF0B-4B68-A594-91D5894F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7D1E7-097E-498E-A7CB-5CFA511D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B463A-3638-42F7-A43B-1A6376CE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6E86C-A25D-4536-8E02-60878664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64EDF-6940-469A-AA74-BE77E967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6DC43-A577-431F-8C69-BBC20FCE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0ED49-94E6-4ECA-A6D5-6014806F2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18BF-7297-4FAD-938C-0E23B13D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A13AB-A583-4700-A55D-C8D095181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0C30D-68CF-4A53-A2D5-D56D3D637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155FC-4CBE-4B61-8381-D773DAD3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52E25-269E-4380-A021-5D679AA0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A6861-3D47-45DE-BCD0-7B46D03A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8E858-72CD-4D4C-9316-D1515A8D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73518-E1D9-4ABC-8701-8474260C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E5AD9-1FDB-4629-88BD-58213FAC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6557A-9622-4517-AE0E-EE3F1492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9F23A-343E-44A5-A8B8-DD464135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4C05-DCE9-4699-A3F5-8BD5F770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A0E9B-E50C-4B67-B52A-B1B6CBD7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1313C-C1C3-444C-8420-8294B1EF3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9E002-0BE8-447E-A96A-DA6A71A56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8C275-8808-4549-83A4-3691D779D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A2EAC-BCC6-4204-9056-C109A983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BA5A8-07D2-426D-BE4F-0202A542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A217D-322B-4AF4-AB53-98781132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E404D-C6F9-46EC-8E16-7519CDDA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0E192-BCC2-48BE-84FA-185173B9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5151C-B7BA-487B-A45A-C162867A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D34F-17B9-458D-A4AD-5BE555A8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0E3A5-38A5-4892-9D4C-C408BBD4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AD74E-908E-4500-AC27-4485D7D0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52074-A5C1-41CE-88B9-B114547D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EFF12-9BA7-43DE-ABC7-962DEC632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C3917-67D6-425B-AFA9-7A58F5D3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C526-FC82-40D8-A037-1F59E58C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4d4d6">
                  <a:alpha val="1176"/>
                </a:srgbClr>
              </a:gs>
              <a:gs pos="100000">
                <a:srgbClr val="d4d4d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c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c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EC7A-38B0-4A3D-847D-6482249C5B6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4d4d6">
                  <a:alpha val="1176"/>
                </a:srgbClr>
              </a:gs>
              <a:gs pos="100000">
                <a:srgbClr val="d4d4d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c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c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27300"/>
              </a:gs>
              <a:gs pos="100000">
                <a:srgbClr val="ffd065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9AF0-345D-4890-B318-079D22741752}" type="slidenum">
              <a:rPr b="0" lang="ru-RU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4d4d6">
                  <a:alpha val="1176"/>
                </a:srgbClr>
              </a:gs>
              <a:gs pos="100000">
                <a:srgbClr val="d4d4d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c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c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CCE3-8257-49C4-B80D-24DB2259D68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4d4d6">
                  <a:alpha val="1176"/>
                </a:srgbClr>
              </a:gs>
              <a:gs pos="100000">
                <a:srgbClr val="d4d4d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27300"/>
              </a:gs>
              <a:gs pos="100000">
                <a:srgbClr val="ffd065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1c4c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c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4B6F-88A5-4935-8E00-CD9430BD4DE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9843-3EBF-4DDB-B8A1-2AA353FC734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0471-2E72-4150-9761-5F83152AB99D}" type="slidenum">
              <a:rPr b="0" lang="ru-RU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5A13-A30E-4733-89D2-4115E761EC9C}" type="slidenum">
              <a:rPr b="0" lang="ru-RU" sz="9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4" descr=""/>
          <p:cNvPicPr/>
          <p:nvPr/>
        </p:nvPicPr>
        <p:blipFill>
          <a:blip r:embed="rId1"/>
          <a:stretch/>
        </p:blipFill>
        <p:spPr>
          <a:xfrm>
            <a:off x="463680" y="493560"/>
            <a:ext cx="8242200" cy="551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WordArt 4"/>
          <p:cNvSpPr txBox="1"/>
          <p:nvPr/>
        </p:nvSpPr>
        <p:spPr>
          <a:xfrm>
            <a:off x="1258920" y="1557360"/>
            <a:ext cx="662616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Я - классный руководител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Заголовок 1" descr=""/>
          <p:cNvPicPr/>
          <p:nvPr/>
        </p:nvPicPr>
        <p:blipFill>
          <a:blip r:embed="rId1"/>
          <a:stretch/>
        </p:blipFill>
        <p:spPr>
          <a:xfrm>
            <a:off x="907920" y="-6480"/>
            <a:ext cx="8242560" cy="530280"/>
          </a:xfrm>
          <a:prstGeom prst="rect">
            <a:avLst/>
          </a:prstGeom>
          <a:ln w="0">
            <a:noFill/>
          </a:ln>
        </p:spPr>
      </p:pic>
      <p:sp>
        <p:nvSpPr>
          <p:cNvPr id="324" name="Прямоугольник 3"/>
          <p:cNvSpPr/>
          <p:nvPr/>
        </p:nvSpPr>
        <p:spPr>
          <a:xfrm>
            <a:off x="0" y="714240"/>
            <a:ext cx="8929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4d4d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4d4d6"/>
                </a:solidFill>
                <a:latin typeface="Times New Roman"/>
                <a:ea typeface="Times New Roman"/>
              </a:rPr>
              <a:t>Воспитание должно строиться на общечеловеческих  ценностях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d4d4d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4d4d6"/>
                </a:solidFill>
                <a:latin typeface="Times New Roman"/>
                <a:ea typeface="Times New Roman"/>
              </a:rPr>
              <a:t>Воспитание должно быть направленно на стимулирование развития и самореализацию личност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d4d4d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4d4d6"/>
                </a:solidFill>
                <a:latin typeface="Times New Roman"/>
                <a:ea typeface="Times New Roman"/>
              </a:rPr>
              <a:t>Воспитание должно строиться с учетом возрастных и индивидуальных особенностей личност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d4d4d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4d4d6"/>
                </a:solidFill>
                <a:latin typeface="Times New Roman"/>
                <a:ea typeface="Times New Roman"/>
              </a:rPr>
              <a:t>Воспитание должно быть направленно на сохранение и защиту прав ребенк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d4d4d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4d4d6"/>
                </a:solidFill>
                <a:latin typeface="Times New Roman"/>
                <a:ea typeface="Times New Roman"/>
              </a:rPr>
              <a:t>Система воспитания должна быть направлена на сохранение единства тела и духа, чувств и разум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Прямоугольник 4"/>
          <p:cNvSpPr/>
          <p:nvPr/>
        </p:nvSpPr>
        <p:spPr>
          <a:xfrm>
            <a:off x="0" y="1928880"/>
            <a:ext cx="885816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4d4d6"/>
                </a:solidFill>
                <a:latin typeface="Times New Roman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d4d4d6"/>
                </a:solidFill>
                <a:latin typeface="Times New Roman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d4d4d6"/>
                </a:solidFill>
                <a:latin typeface="Times New Roman"/>
                <a:ea typeface="Times New Roman"/>
              </a:rPr>
              <a:t>Мечта любого классного руководителя – создать единый, дружный коллектив. Эта работа сопряжена с большими трудностями. Отличается длительным периодом и порой сопровождается мало заметными положительными качественными проявлениям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4d4d6"/>
                </a:solidFill>
                <a:latin typeface="Times New Roman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d4d4d6"/>
                </a:solidFill>
                <a:latin typeface="Times New Roman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d4d4d6"/>
                </a:solidFill>
                <a:latin typeface="Times New Roman"/>
                <a:ea typeface="Times New Roman"/>
              </a:rPr>
              <a:t>Я работаю над тем, чтобы класс был дружным,  сплоченным, успешным. Осуществляю эту работу систематически, с применением современных комплексных психолого-диагностических методик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92aa"/>
                </a:solidFill>
                <a:latin typeface="Times New Roman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3792aa"/>
                </a:solidFill>
                <a:latin typeface="Times New Roman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d4d4d6"/>
                </a:solidFill>
                <a:latin typeface="Times New Roman"/>
                <a:ea typeface="Times New Roman"/>
              </a:rPr>
              <a:t>Применяю в своей работе с детьми следующие правила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buClr>
                <a:srgbClr val="e66c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4d4d6"/>
                </a:solidFill>
                <a:latin typeface="Times New Roman"/>
                <a:ea typeface="Times New Roman"/>
              </a:rPr>
              <a:t>Всякое взаимодействие должно быть неформальны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buClr>
                <a:srgbClr val="e66c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4d4d6"/>
                </a:solidFill>
                <a:latin typeface="Times New Roman"/>
                <a:ea typeface="Times New Roman"/>
              </a:rPr>
              <a:t>Взаимодействие должно быть справедливым и объективны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buClr>
                <a:srgbClr val="e66c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4d4d6"/>
                </a:solidFill>
                <a:latin typeface="Times New Roman"/>
                <a:ea typeface="Times New Roman"/>
              </a:rPr>
              <a:t>Взаимодействие должно демонстрировать  личную  заинтересованность взрослого и будить  заинтересованность ребенк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buClr>
                <a:srgbClr val="e66c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4d4d6"/>
                </a:solidFill>
                <a:latin typeface="Times New Roman"/>
                <a:ea typeface="Times New Roman"/>
              </a:rPr>
              <a:t>Взаимодействие должно давать шанс на перспективу</a:t>
            </a:r>
            <a:r>
              <a:rPr b="1" lang="ru-RU" sz="1800" spc="-1" strike="noStrike">
                <a:solidFill>
                  <a:srgbClr val="d4d4d6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6" name="Picture 7" descr="DSCN1004"/>
          <p:cNvPicPr/>
          <p:nvPr/>
        </p:nvPicPr>
        <p:blipFill>
          <a:blip r:embed="rId2"/>
          <a:stretch/>
        </p:blipFill>
        <p:spPr>
          <a:xfrm>
            <a:off x="3708360" y="4759200"/>
            <a:ext cx="279720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Rectangle 2" descr=""/>
          <p:cNvPicPr/>
          <p:nvPr/>
        </p:nvPicPr>
        <p:blipFill>
          <a:blip r:embed="rId1"/>
          <a:stretch/>
        </p:blipFill>
        <p:spPr>
          <a:xfrm>
            <a:off x="2981160" y="1889280"/>
            <a:ext cx="4005360" cy="22129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9" name="Picture 5" descr="f 291"/>
          <p:cNvPicPr/>
          <p:nvPr/>
        </p:nvPicPr>
        <p:blipFill>
          <a:blip r:embed="rId2"/>
          <a:stretch/>
        </p:blipFill>
        <p:spPr>
          <a:xfrm>
            <a:off x="0" y="0"/>
            <a:ext cx="3301920" cy="24764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f 296"/>
          <p:cNvPicPr/>
          <p:nvPr/>
        </p:nvPicPr>
        <p:blipFill>
          <a:blip r:embed="rId3"/>
          <a:stretch/>
        </p:blipFill>
        <p:spPr>
          <a:xfrm>
            <a:off x="6132600" y="0"/>
            <a:ext cx="3011400" cy="22590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7" descr="f 354 - копия"/>
          <p:cNvPicPr/>
          <p:nvPr/>
        </p:nvPicPr>
        <p:blipFill>
          <a:blip r:embed="rId4"/>
          <a:stretch/>
        </p:blipFill>
        <p:spPr>
          <a:xfrm>
            <a:off x="3780000" y="4059360"/>
            <a:ext cx="2098440" cy="27986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f 366"/>
          <p:cNvPicPr/>
          <p:nvPr/>
        </p:nvPicPr>
        <p:blipFill>
          <a:blip r:embed="rId5"/>
          <a:stretch/>
        </p:blipFill>
        <p:spPr>
          <a:xfrm>
            <a:off x="0" y="4105440"/>
            <a:ext cx="3274920" cy="24541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3" descr="PICT0122"/>
          <p:cNvPicPr/>
          <p:nvPr/>
        </p:nvPicPr>
        <p:blipFill>
          <a:blip r:embed="rId6">
            <a:lum contrast="20000"/>
          </a:blip>
          <a:stretch/>
        </p:blipFill>
        <p:spPr>
          <a:xfrm>
            <a:off x="6012000" y="4149720"/>
            <a:ext cx="313200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6" descr="G:\Люда рисунки детей\Изображение0012.JPG"/>
          <p:cNvPicPr/>
          <p:nvPr/>
        </p:nvPicPr>
        <p:blipFill>
          <a:blip r:embed="rId1"/>
          <a:stretch/>
        </p:blipFill>
        <p:spPr>
          <a:xfrm rot="21007800">
            <a:off x="6552720" y="1360440"/>
            <a:ext cx="997200" cy="1530360"/>
          </a:xfrm>
          <a:prstGeom prst="rect">
            <a:avLst/>
          </a:prstGeom>
          <a:ln w="76320">
            <a:solidFill>
              <a:srgbClr val="00b050"/>
            </a:solidFill>
            <a:miter/>
          </a:ln>
        </p:spPr>
      </p:pic>
      <p:sp>
        <p:nvSpPr>
          <p:cNvPr id="335" name="Прямоугольник 1"/>
          <p:cNvSpPr/>
          <p:nvPr/>
        </p:nvSpPr>
        <p:spPr>
          <a:xfrm>
            <a:off x="2658960" y="428760"/>
            <a:ext cx="4199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fae7dc"/>
                </a:solidFill>
                <a:latin typeface="Arial"/>
                <a:ea typeface="Arial"/>
              </a:rPr>
              <a:t>Ребята  моего класса не только веселятся, но и занимают  призовые места в школьных, городских олимпиадах и Всероссийских дистанционных олимпиадах: «Русский медвежонок», «Золотое Руно», </a:t>
            </a:r>
            <a:r>
              <a:rPr b="0" lang="en-US" sz="1800" spc="-1" strike="noStrike">
                <a:solidFill>
                  <a:srgbClr val="fae7dc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fae7dc"/>
                </a:solidFill>
                <a:latin typeface="Arial"/>
                <a:ea typeface="Arial"/>
              </a:rPr>
              <a:t>«Кенгуру», «Британский Бульдог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6" name="Picture 7" descr="G:\Люда рисунки детей\Изображение0004.JPG"/>
          <p:cNvPicPr/>
          <p:nvPr/>
        </p:nvPicPr>
        <p:blipFill>
          <a:blip r:embed="rId2"/>
          <a:stretch/>
        </p:blipFill>
        <p:spPr>
          <a:xfrm rot="324000">
            <a:off x="601200" y="433440"/>
            <a:ext cx="1424160" cy="1946160"/>
          </a:xfrm>
          <a:prstGeom prst="rect">
            <a:avLst/>
          </a:prstGeom>
          <a:ln w="28440">
            <a:solidFill>
              <a:srgbClr val="00b050"/>
            </a:solidFill>
            <a:miter/>
          </a:ln>
        </p:spPr>
      </p:pic>
      <p:pic>
        <p:nvPicPr>
          <p:cNvPr id="337" name="Picture 2" descr="C:\Users\Master\Рабочий стол\фото\Люда дипломы 2\Изображение0005.JPG"/>
          <p:cNvPicPr/>
          <p:nvPr/>
        </p:nvPicPr>
        <p:blipFill>
          <a:blip r:embed="rId3"/>
          <a:stretch/>
        </p:blipFill>
        <p:spPr>
          <a:xfrm rot="20654400">
            <a:off x="7639200" y="288720"/>
            <a:ext cx="969840" cy="148428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338" name="Picture 12" descr="C:\Documents and Settings\HomePC\Мои документы\ScanTo\Document_14.tif"/>
          <p:cNvPicPr/>
          <p:nvPr/>
        </p:nvPicPr>
        <p:blipFill>
          <a:blip r:embed="rId4"/>
          <a:stretch/>
        </p:blipFill>
        <p:spPr>
          <a:xfrm rot="444000">
            <a:off x="7881480" y="2068560"/>
            <a:ext cx="1157400" cy="169380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339" name="Picture 12" descr="C:\Documents and Settings\HomePC\Мои документы\ScanTo\Document_14.tif"/>
          <p:cNvPicPr/>
          <p:nvPr/>
        </p:nvPicPr>
        <p:blipFill>
          <a:blip r:embed="rId5"/>
          <a:stretch/>
        </p:blipFill>
        <p:spPr>
          <a:xfrm rot="20873400">
            <a:off x="2125440" y="1800360"/>
            <a:ext cx="952200" cy="1301760"/>
          </a:xfrm>
          <a:prstGeom prst="rect">
            <a:avLst/>
          </a:prstGeom>
          <a:ln w="28440">
            <a:solidFill>
              <a:srgbClr val="00b050"/>
            </a:solidFill>
            <a:miter/>
          </a:ln>
        </p:spPr>
      </p:pic>
      <p:pic>
        <p:nvPicPr>
          <p:cNvPr id="340" name="Picture 5" descr="D:\ЛЮДА фотки\уроки\SAM_0713.JPG"/>
          <p:cNvPicPr/>
          <p:nvPr/>
        </p:nvPicPr>
        <p:blipFill>
          <a:blip r:embed="rId6"/>
          <a:stretch/>
        </p:blipFill>
        <p:spPr>
          <a:xfrm>
            <a:off x="4071960" y="3000240"/>
            <a:ext cx="2214720" cy="16606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6" descr="D:\ЛЮДА фотки\уроки\SAM_0715.JPG"/>
          <p:cNvPicPr/>
          <p:nvPr/>
        </p:nvPicPr>
        <p:blipFill>
          <a:blip r:embed="rId7"/>
          <a:stretch/>
        </p:blipFill>
        <p:spPr>
          <a:xfrm>
            <a:off x="755640" y="458136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D:\ЛЮДА фотки\уроки\SAM_0711.JPG"/>
          <p:cNvPicPr/>
          <p:nvPr/>
        </p:nvPicPr>
        <p:blipFill>
          <a:blip r:embed="rId8"/>
          <a:stretch/>
        </p:blipFill>
        <p:spPr>
          <a:xfrm>
            <a:off x="5796000" y="4581360"/>
            <a:ext cx="2714760" cy="2035440"/>
          </a:xfrm>
          <a:prstGeom prst="rect">
            <a:avLst/>
          </a:prstGeom>
          <a:ln w="0">
            <a:noFill/>
          </a:ln>
        </p:spPr>
      </p:pic>
      <p:sp>
        <p:nvSpPr>
          <p:cNvPr id="343" name="Прямоугольник 11"/>
          <p:cNvSpPr/>
          <p:nvPr/>
        </p:nvSpPr>
        <p:spPr>
          <a:xfrm>
            <a:off x="285840" y="350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еделя  иностранного языка. Выставка поделок   учащихс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Rectangle 2" descr=""/>
          <p:cNvPicPr/>
          <p:nvPr/>
        </p:nvPicPr>
        <p:blipFill>
          <a:blip r:embed="rId1"/>
          <a:stretch/>
        </p:blipFill>
        <p:spPr>
          <a:xfrm>
            <a:off x="3627360" y="274680"/>
            <a:ext cx="5108760" cy="11523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" descr="DSCN0986"/>
          <p:cNvPicPr/>
          <p:nvPr/>
        </p:nvPicPr>
        <p:blipFill>
          <a:blip r:embed="rId2"/>
          <a:stretch/>
        </p:blipFill>
        <p:spPr>
          <a:xfrm>
            <a:off x="0" y="4076640"/>
            <a:ext cx="3451320" cy="25891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f 365"/>
          <p:cNvPicPr/>
          <p:nvPr/>
        </p:nvPicPr>
        <p:blipFill>
          <a:blip r:embed="rId3"/>
          <a:stretch/>
        </p:blipFill>
        <p:spPr>
          <a:xfrm>
            <a:off x="0" y="0"/>
            <a:ext cx="3517920" cy="26384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7" descr="f 524 - копия"/>
          <p:cNvPicPr/>
          <p:nvPr/>
        </p:nvPicPr>
        <p:blipFill>
          <a:blip r:embed="rId4"/>
          <a:stretch/>
        </p:blipFill>
        <p:spPr>
          <a:xfrm>
            <a:off x="4572000" y="1628640"/>
            <a:ext cx="332748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лантливые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олюбивые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ные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еустремленные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БРЫЕ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WordArt 4"/>
          <p:cNvSpPr txBox="1"/>
          <p:nvPr/>
        </p:nvSpPr>
        <p:spPr>
          <a:xfrm>
            <a:off x="2700360" y="4149720"/>
            <a:ext cx="5327640" cy="19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и учени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Прямоугольник 7" descr=""/>
          <p:cNvPicPr/>
          <p:nvPr/>
        </p:nvPicPr>
        <p:blipFill>
          <a:blip r:embed="rId1"/>
          <a:stretch/>
        </p:blipFill>
        <p:spPr>
          <a:xfrm>
            <a:off x="420840" y="517680"/>
            <a:ext cx="8442000" cy="8902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2" descr="DSCN1063"/>
          <p:cNvPicPr/>
          <p:nvPr/>
        </p:nvPicPr>
        <p:blipFill>
          <a:blip r:embed="rId2"/>
          <a:stretch/>
        </p:blipFill>
        <p:spPr>
          <a:xfrm>
            <a:off x="250920" y="189000"/>
            <a:ext cx="1936800" cy="25812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3" descr="DSCN1064"/>
          <p:cNvPicPr/>
          <p:nvPr/>
        </p:nvPicPr>
        <p:blipFill>
          <a:blip r:embed="rId3"/>
          <a:stretch/>
        </p:blipFill>
        <p:spPr>
          <a:xfrm>
            <a:off x="3276720" y="1628640"/>
            <a:ext cx="2152440" cy="2870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4" descr="DSCN1065"/>
          <p:cNvPicPr/>
          <p:nvPr/>
        </p:nvPicPr>
        <p:blipFill>
          <a:blip r:embed="rId4"/>
          <a:stretch/>
        </p:blipFill>
        <p:spPr>
          <a:xfrm>
            <a:off x="6737400" y="0"/>
            <a:ext cx="2406600" cy="32083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5" descr="DSCN1067"/>
          <p:cNvPicPr/>
          <p:nvPr/>
        </p:nvPicPr>
        <p:blipFill>
          <a:blip r:embed="rId5"/>
          <a:stretch/>
        </p:blipFill>
        <p:spPr>
          <a:xfrm>
            <a:off x="250920" y="3284640"/>
            <a:ext cx="2681280" cy="35733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6" descr="DSCN1069"/>
          <p:cNvPicPr/>
          <p:nvPr/>
        </p:nvPicPr>
        <p:blipFill>
          <a:blip r:embed="rId6"/>
          <a:stretch/>
        </p:blipFill>
        <p:spPr>
          <a:xfrm>
            <a:off x="6372360" y="3429000"/>
            <a:ext cx="2573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6"/>
          <p:cNvSpPr/>
          <p:nvPr/>
        </p:nvSpPr>
        <p:spPr>
          <a:xfrm>
            <a:off x="417600" y="928800"/>
            <a:ext cx="83088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fae7dc"/>
                </a:solidFill>
                <a:latin typeface="Arial"/>
                <a:ea typeface="Arial"/>
              </a:rPr>
              <a:t>Работа с родителями – большое искусство, как и вообще общение с людь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ae7dc"/>
                </a:solidFill>
                <a:latin typeface="Arial"/>
                <a:ea typeface="Arial"/>
              </a:rPr>
              <a:t>Я поддерживаю тесный контакт с родителями.  Убеждена, что нравственные ценности, ориентиры и убеждения личности заключаются в семь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ae7dc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fae7dc"/>
                </a:solidFill>
                <a:latin typeface="Arial"/>
                <a:ea typeface="Arial"/>
              </a:rPr>
              <a:t>Семья – это особого рода коллектив, играющий в воспитании основную, долговременную и важнейшую роль. Поэтому прежде чем начинать свою работу с семьями, я хорошо изучила воспитательный потенциал семь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ae7dc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fae7dc"/>
                </a:solidFill>
                <a:latin typeface="Arial"/>
                <a:ea typeface="Arial"/>
              </a:rPr>
              <a:t>На родительских собраниях я провожу анализ учебных достижений класса, знакомлю родителей с эмоциональным климатом в классе. По этому не возникает в сотрудничестве двусмысленности, обид и недомолвок. Обязательно провожу психолого -педагогическое просвещение. Уходя с собраний родители получают рекомендации в виде памяток. Темы памяток очень разнообразны.</a:t>
            </a:r>
            <a:r>
              <a:rPr b="0" lang="en-US" sz="1600" spc="-1" strike="noStrike">
                <a:solidFill>
                  <a:srgbClr val="fae7dc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8" name="Прямоугольник 2" descr=""/>
          <p:cNvPicPr/>
          <p:nvPr/>
        </p:nvPicPr>
        <p:blipFill>
          <a:blip r:embed="rId1"/>
          <a:stretch/>
        </p:blipFill>
        <p:spPr>
          <a:xfrm>
            <a:off x="182520" y="73080"/>
            <a:ext cx="8693280" cy="9018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I:\SAM_0206.JPG"/>
          <p:cNvPicPr/>
          <p:nvPr/>
        </p:nvPicPr>
        <p:blipFill>
          <a:blip r:embed="rId2"/>
          <a:stretch/>
        </p:blipFill>
        <p:spPr>
          <a:xfrm>
            <a:off x="6286680" y="400068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7" descr="I:\SAM_0209.JPG"/>
          <p:cNvPicPr/>
          <p:nvPr/>
        </p:nvPicPr>
        <p:blipFill>
          <a:blip r:embed="rId3"/>
          <a:stretch/>
        </p:blipFill>
        <p:spPr>
          <a:xfrm>
            <a:off x="357120" y="4357800"/>
            <a:ext cx="2881440" cy="21603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8" descr="I:\SAM_0207.JPG"/>
          <p:cNvPicPr/>
          <p:nvPr/>
        </p:nvPicPr>
        <p:blipFill>
          <a:blip r:embed="rId4"/>
          <a:stretch/>
        </p:blipFill>
        <p:spPr>
          <a:xfrm>
            <a:off x="3357720" y="4214880"/>
            <a:ext cx="2761920" cy="20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" name="WordArt 4"/>
          <p:cNvSpPr txBox="1"/>
          <p:nvPr/>
        </p:nvSpPr>
        <p:spPr>
          <a:xfrm>
            <a:off x="2556000" y="2133720"/>
            <a:ext cx="468000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Я - жена и мам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7" name="Picture 4" descr="DSCN0241"/>
          <p:cNvPicPr/>
          <p:nvPr/>
        </p:nvPicPr>
        <p:blipFill>
          <a:blip r:embed="rId1"/>
          <a:stretch/>
        </p:blipFill>
        <p:spPr>
          <a:xfrm>
            <a:off x="1116000" y="1563840"/>
            <a:ext cx="7058160" cy="5294160"/>
          </a:xfrm>
          <a:prstGeom prst="rect">
            <a:avLst/>
          </a:prstGeom>
          <a:ln w="0">
            <a:noFill/>
          </a:ln>
        </p:spPr>
      </p:pic>
      <p:sp>
        <p:nvSpPr>
          <p:cNvPr id="368" name="WordArt 5"/>
          <p:cNvSpPr txBox="1"/>
          <p:nvPr/>
        </p:nvSpPr>
        <p:spPr>
          <a:xfrm>
            <a:off x="1403280" y="260280"/>
            <a:ext cx="6265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ТО- МОЯ НАГРАДА! ЭТО -МОЯ СЕМЬЯ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WordArt 4"/>
          <p:cNvSpPr txBox="1"/>
          <p:nvPr/>
        </p:nvSpPr>
        <p:spPr>
          <a:xfrm>
            <a:off x="1692360" y="1628640"/>
            <a:ext cx="540072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Я -  учител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1" name="Picture 5" descr="bad2673cea4cf7d7c10956350a48b142"/>
          <p:cNvPicPr/>
          <p:nvPr/>
        </p:nvPicPr>
        <p:blipFill>
          <a:blip r:embed="rId2"/>
          <a:stretch/>
        </p:blipFill>
        <p:spPr>
          <a:xfrm>
            <a:off x="0" y="1773360"/>
            <a:ext cx="2346480" cy="17604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" descr="getImage227"/>
          <p:cNvPicPr/>
          <p:nvPr/>
        </p:nvPicPr>
        <p:blipFill>
          <a:blip r:embed="rId3"/>
          <a:stretch/>
        </p:blipFill>
        <p:spPr>
          <a:xfrm>
            <a:off x="179280" y="4365720"/>
            <a:ext cx="2551320" cy="19126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7" descr="0_299d0_82affa5c_L"/>
          <p:cNvPicPr/>
          <p:nvPr/>
        </p:nvPicPr>
        <p:blipFill>
          <a:blip r:embed="rId4"/>
          <a:stretch/>
        </p:blipFill>
        <p:spPr>
          <a:xfrm>
            <a:off x="2843280" y="1844640"/>
            <a:ext cx="2887560" cy="19242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8" descr="657a97aa8b48"/>
          <p:cNvPicPr/>
          <p:nvPr/>
        </p:nvPicPr>
        <p:blipFill>
          <a:blip r:embed="rId5"/>
          <a:stretch/>
        </p:blipFill>
        <p:spPr>
          <a:xfrm>
            <a:off x="2987640" y="4365720"/>
            <a:ext cx="2903400" cy="19368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9" descr="83042391_gata"/>
          <p:cNvPicPr/>
          <p:nvPr/>
        </p:nvPicPr>
        <p:blipFill>
          <a:blip r:embed="rId6"/>
          <a:stretch/>
        </p:blipFill>
        <p:spPr>
          <a:xfrm>
            <a:off x="5940360" y="1628640"/>
            <a:ext cx="270036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Rectangle 2" descr=""/>
          <p:cNvPicPr/>
          <p:nvPr/>
        </p:nvPicPr>
        <p:blipFill>
          <a:blip r:embed="rId1"/>
          <a:stretch/>
        </p:blipFill>
        <p:spPr>
          <a:xfrm>
            <a:off x="450720" y="237960"/>
            <a:ext cx="8517240" cy="14320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DSCN0210"/>
          <p:cNvPicPr/>
          <p:nvPr/>
        </p:nvPicPr>
        <p:blipFill>
          <a:blip r:embed="rId2"/>
          <a:stretch/>
        </p:blipFill>
        <p:spPr>
          <a:xfrm>
            <a:off x="1523880" y="18828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Заголовок 1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242560" cy="1438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500040" y="15001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ff"/>
                </a:solidFill>
                <a:latin typeface="Georgia"/>
              </a:rPr>
              <a:t>         </a:t>
            </a:r>
            <a:r>
              <a:rPr b="0" i="1" lang="ru-RU" sz="6000" spc="-1" strike="noStrike">
                <a:solidFill>
                  <a:srgbClr val="ffffff"/>
                </a:solidFill>
                <a:latin typeface="Georgia"/>
              </a:rPr>
              <a:t>за внимание!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8258400" cy="32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200" spc="-1" strike="noStrike">
              <a:solidFill>
                <a:srgbClr val="bebec1"/>
              </a:solidFill>
              <a:latin typeface="Georgi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250920" y="4220640"/>
            <a:ext cx="8229600" cy="24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bebec1"/>
                </a:solidFill>
                <a:latin typeface="Georgia"/>
              </a:rPr>
              <a:t>Обучая языку, стройте учебный процесс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bebec1"/>
                </a:solidFill>
                <a:latin typeface="Georgia"/>
              </a:rPr>
              <a:t>таким образом, чтобы он открывал ребёнку окно в другой мир и расширял тем самым его понимание собственного бытия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bebec1"/>
                </a:solidFill>
                <a:latin typeface="Georgia"/>
              </a:rPr>
              <a:t>И.Л.Бим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7" name="Picture 5" descr="DSCN1004"/>
          <p:cNvPicPr/>
          <p:nvPr/>
        </p:nvPicPr>
        <p:blipFill>
          <a:blip r:embed="rId1"/>
          <a:stretch/>
        </p:blipFill>
        <p:spPr>
          <a:xfrm>
            <a:off x="1979640" y="549360"/>
            <a:ext cx="4884840" cy="36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Подзаголовок 2" descr=""/>
          <p:cNvPicPr/>
          <p:nvPr/>
        </p:nvPicPr>
        <p:blipFill>
          <a:blip r:embed="rId1"/>
          <a:stretch/>
        </p:blipFill>
        <p:spPr>
          <a:xfrm>
            <a:off x="920880" y="390600"/>
            <a:ext cx="7564320" cy="51879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f 377"/>
          <p:cNvPicPr/>
          <p:nvPr/>
        </p:nvPicPr>
        <p:blipFill>
          <a:blip r:embed="rId2"/>
          <a:stretch/>
        </p:blipFill>
        <p:spPr>
          <a:xfrm>
            <a:off x="3132000" y="2781360"/>
            <a:ext cx="28083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357120" y="1642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0ad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bebec1"/>
                </a:solidFill>
                <a:latin typeface="Georgia"/>
              </a:rPr>
              <a:t>Использование проблемно-поисковых и информационно-коммуникационных технологий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0ad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bebec1"/>
                </a:solidFill>
                <a:latin typeface="Georgia"/>
              </a:rPr>
              <a:t>Рейтинговая оценка знаний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0ad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bebec1"/>
                </a:solidFill>
                <a:latin typeface="Georgia"/>
              </a:rPr>
              <a:t>Организация проектно-исследовательской деятельности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28760" y="1642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0ad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9e"/>
                </a:solidFill>
                <a:latin typeface="Georgia"/>
              </a:rPr>
              <a:t>Краевой педагогический фестиваль «Инновационный поиск - 2010»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0ad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9e"/>
                </a:solidFill>
                <a:latin typeface="Georgia"/>
              </a:rPr>
              <a:t>Краевой педагогический фестиваль «Инновационный поиск - 2011»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493560" y="208080"/>
            <a:ext cx="8242560" cy="11635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357120" y="128592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bebec1"/>
                </a:solidFill>
                <a:latin typeface="Georgia"/>
              </a:rPr>
              <a:t>Статьи в сборнике материалов краевой научно-практической конференции «Актуальные вопросы преподавания иностранного языка в школе» за 2010 и 2011гг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Заголовок 1" descr=""/>
          <p:cNvPicPr/>
          <p:nvPr/>
        </p:nvPicPr>
        <p:blipFill>
          <a:blip r:embed="rId1"/>
          <a:stretch/>
        </p:blipFill>
        <p:spPr>
          <a:xfrm>
            <a:off x="450720" y="165240"/>
            <a:ext cx="8242560" cy="15048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b0f0"/>
                </a:solidFill>
                <a:latin typeface="Georgia"/>
              </a:rPr>
              <a:t>Тема: </a:t>
            </a:r>
            <a:r>
              <a:rPr b="0" i="1" lang="ru-RU" sz="3600" spc="-1" strike="noStrike">
                <a:solidFill>
                  <a:srgbClr val="bebec1"/>
                </a:solidFill>
                <a:latin typeface="Georgia"/>
              </a:rPr>
              <a:t>Формирование коммуникативной компетенции у учащихся 10 класса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ципиальным положением школьного языкового образования в основной школе становится уровневая дифференциация обучения. Это означает, что, осваивая общий курс, одни школьники в своих результатах ограничиваются уровнем обязательной подготовки, зафиксированным в обязательном стандарте, другие в соответствии со своими склонностями и способностями достигают более высоких рубежей. При этом каждый имеет право самостоятельно решать, ограничиться минимальным уровнем или же продвигаться дальше. Именно на этом пути осуществляются гуманистические начала обучения иностранному языку в школе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я учителем 12лет и обучая детей со 2 по 11 классы, я в первую очередь ставлю перед собой цель: привить интерес к иностранному языку, а также выполнить поставленные передо мной общеобразовательные и воспитательные задачи. В процессе работы , я обращаю внимание на развитие речи учащихся, формирование у них навыков планирования своей работы, поиска рациональных путей её выполнения, критической оценки результатов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9" name="Заголовок 2" descr=""/>
          <p:cNvPicPr/>
          <p:nvPr/>
        </p:nvPicPr>
        <p:blipFill>
          <a:blip r:embed="rId1"/>
          <a:stretch/>
        </p:blipFill>
        <p:spPr>
          <a:xfrm>
            <a:off x="-6480" y="371520"/>
            <a:ext cx="668196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9:58:36Z</dcterms:created>
  <dc:creator>Елена Викторовна Покладова</dc:creator>
  <dc:description/>
  <dc:language>en-US</dc:language>
  <cp:lastModifiedBy>класс</cp:lastModifiedBy>
  <dcterms:modified xsi:type="dcterms:W3CDTF">2013-04-11T10:29:19Z</dcterms:modified>
  <cp:revision>37</cp:revision>
  <dc:subject/>
  <dc:title>Виктор Гаврилович Захарченко - </dc:title>
</cp:coreProperties>
</file>