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CECD-D19B-42F1-A620-1CBF8514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DDE-C5D1-4D62-A2A6-89838CD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249-ADD4-4D5B-955D-B5E399E1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62C-B988-4CFF-B6C2-5550B5B6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D854-E189-4468-868C-9AF45F3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660-30FF-46F9-86B2-230B8C9F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FF6-290B-4A9C-9834-6E8D1C61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477-6FE2-4E62-B9FA-8746744F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CDF-7ABD-44B0-8106-2D507536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307-A4AC-4585-8887-078A27B5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324-5643-4688-82B8-95B6F50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CFD-5A67-4B2D-B58B-229D7B01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3481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E7A6-BD6F-4BCC-9967-DC9C52DA0E5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чителя эрзянского языка МОУ «Средняя общеобразовательная школа №25»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сынкиной Ларисы Михайловны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920" y="14839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9b2d1f"/>
                </a:solidFill>
                <a:latin typeface="Georgia"/>
              </a:rPr>
              <a:t>Портфолио </a:t>
            </a: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7"/>
          <p:cNvGraphicFramePr/>
          <p:nvPr/>
        </p:nvGraphicFramePr>
        <p:xfrm>
          <a:off x="1081080" y="476280"/>
          <a:ext cx="10447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476280"/>
                    <a:ext cx="1044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13"/>
          <p:cNvSpPr/>
          <p:nvPr/>
        </p:nvSpPr>
        <p:spPr>
          <a:xfrm>
            <a:off x="1403280" y="2205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2484360" y="555480"/>
            <a:ext cx="5688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«Средняя общеобразовательная школа № 2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о. Саранск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268280" y="1481040"/>
            <a:ext cx="640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Georgia"/>
              </a:rPr>
              <a:t>Портфоли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16"/>
          <p:cNvGraphicFramePr/>
          <p:nvPr/>
        </p:nvGraphicFramePr>
        <p:xfrm>
          <a:off x="1090440" y="473040"/>
          <a:ext cx="1044720" cy="16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0440" y="473040"/>
                    <a:ext cx="10447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Рисунок 16" descr="IMG_2162.JPG"/>
          <p:cNvPicPr/>
          <p:nvPr/>
        </p:nvPicPr>
        <p:blipFill>
          <a:blip r:embed="rId5"/>
          <a:stretch/>
        </p:blipFill>
        <p:spPr>
          <a:xfrm>
            <a:off x="2786040" y="350028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3. 1 Участие в проектно-исследовательской или опытно-экспериментальной деятельност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3.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Руководство  проектно-исследовательской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деятельностью учащихс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1  Конкурс проектов  и учебно-исследовательских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работ «Школьники города -  науке  21 века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участие (2) – 2010, 20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призер (1)  -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2  Всероссийская научно-практическая конференция   «Живая культура: традиции  и современность»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участие (3) – 2010, 2011, 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3  Межрегиональный конкурс научно-исследовательских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работ учащихся и студентов «Научный старт»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г.Чебоксары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победитель (1) - 20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766560" y="6093000"/>
            <a:ext cx="2000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приложени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3600" y="585360"/>
            <a:ext cx="720864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4. Качество знаний обучающихся по результатам итоговой аттестации в форме ЕГЭ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96464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14240" y="549000"/>
            <a:ext cx="70707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5. Качество знаний обучающихся по результатам итоговой аттестации 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 форме ГИ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868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1520" y="2356920"/>
            <a:ext cx="776124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6. Качество знаний обучающихся по итогам внешнего мониторинга</a:t>
            </a:r>
            <a:br>
              <a:rPr sz="28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Участие в мониторинге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обученности учащихся 2-4 классов эрзянскому/мокшанскому языку,  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  который проводился в рамках реализации проекта «Создание 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национально-культурного образовательного пространства 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общеобразовательных учреждений Республики Мордовия и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</a:t>
            </a: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         регионов с компактным проживанием мордовского населения».</a:t>
            </a:r>
            <a:br>
              <a:rPr sz="1700"/>
            </a:br>
            <a:br>
              <a:rPr sz="1700"/>
            </a:br>
            <a:r>
              <a:rPr b="1" i="1" lang="ru-RU" sz="1700" spc="-1" strike="noStrike">
                <a:solidFill>
                  <a:srgbClr val="9e3611"/>
                </a:solidFill>
                <a:latin typeface="Times New Roman"/>
              </a:rPr>
              <a:t>Справка прилагается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endParaRPr b="0" lang="en-US" sz="17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6693480" y="6021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67000" y="528120"/>
            <a:ext cx="719424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7. Результаты участия обучающихся во  Всероссийской предметной олимпиаде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980640"/>
            <a:ext cx="784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-353160">
              <a:lnSpc>
                <a:spcPct val="80000"/>
              </a:lnSpc>
              <a:spcBef>
                <a:spcPts val="4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9e3611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ый уровень             (2009-2010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Юртаева Елизавета– призер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(2011-2012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Веряскина Алина – призер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(2012-2013 уч.год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Паксюткина Анастасия – призер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униципального этап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Республиканской олимпиады по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мордовским язык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9e3611"/>
                </a:solidFill>
                <a:uFillTx/>
                <a:latin typeface="Times New Roman"/>
              </a:rPr>
              <a:t>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                                                                           </a:t>
            </a:r>
            <a:r>
              <a:rPr b="1" lang="ru-RU" sz="1900" spc="-1" strike="noStrike">
                <a:solidFill>
                  <a:srgbClr val="9e3611"/>
                </a:solidFill>
                <a:latin typeface="Times New Roman"/>
              </a:rPr>
              <a:t>Приложение </a:t>
            </a:r>
            <a:r>
              <a:rPr b="1" lang="ru-RU" sz="1900" spc="-1" strike="noStrike">
                <a:solidFill>
                  <a:srgbClr val="006600"/>
                </a:solidFill>
                <a:latin typeface="Times New Roman"/>
              </a:rPr>
              <a:t>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                                                                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Приложение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3160" indent="0">
              <a:lnSpc>
                <a:spcPct val="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33600" y="585360"/>
            <a:ext cx="719136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8. Позитивные результаты внеурочной деятельности обучающихся по учебным предметам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86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униципальный конкурс творческих работ на эрзянском язы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обедители (2) - 2008, 2011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ризер  (1) – 2013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униципальный конкурс чтецов стихотворений на эрзянском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язы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призеры (2)- 2011,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Участие в Республиканском фестивале народного творчества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«Шумбрат, Мордовия!»(2)  – 2011, 2012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Международная Олимпиада по основам наук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дипломы 1 степени (по русскому языку и литературе) – 2012(1),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2013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76280" y="6093000"/>
            <a:ext cx="20566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</a:rPr>
              <a:t>Приложение </a:t>
            </a:r>
            <a:r>
              <a:rPr b="0" lang="ru-RU" sz="2400" spc="-1" strike="noStrike">
                <a:solidFill>
                  <a:srgbClr val="cc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95440" y="585360"/>
            <a:ext cx="7192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9. Наличие публикаций, включая интернет-публикаци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632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9e3611"/>
                </a:solidFill>
                <a:uFillTx/>
                <a:latin typeface="Arial"/>
              </a:rPr>
              <a:t>Список публикац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e3611"/>
                </a:solidFill>
                <a:uFillTx/>
                <a:latin typeface="Bodoni MT Black"/>
              </a:rPr>
              <a:t>Республиканский уровень</a:t>
            </a:r>
            <a:r>
              <a:rPr b="1" i="1" lang="ru-RU" sz="2000" spc="-1" strike="noStrike" u="sng">
                <a:solidFill>
                  <a:srgbClr val="9e3611"/>
                </a:solidFill>
                <a:uFillTx/>
                <a:latin typeface="Bodoni MT Black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Bodoni MT Black"/>
              </a:rPr>
              <a:t>        </a:t>
            </a:r>
            <a:r>
              <a:rPr b="1" i="1" lang="ru-RU" sz="2000" spc="-1" strike="noStrike">
                <a:solidFill>
                  <a:srgbClr val="9e3611"/>
                </a:solidFill>
                <a:latin typeface="Bodoni MT Black"/>
              </a:rPr>
              <a:t>Журнал «Народное образование РМ» № 1-2 за 2013 год, статья «Весна. Урок эрзянского языка во 2-м класс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e3611"/>
                </a:solidFill>
                <a:uFillTx/>
                <a:latin typeface="Times New Roman"/>
              </a:rPr>
              <a:t>Российский уровень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Сборник «Этнокультурное образование: опыт и перспективы», 2008г. Статья «Сказка –сокровищница народной педагог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Сборник «Этнокультурное образование: опыт и перспективы», 2012. Статья «Нетрадиционные формы уроков при изучении эрзянского языка в начальной школ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662160" y="60930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0. Наличие авторских</a:t>
            </a:r>
            <a:br>
              <a:rPr sz="28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 программ , методических пособ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Авторская  программа факультативного курса для учащихся 5 класса  «Один день в музее»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       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Программа утверждена Экспертным советом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         </a:t>
            </a:r>
            <a:r>
              <a:rPr b="1" i="1" lang="ru-RU" sz="2100" spc="-1" strike="noStrike">
                <a:solidFill>
                  <a:srgbClr val="9e3611"/>
                </a:solidFill>
                <a:latin typeface="Times New Roman"/>
              </a:rPr>
              <a:t>Управления образования г.о. Саранск, 2012г</a:t>
            </a:r>
            <a:r>
              <a:rPr b="1" i="1" lang="ru-RU" sz="2300" spc="-1" strike="noStrike">
                <a:solidFill>
                  <a:srgbClr val="9e3611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374880" y="52293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ложение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1019160" y="3068640"/>
            <a:ext cx="4906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6640" y="528480"/>
            <a:ext cx="71802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1.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9760" y="1922040"/>
            <a:ext cx="735336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Муниципальный уровен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Открытый урок  в рамках городского семинара «Повышение профессиональной компетентности учителей родного языка», 2010-2011 уч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2.  Выступление  на городском семинаре «Этнокультурный аспект языкового образования школьников» на базе филологического факультета ГОУ ВПО «Мордовский государственный педагогический институт им. М.Е.Евсевье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3. Участие в мероприятиях, проводимых в музее А.И.Полежаева г.о.Саранск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Республиканский уровен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. Лекционное занятие «Сказки финно-угорских народов как средство приобщения к национальной культуре» для слушателей курсов МРИО, 2008 г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2. Выступление  на городском семинаре «Этнокультурный аспект языкового образования школьников» на базе филологического факультета ГОУ ВПО «Мордовский государственный педагогический институт им. 3. М.Е.Евсевьева, 2010 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e3611"/>
                </a:solidFill>
                <a:latin typeface="Times New Roman"/>
              </a:rPr>
              <a:t>3. Занятие по музейной педагогике «Творческая направленность развития личности школьников» на базе МРИО,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90520" y="602136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66640" y="528480"/>
            <a:ext cx="7180200" cy="10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1.  1      Выступления на научно-практических конференциях, семинарах, проведение открытых уроков, мастер-классов, мероприятий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9760" y="1642680"/>
            <a:ext cx="735336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Российский уровень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Мастер-класс по преподаванию эрзянского языка  в МОУ «Баевская средняя общеобразовательная школа» Ульяновской области в рамках Межрегиональной конференции «Дни мордовской культуры в Ульяновской области»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2. Выступление на Всероссийской научно-практической конференции «Современное начальное образование: проблемы и перспективы развития» (МГПИ им.М.Е.Евсевьева)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3. Выступление на Всероссийской научно-практической конференции «Этнокультурное  образование: опыт и перспективы»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1800" spc="-1" strike="noStrike" u="sng">
                <a:solidFill>
                  <a:srgbClr val="9e3611"/>
                </a:solidFill>
                <a:uFillTx/>
                <a:latin typeface="Times New Roman"/>
              </a:rPr>
              <a:t>Международный уровен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1. Выступление на Международной научно-практической конференции «Этнокультурное образование: опыт и перспективы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Times New Roman"/>
              </a:rPr>
              <a:t>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628680" y="602136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Times New Roman"/>
              </a:rPr>
              <a:t>Приложение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5760" y="806400"/>
            <a:ext cx="7545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Общие сведения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28800" y="1216080"/>
            <a:ext cx="770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928800"/>
          <a:ext cx="7562880" cy="4692600"/>
        </p:xfrm>
        <a:graphic>
          <a:graphicData uri="http://schemas.openxmlformats.org/drawingml/2006/table">
            <a:tbl>
              <a:tblPr/>
              <a:tblGrid>
                <a:gridCol w="3495600"/>
                <a:gridCol w="406728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ФАМИЛИЯ, ИМЯ, ОТ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Косынкина Лариса Михайлов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ДАТА Р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04.10.1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6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РАЗОВАНИЕ, КВАЛИФИКАЦИЯ ПО ДИПЛ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ts val="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                                                                                 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Высш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Мордовский государственный университет им. Н.П.Огарева, спец. «Мордовский язык и литература, русский язык и литература», 19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ЗАНИМАЕМАЯ ДОЛЖНОСТЬ, ДАТА НАЗНАЧЕНИЯ НА ЭТУ ДОЛЖНОСТЬ В ДАННОМ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Учитель русского языка и литературы,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1.11.2002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СТАЖ ПЕДАГОГИЧЕСКОЙ РАБОТЫ (ПО СПЕЦИАЛЬ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ОБЩИЙ ТРУДОВОЙ СТ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1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НАЛИЧИЕ КВАЛИФИКАЦИОННОЙ КАТЕГОРИИ, ДАТА ПОСЛЕДНЕЙ АТТЕС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9b2d1f"/>
                          </a:solidFill>
                          <a:latin typeface="Times New Roman"/>
                        </a:rPr>
                        <a:t>Первая квалификационная категория, 19.06.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11"/>
          <p:cNvSpPr/>
          <p:nvPr/>
        </p:nvSpPr>
        <p:spPr>
          <a:xfrm>
            <a:off x="6626160" y="6329520"/>
            <a:ext cx="20764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6a9a9"/>
                </a:solidFill>
                <a:latin typeface="Times New Roman"/>
              </a:rPr>
              <a:t>Приложение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67000" y="528120"/>
            <a:ext cx="719424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2. Общественная активность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7280" y="1125000"/>
            <a:ext cx="734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34817"/>
                </a:solidFill>
                <a:latin typeface="Times New Roman"/>
              </a:rPr>
              <a:t>1</a:t>
            </a: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.        Участие в подготовке и организованном проведении выборов Президента Российской Федерации ( 2008, 2012), в Государственную Думу Федерального Собрания Российской Федерации, Государственное Собрание Республики Мордовия и представительные органы местного самоуправления (2011 г.)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экспертных комиссиях ЕГЭ ( 2008- 2012 г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работе жюри по проверке олимпиадных заданий муниципального этапа Республиканской олимпиады по мордовским языкам (2011-2012, 2012 -2013 уч.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Участие в работе жюри городского конкурса чтецов стихотворений на мордовских языках» (2010-2011, 2011-2012 уч.г.)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5.        Организация и проведение международной олимпиады «Русский медвежонок – языкознание для всех»  (2011-2012 уч.год)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Организация и проведение «Международной Олимпиады по основам наук»,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Секретарь педагогического совета МОУ «СОШ №25» (2011 -2013 уч.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d34817"/>
              </a:buClr>
              <a:buSzPct val="9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Начальник школьного оздоровительного лагеря «Эдельвейс» (2008- 2012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3. Позитивные результаты работы в качестве классного руководителя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Моя деятельность как классного руководит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направлена  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воспит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гражданственности и патриотиз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трудолюб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творческого отношения к уч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активной жизненной пози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бережного отношения к природ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ценностного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к здоровью и здоровому образу жиз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9e3611"/>
                </a:solidFill>
                <a:latin typeface="Times New Roman"/>
              </a:rPr>
              <a:t>- умения видеть красоту в окружающем 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1600" spc="-1" strike="noStrike">
                <a:solidFill>
                  <a:srgbClr val="696464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96464"/>
                </a:solidFill>
                <a:latin typeface="Times New Roman"/>
              </a:rPr>
              <a:t>Приложение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5"/>
          <p:cNvGrpSpPr/>
          <p:nvPr/>
        </p:nvGrpSpPr>
        <p:grpSpPr>
          <a:xfrm>
            <a:off x="1042920" y="3573360"/>
            <a:ext cx="2160720" cy="2087640"/>
            <a:chOff x="1042920" y="3573360"/>
            <a:chExt cx="2160720" cy="2087640"/>
          </a:xfrm>
        </p:grpSpPr>
        <p:grpSp>
          <p:nvGrpSpPr>
            <p:cNvPr id="146" name="Group 6"/>
            <p:cNvGrpSpPr/>
            <p:nvPr/>
          </p:nvGrpSpPr>
          <p:grpSpPr>
            <a:xfrm>
              <a:off x="1168560" y="4468680"/>
              <a:ext cx="1946880" cy="1192320"/>
              <a:chOff x="1168560" y="4468680"/>
              <a:chExt cx="1946880" cy="1192320"/>
            </a:xfrm>
          </p:grpSpPr>
          <p:sp>
            <p:nvSpPr>
              <p:cNvPr id="147" name="Freeform 7"/>
              <p:cNvSpPr/>
              <p:nvPr/>
            </p:nvSpPr>
            <p:spPr>
              <a:xfrm>
                <a:off x="1168560" y="4870080"/>
                <a:ext cx="764640" cy="7909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"/>
              <p:cNvSpPr/>
              <p:nvPr/>
            </p:nvSpPr>
            <p:spPr>
              <a:xfrm>
                <a:off x="1924560" y="4808880"/>
                <a:ext cx="1190520" cy="848520"/>
              </a:xfrm>
              <a:prstGeom prst="pi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1168560" y="4468680"/>
                <a:ext cx="1946880" cy="980640"/>
              </a:xfrm>
              <a:prstGeom prst="pi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10"/>
            <p:cNvGrpSpPr/>
            <p:nvPr/>
          </p:nvGrpSpPr>
          <p:grpSpPr>
            <a:xfrm>
              <a:off x="1126800" y="4177440"/>
              <a:ext cx="2016360" cy="1192320"/>
              <a:chOff x="1126800" y="4177440"/>
              <a:chExt cx="2016360" cy="1192320"/>
            </a:xfrm>
          </p:grpSpPr>
          <p:sp>
            <p:nvSpPr>
              <p:cNvPr id="151" name="Freeform 11"/>
              <p:cNvSpPr/>
              <p:nvPr/>
            </p:nvSpPr>
            <p:spPr>
              <a:xfrm>
                <a:off x="1126800" y="4578840"/>
                <a:ext cx="792000" cy="7909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2"/>
              <p:cNvSpPr/>
              <p:nvPr/>
            </p:nvSpPr>
            <p:spPr>
              <a:xfrm>
                <a:off x="1909800" y="4517640"/>
                <a:ext cx="1233000" cy="848520"/>
              </a:xfrm>
              <a:prstGeom prst="pie">
                <a:avLst/>
              </a:prstGeom>
              <a:solidFill>
                <a:srgbClr val="d34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3"/>
              <p:cNvSpPr/>
              <p:nvPr/>
            </p:nvSpPr>
            <p:spPr>
              <a:xfrm>
                <a:off x="1126800" y="4177440"/>
                <a:ext cx="2016360" cy="980640"/>
              </a:xfrm>
              <a:prstGeom prst="pie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4"/>
            <p:cNvGrpSpPr/>
            <p:nvPr/>
          </p:nvGrpSpPr>
          <p:grpSpPr>
            <a:xfrm>
              <a:off x="1084320" y="3875760"/>
              <a:ext cx="2088000" cy="1192320"/>
              <a:chOff x="1084320" y="3875760"/>
              <a:chExt cx="2088000" cy="1192320"/>
            </a:xfrm>
          </p:grpSpPr>
          <p:sp>
            <p:nvSpPr>
              <p:cNvPr id="155" name="Freeform 15"/>
              <p:cNvSpPr/>
              <p:nvPr/>
            </p:nvSpPr>
            <p:spPr>
              <a:xfrm>
                <a:off x="1084320" y="4277160"/>
                <a:ext cx="820080" cy="7909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6"/>
              <p:cNvSpPr/>
              <p:nvPr/>
            </p:nvSpPr>
            <p:spPr>
              <a:xfrm>
                <a:off x="1895400" y="4215960"/>
                <a:ext cx="1276920" cy="848520"/>
              </a:xfrm>
              <a:prstGeom prst="pie">
                <a:avLst/>
              </a:prstGeom>
              <a:solidFill>
                <a:srgbClr val="96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7"/>
              <p:cNvSpPr/>
              <p:nvPr/>
            </p:nvSpPr>
            <p:spPr>
              <a:xfrm>
                <a:off x="1084320" y="3875760"/>
                <a:ext cx="2088000" cy="98064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8"/>
            <p:cNvGrpSpPr/>
            <p:nvPr/>
          </p:nvGrpSpPr>
          <p:grpSpPr>
            <a:xfrm>
              <a:off x="1042920" y="3573360"/>
              <a:ext cx="2160720" cy="1192320"/>
              <a:chOff x="1042920" y="3573360"/>
              <a:chExt cx="2160720" cy="1192320"/>
            </a:xfrm>
          </p:grpSpPr>
          <p:sp>
            <p:nvSpPr>
              <p:cNvPr id="159" name="Freeform 19"/>
              <p:cNvSpPr/>
              <p:nvPr/>
            </p:nvSpPr>
            <p:spPr>
              <a:xfrm>
                <a:off x="1042920" y="3974760"/>
                <a:ext cx="848880" cy="790920"/>
              </a:xfrm>
              <a:prstGeom prst="pie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0"/>
              <p:cNvSpPr/>
              <p:nvPr/>
            </p:nvSpPr>
            <p:spPr>
              <a:xfrm>
                <a:off x="1882080" y="3913560"/>
                <a:ext cx="1321560" cy="848520"/>
              </a:xfrm>
              <a:prstGeom prst="pie">
                <a:avLst/>
              </a:prstGeom>
              <a:solidFill>
                <a:srgbClr val="9b2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1"/>
              <p:cNvSpPr/>
              <p:nvPr/>
            </p:nvSpPr>
            <p:spPr>
              <a:xfrm>
                <a:off x="1042920" y="3573360"/>
                <a:ext cx="2160720" cy="980640"/>
              </a:xfrm>
              <a:prstGeom prst="pie">
                <a:avLst/>
              </a:pr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28" descr="num11"/>
          <p:cNvPicPr/>
          <p:nvPr/>
        </p:nvPicPr>
        <p:blipFill>
          <a:blip r:embed="rId1"/>
          <a:stretch/>
        </p:blipFill>
        <p:spPr>
          <a:xfrm>
            <a:off x="1042920" y="2205000"/>
            <a:ext cx="156996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4. Профессиональные конкурсы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403280" y="2997360"/>
            <a:ext cx="401760" cy="431640"/>
          </a:xfrm>
          <a:custGeom>
            <a:avLst/>
            <a:gdLst>
              <a:gd name="textAreaLeft" fmla="*/ 53640 w 401760"/>
              <a:gd name="textAreaRight" fmla="*/ 348120 w 401760"/>
              <a:gd name="textAreaTop" fmla="*/ 69840 h 431640"/>
              <a:gd name="textAreaBottom" fmla="*/ 30744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02" stAng="-5400000" swAng="-5400000"/>
                <a:lnTo>
                  <a:pt x="0" y="11889"/>
                </a:lnTo>
                <a:arcTo wR="21600" hR="7002" stAng="10800000" swAng="-2865845"/>
                <a:lnTo>
                  <a:pt x="15502" y="21315"/>
                </a:lnTo>
                <a:lnTo>
                  <a:pt x="21600" y="16447"/>
                </a:lnTo>
                <a:lnTo>
                  <a:pt x="15502" y="11008"/>
                </a:lnTo>
                <a:lnTo>
                  <a:pt x="15502" y="13718"/>
                </a:lnTo>
                <a:arcTo wR="21600" hR="7002" stAng="7934155" swAng="2452856"/>
                <a:lnTo>
                  <a:pt x="1358" y="9445"/>
                </a:lnTo>
                <a:arcTo wR="21600" hR="7002" stAng="-10387010" swAng="4987010"/>
                <a:close/>
              </a:path>
              <a:path fill="darkenLess" w="21600" h="21600">
                <a:moveTo>
                  <a:pt x="21600" y="0"/>
                </a:moveTo>
                <a:arcTo wR="21600" hR="7002" stAng="-5400000" swAng="-5400000"/>
                <a:lnTo>
                  <a:pt x="0" y="7002"/>
                </a:lnTo>
                <a:arcTo wR="21600" hR="7002" stAng="10800000" swAng="-412990"/>
                <a:lnTo>
                  <a:pt x="1358" y="9445"/>
                </a:lnTo>
                <a:arcTo wR="21600" hR="7002" stAng="-10387010" swAng="4987010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 rot="21055800">
            <a:off x="1331640" y="3463920"/>
            <a:ext cx="334800" cy="1920960"/>
          </a:xfrm>
          <a:prstGeom prst="upArrow">
            <a:avLst>
              <a:gd name="adj1" fmla="val 50194"/>
              <a:gd name="adj2" fmla="val 88136"/>
            </a:avLst>
          </a:prstGeom>
          <a:gradFill rotWithShape="0">
            <a:gsLst>
              <a:gs pos="0">
                <a:srgbClr val="9b2d1f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22"/>
          <p:cNvSpPr/>
          <p:nvPr/>
        </p:nvSpPr>
        <p:spPr>
          <a:xfrm>
            <a:off x="3143160" y="1643040"/>
            <a:ext cx="507204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городском профессиональном конкурсе «Педагог-исследователь»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конкурсе «Ярмарка методических идей» в рамках городского педагогического марафона «Образование.Творчество. Развитие»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Arial"/>
              </a:rPr>
              <a:t>Участие в конкурсе «Педагог-исследователь» в рамках городского педагогического марафона «Образование.Творчество. Развитие»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ff3399"/>
                </a:solidFill>
                <a:latin typeface="Arial"/>
              </a:rPr>
              <a:t>Приложение </a:t>
            </a:r>
            <a:r>
              <a:rPr b="0" i="1" lang="ru-RU" sz="1800" spc="-1" strike="noStrike">
                <a:solidFill>
                  <a:srgbClr val="ff3399"/>
                </a:solidFill>
                <a:latin typeface="Arial"/>
              </a:rPr>
              <a:t>14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585720"/>
            <a:ext cx="720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5.   Награды и поощрения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640" y="109656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Школьный уровен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ы директора Падеровой О.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и в трудовой книж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Муницип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ы ГУО за значительные успехи в деле обучения и воспитания подрастающего поколения и многолетний добросовестный труд, 2007, 2011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администрации МУК «Дом Культуры «Луч» за активное участие в подготовке и проведении фестиваля народного творчества «Шумбрат, Мордовия»,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ГОУ ВПО «Мордовский государственный педагогический институт им. М.Е.Евсевьева»  за активное участие в работе круглого стола «Проблемы и перспективы преподавания родной литературы»,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Управления культуры Администрации г.о.Саранск за активное участие в подготовке и проведении фестиваля «Шумбрат,  Мордовия!»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Республикански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ственное письмо президента РМ Н.И.Меркушкина, май 2008 г., март 2012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Почетная грамота Министерства Образования РМ за высокое педагогическое мастерство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ность регионального оргкомитета игры-конкурса «Русский медвежонок-языкознание для всех» за помощь в организации конкурса 2011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Благодарственное письмо администрации МУК «Мемориальный музей боевой славы и трудового подвига» за добросовестный труд и успешные результаты в нравственно-патриотическом воспитании учащихся»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Грамота  республиканского общественного фонда спасения зрзянского языка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e3611"/>
                </a:solidFill>
                <a:latin typeface="Times New Roman"/>
              </a:rPr>
              <a:t>                                             </a:t>
            </a:r>
            <a:r>
              <a:rPr b="1" lang="ru-RU" sz="1200" spc="-1" strike="noStrike">
                <a:solidFill>
                  <a:srgbClr val="9e3611"/>
                </a:solidFill>
                <a:latin typeface="Times New Roman"/>
              </a:rPr>
              <a:t>Российски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34817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Диплом Общероссийского проекта «Школа цифрового века</a:t>
            </a:r>
            <a:r>
              <a:rPr b="1" i="1" lang="ru-RU" sz="1600" spc="-1" strike="noStrike">
                <a:solidFill>
                  <a:srgbClr val="9e3611"/>
                </a:solidFill>
                <a:latin typeface="Times New Roman"/>
              </a:rPr>
              <a:t>» </a:t>
            </a: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за активное применение современных информационных технологий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9e3611"/>
                </a:solidFill>
                <a:latin typeface="Times New Roman"/>
              </a:rPr>
              <a:t>2.      Благодарственное письмо Чебоксарского кооперативного института Российского университета кооперации» за руководство исследовательской работой победителя межрегионального конкурса «Научный старт»,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c000"/>
                </a:solidFill>
                <a:uFillTx/>
                <a:latin typeface="Times New Roman"/>
              </a:rPr>
              <a:t>Приложение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5440" y="528120"/>
            <a:ext cx="71928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6. Повышение квалификаци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0080" y="785520"/>
            <a:ext cx="7920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  </a:t>
            </a: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2008-200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.       6.10-18.10. 2008 г. «Интернет-технологии» (80 часов) Мордовский Региональный Центр Интернет- Образования, удостоверение и   диплом № 542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2.     14.04-22.04. 2008г.Курсы повышения квалификации в ГОУ ДПО (ПК) с «МРИО»»по проблеме «Обучение мордовским языкам в школах с полиэтническим контингентом обучающихся » в объеме 72 часа, удостоверение № 14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                                               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2011-20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3.     05.12-14.12. 2011г. Курсы повышения квалификации в ГОУ ДПО (ПК) с «МРИО» по программе «Создание поликультурного образовательного пространства образовательного учреждения» в объеме 72 часа, удостоверение № 25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4.      14.05- 19.2012г. Курсы повышения квалификации в ГОУ ДПО (ПК) с «МРИО» по программе «Психолого-педагогические основы деятельности воспитателя в летнем оздоровительном лагере» в объеме 72 часа, удостоверение №10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5.      01.02-16. 02. 2012г. Курсы повышения квалификации в ГОУ ДПО (ПК) с «МРИО» по программе «Проектная деятельность учащихся как условие реализации компетентностного подхода в образовании(в дистанционном режиме) в объеме 92 часов, удостоверение №4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6.                                                       </a:t>
            </a:r>
            <a:r>
              <a:rPr b="1" lang="ru-RU" sz="1500" spc="-1" strike="noStrike">
                <a:solidFill>
                  <a:srgbClr val="9e3611"/>
                </a:solidFill>
                <a:latin typeface="Times New Roman"/>
              </a:rPr>
              <a:t>2012-201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             </a:t>
            </a:r>
            <a:r>
              <a:rPr b="1" i="1" lang="ru-RU" sz="1500" spc="-1" strike="noStrike">
                <a:solidFill>
                  <a:srgbClr val="9e3611"/>
                </a:solidFill>
                <a:latin typeface="Times New Roman"/>
              </a:rPr>
              <a:t>11.02-14.02.2013 г. Курсы повышения квалификации в ГОУ ДПО (ПК) с «МРИО» по программе модуля «Формирование этнокультурных ценностей на уроках мордовских языков в условиях русскоязычной школы» в объеме 36 часов, справка №112/2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9900"/>
                </a:solidFill>
                <a:uFillTx/>
                <a:latin typeface="Times New Roman"/>
              </a:rPr>
              <a:t>Приложение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Характеристика-представление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14960" y="5786280"/>
            <a:ext cx="3286080" cy="5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Times New Roman"/>
              </a:rPr>
              <a:t>Приложение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C:\Documents and Settings\Учитель\Рабочий стол\документы к аттестоции\хар-пред\хар..JPG"/>
          <p:cNvPicPr/>
          <p:nvPr/>
        </p:nvPicPr>
        <p:blipFill>
          <a:blip r:embed="rId1"/>
          <a:stretch/>
        </p:blipFill>
        <p:spPr>
          <a:xfrm>
            <a:off x="1785960" y="1785960"/>
            <a:ext cx="2576520" cy="36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Учитель\Рабочий стол\документы к аттестоции\хар-пред\Изображение.JPG"/>
          <p:cNvPicPr/>
          <p:nvPr/>
        </p:nvPicPr>
        <p:blipFill>
          <a:blip r:embed="rId2"/>
          <a:stretch/>
        </p:blipFill>
        <p:spPr>
          <a:xfrm>
            <a:off x="5143680" y="1857240"/>
            <a:ext cx="25002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1520" y="528480"/>
            <a:ext cx="7629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96464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696464"/>
              </a:solidFill>
              <a:latin typeface="Times New Roman"/>
            </a:endParaRPr>
          </a:p>
        </p:txBody>
      </p:sp>
      <p:grpSp>
        <p:nvGrpSpPr>
          <p:cNvPr id="63" name="Organization Chart 3"/>
          <p:cNvGrpSpPr/>
          <p:nvPr/>
        </p:nvGrpSpPr>
        <p:grpSpPr>
          <a:xfrm>
            <a:off x="857160" y="357120"/>
            <a:ext cx="8435160" cy="6408360"/>
            <a:chOff x="857160" y="357120"/>
            <a:chExt cx="8435160" cy="6408360"/>
          </a:xfrm>
        </p:grpSpPr>
        <p:cxnSp>
          <p:nvCxnSpPr>
            <p:cNvPr id="64" name="_s2052"/>
            <p:cNvCxnSpPr>
              <a:stCxn id="65" idx="1"/>
              <a:endCxn id="66" idx="2"/>
            </p:cNvCxnSpPr>
            <p:nvPr/>
          </p:nvCxnSpPr>
          <p:spPr>
            <a:xfrm rot="10800000">
              <a:off x="5074200" y="864720"/>
              <a:ext cx="603000" cy="19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2053"/>
            <p:cNvCxnSpPr>
              <a:stCxn id="68" idx="3"/>
              <a:endCxn id="66" idx="2"/>
            </p:cNvCxnSpPr>
            <p:nvPr/>
          </p:nvCxnSpPr>
          <p:spPr>
            <a:xfrm flipV="1">
              <a:off x="4471920" y="865080"/>
              <a:ext cx="603000" cy="269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4"/>
            <p:cNvCxnSpPr>
              <a:stCxn id="70" idx="1"/>
              <a:endCxn id="66" idx="2"/>
            </p:cNvCxnSpPr>
            <p:nvPr/>
          </p:nvCxnSpPr>
          <p:spPr>
            <a:xfrm rot="10800000">
              <a:off x="5074200" y="864720"/>
              <a:ext cx="603000" cy="269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5"/>
            <p:cNvCxnSpPr>
              <a:stCxn id="72" idx="3"/>
              <a:endCxn id="66" idx="2"/>
            </p:cNvCxnSpPr>
            <p:nvPr/>
          </p:nvCxnSpPr>
          <p:spPr>
            <a:xfrm flipV="1">
              <a:off x="4471920" y="864720"/>
              <a:ext cx="603000" cy="343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6"/>
            <p:cNvCxnSpPr>
              <a:stCxn id="74" idx="1"/>
              <a:endCxn id="66" idx="2"/>
            </p:cNvCxnSpPr>
            <p:nvPr/>
          </p:nvCxnSpPr>
          <p:spPr>
            <a:xfrm rot="10800000">
              <a:off x="5074200" y="864720"/>
              <a:ext cx="603000" cy="343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7"/>
            <p:cNvCxnSpPr>
              <a:stCxn id="76" idx="3"/>
              <a:endCxn id="66" idx="2"/>
            </p:cNvCxnSpPr>
            <p:nvPr/>
          </p:nvCxnSpPr>
          <p:spPr>
            <a:xfrm flipV="1">
              <a:off x="4471920" y="865080"/>
              <a:ext cx="603000" cy="41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058"/>
            <p:cNvCxnSpPr>
              <a:stCxn id="78" idx="1"/>
              <a:endCxn id="66" idx="2"/>
            </p:cNvCxnSpPr>
            <p:nvPr/>
          </p:nvCxnSpPr>
          <p:spPr>
            <a:xfrm rot="10800000">
              <a:off x="5074200" y="864720"/>
              <a:ext cx="586080" cy="565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059"/>
            <p:cNvCxnSpPr>
              <a:stCxn id="80" idx="3"/>
              <a:endCxn id="66" idx="2"/>
            </p:cNvCxnSpPr>
            <p:nvPr/>
          </p:nvCxnSpPr>
          <p:spPr>
            <a:xfrm flipV="1">
              <a:off x="4488480" y="865080"/>
              <a:ext cx="586800" cy="565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2060"/>
            <p:cNvCxnSpPr>
              <a:stCxn id="82" idx="1"/>
              <a:endCxn id="66" idx="2"/>
            </p:cNvCxnSpPr>
            <p:nvPr/>
          </p:nvCxnSpPr>
          <p:spPr>
            <a:xfrm rot="10800000">
              <a:off x="5074200" y="865440"/>
              <a:ext cx="586080" cy="491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2061"/>
            <p:cNvCxnSpPr>
              <a:stCxn id="84" idx="3"/>
              <a:endCxn id="66" idx="2"/>
            </p:cNvCxnSpPr>
            <p:nvPr/>
          </p:nvCxnSpPr>
          <p:spPr>
            <a:xfrm flipV="1">
              <a:off x="4488480" y="865440"/>
              <a:ext cx="586800" cy="491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2062"/>
            <p:cNvCxnSpPr>
              <a:stCxn id="86" idx="1"/>
              <a:endCxn id="66" idx="2"/>
            </p:cNvCxnSpPr>
            <p:nvPr/>
          </p:nvCxnSpPr>
          <p:spPr>
            <a:xfrm rot="10800000">
              <a:off x="5074200" y="864720"/>
              <a:ext cx="586080" cy="417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63"/>
            <p:cNvCxnSpPr>
              <a:stCxn id="88" idx="3"/>
              <a:endCxn id="66" idx="2"/>
            </p:cNvCxnSpPr>
            <p:nvPr/>
          </p:nvCxnSpPr>
          <p:spPr>
            <a:xfrm flipV="1">
              <a:off x="4488480" y="865080"/>
              <a:ext cx="586800" cy="19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64"/>
            <p:cNvCxnSpPr>
              <a:stCxn id="90" idx="1"/>
              <a:endCxn id="66" idx="2"/>
            </p:cNvCxnSpPr>
            <p:nvPr/>
          </p:nvCxnSpPr>
          <p:spPr>
            <a:xfrm rot="10800000">
              <a:off x="5074200" y="865440"/>
              <a:ext cx="586080" cy="121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65"/>
            <p:cNvCxnSpPr>
              <a:stCxn id="92" idx="3"/>
              <a:endCxn id="66" idx="2"/>
            </p:cNvCxnSpPr>
            <p:nvPr/>
          </p:nvCxnSpPr>
          <p:spPr>
            <a:xfrm flipV="1">
              <a:off x="4488480" y="865440"/>
              <a:ext cx="586800" cy="1217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66"/>
            <p:cNvCxnSpPr>
              <a:stCxn id="94" idx="1"/>
              <a:endCxn id="66" idx="2"/>
            </p:cNvCxnSpPr>
            <p:nvPr/>
          </p:nvCxnSpPr>
          <p:spPr>
            <a:xfrm rot="10800000">
              <a:off x="5074200" y="864720"/>
              <a:ext cx="586080" cy="4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2067"/>
            <p:cNvCxnSpPr>
              <a:stCxn id="96" idx="3"/>
              <a:endCxn id="66" idx="2"/>
            </p:cNvCxnSpPr>
            <p:nvPr/>
          </p:nvCxnSpPr>
          <p:spPr>
            <a:xfrm flipV="1">
              <a:off x="4488480" y="865080"/>
              <a:ext cx="586800" cy="47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2068"/>
            <p:cNvSpPr/>
            <p:nvPr/>
          </p:nvSpPr>
          <p:spPr>
            <a:xfrm>
              <a:off x="3267000" y="3571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руктура портфоли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69"/>
            <p:cNvSpPr/>
            <p:nvPr/>
          </p:nvSpPr>
          <p:spPr>
            <a:xfrm>
              <a:off x="857160" y="10965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. Представление собствен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новационного педагогического опы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70"/>
            <p:cNvSpPr/>
            <p:nvPr/>
          </p:nvSpPr>
          <p:spPr>
            <a:xfrm>
              <a:off x="5677200" y="10965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9. Наличие публикаций, включ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нтернет-публик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71"/>
            <p:cNvSpPr/>
            <p:nvPr/>
          </p:nvSpPr>
          <p:spPr>
            <a:xfrm>
              <a:off x="857160" y="18360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>
                <a:alpha val="8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. Реализация программ углубленн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зучения предмета, профильного обу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72"/>
            <p:cNvSpPr/>
            <p:nvPr/>
          </p:nvSpPr>
          <p:spPr>
            <a:xfrm>
              <a:off x="5677200" y="18360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0. Наличие авторских программ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етодических пособ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73"/>
            <p:cNvSpPr/>
            <p:nvPr/>
          </p:nvSpPr>
          <p:spPr>
            <a:xfrm>
              <a:off x="857160" y="25754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. Участие в проектно-исследовательской 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пытно - экспериментальн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74"/>
            <p:cNvSpPr/>
            <p:nvPr/>
          </p:nvSpPr>
          <p:spPr>
            <a:xfrm>
              <a:off x="5677200" y="47937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4. Профессиона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кур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75"/>
            <p:cNvSpPr/>
            <p:nvPr/>
          </p:nvSpPr>
          <p:spPr>
            <a:xfrm>
              <a:off x="857160" y="55332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7. Результаты участия обучающихся в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сероссийской предметной олимпиа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2076"/>
            <p:cNvSpPr/>
            <p:nvPr/>
          </p:nvSpPr>
          <p:spPr>
            <a:xfrm>
              <a:off x="5677200" y="553320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5. Награды и поощр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7"/>
            <p:cNvSpPr/>
            <p:nvPr/>
          </p:nvSpPr>
          <p:spPr>
            <a:xfrm>
              <a:off x="857160" y="62726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. Позитивные результаты внеуроч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ятельности обучающихся по учебны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дме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78"/>
            <p:cNvSpPr/>
            <p:nvPr/>
          </p:nvSpPr>
          <p:spPr>
            <a:xfrm>
              <a:off x="5677200" y="62726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6. Повышение квалифик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79"/>
            <p:cNvSpPr/>
            <p:nvPr/>
          </p:nvSpPr>
          <p:spPr>
            <a:xfrm>
              <a:off x="857160" y="479376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6. Качество знаний по итогам внешне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ониторин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80"/>
            <p:cNvSpPr/>
            <p:nvPr/>
          </p:nvSpPr>
          <p:spPr>
            <a:xfrm>
              <a:off x="5677200" y="40543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3. Позитивные результаты работы в качеств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лассного руковод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81"/>
            <p:cNvSpPr/>
            <p:nvPr/>
          </p:nvSpPr>
          <p:spPr>
            <a:xfrm>
              <a:off x="857160" y="405432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5. Качество знаний обучающихся по результа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оговой аттестации в форме ГИ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82"/>
            <p:cNvSpPr/>
            <p:nvPr/>
          </p:nvSpPr>
          <p:spPr>
            <a:xfrm>
              <a:off x="5677200" y="331488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2. Общественная активность педаго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2083"/>
            <p:cNvSpPr/>
            <p:nvPr/>
          </p:nvSpPr>
          <p:spPr>
            <a:xfrm>
              <a:off x="857160" y="331488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4. Качество знаний обучающихся по результа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тоговой аттестации в форме ЕГ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084"/>
            <p:cNvSpPr/>
            <p:nvPr/>
          </p:nvSpPr>
          <p:spPr>
            <a:xfrm>
              <a:off x="5677200" y="2575440"/>
              <a:ext cx="3615120" cy="49284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1. Выступления на научно-практическ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х, педчтениях, семинарах, 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рытых уроков, мастер-классов, мероприя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66640" y="585360"/>
            <a:ext cx="720396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 Представление собственного инновационного педагогического опыта</a:t>
            </a: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b2d1f"/>
                </a:solidFill>
                <a:uFillTx/>
                <a:latin typeface="Times New Roman"/>
              </a:rPr>
              <a:t>Моя педагогическая концеп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9b2d1f"/>
                </a:solidFill>
                <a:latin typeface="Times New Roman"/>
              </a:rPr>
              <a:t>«Формирование личности, подготовленной к активной жизни в поликультурном обществе, в процессе преподавания эрзянского языка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5"/>
          <p:cNvSpPr/>
          <p:nvPr/>
        </p:nvSpPr>
        <p:spPr>
          <a:xfrm>
            <a:off x="6806520" y="602136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0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2 Представление собственного инновационного педагогического опыт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6633720" y="609300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imes New Roman"/>
              </a:rPr>
              <a:t>Приложени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 flipV="1">
            <a:off x="5897520" y="460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1187280" y="220500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1116000" y="1268280"/>
            <a:ext cx="7416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Республиканский уровен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Участие во внеурочной деятельности в рамках программы«Введение ФГОС НО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1, 2, 3 классы с  2010-2011 уч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e3611"/>
                </a:solidFill>
                <a:latin typeface="Arial"/>
              </a:rPr>
              <a:t>Открытое занятие  по музейной педагогике в рамках внеурочной деятельности учащихся 1-2 классов для участников республиканской конференции «Введение ФГОС ОО: реалии и перспективы»,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6640" y="528120"/>
            <a:ext cx="720396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1.3 Представление собственного инновационного педагогического опыта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85880" y="1071360"/>
            <a:ext cx="79214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b2d1f"/>
                </a:solidFill>
                <a:uFillTx/>
                <a:latin typeface="Times New Roman"/>
              </a:rPr>
              <a:t>Публичное представление педагогического опыта на с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34817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nsportal.ru/user/1893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Социальная сеть работников образования </a:t>
            </a:r>
            <a:r>
              <a:rPr b="1" i="1" lang="en-US" sz="3000" spc="-1" strike="noStrike">
                <a:solidFill>
                  <a:srgbClr val="9b2d1f"/>
                </a:solidFill>
                <a:latin typeface="Times New Roman"/>
              </a:rPr>
              <a:t>nsportal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.</a:t>
            </a:r>
            <a:r>
              <a:rPr b="1" i="1" lang="en-US" sz="3000" spc="-1" strike="noStrike">
                <a:solidFill>
                  <a:srgbClr val="9b2d1f"/>
                </a:solidFill>
                <a:latin typeface="Times New Roman"/>
              </a:rPr>
              <a:t>ru</a:t>
            </a:r>
            <a:r>
              <a:rPr b="1" i="1" lang="ru-RU" sz="3000" spc="-1" strike="noStrike">
                <a:solidFill>
                  <a:srgbClr val="9b2d1f"/>
                </a:solidFill>
                <a:latin typeface="Times New Roman"/>
              </a:rPr>
              <a:t> (мини-сайт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Times New Roman"/>
              </a:rPr>
              <a:t>Прилож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66640" y="585720"/>
            <a:ext cx="72039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2. Реализация программ углубленного изучения предмета, профильного обучения</a:t>
            </a:r>
            <a:endParaRPr b="0" lang="en-US" sz="2400" spc="-1" strike="noStrike">
              <a:solidFill>
                <a:srgbClr val="69646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3.Участие в проектно-исследовательской или опытно-экспериментальной деятельности</a:t>
            </a:r>
            <a:endParaRPr b="0" lang="en-US" sz="28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    </a:t>
            </a:r>
            <a:r>
              <a:rPr b="1" i="1" lang="ru-RU" sz="1700" spc="-1" strike="noStrike">
                <a:solidFill>
                  <a:srgbClr val="9b2d1f"/>
                </a:solidFill>
                <a:latin typeface="Times New Roman"/>
              </a:rPr>
              <a:t>1</a:t>
            </a:r>
            <a:r>
              <a:rPr b="1" lang="ru-RU" sz="3000" spc="-1" strike="noStrike">
                <a:solidFill>
                  <a:srgbClr val="9b2d1f"/>
                </a:solidFill>
                <a:latin typeface="Times New Roman"/>
              </a:rPr>
              <a:t>.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Опытно-экспериментальная работа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«Введение ФГОС НОО» 1, 2, 3 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классы с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                          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2010-2011 уч.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    </a:t>
            </a:r>
            <a:r>
              <a:rPr b="1" lang="ru-RU" sz="2100" spc="-1" strike="noStrike">
                <a:solidFill>
                  <a:srgbClr val="9b2d1f"/>
                </a:solidFill>
                <a:latin typeface="Times New Roman"/>
              </a:rPr>
              <a:t>2.  Участие в работе творческой группы педагогов при лаборатории этнокультурного образования   «Мордовского республиканского института образования» с 2009 г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9b2d1f"/>
                </a:solidFill>
                <a:latin typeface="Times New Roman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6464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766560" y="6093000"/>
            <a:ext cx="2000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96464"/>
                </a:solidFill>
                <a:latin typeface="Times New Roman"/>
              </a:rPr>
              <a:t>приложение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2:30:35Z</dcterms:created>
  <dc:creator>Мельникова</dc:creator>
  <dc:description/>
  <dc:language>en-US</dc:language>
  <cp:lastModifiedBy>Учитель</cp:lastModifiedBy>
  <dcterms:modified xsi:type="dcterms:W3CDTF">2013-04-01T05:16:35Z</dcterms:modified>
  <cp:revision>215</cp:revision>
  <dc:subject/>
  <dc:title>    ПРОБЛЕМНО-ДИАЛОГИЧЕСКОЕ ОБУЧЕНИЕ:  понятие и технология </dc:title>
</cp:coreProperties>
</file>