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79D-52A5-4E3B-96DB-F1B882C5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CEE-A1DC-420D-96E1-7369C495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05F-802B-4FB5-94B0-2C82E1E6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F6D-FD46-4AEA-BC61-17C57189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280-E52A-43D9-820B-2A3A3A80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6E89-01A9-436F-B615-C1D9B446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151C-B6F4-4753-91F7-E441D8A0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6E3D-19E2-4ECB-B96A-63C71740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44A4-B551-4012-83B7-DF3EECC7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0E8B-E94D-4F78-A3C1-B1081DD3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78EE-29DE-42DD-BE2F-254A2C03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813-1F46-4D33-899D-ED0116C4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1687-EA4B-43F1-8393-B37CBC96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9E13-4383-4A1E-AA07-B58FDE34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21EF-4F0D-4689-9EDA-DE1D8B74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5FC3-2C71-4138-AA64-8EC70477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F55A-211C-482B-84FC-010C83CB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5EC-3701-4F26-9828-E2601798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811-8181-469E-9F71-F61F8038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79A-121A-4029-AA3A-72B574B8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FB0-9E30-4FEB-A7A0-E3F40B42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4C2-00E4-43F3-94A5-DB1331F0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4EA-0D04-41B8-A1EE-03C34BB8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03D-0900-47BA-9CBC-ADCF394E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9F5F-F573-404F-A5BF-BE8912E3C6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67A6-404E-4CC5-A32A-41BDDBC34C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692280"/>
            <a:ext cx="7313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cc"/>
                </a:solidFill>
                <a:latin typeface="Arial"/>
              </a:rPr>
              <a:t>Кто хочет стать отличником?</a:t>
            </a:r>
            <a:endParaRPr b="0" lang="en-US" sz="6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4508640"/>
            <a:ext cx="7313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еклассное мероприятие по математи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итушкина Вера Михайловн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У Уральская СОШ Челябинской обла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акое наибольшее количество чисел можно составить из цифр 1, 5, 0, 2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1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1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2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На первом месте могут стоять цифры 1, 2, 5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0160" y="1413000"/>
            <a:ext cx="35798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0-2-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-5-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2-0-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5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5-0-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-2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76720" y="4220640"/>
            <a:ext cx="35272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-0-1-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-2-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0-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2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1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0-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02280" y="1484280"/>
            <a:ext cx="358128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0-1-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-5-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1-0-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5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5-0-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-1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ять кошек поймали по пять мышек за пять минут. За сколько минут пять кошек поймают 225 мышек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.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2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12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5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КОШЕК ПОЙМАЮТ: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ЗА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НУТУ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ЫШЕК;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225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ЫШЕК ОНИ ПОЙМАЮТ ЗА: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225:5=45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НУТ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Даны пять мер длины: метр, локоть, аршин, ярд.  Какая из них наименьшая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локо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яр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арши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мет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3137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Метр = 100 см</a:t>
            </a:r>
            <a:br>
              <a:rPr sz="3600"/>
            </a:b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локоть = 45 см</a:t>
            </a:r>
            <a:br>
              <a:rPr sz="3600"/>
            </a:b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аршин = 71 см</a:t>
            </a:r>
            <a:br>
              <a:rPr sz="3600"/>
            </a:b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ярд = 91 см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Что означает слово «конус» в переводе с греческого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сосновая шиш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ловая шиш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Круглая пирами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колп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Задумали число, уменьшили его на 2, полученную разность умножили на 3,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результат увеличили в 27 раз, из полученного числа извлекли квадратный корень, получили число 9. Какое число задумали?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16000" y="2708280"/>
            <a:ext cx="357984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148360" y="2708280"/>
            <a:ext cx="3581280" cy="17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√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42920" y="458136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8360" y="458136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2781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705040" y="907920"/>
                <a:ext cx="3621240" cy="468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rad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 фронтоне старого особняка стоит запись: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DCCLXXXIX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 В каком году был построен этот дом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187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178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198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189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 чём измеряется площадь земли: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99640" y="1844280"/>
            <a:ext cx="3961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в килограмм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в ар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55640" y="3933720"/>
            <a:ext cx="446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. в кубичес-ких метр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101920" y="3960720"/>
            <a:ext cx="3717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в минутах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DCCLXXXIX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 – 10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 -   1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  -    5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  -    1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  -      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78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акое происхождение имеет слово «корень»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42560" y="1827000"/>
            <a:ext cx="390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латинско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греческо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арабско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2280" y="3960720"/>
            <a:ext cx="379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индийско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Чему равен 1 микрон?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0,001 м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0.001 с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0,0001 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0,0001 к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акая из данных величин точная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. Расстояние между Москвой и Чебоксарами 679к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. Число книг в школьной библиотеке составляет 18000шту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03280" y="4436640"/>
            <a:ext cx="3579840" cy="1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. Масса каждой чашки в школьной столовой 160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102280" y="4365360"/>
            <a:ext cx="35812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число семечек в каждом арбузе – 102 шту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73134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Если  у вас 13-16 правильных ответов – вы отличник – оценка «5»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если 9-12 правильных ответов – вы хорошист – оценка «4»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если 5-8 правильных ответов – оценка «3»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-17388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403848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«Математику уже затем учить следует, что она ум в порядок приводит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.В.Ломоно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42318" t="14494" r="38515" b="67418"/>
          <a:stretch/>
        </p:blipFill>
        <p:spPr>
          <a:xfrm>
            <a:off x="5076720" y="1001880"/>
            <a:ext cx="3834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Какая наука не относится непосредственно к математике?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00000" y="1827000"/>
            <a:ext cx="374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Алгеб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01920" y="1827000"/>
            <a:ext cx="4041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Геометр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280" y="3960720"/>
            <a:ext cx="3600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Меха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32000" y="3933720"/>
            <a:ext cx="4211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Арифмет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В выражении 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чем является буква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Основ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Корен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Показатель степен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Множи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16360" y="189000"/>
                <a:ext cx="50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364000" y="981000"/>
                <a:ext cx="432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акое из чисел 89, 321, 97, 71 не является простым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8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9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32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7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йдите лишнее слово в выражении «Сумма двух острых углов прямоугольного треугольника равна 90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остры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дву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000" y="3960720"/>
            <a:ext cx="4481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прямоугольног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градус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Сколько штук сапог необходимо сшить для городка, третья часть жителей которого – одноногие,  а половина остальных предпочитают ходить босиком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7280" y="220464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. Число, равное половине жител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76360" y="2204640"/>
            <a:ext cx="3581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. Число, равное одной трети жител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7280" y="458136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. Столько, сколько жител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48360" y="443700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Число, равное двум третьим числа жител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7313760" cy="61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усть </a:t>
            </a:r>
            <a:r>
              <a:rPr b="0" i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жителей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763640" y="1557360"/>
                <a:ext cx="3745080" cy="44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дноногие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стальные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вуногие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Сколько лет уйдёт на то, чтобы досчитать до миллиард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жизни не хват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99 ле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32 го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12 ле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09:09Z</dcterms:created>
  <dc:creator>Zver</dc:creator>
  <dc:description/>
  <dc:language>en-US</dc:language>
  <cp:lastModifiedBy>Zver</cp:lastModifiedBy>
  <dcterms:modified xsi:type="dcterms:W3CDTF">2013-04-11T10:35:51Z</dcterms:modified>
  <cp:revision>10</cp:revision>
  <dc:subject/>
  <dc:title>Кто хочет стать отличником?</dc:title>
</cp:coreProperties>
</file>