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4FB-29F9-4705-8253-1AF4EBE2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319-46DA-49FF-91ED-49503ACE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A0B0-B259-462D-BD90-0A32C45B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303-FF9F-4CEE-AE49-293CC824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A44-2E3C-406C-A751-EA4ED7E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D8A-A275-47A4-B7E2-B24CC2E0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8E9-E18F-47AC-BC38-6625AE0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262-EA57-474D-9470-CDFAA30E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815-BF92-44F6-91DC-0BBEE9C6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1D1-E104-43BD-81B0-BAC2129C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4E93-26F3-429D-8686-CAF9CDAF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B1F-4265-47A7-B9DB-06E28566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4CB4-E199-4D47-9CE0-FB7D1B7DB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32000" y="2276640"/>
            <a:ext cx="626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50196"/>
                      </a:srgbClr>
                    </a:gs>
                    <a:gs pos="50000">
                      <a:srgbClr val="4d0808"/>
                    </a:gs>
                    <a:gs pos="100000">
                      <a:srgbClr val="fff200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2. Лексические нормы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200">
                      <a:alpha val="50196"/>
                    </a:srgbClr>
                  </a:gs>
                  <a:gs pos="50000">
                    <a:srgbClr val="4d0808"/>
                  </a:gs>
                  <a:gs pos="100000">
                    <a:srgbClr val="fff200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755640" y="4365720"/>
            <a:ext cx="46432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евская Е.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БОУ Уметская СОШ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мбовской об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1052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Подготовка к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910080"/>
            <a:ext cx="7993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1. 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ГЛИНЯНЫЙ нужно употребить ГЛИНИСТЫ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Оба берега реки были высоки и обрывисты, можно было видеть залегающие пласты серо-чёрного ГЛИНЯНОГО сла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Давыдов принес из кухни ГЛИНЯНУЮ чашку с холодными щ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В историческом музее я впервые увидел ГЛИНЯНЫЕ черепки посуды эпохи неол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 Однажды я увидел возле этой хаты женщину, она растапливала ГЛИНЯНЫЙ оч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Arial"/>
              </a:rPr>
              <a:t>2. 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ВЕЧНЫЙ нужно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употребить ВЕК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Долгими осенними вечерами хозяин не выходил из комнаты и в неизменном халате, с ВЕЧНОЮ трубкою в зубах, сидел у ок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Густые заросли кустарника чередовались с ВЕЧНЫМИ дубовыми рощами и берёзовыми лес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Среди ВЕЧНЫХ человеческих ценностей наиболее важной для него была ч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В районах ВЕЧНОЙ мерзлоты дома строятся по специальным проек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763200"/>
            <a:ext cx="8640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З.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ЗЛОЙ нужно употребить ЗЛОСТНЫЙ?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Здесь было так неуютно и страшно, как в заколдованном царстве, где все уснуло по чарам и колдовству ЗЛОЙ ф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Не по ЗЛОЙ воле он допускал промахи и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Имейте в виду, что ЗЛЫЕ браконьеры, являющиеся уголовными преступниками, будут непременно наказ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Человек он был ЗЛОЙ: ему непременно нужно было кого-то му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4.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ЖИЗНЕННЫЙ нужно употребить ЖИТЕЙ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ЖИЗНЕННЫЙ путь этого человека отражает идеалы эпо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Для одного искусство лишь средство стать знаменитым и известным, для другого - ЖИЗНЕННАЯ необход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Основные   персонажи   пьесы   оказались   недостаточно ЖИЗН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ЖИЗНЕННЫЕ привычки приобретаются с опытом, и далеко не все они являются положитель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00" y="1083960"/>
            <a:ext cx="88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5.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ПРЕДСТАВИТЬ нужно употребить ПРЕДОСТАВ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ПРЕДСТАВЬТЕ гостям вашего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Актер умел ПРЕДСТАВИТЬ пение сол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Вы должны срочно ПРЕДСТАВИТЬ отчет о командиро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Я ПРЕДСТАВИЛ вам право самостоятельно решать эти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6.  </a:t>
            </a:r>
            <a:r>
              <a:rPr b="1" i="1" lang="en-US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ИСПОЛНИТЕЛЬСКИЙ нужно употребить ИСПОЛНИТЕЛЬ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  Наша  страна  может  гордиться  цирковым  ИСПОЛНИТЕЛЬСКИМ искус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Каждый настоящий музыкант должен интересоваться вековыми     традициями народной и классической ИСПОЛНИТЕЛЬСК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  Одна из ветвей государственной власти - ИСПОЛНИТЕЛЬ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 ИСПОЛНИТЕЛЬСКОЕ мастерство актёра достойно вос­хи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740880"/>
            <a:ext cx="83534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7. 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ВРАЖДЕБНЫЙ нужно употребить ВРАЖЕ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Ко всему была готова Оксана, но все же не ожидала столь сухого, даже ВРАЖДЕБНОГО при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В этом капризном воздухе была нарядность юга, его подчеркнутая ВРАЖДЕБНАЯ северу крас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Вокруг села расположился ВРАЖДЕБНЫ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В народных сказках животные иногда выступают в качестве ВРАЖДЕБНОЙ силы, опасной для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8.   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В   каком   предложении   вместо   слова  ПРЕДСТАВИТЬ </a:t>
            </a:r>
            <a:r>
              <a:rPr b="0" i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(ПРЕДСТАВЛЯТЬ) нужно употребить ПРЕДОСТАВИТЬ (ПР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c6600"/>
                </a:solidFill>
                <a:latin typeface="Arial"/>
              </a:rPr>
              <a:t>доставлять</a:t>
            </a:r>
            <a:r>
              <a:rPr b="0" i="1" lang="ru-RU" sz="2000" spc="-1" strike="noStrike">
                <a:solidFill>
                  <a:srgbClr val="cc6600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 большие заслуги перед государством артиста ПРЕДСТАВИЛИ к правительственной на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Этот дом ПРЕДСТАВЛЯЕТ собой историческую ц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Нам ПРЕДСТАВИЛИ нового сотру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Русский язык - это громаднейшее богатство, котор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Т нам необычайные возмо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44280"/>
            <a:ext cx="885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9. 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   каком   предложении  уместно   использовать   глагол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«одеть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Было ветрено, все экскурсанты ... плащи и кур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Малышей ... потеп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Дедушка взял газету и ... 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В этот раз Игорь ... на себя маску раскаявшего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10. 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В каком предложении вместо слова АРТИСТИЧЕСКИЙ  можно употребить АРТИСТИЧ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 АРТИСТИЧЕСКАЯ уборная В. Высоцкого превращена в м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Алевтина прекрасно понимала,  что  АРТИСТИЧЕСКАЯ карьера не для н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 Этот актер обладал редким АРТИСТИЧЕСКИМ темпераментом, который легко подчинял себе зр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Выступление нашего гимнаста было на редкость АРТИС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10092" r="0" b="0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32000" y="1197000"/>
            <a:ext cx="122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1:58:43Z</dcterms:created>
  <dc:creator>user</dc:creator>
  <dc:description/>
  <dc:language>en-US</dc:language>
  <cp:lastModifiedBy>user</cp:lastModifiedBy>
  <dcterms:modified xsi:type="dcterms:W3CDTF">2013-04-07T12:21:29Z</dcterms:modified>
  <cp:revision>4</cp:revision>
  <dc:subject/>
  <dc:title>Слайд 1</dc:title>
</cp:coreProperties>
</file>