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FF4-2AD4-48A0-80CA-8BBF8FED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773-E8C8-4C39-B914-E9E58D49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C1C-7E59-41F6-9E9D-0EF8EB78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AD2-18D4-40A8-8BB3-AF99E1C0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23D-2CAE-4E48-823F-29FDB770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941-A572-449E-817A-FE7A4C6C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C23-3FD8-4C53-BA51-17B24446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EEB-32D5-45C3-B213-DDD86F01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DDA-D511-4477-9734-AC5E7DB0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16C-16D2-4DB1-9255-0C5828AF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5E0-04A7-4F4E-A9E5-B2DC07CA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138-FB25-42A9-AC36-22B096A7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1D8A-2BCD-4BF5-B6ED-FDB1D5B54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2276640"/>
            <a:ext cx="626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200">
                        <a:alpha val="50196"/>
                      </a:srgbClr>
                    </a:gs>
                    <a:gs pos="50000">
                      <a:srgbClr val="4d0808"/>
                    </a:gs>
                    <a:gs pos="100000">
                      <a:srgbClr val="fff200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2. Лексические нормы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200">
                      <a:alpha val="50196"/>
                    </a:srgbClr>
                  </a:gs>
                  <a:gs pos="50000">
                    <a:srgbClr val="4d0808"/>
                  </a:gs>
                  <a:gs pos="100000">
                    <a:srgbClr val="fff200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755640" y="4365720"/>
            <a:ext cx="46432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евская Е.В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БОУ Уметская СО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мбовской об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1052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дготовка к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910080"/>
            <a:ext cx="79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1.  </a:t>
            </a: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ГЛИНЯНЫЙ нужно употребить ГЛИНИСТ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Оба берега реки были высоки и обрывисты, можно было видеть залегающие пласты серо-чёрного ГЛИНЯНОГО сла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Давыдов принес из кухни ГЛИНЯНУЮ чашку с холодными 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 В историческом музее я впервые увидел ГЛИНЯНЫЕ черепки посуды эпохи неол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 Однажды я увидел возле этой хаты женщину, она растапливала ГЛИНЯНЫЙ оч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2.  </a:t>
            </a: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ВЕЧНЫЙ нужно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употребить ВЕК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Долгими осенними вечерами хозяин не выходил из комнаты и в неизменном халате, с ВЕЧНОЮ трубкою в зубах, сидел у ок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Густые заросли кустарника чередовались с ВЕЧНЫМИ дубовыми рощами и берёзовыми лес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Среди ВЕЧНЫХ человеческих ценностей наиболее важной для него была ч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В районах ВЕЧНОЙ мерзлоты дома строятся по специальным проек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76320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З. </a:t>
            </a:r>
            <a:r>
              <a:rPr b="1" i="1" lang="en-US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ЗЛОЙ нужно употребить ЗЛОСТНЫЙ?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Здесь было так неуютно и страшно, как в заколдованном царстве, где все уснуло по чарам и колдовству ЗЛОЙ ф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Не по ЗЛОЙ воле он допускал промахи и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Имейте в виду, что ЗЛЫЕ браконьеры, являющиеся уголовными преступниками, будут непременно наказ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Человек он был ЗЛОЙ: ему непременно нужно было кого-то муч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4. </a:t>
            </a:r>
            <a:r>
              <a:rPr b="1" i="1" lang="en-US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ЖИЗНЕННЫЙ нужно употребить ЖИТЕЙС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ЖИЗНЕННЫЙ путь этого человека отражает идеалы эпо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Для одного искусство лишь средство стать знаменитым и известным, для другого - ЖИЗНЕННАЯ необход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Основные   персонажи   пьесы   оказались   недостаточно ЖИЗНЕ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ЖИЗНЕННЫЕ привычки приобретаются с опытом, и далеко не все они являются положи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8000" y="1083960"/>
            <a:ext cx="885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5. </a:t>
            </a:r>
            <a:r>
              <a:rPr b="1" i="1" lang="en-US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ПРЕДСТАВИТЬ нужно употребить ПРЕДОСТАВ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ПРЕДСТАВЬТЕ гостям вашего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Актер умел ПРЕДСТАВИТЬ пение сол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Вы должны срочно ПРЕДСТАВИТЬ отчет о командиро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Я ПРЕДСТАВИЛ вам право самостоятельно решать эти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6.  </a:t>
            </a:r>
            <a:r>
              <a:rPr b="1" i="1" lang="en-US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ИСПОЛНИТЕЛЬСКИЙ нужно употребить ИСПОЛНИТЕЛЬ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  Наша  страна  может  гордиться  цирковым  ИСПОЛНИТЕЛЬСКИМ искус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Каждый настоящий музыкант должен интересоваться вековыми     традициями народной и классической ИСПОЛНИТЕЛЬСК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  Одна из ветвей государственной власти - ИСПОЛНИТЕЛЬ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 ИСПОЛНИТЕЛЬСКОЕ мастерство актёра достойно вос­хи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740880"/>
            <a:ext cx="83534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7. </a:t>
            </a:r>
            <a:r>
              <a:rPr b="0" i="1" lang="ru-RU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ВРАЖДЕБНЫЙ нужно употребить ВРАЖЕС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Ко всему была готова Оксана, но все же не ожидала столь сухого, даже ВРАЖДЕБНОГО при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этом капризном воздухе была нарядность юга, его подчеркнутая ВРАЖДЕБНАЯ северу крас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Вокруг села расположился ВРАЖДЕБНЫЙ по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В народных сказках животные иногда выступают в качестве ВРАЖДЕБНОЙ силы, опасной для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8.   </a:t>
            </a:r>
            <a:r>
              <a:rPr b="0" i="1" lang="ru-RU" sz="2000" spc="-1" strike="noStrike">
                <a:solidFill>
                  <a:srgbClr val="cc6600"/>
                </a:solidFill>
                <a:latin typeface="Arial"/>
              </a:rPr>
              <a:t>В   каком   предложении   вместо   слова  ПРЕДСТАВИТЬ </a:t>
            </a: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6600"/>
                </a:solidFill>
                <a:latin typeface="Arial"/>
              </a:rPr>
              <a:t>(ПРЕДСТАВЛЯТЬ) нужно употребить ПРЕДОСТАВИТЬ (ПР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6600"/>
                </a:solidFill>
                <a:latin typeface="Arial"/>
              </a:rPr>
              <a:t>доставлять</a:t>
            </a:r>
            <a:r>
              <a:rPr b="0" i="1" lang="ru-RU" sz="2000" spc="-1" strike="noStrike">
                <a:solidFill>
                  <a:srgbClr val="cc6600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 большие заслуги перед государством артиста ПРЕДСТАВИЛИ к правительственной нагр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Этот дом ПРЕДСТАВЛЯЕТ собой историческую ц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Нам ПРЕДСТАВИЛИ нового сотру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Русский язык - это громаднейшее богатство, котор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ЯЕТ нам необычайные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44280"/>
            <a:ext cx="885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9. 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В   каком   предложении  уместно   использовать   глагол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«одеть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Было ветрено, все экскурсанты ... плащи и кур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Малышей ... потеп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Дедушка взял газету и ... 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В этот раз Игорь ... на себя маску раскаявш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10.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АРТИСТИЧЕСКИЙ  можно употребить АРТИСТИЧ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 АРТИСТИЧЕСКАЯ уборная В. Высоцкого превращена в муз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  Алевтина прекрасно понимала,  что  АРТИСТИЧЕСКАЯ карьера не для н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 Этот актер обладал редким АРТИСТИЧЕСКИМ темпераментом, который легко подчинял себе зр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 Выступление нашего гимнаста было на редкость АРТИС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32000" y="1197000"/>
            <a:ext cx="122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1:58:43Z</dcterms:created>
  <dc:creator>user</dc:creator>
  <dc:description/>
  <dc:language>en-US</dc:language>
  <cp:lastModifiedBy>user</cp:lastModifiedBy>
  <dcterms:modified xsi:type="dcterms:W3CDTF">2013-04-07T12:21:29Z</dcterms:modified>
  <cp:revision>4</cp:revision>
  <dc:subject/>
  <dc:title>Слайд 1</dc:title>
</cp:coreProperties>
</file>