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202-1BE3-4B5E-9B5E-E2EAA572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485-D319-4548-A8A6-82605330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D3A-005B-4534-98A2-72010CF5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BAB-2EA5-4454-A898-D75C6D6D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A7A-33D7-448B-AFB5-F9BDA55C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18C-494F-4884-873E-D1859AC2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27E-8A44-4613-9B79-AA4DB8DB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647-9F86-4782-A23F-11D7C80C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418-43D6-4C23-B421-33ACAF3C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23D-0230-4D67-95EB-0CF10EC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453-C881-438C-87F2-3990D27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80E-AE46-410B-A471-B51E805E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A8C9-1D67-48CA-A6AA-0E34639CC3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40736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«Михаил Шолохов. Жизнь и творчест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72120" y="4786200"/>
            <a:ext cx="3214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                             </a:t>
            </a: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              </a:t>
            </a: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ученица 9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Гришанина Я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н87н9нщi.jpeg"/>
          <p:cNvPicPr/>
          <p:nvPr/>
        </p:nvPicPr>
        <p:blipFill>
          <a:blip r:embed="rId1"/>
          <a:stretch/>
        </p:blipFill>
        <p:spPr>
          <a:xfrm>
            <a:off x="1122480" y="3633840"/>
            <a:ext cx="4443120" cy="3041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99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Биограф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4280" y="2928600"/>
            <a:ext cx="31435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990000"/>
                </a:solidFill>
                <a:latin typeface="Calibri"/>
              </a:rPr>
              <a:t>В годы Первой мировой, Гражданской войны учился (1914—1918) в Москве, в г. Богучаре Воронежской губернии, в станице Вёшенской, окончил 4 класса гимназ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вешенская 2i.jpeg"/>
          <p:cNvPicPr/>
          <p:nvPr/>
        </p:nvPicPr>
        <p:blipFill>
          <a:blip r:embed="rId1"/>
          <a:stretch/>
        </p:blipFill>
        <p:spPr>
          <a:xfrm>
            <a:off x="4925880" y="3706920"/>
            <a:ext cx="4078440" cy="29750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1571760" y="1285920"/>
            <a:ext cx="70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М. А. Шолохов родился 11 мая 1905 года на хуторе Кружилине станицы Вёшенская (ныне Ростовской области). Отец — </a:t>
            </a:r>
            <a:r>
              <a:rPr b="1" i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Александр Михайлович Шолохов</a:t>
            </a: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 (1865—1925) — выходец из Рязанской губернии, сеял хлеб на арендованной казачьей земле, был приказчиком, управляющим паровой мельницы. Мать — </a:t>
            </a:r>
            <a:r>
              <a:rPr b="1" i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Анастасия Даниловна Черникова</a:t>
            </a: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 (1871—1942) — дочь крепостного крестьянина, пришедшего на Дон с Черниговщ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500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На пути к широкому эпическому полотну о Великой Отечественной Войне был создан рассказ </a:t>
            </a: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«Судьба человека»,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напечатанный в газете </a:t>
            </a:r>
            <a:r>
              <a:rPr b="0" i="1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«Правда»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в самый канун и первый день </a:t>
            </a:r>
            <a:r>
              <a:rPr b="0" i="1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1957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года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71360" y="1928880"/>
            <a:ext cx="47862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Calibri"/>
              </a:rPr>
              <a:t>Рассказ был написан Шолоховым в поразительно короткие сроки, всего за несколько дней напряженной работы. Однако, творческая история его занимает долгие годы: между случайной встречей с человеком, ставшим прототипом </a:t>
            </a:r>
            <a:r>
              <a:rPr b="1" i="1" lang="ru-RU" sz="1800" spc="-1" strike="noStrike">
                <a:solidFill>
                  <a:srgbClr val="990000"/>
                </a:solidFill>
                <a:latin typeface="Calibri"/>
              </a:rPr>
              <a:t>Андрея Соколова</a:t>
            </a:r>
            <a:r>
              <a:rPr b="0" i="1" lang="ru-RU" sz="1800" spc="-1" strike="noStrike">
                <a:solidFill>
                  <a:srgbClr val="990000"/>
                </a:solidFill>
                <a:latin typeface="Calibri"/>
              </a:rPr>
              <a:t>, и появлением «Судьбы человека» пролегло десять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632523"/>
                </a:solidFill>
                <a:latin typeface="Calibri"/>
              </a:rPr>
              <a:t>Самим названием рассказа автор как бы напомнил, что </a:t>
            </a:r>
            <a:r>
              <a:rPr b="0" i="1" lang="ru-RU" sz="1800" spc="-1" strike="noStrike" u="sng">
                <a:solidFill>
                  <a:srgbClr val="376092"/>
                </a:solidFill>
                <a:uFillTx/>
                <a:latin typeface="Calibri"/>
              </a:rPr>
              <a:t>судьба человека – это судьба народа, сконцентрированная в биографии отдельной лич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95e88c70340e52c3ce56cc4bb925b201[1].jpg"/>
          <p:cNvPicPr/>
          <p:nvPr/>
        </p:nvPicPr>
        <p:blipFill>
          <a:blip r:embed="rId1"/>
          <a:stretch/>
        </p:blipFill>
        <p:spPr>
          <a:xfrm>
            <a:off x="5851440" y="1779480"/>
            <a:ext cx="3073320" cy="4498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85720" y="357120"/>
            <a:ext cx="5643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В 1959 рассказ «Судьба человека» был экранизирован режиссером </a:t>
            </a: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Сергеем Бондарчуком</a:t>
            </a: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. Этот фильм - одно из наиболее выдающихся произведений отечественной кинематографии - рассказывает о русском солдате, которого война подвергла страшным испытаниям, лишила дома и семьи, бросила в концлагерь. Но судьба не сломила его дух - он выжил, отстоял свое право быть человеком, сохранил способность любить. Режиссер сам сыграл главную роль в своем фильме - </a:t>
            </a:r>
            <a:r>
              <a:rPr b="0" i="1" lang="ru-RU" sz="1800" spc="-1" strike="noStrike" u="sng">
                <a:solidFill>
                  <a:srgbClr val="254061"/>
                </a:solidFill>
                <a:uFillTx/>
                <a:latin typeface="Calibri"/>
              </a:rPr>
              <a:t>гимне человеческому духу и вере в жиз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285920" y="4286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Calibri"/>
              </a:rPr>
              <a:t>Бондарчук сумел сохранить идею патриотизма – </a:t>
            </a:r>
            <a:r>
              <a:rPr b="0" i="1" lang="ru-RU" sz="1800" spc="-1" strike="noStrike" u="sng">
                <a:solidFill>
                  <a:srgbClr val="376092"/>
                </a:solidFill>
                <a:uFillTx/>
                <a:latin typeface="Calibri"/>
              </a:rPr>
              <a:t>«человек может все вытерпеть и все преодолеть, если к этому позовет его Родина», </a:t>
            </a:r>
            <a:r>
              <a:rPr b="0" i="1" lang="ru-RU" sz="1800" spc="-1" strike="noStrike">
                <a:solidFill>
                  <a:srgbClr val="990000"/>
                </a:solidFill>
                <a:latin typeface="Calibri"/>
              </a:rPr>
              <a:t>а также напомнил о том, что без личного блага и счастья человека эту идею невозможно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udba_Cheloveka.jpg"/>
          <p:cNvPicPr/>
          <p:nvPr/>
        </p:nvPicPr>
        <p:blipFill>
          <a:blip r:embed="rId1"/>
          <a:stretch/>
        </p:blipFill>
        <p:spPr>
          <a:xfrm>
            <a:off x="5778360" y="3846600"/>
            <a:ext cx="3183120" cy="2865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щлорпi.jpeg"/>
          <p:cNvPicPr/>
          <p:nvPr/>
        </p:nvPicPr>
        <p:blipFill>
          <a:blip r:embed="rId2"/>
          <a:stretch/>
        </p:blipFill>
        <p:spPr>
          <a:xfrm rot="21414600">
            <a:off x="1427040" y="477720"/>
            <a:ext cx="1886040" cy="2643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1:55:07Z</dcterms:created>
  <dc:creator>User</dc:creator>
  <dc:description/>
  <dc:language>en-US</dc:language>
  <cp:lastModifiedBy>user</cp:lastModifiedBy>
  <dcterms:modified xsi:type="dcterms:W3CDTF">2013-04-11T07:19:30Z</dcterms:modified>
  <cp:revision>51</cp:revision>
  <dc:subject/>
  <dc:title>Слайд 1</dc:title>
</cp:coreProperties>
</file>