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6C6-1450-46E4-A834-E80E3D6A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61F-BD4A-4EBB-888F-78BBB8AB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550-8D9C-413C-B4D6-B8F8A4C2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F8C-969E-4A6E-A383-16E2CE4A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FC0-0FBD-48A7-9452-A1BB957A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E2A8-4093-4BEF-8B50-AC453BBF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DB63-76B3-45C1-88F7-E1B49CF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B398-040B-41B9-B2DC-68FD638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DB1-F529-443D-AC02-BB1B989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B12-4BDA-411E-9E29-B58A6BB3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912B-8008-45D3-AD5E-88DCED4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F03-3ACB-4320-92BE-4256750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FC5-1F04-4C32-A98A-15E8BAA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702F-D11D-4DE0-9510-14004B0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8836-B923-4405-B9CE-74194355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77AD-23E0-4298-B7C2-CCA2086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D327-B9F3-43B0-924C-7A284488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249-93D0-44C5-8997-0927305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30E-57DF-4126-BA69-29E1643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80-B1E7-4A75-B9CA-91336017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08-306D-4105-BA1E-6A25018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2C6-B1B8-4631-A786-09F936B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FBD-FDF4-499E-A728-E1090BA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1EE-F29F-443F-9E1A-723F23E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E29-5F43-486C-9A79-49803F7C996A}" type="datetime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FC6-B88D-4D69-BA69-B9606CB2D180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93F3-F0F5-4DE7-847F-8F37CF830A61}" type="datetime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4512-B8C5-4320-A306-607563AE8D51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Brush Script Std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Brush Script Std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6EB-AB67-4182-8D13-E4BAAC075AF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Std"/>
              </a:rPr>
              <a:t>M</a:t>
            </a:r>
            <a:r>
              <a:rPr b="0" lang="sr-Latn-CS" sz="5400" spc="-1" strike="noStrike">
                <a:solidFill>
                  <a:srgbClr val="ccecff"/>
                </a:solidFill>
                <a:latin typeface="Brush Script Std"/>
              </a:rPr>
              <a:t>y friend </a:t>
            </a:r>
            <a:r>
              <a:rPr b="0" lang="en-US" sz="5400" spc="-1" strike="noStrike">
                <a:solidFill>
                  <a:srgbClr val="ccecff"/>
                </a:solidFill>
                <a:latin typeface="Brush Script Std"/>
              </a:rPr>
              <a:t>Bella Kartukov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upil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Eseneeva  Anj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orm  7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acher  S. M. Karakaev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4342-4453-44A2-B7A3-E11B546DE10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85520" y="1599840"/>
            <a:ext cx="7900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y best friend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a  Kartukova. She is thirteen years old.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he liv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vatornaya street. She has got brown hair and brown eyes. Her mother’s name is Raykh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Содержимое 7" descr="getImage (29).jpg"/>
          <p:cNvPicPr/>
          <p:nvPr/>
        </p:nvPicPr>
        <p:blipFill>
          <a:blip r:embed="rId1"/>
          <a:stretch/>
        </p:blipFill>
        <p:spPr>
          <a:xfrm>
            <a:off x="2500200" y="2643120"/>
            <a:ext cx="4643640" cy="3286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5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D2A5-4493-4720-B4C3-B3E7FBB22F8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a is the best pupil  in our class. Her  favorite subjects are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and Art. Five months ago we took part in the English contest.               She love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to school because she has 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friends and she loves th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. Her favorite music is hip-h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r favorite singer  is Selena Gomes. Her favorite movi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forward“. Her  favorite song is “I love you like a love song“. Her  favorite TV 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channe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Содержимое 7" descr="getImage (25).jpg"/>
          <p:cNvPicPr/>
          <p:nvPr/>
        </p:nvPicPr>
        <p:blipFill>
          <a:blip r:embed="rId1"/>
          <a:stretch/>
        </p:blipFill>
        <p:spPr>
          <a:xfrm>
            <a:off x="1203480" y="1500120"/>
            <a:ext cx="2939760" cy="4626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14C8-8CF4-4EC7-87F8-7298AE88D27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a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favorites place is a p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a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he has always had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ce time there. When she w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 , she learned to swim. Her favorite clothes are T-shi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ans. Her favorite color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en and red.In the summer she loves to go to the sea and for New Year to Mosc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Содержимое 7" descr="getImage (28).jpg"/>
          <p:cNvPicPr/>
          <p:nvPr/>
        </p:nvPicPr>
        <p:blipFill>
          <a:blip r:embed="rId1"/>
          <a:stretch/>
        </p:blipFill>
        <p:spPr>
          <a:xfrm>
            <a:off x="357120" y="164304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1E7-5A91-4A9E-BAC3-C6FE1540E5F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Brush Script Std"/>
              </a:rPr>
              <a:t>My Friend </a:t>
            </a:r>
            <a:r>
              <a:rPr b="0" lang="en-US" sz="4400" spc="-1" strike="noStrike">
                <a:solidFill>
                  <a:srgbClr val="ccecff"/>
                </a:solidFill>
                <a:latin typeface="Brush Script Std"/>
              </a:rPr>
              <a:t>B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goes for a walk every day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her friends. We walk toge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woods. When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e home from school we 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cycles. She knows a lot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ke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he tells me and 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ends. We always have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laugh. I love Bella. She is my best  frie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Содержимое 7" descr="getImage (30)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ekton Pro"/>
              </a:rPr>
              <a:t>The en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Содержимое 6" descr="d_b3129408.jpg"/>
          <p:cNvPicPr/>
          <p:nvPr/>
        </p:nvPicPr>
        <p:blipFill>
          <a:blip r:embed="rId1"/>
          <a:stretch/>
        </p:blipFill>
        <p:spPr>
          <a:xfrm>
            <a:off x="1571760" y="0"/>
            <a:ext cx="5643360" cy="5643720"/>
          </a:xfrm>
          <a:prstGeom prst="rect">
            <a:avLst/>
          </a:prstGeom>
          <a:ln w="0">
            <a:noFill/>
          </a:ln>
        </p:spPr>
      </p:pic>
      <p:sp>
        <p:nvSpPr>
          <p:cNvPr id="2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6A8-0FF9-4C36-B347-41CBD1D9648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8:10:57Z</dcterms:created>
  <dc:creator>Mirjana Ljiljak-Vukajlovic</dc:creator>
  <dc:description/>
  <dc:language>en-US</dc:language>
  <cp:lastModifiedBy>user</cp:lastModifiedBy>
  <dcterms:modified xsi:type="dcterms:W3CDTF">2013-01-09T15:16:11Z</dcterms:modified>
  <cp:revision>24</cp:revision>
  <dc:subject/>
  <dc:title>My friend Monika Radosavljevic</dc:title>
</cp:coreProperties>
</file>