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55B0-8AD3-4899-B29B-5874C420A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8A12-088B-4A69-9E62-9C034D1F7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521A-9DD8-42BA-95EC-5ACDB4C8B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CBEF-6605-4872-A1F7-77DC8C52B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1C0CB-8530-4FE7-A9CC-102ECEC2D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C3654-261D-4AFC-85A3-32FED07CC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D81D4-0188-407B-8427-073F2B228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ABCBC-8CDF-4D17-A955-172C87B7C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5D66B-9ECC-4A9E-BFE3-2C3FAA082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616F4-E08F-4324-91C0-813E7A087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E354F-5083-4F8E-BCFC-DA1801698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F99F-314F-46BD-9989-01B1CC375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34D3D-6B3E-41BF-A335-6B0EED0E2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834F9-123A-4D8F-ACA4-6C96AD223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F7778-C156-4CC9-9A91-C62843F7F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17635-54E0-49F5-BC78-8CA58FF19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D6181-BF3F-4D8B-8AD0-482F84885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DBEF-3301-4848-92E3-7447A30FF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F907-4173-48A9-929E-ABDE01EA3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BB60-3E45-45C6-B365-3B8A0C915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BC55-E0DC-4904-B138-1227A43EC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5AFB-B153-4135-9687-702A6B26C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0309-8119-45A9-B0A4-F1FEC3FF7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2026-0A27-45BA-A729-FA8A6A785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C256A-87A6-4313-8980-07D27F298F99}" type="datetime"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Lingva-Valjevo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98894-D361-4481-8310-F74F70745B93}" type="slidenum"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ACB20-19B7-467B-BAC6-3DA33000DFBA}" type="datetime">
              <a:rPr b="0" lang="sr-Latn-CS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Times New Roman"/>
              </a:rPr>
              <a:t>Lingva-Valjevo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74ED1-46D0-4239-8363-A9F8AD7A9966}" type="slidenum">
              <a:rPr b="0" lang="sr-Latn-C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6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Brush Script Std"/>
              </a:rPr>
              <a:t>20</a:t>
            </a:r>
            <a:r>
              <a:rPr b="0" lang="en-US" sz="1400" spc="-1" strike="noStrike">
                <a:solidFill>
                  <a:srgbClr val="ffffff"/>
                </a:solidFill>
                <a:latin typeface="Brush Script Std"/>
              </a:rPr>
              <a:t>1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7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2C1F8-CFD5-440E-825F-794BFF6ED795}" type="slidenum">
              <a:rPr b="0" lang="sr-Latn-C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rush Script Std"/>
              </a:rPr>
              <a:t>M</a:t>
            </a:r>
            <a:r>
              <a:rPr b="0" lang="sr-Latn-CS" sz="5400" spc="-1" strike="noStrike">
                <a:solidFill>
                  <a:srgbClr val="ccecff"/>
                </a:solidFill>
                <a:latin typeface="Brush Script Std"/>
              </a:rPr>
              <a:t>y friend </a:t>
            </a:r>
            <a:r>
              <a:rPr b="0" lang="en-US" sz="5400" spc="-1" strike="noStrike">
                <a:solidFill>
                  <a:srgbClr val="ccecff"/>
                </a:solidFill>
                <a:latin typeface="Brush Script Std"/>
              </a:rPr>
              <a:t>Bella Kartukova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Pupil </a:t>
            </a: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: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 Eseneeva  Anje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Form  7 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Teacher  S. M. Karakaeva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6000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C3383-FB8B-4A67-BCD6-6A058FEAE41B}" type="slidenum">
              <a:rPr b="0" lang="sr-Latn-C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ecff"/>
                </a:solidFill>
                <a:latin typeface="Brush Script Std"/>
              </a:rPr>
              <a:t>My Friend </a:t>
            </a:r>
            <a:r>
              <a:rPr b="0" lang="en-US" sz="4400" spc="-1" strike="noStrike">
                <a:solidFill>
                  <a:srgbClr val="ccecff"/>
                </a:solidFill>
                <a:latin typeface="Brush Script Std"/>
              </a:rPr>
              <a:t>Bell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85520" y="1599840"/>
            <a:ext cx="790092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My best friend i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lla  Kartukova. She is thirteen years old. </a:t>
            </a: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She liv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a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Elevatornaya street. She has got brown hair and brown eyes. Her mother’s name is Raykha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Содержимое 7" descr="getImage (29).jpg"/>
          <p:cNvPicPr/>
          <p:nvPr/>
        </p:nvPicPr>
        <p:blipFill>
          <a:blip r:embed="rId1"/>
          <a:stretch/>
        </p:blipFill>
        <p:spPr>
          <a:xfrm>
            <a:off x="2500200" y="2643120"/>
            <a:ext cx="4643640" cy="3286080"/>
          </a:xfrm>
          <a:prstGeom prst="rect">
            <a:avLst/>
          </a:prstGeom>
          <a:ln w="0">
            <a:noFill/>
          </a:ln>
        </p:spPr>
      </p:pic>
    </p:spTree>
  </p:cSld>
  <p:transition advTm="6000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Нижний колонтитул 5"/>
          <p:cNvSpPr/>
          <p:nvPr/>
        </p:nvSpPr>
        <p:spPr>
          <a:xfrm>
            <a:off x="3132000" y="62373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057B2-24CC-407C-9ADE-DABB1083C26C}" type="slidenum">
              <a:rPr b="0" lang="sr-Latn-C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ecff"/>
                </a:solidFill>
                <a:latin typeface="Brush Script Std"/>
              </a:rPr>
              <a:t>My Friend </a:t>
            </a:r>
            <a:r>
              <a:rPr b="0" lang="en-US" sz="4400" spc="-1" strike="noStrike">
                <a:solidFill>
                  <a:srgbClr val="ccecff"/>
                </a:solidFill>
                <a:latin typeface="Brush Script Std"/>
              </a:rPr>
              <a:t>Bell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lla is the best pupil  in our class. Her  favorite subjects are</a:t>
            </a:r>
            <a:r>
              <a:rPr b="0" lang="sl-SI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glish and Art. Five months ago we took part in the English contest.               She loves t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o to school because she has s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y friends and she loves the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. Her favorite music is hip-hop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her favorite singer  is Selena Gomes. Her favorite movie i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ep forward“. Her  favorite song is “I love you like a love song“. Her  favorite TV </a:t>
            </a:r>
            <a:r>
              <a:rPr b="0" lang="sl-SI" sz="2000" spc="-1" strike="noStrike">
                <a:solidFill>
                  <a:srgbClr val="ffffff"/>
                </a:solidFill>
                <a:latin typeface="Arial"/>
              </a:rPr>
              <a:t>channel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</a:t>
            </a:r>
            <a:r>
              <a:rPr b="0" lang="sl-SI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isne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Содержимое 7" descr="getImage (25).jpg"/>
          <p:cNvPicPr/>
          <p:nvPr/>
        </p:nvPicPr>
        <p:blipFill>
          <a:blip r:embed="rId1"/>
          <a:stretch/>
        </p:blipFill>
        <p:spPr>
          <a:xfrm>
            <a:off x="1203480" y="1500120"/>
            <a:ext cx="2939760" cy="4626000"/>
          </a:xfrm>
          <a:prstGeom prst="rect">
            <a:avLst/>
          </a:prstGeom>
          <a:ln w="0">
            <a:noFill/>
          </a:ln>
        </p:spPr>
      </p:pic>
    </p:spTree>
  </p:cSld>
  <p:transition advTm="6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09E86-D4F1-4DED-B491-D3C43892EE72}" type="slidenum">
              <a:rPr b="0" lang="sr-Latn-C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ecff"/>
                </a:solidFill>
                <a:latin typeface="Brush Script Std"/>
              </a:rPr>
              <a:t>My Friend </a:t>
            </a:r>
            <a:r>
              <a:rPr b="0" lang="en-US" sz="4400" spc="-1" strike="noStrike">
                <a:solidFill>
                  <a:srgbClr val="ccecff"/>
                </a:solidFill>
                <a:latin typeface="Brush Script Std"/>
              </a:rPr>
              <a:t>Bell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lla</a:t>
            </a:r>
            <a:r>
              <a:rPr b="0" lang="sl-SI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 favorites place is a p</a:t>
            </a:r>
            <a:r>
              <a:rPr b="0" lang="sl-SI" sz="2000" spc="-1" strike="noStrike">
                <a:solidFill>
                  <a:srgbClr val="ffffff"/>
                </a:solidFill>
                <a:latin typeface="Arial"/>
              </a:rPr>
              <a:t>ar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She has always had 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ice time there. When she w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 , she learned to swim. Her favorite clothes are T-shir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jeans. Her favorite color</a:t>
            </a:r>
            <a:r>
              <a:rPr b="0" lang="sl-SI" sz="2000" spc="-1" strike="noStrike">
                <a:solidFill>
                  <a:srgbClr val="ffffff"/>
                </a:solidFill>
                <a:latin typeface="Arial"/>
              </a:rPr>
              <a:t>s 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en and red.In the summer she loves to go to the sea and for New Year to Mosco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Содержимое 7" descr="getImage (28).jpg"/>
          <p:cNvPicPr/>
          <p:nvPr/>
        </p:nvPicPr>
        <p:blipFill>
          <a:blip r:embed="rId1"/>
          <a:stretch/>
        </p:blipFill>
        <p:spPr>
          <a:xfrm>
            <a:off x="357120" y="1643040"/>
            <a:ext cx="4286160" cy="3571920"/>
          </a:xfrm>
          <a:prstGeom prst="rect">
            <a:avLst/>
          </a:prstGeom>
          <a:ln w="0">
            <a:noFill/>
          </a:ln>
        </p:spPr>
      </p:pic>
    </p:spTree>
  </p:cSld>
  <p:transition advTm="6000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1F114-F418-4369-B268-F6A8C5E2C79E}" type="slidenum">
              <a:rPr b="0" lang="sr-Latn-C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ecff"/>
                </a:solidFill>
                <a:latin typeface="Brush Script Std"/>
              </a:rPr>
              <a:t>My Friend </a:t>
            </a:r>
            <a:r>
              <a:rPr b="0" lang="en-US" sz="4400" spc="-1" strike="noStrike">
                <a:solidFill>
                  <a:srgbClr val="ccecff"/>
                </a:solidFill>
                <a:latin typeface="Brush Script Std"/>
              </a:rPr>
              <a:t>Bell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e goes for a walk every day</a:t>
            </a:r>
            <a:r>
              <a:rPr b="0" lang="sl-SI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her friends. We walk togethe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rough the woods. When w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e home from school we r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icycles. She knows a lot of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ke</a:t>
            </a:r>
            <a:r>
              <a:rPr b="0" lang="sl-SI" sz="2000" spc="-1" strike="noStrike">
                <a:solidFill>
                  <a:srgbClr val="ffffff"/>
                </a:solidFill>
                <a:latin typeface="Arial"/>
              </a:rPr>
              <a:t>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ich she tells me and he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Arial"/>
              </a:rPr>
              <a:t>other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iends. We always have 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ood laugh. I love Bella. She is my best  friend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Содержимое 7" descr="getImage (30).jpg"/>
          <p:cNvPicPr/>
          <p:nvPr/>
        </p:nvPicPr>
        <p:blipFill>
          <a:blip r:embed="rId1"/>
          <a:stretch/>
        </p:blipFill>
        <p:spPr>
          <a:xfrm>
            <a:off x="77940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571500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ekton Pro"/>
              </a:rPr>
              <a:t>The end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5" name="Содержимое 6" descr="d_b3129408.jpg"/>
          <p:cNvPicPr/>
          <p:nvPr/>
        </p:nvPicPr>
        <p:blipFill>
          <a:blip r:embed="rId1"/>
          <a:stretch/>
        </p:blipFill>
        <p:spPr>
          <a:xfrm>
            <a:off x="1571760" y="0"/>
            <a:ext cx="5643360" cy="5643720"/>
          </a:xfrm>
          <a:prstGeom prst="rect">
            <a:avLst/>
          </a:prstGeom>
          <a:ln w="0">
            <a:noFill/>
          </a:ln>
        </p:spPr>
      </p:pic>
      <p:sp>
        <p:nvSpPr>
          <p:cNvPr id="23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C54FD-56C1-43EF-9B9D-3C7481265DC8}" type="slidenum">
              <a:rPr b="0" lang="sr-Latn-C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6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1T08:10:57Z</dcterms:created>
  <dc:creator>Mirjana Ljiljak-Vukajlovic</dc:creator>
  <dc:description/>
  <dc:language>en-US</dc:language>
  <cp:lastModifiedBy>user</cp:lastModifiedBy>
  <dcterms:modified xsi:type="dcterms:W3CDTF">2013-01-09T15:16:11Z</dcterms:modified>
  <cp:revision>24</cp:revision>
  <dc:subject/>
  <dc:title>My friend Monika Radosavljevic</dc:title>
</cp:coreProperties>
</file>