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B4C-0B83-4544-8C49-48166D00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B88-E630-4628-B6E4-5E0754E6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D9B-F830-4672-9FD5-13AB7C46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EA5-4C97-4F99-9B41-DD7957B3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1F4-FFA8-4E26-A6B6-1F43AC36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CC3-0273-4489-822E-BA9DC740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6D5-66CE-48A6-8072-5CA0A992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46D-F78F-416C-967C-0528DB43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57E-4D47-4D3B-9E4A-8585459B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20D-9AE4-4377-9241-B5204D6E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52A-7AFD-484C-BFA6-5A4EA483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53E-1692-408C-9048-4AAD192B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E892-D08B-4E07-9D8A-5F8A4A950E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57200" y="175248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Наречие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как самостоятельная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Arial"/>
              </a:rPr>
              <a:t>часть речи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962520" y="54864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обие к урокам русского язы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6 классе по учебникам В.В. Бабайцевой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презентации учитель русского языка и литературы Мечкова Т.Ф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Дефис между частями слова в нареч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533520"/>
          <a:ext cx="8686800" cy="6283080"/>
        </p:xfrm>
        <a:graphic>
          <a:graphicData uri="http://schemas.openxmlformats.org/drawingml/2006/table">
            <a:tbl>
              <a:tblPr/>
              <a:tblGrid>
                <a:gridCol w="4800600"/>
                <a:gridCol w="38862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ставка + суффикс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о + - ому, - ему, - и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 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волчь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речиях, образованных от притяжательных прилагательных и местоимени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ставка + суффикс: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 (во) + -ых, - их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во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речиях, образованных от числительных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ставка 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КОЕ-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кое -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речиях, образованных от вопросительных слов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о + слов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два-едв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точь - в – точь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наречиях, образованных повторением слов, корне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-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итно пишутся  нареч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609480"/>
          <a:ext cx="8610480" cy="6164280"/>
        </p:xfrm>
        <a:graphic>
          <a:graphicData uri="http://schemas.openxmlformats.org/drawingml/2006/table">
            <a:tbl>
              <a:tblPr/>
              <a:tblGrid>
                <a:gridCol w="6095880"/>
                <a:gridCol w="25146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ем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ечия с предлогом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д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е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</a:t>
                      </a: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собирательными числительным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е, </a:t>
                      </a: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о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единение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длога с  - кратким прилагательным;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лным  прилагательным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а,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ать </a:t>
                      </a: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у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58294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ие именные формы, которые в современном русском языке не употребляются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доволь, спозаранку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ространственным или временным значением, имеющие в составе существительные: </a:t>
                      </a: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ерх, низ, перед, высь, даль, глубь, ширь, начало, ве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вверх, книзу, вдаль, вперед, ввысь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Слова состоя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295280"/>
          <a:ext cx="8229600" cy="483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ушевное состояние челове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ело, радостно, грустно, печальн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Физическое состояние челове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но, душно, тяжел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стояние природы и окружающей сред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озно, ветрено, жарко, пыльно, сыр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ценка действий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, нельзя, надо, нужно, невозможн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лова состоя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762120"/>
          <a:ext cx="8686800" cy="5743440"/>
        </p:xfrm>
        <a:graphic>
          <a:graphicData uri="http://schemas.openxmlformats.org/drawingml/2006/table">
            <a:tbl>
              <a:tblPr/>
              <a:tblGrid>
                <a:gridCol w="5227560"/>
                <a:gridCol w="3459240"/>
              </a:tblGrid>
              <a:tr h="14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ы от прилагательных при помощи суффикса 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ркий –жарк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т сравнительную степень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одно – холоднее -более холодн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едложении не зависят от других слов, к ним задаются вопросы: </a:t>
                      </a: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КАК? КАКОВО?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ом в Крыму 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жарк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яются сказуемыми в предложениях, где нет подлежащего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чью 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ветл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т звезд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Наречие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амостоятельная часть речи, которая обозначае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знаки действ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изнаки признак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Морфологические</a:t>
            </a: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признаки</a:t>
            </a: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наречия</a:t>
            </a: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имеют рода, числа, падеж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клоняют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прягают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Синтаксические признаки наречий: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едложении являются обстоятельст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Группы наречий по зна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838080"/>
          <a:ext cx="8229600" cy="5826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чи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образа действия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? Каким образом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омко, вдвоем, дружески, шепотом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ч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еры и степен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кой степени? Насколько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ень, немного, чересчур, вдвое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чи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места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де? Куда? Откуда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леко, справа, издали, вперед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чи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времен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гда? Как долго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но, рано, сегодня, весной, ночью, допоздна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чи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причин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ему? Отчего?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горяча, сослепу, поневоле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ч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цел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чем? Для чего?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ло, нарочно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тепени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равнени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нареч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1066680"/>
          <a:ext cx="8458200" cy="52628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3276360"/>
              </a:tblGrid>
              <a:tr h="112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льная 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сходная 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ая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ная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жная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ффиксы: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Е, -ЕЙ, -Е,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Ш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цы: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БОЛЕЕ,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МЕНЕ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льная степень + </a:t>
                      </a: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СЕХ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леко-дальш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ело - 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боле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есел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ыгнул выш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 всех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Словообразование наречи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458200" cy="3405240"/>
        </p:xfrm>
        <a:graphic>
          <a:graphicData uri="http://schemas.openxmlformats.org/drawingml/2006/table">
            <a:tbl>
              <a:tblPr/>
              <a:tblGrid>
                <a:gridCol w="2819520"/>
                <a:gridCol w="2361960"/>
                <a:gridCol w="32767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тавка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ффикс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тавка + суффикс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тра- 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осл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тра,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жливо – 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жливо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ий – легк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,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вучий - певуч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варищеский – 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товарищеск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и,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ый - 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Н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 наречиям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–О, -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066680"/>
          <a:ext cx="8229600" cy="459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итно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ьно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слово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употребляетс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з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взрачно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в предложении есть или подразумевается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опоставление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сточки летают не высоко, 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ад самой землей.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слово с НЕ можно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нить синонимом без Н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ример: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легко - трудн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33"/>
          <p:cNvSpPr/>
          <p:nvPr/>
        </p:nvSpPr>
        <p:spPr>
          <a:xfrm>
            <a:off x="420120" y="575460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 наречиями не на –О, -Е частицу НЕ пишем раздельно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авописание нареч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838080"/>
          <a:ext cx="8229600" cy="5621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онце наречий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шипящи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ишем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 ударение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8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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мер: СВЕЖ</a:t>
                      </a:r>
                      <a:r>
                        <a:rPr b="0" lang="ru-RU" sz="24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О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ударени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8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: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ловещ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2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онце наречий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шипящи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ишем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endParaRPr b="1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Пример: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ка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чь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навзни</a:t>
                      </a: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ч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Исключения:</a:t>
                      </a:r>
                      <a:r>
                        <a:rPr b="0" lang="ru-RU" sz="2400" spc="-1" strike="noStrike" u="sng">
                          <a:solidFill>
                            <a:srgbClr val="ff0066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ж,  замуж,  невтерпеж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НН или Н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речиях пишем столько Н, сколько их в слове, от которого образовано нареч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895480"/>
          <a:ext cx="8534520" cy="2853000"/>
        </p:xfrm>
        <a:graphic>
          <a:graphicData uri="http://schemas.openxmlformats.org/drawingml/2006/table">
            <a:tbl>
              <a:tblPr/>
              <a:tblGrid>
                <a:gridCol w="4114800"/>
                <a:gridCol w="44197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Н</a:t>
                      </a:r>
                      <a:endParaRPr b="1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ст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 – груст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ше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 – беше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тре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 - ветре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ая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 – отчая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уга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 - испуга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ея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 - рассея</a:t>
                      </a:r>
                      <a:r>
                        <a:rPr b="0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 или А на конце наречия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80880" y="1295280"/>
          <a:ext cx="8229600" cy="3627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тавки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ИЗ-, ДО-, С-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тавки 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В-, НА-, ЗА-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5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4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1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5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</a:t>
                      </a:r>
                      <a:endParaRPr b="1" lang="en-US" sz="14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32"/>
          <p:cNvSpPr/>
          <p:nvPr/>
        </p:nvSpPr>
        <p:spPr>
          <a:xfrm>
            <a:off x="304920" y="51055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аречие образовано только с помощью суффикса от прилагательного, у которого уже была приставка, пишем –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д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ный – дословн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4-11T15:19:0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