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AC89-FBF6-4470-8ECE-47301046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D360-E7E0-4D17-A2B0-69F63DB6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5F67-C383-4FD0-8463-852EE0CD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338E-C4CC-438B-B154-D5D6F655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5DAA-A5AC-4176-B9B2-28EB0623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19BF-219E-4EDD-8DBF-9996193D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BEDA-BC26-4E94-9670-5BA79550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91B-19FA-4FF4-B088-24E0706D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70BD-0A7A-4361-B4F6-BB63B232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4FB-EC3C-44F4-9DE0-23446B35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D6AD-C123-4FE1-9F25-E8EAD07E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1D77-ABA3-401C-92FC-DD795F43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7FCD-06D9-40DC-807E-0C8EF47FD4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57200" y="1752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Наречие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как самостоятельная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часть речи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962520" y="54864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обие к урокам русского язы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6 классе по учебникам В.В. Бабайцевой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презентации учитель русского языка и литературы Мечкова Т.Ф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ефис между частями слова в нареч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8600" y="533520"/>
          <a:ext cx="8686800" cy="6283080"/>
        </p:xfrm>
        <a:graphic>
          <a:graphicData uri="http://schemas.openxmlformats.org/drawingml/2006/table">
            <a:tbl>
              <a:tblPr/>
              <a:tblGrid>
                <a:gridCol w="4800600"/>
                <a:gridCol w="388620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ставка + суффикс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По + - ому, - ему, - и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: </a:t>
                      </a: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волчь</a:t>
                      </a: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наречиях, образованных от притяжательных прилагательных и местоимени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ставка + суффикс: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 (во) + -ых, - их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:</a:t>
                      </a: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во -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</a:t>
                      </a: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ы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наречиях, образованных от числительных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ставка 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КОЕ-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:</a:t>
                      </a: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кое -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наречиях, образованных от вопросительных сло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о + слов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: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два-едв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точь - в – точь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наречиях, образованных повторением слов, корне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итно пишутся  нареч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04920" y="609480"/>
          <a:ext cx="8610480" cy="6164280"/>
        </p:xfrm>
        <a:graphic>
          <a:graphicData uri="http://schemas.openxmlformats.org/drawingml/2006/table">
            <a:tbl>
              <a:tblPr/>
              <a:tblGrid>
                <a:gridCol w="6095880"/>
                <a:gridCol w="25146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ные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единением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ечия с предлогом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: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д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ные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единением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</a:t>
                      </a:r>
                      <a:r>
                        <a:rPr b="0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 собирательными числительным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: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е, </a:t>
                      </a:r>
                      <a:r>
                        <a:rPr b="0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о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ные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единение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длога с  - кратким прилагательным;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лным  прилагательным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: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а,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ать </a:t>
                      </a:r>
                      <a:r>
                        <a:rPr b="0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пу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58294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щие именные формы, которые в современном русском языке не употребляются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: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доволь, спозаранку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ространственным или временным значением, имеющие в составе существительные: </a:t>
                      </a:r>
                      <a:r>
                        <a:rPr b="0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ерх, низ, перед, высь, даль, глубь, ширь, начало, ве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вверх, книзу, вдаль, вперед, ввысь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Слова состоя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295280"/>
          <a:ext cx="8229600" cy="483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ушевное состояние человек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ело, радостно, грустно, печальн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Физическое состояние человек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но, душно, тяжел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остояние природы и окружающей сред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озно, ветрено, жарко, пыльно, сыр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ценка действий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, нельзя, надо, нужно, невозможн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лова состоя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8600" y="762120"/>
          <a:ext cx="8686800" cy="5743440"/>
        </p:xfrm>
        <a:graphic>
          <a:graphicData uri="http://schemas.openxmlformats.org/drawingml/2006/table">
            <a:tbl>
              <a:tblPr/>
              <a:tblGrid>
                <a:gridCol w="5227560"/>
                <a:gridCol w="3459240"/>
              </a:tblGrid>
              <a:tr h="14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ы от прилагательных при помощи суффикса 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аркий –жарк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т сравнительную степень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лодно – холоднее -более холодн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едложении не зависят от других слов, к ним задаются вопросы: </a:t>
                      </a: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КАК? КАКОВО?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ом в Крыму 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жарк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ляются сказуемыми в предложениях, где нет подлежащего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чью 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ветл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т звезд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Наречие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амостоятельная часть речи, которая обозначае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знаки действ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знаки признак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Морфологические</a:t>
            </a: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признаки</a:t>
            </a: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наречия</a:t>
            </a: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: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имеют рода, числа, падеж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склоняют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спрягаютс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Синтаксические признаки наречий: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едложении являются обстоятельст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Группы наречий по знач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838080"/>
          <a:ext cx="8229600" cy="5826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чия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образа действия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? Каким образом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омко, вдвоем, дружески, шепотом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ч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меры и степен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акой степени? Насколько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ень, немного, чересчур, вдвое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чия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места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де? Куда? Откуда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леко, справа, издали, вперед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чия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времен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гда? Как долго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но, рано, сегодня, весной, ночью, допоздна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чия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причин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чему? Отчего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горяча, сослепу, поневоле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ч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цел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чем? Для чего?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ло, нарочно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тепени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равнения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аречи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80880" y="1066680"/>
          <a:ext cx="8458200" cy="52628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3276360"/>
              </a:tblGrid>
              <a:tr h="112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ительная 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сходная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ая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ная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ная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ффиксы: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Е, -ЕЙ, -Е,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-Ш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цы: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БОЛЕЕ,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МЕНЕ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ительная степень + 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СЕХ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: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леко-дальш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: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ело - 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боле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есел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: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ыгнул выш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 всех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ловообразование наречи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458200" cy="3405240"/>
        </p:xfrm>
        <a:graphic>
          <a:graphicData uri="http://schemas.openxmlformats.org/drawingml/2006/table">
            <a:tbl>
              <a:tblPr/>
              <a:tblGrid>
                <a:gridCol w="2819520"/>
                <a:gridCol w="2361960"/>
                <a:gridCol w="32767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тавка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ффикс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тавка + суффик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тра- 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посл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тра,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жливо – 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жливо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гкий – легк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,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вучий - певуч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ищеский – 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п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товарищеск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и,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ый - 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Н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 наречиям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–О, -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066680"/>
          <a:ext cx="8229600" cy="4591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тно 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ьно 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слово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употребляетс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з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взрачно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в предложении есть или подразумевается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ивопоставление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: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сточки летают не высоко, 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ад самой землей.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слово с НЕ можно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енить синонимом без Н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легко - трудн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33"/>
          <p:cNvSpPr/>
          <p:nvPr/>
        </p:nvSpPr>
        <p:spPr>
          <a:xfrm>
            <a:off x="420120" y="5754600"/>
            <a:ext cx="87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наречиями не на –О, -Е частицу НЕ пишем раздельно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авописание нареч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838080"/>
          <a:ext cx="8229600" cy="5621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онце наречий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шипящи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ишем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 ударение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</a:t>
                      </a:r>
                      <a:r>
                        <a:rPr b="1" lang="ru-RU" sz="8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</a:t>
                      </a:r>
                      <a:endParaRPr b="1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мер: СВЕЖ</a:t>
                      </a:r>
                      <a:r>
                        <a:rPr b="0" lang="ru-RU" sz="24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О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ударени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: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ловещ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2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онце наречий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шипящи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ишем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Ь</a:t>
                      </a:r>
                      <a:endParaRPr b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Пример: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а</a:t>
                      </a: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чь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навзни</a:t>
                      </a: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ч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Исключения:</a:t>
                      </a:r>
                      <a:r>
                        <a:rPr b="0" lang="ru-RU" sz="24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Уж,  замуж,  невтерпеж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НН или Н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наречиях пишем столько Н, сколько их в слове, от которого образовано нареч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895480"/>
          <a:ext cx="8534520" cy="2853000"/>
        </p:xfrm>
        <a:graphic>
          <a:graphicData uri="http://schemas.openxmlformats.org/drawingml/2006/table">
            <a:tbl>
              <a:tblPr/>
              <a:tblGrid>
                <a:gridCol w="4114800"/>
                <a:gridCol w="441972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</a:t>
                      </a:r>
                      <a:endParaRPr b="1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Н</a:t>
                      </a:r>
                      <a:endParaRPr b="1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ст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й – груст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ше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й – беше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ре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й - ветре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ая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й – отчая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уга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й - испуга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ея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й - рассея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О или А на конце наречия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80880" y="1295280"/>
          <a:ext cx="8229600" cy="3627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тавки 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ИЗ-, ДО-, С-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тавки 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В-, НА-, ЗА-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5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А</a:t>
                      </a:r>
                      <a:r>
                        <a:rPr b="1" lang="ru-RU" sz="14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5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</a:t>
                      </a:r>
                      <a:endParaRPr b="1" lang="en-US" sz="1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32"/>
          <p:cNvSpPr/>
          <p:nvPr/>
        </p:nvSpPr>
        <p:spPr>
          <a:xfrm>
            <a:off x="304920" y="51055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наречие образовано только с помощью суффикса от прилагательного, у которого уже была приставка, пишем –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: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ный – дословн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1T15:19:0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