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98A-8F2A-49EE-B251-70AAE3E0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EB3-0076-4B33-99FB-926A0777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1FC-7060-4A6A-BB4B-CAFC9F91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FFB-2EA4-486D-A265-5964E6E3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A91A-0F66-4087-BA37-C08B1F47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B04A-55C8-4B6C-81A4-C08F232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8EC3-E235-4D5E-A851-CF6377E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681C-1CC9-43F9-B2FC-B44073A9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0D80-8F24-4CC7-9785-8913752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9B99-500D-482F-87BD-6D6C27DB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5160-F20A-4C22-B0BA-A6646E0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B70-6D46-4085-A665-CEECAEC9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BE0-60CD-4DAF-93EC-24A2050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5577-E8AE-4B1A-AD7E-1789928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F84B-BE90-4B10-AF70-F381AD5E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DCE5-6712-4107-BFB2-BD932ECA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E12C-7F04-4A02-882E-60C10716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B0F-2D27-49D3-8220-74E78CE6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FE7-8F61-40E5-80A6-69670754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BD2-F4EB-41D4-B88C-CDD40F6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6F5-8F75-479A-9BBD-D6D19770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5BE-17FC-4368-86B3-975F56CD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041-89E4-4283-89FD-C0BFD91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8E6-F8B7-4306-9DA6-78DED455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C76-1D48-470F-9970-2D4ECB583415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CAD0-C446-4708-887C-74FCA38753C2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573120" y="1785960"/>
            <a:ext cx="7851600" cy="1835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71400" y="4285800"/>
            <a:ext cx="6072120" cy="7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Русский хирург и анат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9880" y="428760"/>
            <a:ext cx="29718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39d"/>
                </a:solidFill>
                <a:latin typeface="Calibri"/>
              </a:rPr>
              <a:t>Биография</a:t>
            </a:r>
            <a:endParaRPr b="0" lang="en-US" sz="45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9680" y="1856880"/>
            <a:ext cx="40006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Никола́й Ива́нович Пирого́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13 (25) ноября 1810, Москва — 23 ноября (5 декабря) 1881, с. Вишня, ныне в черте Винницы) — русский хирург и анатом, естествоиспытатель и педагог, член-корреспондент РА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408040" cy="302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280" y="499680"/>
            <a:ext cx="33433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Биограф</a:t>
            </a:r>
            <a:r>
              <a:rPr b="0" lang="en-US" sz="5000" spc="-1" strike="noStrike">
                <a:solidFill>
                  <a:srgbClr val="fff39d"/>
                </a:solidFill>
                <a:latin typeface="Arial"/>
              </a:rPr>
              <a:t>и</a:t>
            </a: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я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28640" y="1356840"/>
            <a:ext cx="554364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ctr">
              <a:lnSpc>
                <a:spcPct val="9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иколай Иванович родился в Москве в 1810 году. Шестнадцатилетним мальчиком поступил на медицинский факультет Московского университета. Получив диплом, ещё несколько лет учился за границей. К профессорской деятельности Пирогов готовился в университете города Дерпта (Тарту). В то время этот университет считался лучшим в России. Здесь, в хирургической клинике, Пирогов проработал пять лет, блестяще защитил докторскую диссертацию и в возрасте всего лишь двадцати шести лет был избран профессором Дерптского университета (ныне Тартуский университет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1341360" cy="165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71480" y="428760"/>
            <a:ext cx="4043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Поздние годы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356840"/>
            <a:ext cx="55008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В расцвете творческих сил Пирогов уединился в своём небольшом имении «Вишня» неподалёку от Винницы, где организовал бесплатную больницу. Он ненадолго выезжал оттуда только за границу, а также по приглашению Петербургского университета для чтения лекций. К этому времени Пирогов уже был членом нескольких иностранных академий. Относительно надолго Пирогов лишь дважды покидал имение: первый раз в 1870 году во время прусско-французской войны, будучи приглашён на фронт от имени Международного Красного Креста, и второй раз, в 1877—1878 гг. — уже в очень пожилом возрасте — несколько месяцев работал на фронте во время русско-турецкой вой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857920" y="5643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Орден Пирого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61040" y="2708280"/>
            <a:ext cx="1623960" cy="21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1400" y="428760"/>
            <a:ext cx="604332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Последнее признание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86200" y="1785600"/>
            <a:ext cx="35006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В 1881 году Н. И. Пирогов стал 5-ым почетным гражданином Москвы «в связи с пятидесятилетней трудовой деятельностью на поприще просвещения, науки и гражданственности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285920" y="5286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Медали Пирого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2087640" cy="164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428400"/>
            <a:ext cx="32306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Значение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85880" y="1714680"/>
            <a:ext cx="31863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Основное значение всей деятельности Пирогова состоит в том, что своим самоотверженным и часто бескорыстным трудом он превратил хирургию в науку, вооружив врачей научно обоснованной методикой оперативного вмешательств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2386080" cy="3671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5186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Интересные факты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13880" y="1928520"/>
            <a:ext cx="371484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Когда Н. И. Пирогов потребовал, чтобы русские хирурги оперировали в белых кипячёных халатах, ибо их обычная одежда может нести опасные микробы, его же коллеги упрятали его в сумасшедший дом. Однако его выпустили через три дня, не обнаружив нарушений в психик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743200" cy="4033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28520" y="571680"/>
            <a:ext cx="52578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Интересные факты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6120" y="214308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1855 году, в бытность свою старшим учителем Симферопольской гимназии, Д. И. Менделеев, с юности испытывавший проблемы со здоровьем (подозревали даже, что у него чахотка), по просьбе петербургского врача Н. Ф. Здекауэра был принят и осмотрен Н. И. Пироговым, который, констатируя удовлетворительное состояние пациента, заявил: «Вы нас обоих переживёте» — предначертание это не только вселило в будущего великого учёного уверенность в благосклонности к нему судьбы, но и сбылос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71680" y="5929200"/>
            <a:ext cx="29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Пирогов принимает молодого Менделее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245916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Светлана Михайловна</cp:lastModifiedBy>
  <dcterms:modified xsi:type="dcterms:W3CDTF">2012-12-08T08:25:20Z</dcterms:modified>
  <cp:revision>34</cp:revision>
  <dc:subject/>
  <dc:title>Николай Иванович Пирогов</dc:title>
</cp:coreProperties>
</file>