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E02-D52B-45F3-93F5-37AAA7F4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9E42-B06C-4B44-BC0D-D7EF8294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98A-B133-482D-8705-71B15259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AD8-C31B-4E65-9571-AF592B53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E472-DD37-4F89-A089-D7B71EAE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2A20-A325-471F-92AE-A73FCAF1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ACD5-F146-4852-B0E6-BDB5F2CD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5E4E-780B-43CF-A589-6736E96E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605D-5D12-40AA-B7CF-ADFFF5AF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F45F-EDF2-422A-B0A6-D78990F9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B6E9-01ED-4676-8193-8C6DCCBB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566F-DB14-438B-955B-9633386E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D77D-C564-4569-9AA1-17D130D1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D4F1-2B33-4E0F-BECF-044D7D5B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614E-F3EE-4E9E-9295-C0926123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AEB9-1B27-4122-A055-060A089B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9604-987E-464A-9BB3-95289E47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66E-3E59-4106-8D76-C4BEE131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C34-6007-447F-9CB6-F8CFE7AB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58AD-096C-4465-A759-06C1A756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EE5-7F52-4489-A2F3-F735809E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F92-9BB8-4F81-A7FD-4344A419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643-F106-4196-81F8-720C3488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F40-137D-4AB8-9C89-0DF19BE8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F234-E562-4CE4-8DA1-693B926E3F7D}" type="slidenum"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3e896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ED7A-A34B-49AB-9B04-C8783E889890}" type="slidenum">
              <a:rPr b="0" lang="en-US" sz="1200" spc="-1" strike="noStrike">
                <a:solidFill>
                  <a:srgbClr val="f3e896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573120" y="1785960"/>
            <a:ext cx="7851600" cy="1835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71400" y="4285800"/>
            <a:ext cx="6072120" cy="700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Русский хирург и анато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99880" y="428760"/>
            <a:ext cx="297180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39d"/>
                </a:solidFill>
                <a:latin typeface="Calibri"/>
              </a:rPr>
              <a:t>Биография</a:t>
            </a:r>
            <a:endParaRPr b="0" lang="en-US" sz="45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9680" y="1856880"/>
            <a:ext cx="40006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Никола́й Ива́нович Пирого́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13 (25) ноября 1810, Москва — 23 ноября (5 декабря) 1881, с. Вишня, ныне в черте Винницы) — русский хирург и анатом, естествоиспытатель и педагог, член-корреспондент РА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2408040" cy="302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280" y="499680"/>
            <a:ext cx="33433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Биограф</a:t>
            </a:r>
            <a:r>
              <a:rPr b="0" lang="en-US" sz="5000" spc="-1" strike="noStrike">
                <a:solidFill>
                  <a:srgbClr val="fff39d"/>
                </a:solidFill>
                <a:latin typeface="Arial"/>
              </a:rPr>
              <a:t>и</a:t>
            </a: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я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28640" y="1356840"/>
            <a:ext cx="554364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ctr">
              <a:lnSpc>
                <a:spcPct val="9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иколай Иванович родился в Москве в 1810 году. Шестнадцатилетним мальчиком поступил на медицинский факультет Московского университета. Получив диплом, ещё несколько лет учился за границей. К профессорской деятельности Пирогов готовился в университете города Дерпта (Тарту). В то время этот университет считался лучшим в России. Здесь, в хирургической клинике, Пирогов проработал пять лет, блестяще защитил докторскую диссертацию и в возрасте всего лишь двадцати шести лет был избран профессором Дерптского университета (ныне Тартуский университет)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32000" y="2492280"/>
            <a:ext cx="1341360" cy="1656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71480" y="428760"/>
            <a:ext cx="404316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Поздние годы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356840"/>
            <a:ext cx="55008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ctr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В расцвете творческих сил Пирогов уединился в своём небольшом имении «Вишня» неподалёку от Винницы, где организовал бесплатную больницу. Он ненадолго выезжал оттуда только за границу, а также по приглашению Петербургского университета для чтения лекций. К этому времени Пирогов уже был членом нескольких иностранных академий. Относительно надолго Пирогов лишь дважды покидал имение: первый раз в 1870 году во время прусско-французской войны, будучи приглашён на фронт от имени Международного Красного Креста, и второй раз, в 1877—1878 гг. — уже в очень пожилом возрасте — несколько месяцев работал на фронте во время русско-турецкой войн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857920" y="56437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Орден Пирогов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61040" y="2708280"/>
            <a:ext cx="1623960" cy="216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71400" y="428760"/>
            <a:ext cx="604332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Последнее признание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86200" y="1785600"/>
            <a:ext cx="35006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В 1881 году Н. И. Пирогов стал 5-ым почетным гражданином Москвы «в связи с пятидесятилетней трудовой деятельностью на поприще просвещения, науки и гражданственности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 algn="ctr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1285920" y="52862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Медали Пирогов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908000" y="2492280"/>
            <a:ext cx="2087640" cy="1640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428400"/>
            <a:ext cx="32306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Значение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285880" y="1714680"/>
            <a:ext cx="31863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 algn="ctr">
              <a:lnSpc>
                <a:spcPct val="9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Основное значение всей деятельности Пирогова состоит в том, что своим самоотверженным и часто бескорыстным трудом он превратил хирургию в науку, вооружив врачей научно обоснованной методикой оперативного вмешательств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ctr">
              <a:lnSpc>
                <a:spcPct val="9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2386080" cy="3671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28880" y="571680"/>
            <a:ext cx="518616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Интересные факты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13880" y="1928520"/>
            <a:ext cx="371484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Когда Н. И. Пирогов потребовал, чтобы русские хирурги оперировали в белых кипячёных халатах, ибо их обычная одежда может нести опасные микробы, его же коллеги упрятали его в сумасшедший дом. Однако его выпустили через три дня, не обнаружив нарушений в психик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2743200" cy="4033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28520" y="571680"/>
            <a:ext cx="52578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39d"/>
                </a:solidFill>
                <a:latin typeface="Calibri"/>
              </a:rPr>
              <a:t>Интересные факты</a:t>
            </a:r>
            <a:endParaRPr b="0" lang="en-US" sz="5000" spc="-1" strike="noStrike">
              <a:solidFill>
                <a:srgbClr val="fff39d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786120" y="2143080"/>
            <a:ext cx="521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 1855 году, в бытность свою старшим учителем Симферопольской гимназии, Д. И. Менделеев, с юности испытывавший проблемы со здоровьем (подозревали даже, что у него чахотка), по просьбе петербургского врача Н. Ф. Здекауэра был принят и осмотрен Н. И. Пироговым, который, констатируя удовлетворительное состояние пациента, заявил: «Вы нас обоих переживёте» — предначертание это не только вселило в будущего великого учёного уверенность в благосклонности к нему судьбы, но и сбылось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71680" y="5929200"/>
            <a:ext cx="29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Пирогов принимает молодого Менделеева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2459160" cy="302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хаил</dc:creator>
  <dc:description/>
  <dc:language>en-US</dc:language>
  <cp:lastModifiedBy>Светлана Михайловна</cp:lastModifiedBy>
  <dcterms:modified xsi:type="dcterms:W3CDTF">2012-12-08T08:25:20Z</dcterms:modified>
  <cp:revision>34</cp:revision>
  <dc:subject/>
  <dc:title>Николай Иванович Пирогов</dc:title>
</cp:coreProperties>
</file>