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392-757B-4294-A536-4A12BA2B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564-F47C-49C2-8235-C1C8208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D32-2321-4C64-8249-187C248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A5D-A389-4C68-826D-03FADFC0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5D72-CC2F-4BDF-BC11-FB465B69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268E-BD62-49D4-93D6-7F5CBFB3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89E-2601-43EE-8ABB-B6B8D40D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8AAF-9F19-497B-BBD9-3198965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A29B-30A4-4A82-956E-9F0A8E7B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5FBA-BC65-4042-A5CB-47EB291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A616-F232-43A3-80B2-B99E4175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594-79F9-4A42-9C29-DCF7EADB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ADFB-E087-4543-8E3D-678780B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22C3-4D44-4540-B576-99E3A7A3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A6C7-8701-4132-BF60-9835A207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469B-A559-4A11-8A64-4011402C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91E6-3031-41A9-9FAD-ABD3F65D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9BA-6645-481E-AD57-CE7DEFCF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068-D649-4EAC-A6D3-39EC1D33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12A-DFE9-4228-AD2F-396E5AD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B2F-9F73-4544-B078-F54C8A25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775-126F-4164-820B-6EE0719C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A08-3584-4750-875B-F2B2CE6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23D-3724-4917-B037-7FEAE63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 rot="10800000"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3" name="Rectangle 10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6" name="Rectangle 13"/>
            <p:cNvSpPr/>
            <p:nvPr/>
          </p:nvSpPr>
          <p:spPr>
            <a:xfrm flipH="1" rot="10800000">
              <a:off x="8686800" y="353880"/>
              <a:ext cx="75960" cy="648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 rot="10800000">
              <a:off x="8813520" y="595080"/>
              <a:ext cx="76320" cy="626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9" name="Rectangle 16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8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12" name="Rectangle 19"/>
            <p:cNvSpPr/>
            <p:nvPr/>
          </p:nvSpPr>
          <p:spPr>
            <a:xfrm flipH="1" rot="5400000">
              <a:off x="5565600" y="3476160"/>
              <a:ext cx="75960" cy="648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20"/>
            <p:cNvSpPr/>
            <p:nvPr/>
          </p:nvSpPr>
          <p:spPr>
            <a:xfrm rot="5400000">
              <a:off x="5696640" y="3459960"/>
              <a:ext cx="76320" cy="626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419D-4095-4383-939F-C7FB47758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Group 21"/>
          <p:cNvGrpSpPr/>
          <p:nvPr/>
        </p:nvGrpSpPr>
        <p:grpSpPr>
          <a:xfrm>
            <a:off x="304920" y="152280"/>
            <a:ext cx="761760" cy="1067040"/>
            <a:chOff x="304920" y="152280"/>
            <a:chExt cx="761760" cy="1067040"/>
          </a:xfrm>
        </p:grpSpPr>
        <p:sp>
          <p:nvSpPr>
            <p:cNvPr id="19" name="AutoShape 22"/>
            <p:cNvSpPr/>
            <p:nvPr/>
          </p:nvSpPr>
          <p:spPr>
            <a:xfrm>
              <a:off x="304920" y="152280"/>
              <a:ext cx="7617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416160" y="183600"/>
              <a:ext cx="650160" cy="103104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755280" y="684000"/>
              <a:ext cx="109440" cy="201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777600" y="684000"/>
              <a:ext cx="74160" cy="190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789480" y="687600"/>
              <a:ext cx="44280" cy="15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802080" y="687600"/>
              <a:ext cx="20160" cy="1368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770040" y="264960"/>
              <a:ext cx="82800" cy="19080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811440" y="266040"/>
              <a:ext cx="36000" cy="18612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773280" y="266040"/>
              <a:ext cx="34920" cy="1886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763920" y="199440"/>
              <a:ext cx="86040" cy="6192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819000" y="266040"/>
              <a:ext cx="25200" cy="1839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779760" y="266040"/>
              <a:ext cx="21960" cy="1886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777600" y="199440"/>
              <a:ext cx="55080" cy="6192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822240" y="266040"/>
              <a:ext cx="16920" cy="18396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783000" y="266040"/>
              <a:ext cx="12600" cy="1868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795600" y="199440"/>
              <a:ext cx="28440" cy="6012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805320" y="199440"/>
              <a:ext cx="9360" cy="6012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432360" y="476280"/>
              <a:ext cx="298440" cy="47304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416160" y="923760"/>
              <a:ext cx="533160" cy="29520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532080" y="879480"/>
              <a:ext cx="402840" cy="460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947880" y="1135080"/>
              <a:ext cx="34920" cy="842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1046520" y="1044360"/>
              <a:ext cx="18720" cy="795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925200" y="821160"/>
              <a:ext cx="114480" cy="1083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750960" y="476280"/>
              <a:ext cx="135720" cy="2080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755280" y="477360"/>
              <a:ext cx="128520" cy="206640"/>
            </a:xfrm>
            <a:prstGeom prst="pie">
              <a:avLst/>
            </a:prstGeom>
            <a:solidFill>
              <a:srgbClr val="914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760680" y="477360"/>
              <a:ext cx="118800" cy="206640"/>
            </a:xfrm>
            <a:prstGeom prst="pie">
              <a:avLst/>
            </a:prstGeom>
            <a:solidFill>
              <a:srgbClr val="9951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765000" y="477360"/>
              <a:ext cx="111240" cy="206640"/>
            </a:xfrm>
            <a:prstGeom prst="pie">
              <a:avLst/>
            </a:pr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770040" y="477360"/>
              <a:ext cx="105120" cy="206640"/>
            </a:xfrm>
            <a:prstGeom prst="pie">
              <a:avLst/>
            </a:prstGeom>
            <a:solidFill>
              <a:srgbClr val="a56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774360" y="477360"/>
              <a:ext cx="96480" cy="206640"/>
            </a:xfrm>
            <a:prstGeom prst="pie">
              <a:avLst/>
            </a:prstGeom>
            <a:solidFill>
              <a:srgbClr val="aa6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779760" y="477360"/>
              <a:ext cx="86760" cy="206640"/>
            </a:xfrm>
            <a:prstGeom prst="pie">
              <a:avLst/>
            </a:prstGeom>
            <a:solidFill>
              <a:srgbClr val="b2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783720" y="477360"/>
              <a:ext cx="79560" cy="206640"/>
            </a:xfrm>
            <a:prstGeom prst="pie">
              <a:avLst/>
            </a:prstGeom>
            <a:solidFill>
              <a:srgbClr val="b77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789480" y="479160"/>
              <a:ext cx="70920" cy="204480"/>
            </a:xfrm>
            <a:prstGeom prst="pie">
              <a:avLst/>
            </a:prstGeom>
            <a:solidFill>
              <a:srgbClr val="bf7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795600" y="479160"/>
              <a:ext cx="63720" cy="204480"/>
            </a:xfrm>
            <a:prstGeom prst="pie">
              <a:avLst/>
            </a:prstGeom>
            <a:solidFill>
              <a:srgbClr val="c4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798840" y="479160"/>
              <a:ext cx="55080" cy="204480"/>
            </a:xfrm>
            <a:prstGeom prst="pie">
              <a:avLst/>
            </a:prstGeom>
            <a:solidFill>
              <a:srgbClr val="cc8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803160" y="479160"/>
              <a:ext cx="47520" cy="204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700920" y="550440"/>
              <a:ext cx="52200" cy="1220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745920" y="450360"/>
              <a:ext cx="132480" cy="219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9"/>
            <p:cNvSpPr/>
            <p:nvPr/>
          </p:nvSpPr>
          <p:spPr>
            <a:xfrm>
              <a:off x="628920" y="458640"/>
              <a:ext cx="109080" cy="1296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792720" y="654120"/>
              <a:ext cx="156960" cy="730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771480" y="452160"/>
              <a:ext cx="90000" cy="19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2"/>
            <p:cNvSpPr/>
            <p:nvPr/>
          </p:nvSpPr>
          <p:spPr>
            <a:xfrm>
              <a:off x="651240" y="458640"/>
              <a:ext cx="73440" cy="1296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822240" y="661680"/>
              <a:ext cx="108360" cy="532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786240" y="454320"/>
              <a:ext cx="55080" cy="15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5"/>
            <p:cNvSpPr/>
            <p:nvPr/>
          </p:nvSpPr>
          <p:spPr>
            <a:xfrm>
              <a:off x="663840" y="458640"/>
              <a:ext cx="42480" cy="1296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838080" y="671760"/>
              <a:ext cx="68040" cy="3600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802080" y="455040"/>
              <a:ext cx="25200" cy="1368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8"/>
            <p:cNvSpPr/>
            <p:nvPr/>
          </p:nvSpPr>
          <p:spPr>
            <a:xfrm>
              <a:off x="674640" y="458640"/>
              <a:ext cx="20160" cy="129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855360" y="677520"/>
              <a:ext cx="32760" cy="2376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0"/>
            <p:cNvSpPr/>
            <p:nvPr/>
          </p:nvSpPr>
          <p:spPr>
            <a:xfrm>
              <a:off x="811440" y="763560"/>
              <a:ext cx="44280" cy="313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1"/>
            <p:cNvSpPr/>
            <p:nvPr/>
          </p:nvSpPr>
          <p:spPr>
            <a:xfrm>
              <a:off x="799920" y="744120"/>
              <a:ext cx="63360" cy="1368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72"/>
            <p:cNvSpPr/>
            <p:nvPr/>
          </p:nvSpPr>
          <p:spPr>
            <a:xfrm>
              <a:off x="819000" y="763560"/>
              <a:ext cx="26280" cy="313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3"/>
            <p:cNvSpPr/>
            <p:nvPr/>
          </p:nvSpPr>
          <p:spPr>
            <a:xfrm>
              <a:off x="811440" y="744120"/>
              <a:ext cx="38160" cy="136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4"/>
            <p:cNvSpPr/>
            <p:nvPr/>
          </p:nvSpPr>
          <p:spPr>
            <a:xfrm>
              <a:off x="826560" y="763560"/>
              <a:ext cx="9360" cy="313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5"/>
            <p:cNvSpPr/>
            <p:nvPr/>
          </p:nvSpPr>
          <p:spPr>
            <a:xfrm>
              <a:off x="822240" y="744120"/>
              <a:ext cx="16920" cy="136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890280" y="727560"/>
              <a:ext cx="57600" cy="507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951840" y="710640"/>
              <a:ext cx="61560" cy="507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942480" y="699480"/>
              <a:ext cx="44280" cy="3132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895320" y="727560"/>
              <a:ext cx="39240" cy="42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963720" y="721080"/>
              <a:ext cx="45360" cy="4140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950760" y="708120"/>
              <a:ext cx="31680" cy="201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902160" y="730080"/>
              <a:ext cx="25200" cy="3312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973080" y="727560"/>
              <a:ext cx="29880" cy="3132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960480" y="712440"/>
              <a:ext cx="13680" cy="1296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874440" y="709920"/>
              <a:ext cx="60480" cy="3600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883080" y="709920"/>
              <a:ext cx="41400" cy="284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890280" y="712440"/>
              <a:ext cx="20160" cy="1548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798840" y="669960"/>
              <a:ext cx="161280" cy="694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826560" y="718920"/>
              <a:ext cx="47520" cy="19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928440" y="684000"/>
              <a:ext cx="42480" cy="309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613800" y="480960"/>
              <a:ext cx="106200" cy="10188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620280" y="605160"/>
              <a:ext cx="42480" cy="3960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491760" y="957240"/>
              <a:ext cx="58320" cy="5544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86160" y="838800"/>
              <a:ext cx="44280" cy="2664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748800" y="805320"/>
              <a:ext cx="36000" cy="201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01200" y="480960"/>
              <a:ext cx="108360" cy="1018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604440" y="483120"/>
              <a:ext cx="99720" cy="9504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604440" y="483120"/>
              <a:ext cx="93240" cy="9072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607320" y="483840"/>
              <a:ext cx="87120" cy="8208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607320" y="483840"/>
              <a:ext cx="80640" cy="7740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610920" y="487440"/>
              <a:ext cx="74160" cy="6912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612720" y="487440"/>
              <a:ext cx="66960" cy="6372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613800" y="488520"/>
              <a:ext cx="60480" cy="5832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616320" y="488520"/>
              <a:ext cx="54000" cy="5256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617040" y="490320"/>
              <a:ext cx="47880" cy="4608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617040" y="492120"/>
              <a:ext cx="42480" cy="3960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620280" y="492120"/>
              <a:ext cx="34920" cy="3312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609480" y="606240"/>
              <a:ext cx="42480" cy="417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10920" y="606240"/>
              <a:ext cx="39240" cy="3960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10920" y="608040"/>
              <a:ext cx="37800" cy="3492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10920" y="608040"/>
              <a:ext cx="36000" cy="3312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12720" y="609840"/>
              <a:ext cx="32040" cy="3024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612720" y="609840"/>
              <a:ext cx="29880" cy="2844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613800" y="609840"/>
              <a:ext cx="26280" cy="2484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613800" y="609840"/>
              <a:ext cx="23040" cy="2376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6"/>
            <p:cNvSpPr/>
            <p:nvPr/>
          </p:nvSpPr>
          <p:spPr>
            <a:xfrm>
              <a:off x="616320" y="610560"/>
              <a:ext cx="21960" cy="2016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7"/>
            <p:cNvSpPr/>
            <p:nvPr/>
          </p:nvSpPr>
          <p:spPr>
            <a:xfrm>
              <a:off x="616320" y="610560"/>
              <a:ext cx="18720" cy="1764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8"/>
            <p:cNvSpPr/>
            <p:nvPr/>
          </p:nvSpPr>
          <p:spPr>
            <a:xfrm>
              <a:off x="617040" y="610560"/>
              <a:ext cx="15840" cy="1548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9"/>
            <p:cNvSpPr/>
            <p:nvPr/>
          </p:nvSpPr>
          <p:spPr>
            <a:xfrm>
              <a:off x="617040" y="610560"/>
              <a:ext cx="13680" cy="1368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0"/>
            <p:cNvSpPr/>
            <p:nvPr/>
          </p:nvSpPr>
          <p:spPr>
            <a:xfrm>
              <a:off x="475920" y="960840"/>
              <a:ext cx="58320" cy="55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1"/>
            <p:cNvSpPr/>
            <p:nvPr/>
          </p:nvSpPr>
          <p:spPr>
            <a:xfrm>
              <a:off x="477720" y="960840"/>
              <a:ext cx="54000" cy="5364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2"/>
            <p:cNvSpPr/>
            <p:nvPr/>
          </p:nvSpPr>
          <p:spPr>
            <a:xfrm>
              <a:off x="479160" y="960840"/>
              <a:ext cx="50760" cy="4896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3"/>
            <p:cNvSpPr/>
            <p:nvPr/>
          </p:nvSpPr>
          <p:spPr>
            <a:xfrm>
              <a:off x="479160" y="961560"/>
              <a:ext cx="47520" cy="4428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4"/>
            <p:cNvSpPr/>
            <p:nvPr/>
          </p:nvSpPr>
          <p:spPr>
            <a:xfrm>
              <a:off x="479160" y="961560"/>
              <a:ext cx="45360" cy="4248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5"/>
            <p:cNvSpPr/>
            <p:nvPr/>
          </p:nvSpPr>
          <p:spPr>
            <a:xfrm>
              <a:off x="481320" y="961560"/>
              <a:ext cx="41400" cy="3780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6"/>
            <p:cNvSpPr/>
            <p:nvPr/>
          </p:nvSpPr>
          <p:spPr>
            <a:xfrm>
              <a:off x="482040" y="963720"/>
              <a:ext cx="36000" cy="3528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7"/>
            <p:cNvSpPr/>
            <p:nvPr/>
          </p:nvSpPr>
          <p:spPr>
            <a:xfrm>
              <a:off x="482040" y="963720"/>
              <a:ext cx="32760" cy="3132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8"/>
            <p:cNvSpPr/>
            <p:nvPr/>
          </p:nvSpPr>
          <p:spPr>
            <a:xfrm>
              <a:off x="484200" y="965520"/>
              <a:ext cx="28440" cy="2664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9"/>
            <p:cNvSpPr/>
            <p:nvPr/>
          </p:nvSpPr>
          <p:spPr>
            <a:xfrm>
              <a:off x="484200" y="965520"/>
              <a:ext cx="26280" cy="2412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0"/>
            <p:cNvSpPr/>
            <p:nvPr/>
          </p:nvSpPr>
          <p:spPr>
            <a:xfrm>
              <a:off x="485280" y="965520"/>
              <a:ext cx="23040" cy="2196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1"/>
            <p:cNvSpPr/>
            <p:nvPr/>
          </p:nvSpPr>
          <p:spPr>
            <a:xfrm>
              <a:off x="485280" y="965520"/>
              <a:ext cx="20160" cy="1944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2"/>
            <p:cNvSpPr/>
            <p:nvPr/>
          </p:nvSpPr>
          <p:spPr>
            <a:xfrm>
              <a:off x="686160" y="833040"/>
              <a:ext cx="44280" cy="201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3"/>
            <p:cNvSpPr/>
            <p:nvPr/>
          </p:nvSpPr>
          <p:spPr>
            <a:xfrm>
              <a:off x="688320" y="833040"/>
              <a:ext cx="41400" cy="1944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4"/>
            <p:cNvSpPr/>
            <p:nvPr/>
          </p:nvSpPr>
          <p:spPr>
            <a:xfrm>
              <a:off x="688320" y="833040"/>
              <a:ext cx="41400" cy="1764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5"/>
            <p:cNvSpPr/>
            <p:nvPr/>
          </p:nvSpPr>
          <p:spPr>
            <a:xfrm>
              <a:off x="691560" y="833040"/>
              <a:ext cx="34920" cy="1764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6"/>
            <p:cNvSpPr/>
            <p:nvPr/>
          </p:nvSpPr>
          <p:spPr>
            <a:xfrm>
              <a:off x="693720" y="833040"/>
              <a:ext cx="34920" cy="1548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7"/>
            <p:cNvSpPr/>
            <p:nvPr/>
          </p:nvSpPr>
          <p:spPr>
            <a:xfrm>
              <a:off x="694800" y="833040"/>
              <a:ext cx="31680" cy="1548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8"/>
            <p:cNvSpPr/>
            <p:nvPr/>
          </p:nvSpPr>
          <p:spPr>
            <a:xfrm>
              <a:off x="697680" y="834840"/>
              <a:ext cx="28440" cy="1296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9"/>
            <p:cNvSpPr/>
            <p:nvPr/>
          </p:nvSpPr>
          <p:spPr>
            <a:xfrm>
              <a:off x="700200" y="834840"/>
              <a:ext cx="25200" cy="1080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0"/>
            <p:cNvSpPr/>
            <p:nvPr/>
          </p:nvSpPr>
          <p:spPr>
            <a:xfrm>
              <a:off x="700920" y="834840"/>
              <a:ext cx="22320" cy="900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1"/>
            <p:cNvSpPr/>
            <p:nvPr/>
          </p:nvSpPr>
          <p:spPr>
            <a:xfrm>
              <a:off x="703080" y="834840"/>
              <a:ext cx="20160" cy="900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2"/>
            <p:cNvSpPr/>
            <p:nvPr/>
          </p:nvSpPr>
          <p:spPr>
            <a:xfrm>
              <a:off x="704520" y="834840"/>
              <a:ext cx="18720" cy="828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3"/>
            <p:cNvSpPr/>
            <p:nvPr/>
          </p:nvSpPr>
          <p:spPr>
            <a:xfrm>
              <a:off x="707400" y="834840"/>
              <a:ext cx="12600" cy="828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4"/>
            <p:cNvSpPr/>
            <p:nvPr/>
          </p:nvSpPr>
          <p:spPr>
            <a:xfrm>
              <a:off x="748800" y="801720"/>
              <a:ext cx="36000" cy="154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5"/>
            <p:cNvSpPr/>
            <p:nvPr/>
          </p:nvSpPr>
          <p:spPr>
            <a:xfrm>
              <a:off x="750960" y="801720"/>
              <a:ext cx="32760" cy="1368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6"/>
            <p:cNvSpPr/>
            <p:nvPr/>
          </p:nvSpPr>
          <p:spPr>
            <a:xfrm>
              <a:off x="754200" y="803160"/>
              <a:ext cx="28440" cy="1296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7"/>
            <p:cNvSpPr/>
            <p:nvPr/>
          </p:nvSpPr>
          <p:spPr>
            <a:xfrm>
              <a:off x="754200" y="803160"/>
              <a:ext cx="28440" cy="1080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8"/>
            <p:cNvSpPr/>
            <p:nvPr/>
          </p:nvSpPr>
          <p:spPr>
            <a:xfrm>
              <a:off x="755280" y="803160"/>
              <a:ext cx="26640" cy="1080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9"/>
            <p:cNvSpPr/>
            <p:nvPr/>
          </p:nvSpPr>
          <p:spPr>
            <a:xfrm>
              <a:off x="757440" y="803160"/>
              <a:ext cx="25200" cy="1080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0"/>
            <p:cNvSpPr/>
            <p:nvPr/>
          </p:nvSpPr>
          <p:spPr>
            <a:xfrm>
              <a:off x="758520" y="803160"/>
              <a:ext cx="21960" cy="900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1"/>
            <p:cNvSpPr/>
            <p:nvPr/>
          </p:nvSpPr>
          <p:spPr>
            <a:xfrm>
              <a:off x="760680" y="803160"/>
              <a:ext cx="19080" cy="828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2"/>
            <p:cNvSpPr/>
            <p:nvPr/>
          </p:nvSpPr>
          <p:spPr>
            <a:xfrm>
              <a:off x="761760" y="803160"/>
              <a:ext cx="16560" cy="828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3"/>
            <p:cNvSpPr/>
            <p:nvPr/>
          </p:nvSpPr>
          <p:spPr>
            <a:xfrm>
              <a:off x="763920" y="803160"/>
              <a:ext cx="15840" cy="648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4"/>
            <p:cNvSpPr/>
            <p:nvPr/>
          </p:nvSpPr>
          <p:spPr>
            <a:xfrm>
              <a:off x="765000" y="803160"/>
              <a:ext cx="13680" cy="648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5"/>
            <p:cNvSpPr/>
            <p:nvPr/>
          </p:nvSpPr>
          <p:spPr>
            <a:xfrm>
              <a:off x="767160" y="803160"/>
              <a:ext cx="10440" cy="432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6"/>
            <p:cNvSpPr/>
            <p:nvPr/>
          </p:nvSpPr>
          <p:spPr>
            <a:xfrm>
              <a:off x="636480" y="516240"/>
              <a:ext cx="39240" cy="3780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7"/>
            <p:cNvSpPr/>
            <p:nvPr/>
          </p:nvSpPr>
          <p:spPr>
            <a:xfrm>
              <a:off x="623520" y="621000"/>
              <a:ext cx="13680" cy="1548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8"/>
            <p:cNvSpPr/>
            <p:nvPr/>
          </p:nvSpPr>
          <p:spPr>
            <a:xfrm>
              <a:off x="495000" y="979560"/>
              <a:ext cx="20160" cy="2016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9"/>
            <p:cNvSpPr/>
            <p:nvPr/>
          </p:nvSpPr>
          <p:spPr>
            <a:xfrm>
              <a:off x="707400" y="812520"/>
              <a:ext cx="244080" cy="5364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0"/>
            <p:cNvSpPr/>
            <p:nvPr/>
          </p:nvSpPr>
          <p:spPr>
            <a:xfrm>
              <a:off x="638280" y="1012680"/>
              <a:ext cx="141480" cy="4140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1"/>
            <p:cNvSpPr/>
            <p:nvPr/>
          </p:nvSpPr>
          <p:spPr>
            <a:xfrm>
              <a:off x="638280" y="1021320"/>
              <a:ext cx="138960" cy="28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2"/>
            <p:cNvSpPr/>
            <p:nvPr/>
          </p:nvSpPr>
          <p:spPr>
            <a:xfrm>
              <a:off x="639360" y="1025640"/>
              <a:ext cx="137880" cy="172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3"/>
            <p:cNvSpPr/>
            <p:nvPr/>
          </p:nvSpPr>
          <p:spPr>
            <a:xfrm>
              <a:off x="748080" y="1014840"/>
              <a:ext cx="53640" cy="5832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4"/>
            <p:cNvSpPr/>
            <p:nvPr/>
          </p:nvSpPr>
          <p:spPr>
            <a:xfrm>
              <a:off x="783000" y="992520"/>
              <a:ext cx="88920" cy="885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5"/>
            <p:cNvSpPr/>
            <p:nvPr/>
          </p:nvSpPr>
          <p:spPr>
            <a:xfrm>
              <a:off x="802080" y="988560"/>
              <a:ext cx="73440" cy="9072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6"/>
            <p:cNvSpPr/>
            <p:nvPr/>
          </p:nvSpPr>
          <p:spPr>
            <a:xfrm>
              <a:off x="805320" y="992520"/>
              <a:ext cx="69840" cy="86040"/>
            </a:xfrm>
            <a:prstGeom prst="pie">
              <a:avLst/>
            </a:prstGeom>
            <a:solidFill>
              <a:srgbClr val="934f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7"/>
            <p:cNvSpPr/>
            <p:nvPr/>
          </p:nvSpPr>
          <p:spPr>
            <a:xfrm>
              <a:off x="806400" y="994320"/>
              <a:ext cx="66960" cy="82080"/>
            </a:xfrm>
            <a:prstGeom prst="pie">
              <a:avLst/>
            </a:pr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8"/>
            <p:cNvSpPr/>
            <p:nvPr/>
          </p:nvSpPr>
          <p:spPr>
            <a:xfrm>
              <a:off x="808560" y="997200"/>
              <a:ext cx="63360" cy="77400"/>
            </a:xfrm>
            <a:prstGeom prst="pie">
              <a:avLst/>
            </a:prstGeom>
            <a:solidFill>
              <a:srgbClr val="a56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9"/>
            <p:cNvSpPr/>
            <p:nvPr/>
          </p:nvSpPr>
          <p:spPr>
            <a:xfrm>
              <a:off x="811440" y="999000"/>
              <a:ext cx="60480" cy="74880"/>
            </a:xfrm>
            <a:prstGeom prst="pie">
              <a:avLst/>
            </a:prstGeom>
            <a:solidFill>
              <a:srgbClr val="ad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0"/>
            <p:cNvSpPr/>
            <p:nvPr/>
          </p:nvSpPr>
          <p:spPr>
            <a:xfrm>
              <a:off x="811440" y="1001520"/>
              <a:ext cx="58320" cy="69480"/>
            </a:xfrm>
            <a:prstGeom prst="pie">
              <a:avLst/>
            </a:prstGeom>
            <a:solidFill>
              <a:srgbClr val="b777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1"/>
            <p:cNvSpPr/>
            <p:nvPr/>
          </p:nvSpPr>
          <p:spPr>
            <a:xfrm>
              <a:off x="813960" y="1003680"/>
              <a:ext cx="54000" cy="68400"/>
            </a:xfrm>
            <a:prstGeom prst="pie">
              <a:avLst/>
            </a:prstGeom>
            <a:solidFill>
              <a:srgbClr val="bf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2"/>
            <p:cNvSpPr/>
            <p:nvPr/>
          </p:nvSpPr>
          <p:spPr>
            <a:xfrm>
              <a:off x="816120" y="1006200"/>
              <a:ext cx="51840" cy="63720"/>
            </a:xfrm>
            <a:prstGeom prst="pie">
              <a:avLst/>
            </a:prstGeom>
            <a:solidFill>
              <a:srgbClr val="c9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3"/>
            <p:cNvSpPr/>
            <p:nvPr/>
          </p:nvSpPr>
          <p:spPr>
            <a:xfrm>
              <a:off x="816840" y="1008000"/>
              <a:ext cx="47880" cy="60120"/>
            </a:xfrm>
            <a:prstGeom prst="pie">
              <a:avLst/>
            </a:prstGeom>
            <a:solidFill>
              <a:srgbClr val="d19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4"/>
            <p:cNvSpPr/>
            <p:nvPr/>
          </p:nvSpPr>
          <p:spPr>
            <a:xfrm>
              <a:off x="820080" y="1010880"/>
              <a:ext cx="44640" cy="55440"/>
            </a:xfrm>
            <a:prstGeom prst="pie">
              <a:avLst/>
            </a:prstGeom>
            <a:solidFill>
              <a:srgbClr val="d8a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5"/>
            <p:cNvSpPr/>
            <p:nvPr/>
          </p:nvSpPr>
          <p:spPr>
            <a:xfrm>
              <a:off x="822240" y="1014840"/>
              <a:ext cx="41400" cy="50760"/>
            </a:xfrm>
            <a:prstGeom prst="pie">
              <a:avLst/>
            </a:prstGeom>
            <a:solidFill>
              <a:srgbClr val="e2a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6"/>
            <p:cNvSpPr/>
            <p:nvPr/>
          </p:nvSpPr>
          <p:spPr>
            <a:xfrm>
              <a:off x="823320" y="1016640"/>
              <a:ext cx="37800" cy="4716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0b800f12c739caea0dd94939624c2493"/>
          <p:cNvPicPr/>
          <p:nvPr/>
        </p:nvPicPr>
        <p:blipFill>
          <a:blip r:embed="rId2"/>
          <a:stretch/>
        </p:blipFill>
        <p:spPr>
          <a:xfrm>
            <a:off x="7924680" y="304920"/>
            <a:ext cx="938160" cy="11620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5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213" name="Rectangle 16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"/>
          <p:cNvGrpSpPr/>
          <p:nvPr/>
        </p:nvGrpSpPr>
        <p:grpSpPr>
          <a:xfrm>
            <a:off x="152280" y="3809880"/>
            <a:ext cx="2819160" cy="2705040"/>
            <a:chOff x="152280" y="3809880"/>
            <a:chExt cx="2819160" cy="2705040"/>
          </a:xfrm>
        </p:grpSpPr>
        <p:sp>
          <p:nvSpPr>
            <p:cNvPr id="216" name="AutoShape 11"/>
            <p:cNvSpPr/>
            <p:nvPr/>
          </p:nvSpPr>
          <p:spPr>
            <a:xfrm>
              <a:off x="152280" y="4493880"/>
              <a:ext cx="1508040" cy="1306080"/>
            </a:xfrm>
            <a:prstGeom prst="hexagon">
              <a:avLst>
                <a:gd name="adj" fmla="val 2886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2"/>
            <p:cNvSpPr/>
            <p:nvPr/>
          </p:nvSpPr>
          <p:spPr>
            <a:xfrm>
              <a:off x="1397880" y="380988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3"/>
            <p:cNvSpPr/>
            <p:nvPr/>
          </p:nvSpPr>
          <p:spPr>
            <a:xfrm>
              <a:off x="1365120" y="520884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220" name="Rectangle 19"/>
            <p:cNvSpPr/>
            <p:nvPr/>
          </p:nvSpPr>
          <p:spPr>
            <a:xfrm flipH="1" rot="10800000">
              <a:off x="8686800" y="353880"/>
              <a:ext cx="75960" cy="648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 rot="10800000">
              <a:off x="8813520" y="595080"/>
              <a:ext cx="76320" cy="626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223" name="Rectangle 22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4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226" name="Rectangle 25"/>
            <p:cNvSpPr/>
            <p:nvPr/>
          </p:nvSpPr>
          <p:spPr>
            <a:xfrm flipH="1" rot="5400000">
              <a:off x="5565600" y="3476160"/>
              <a:ext cx="75960" cy="648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 rot="5400000">
              <a:off x="5696640" y="3459960"/>
              <a:ext cx="76320" cy="626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C2E-F4AC-478B-9B88-62B6692F3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20574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Звёздный ча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123720" y="34286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Моё здоровь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C:\Documents and Settings\admin\Рабочий стол\анимация\star5.gif"/>
          <p:cNvPicPr/>
          <p:nvPr/>
        </p:nvPicPr>
        <p:blipFill>
          <a:blip r:embed="rId1"/>
          <a:stretch/>
        </p:blipFill>
        <p:spPr>
          <a:xfrm>
            <a:off x="762120" y="304920"/>
            <a:ext cx="3581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2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ff"/>
                </a:solidFill>
                <a:latin typeface="Arial"/>
              </a:rPr>
              <a:t>Чистить зубы над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. Только ночь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2. По утра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3.Утром и вечер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Утром и вечер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Перед едой нужно обязательно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1. Поваляться в      пост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2.Вымыть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3.Поиграть с домашним питомц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Вымыть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4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Спортивная пауза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C:\Documents and Settings\admin\Рабочий стол\анимация\cat205.gif"/>
          <p:cNvPicPr/>
          <p:nvPr/>
        </p:nvPicPr>
        <p:blipFill>
          <a:blip r:embed="rId1"/>
          <a:stretch/>
        </p:blipFill>
        <p:spPr>
          <a:xfrm>
            <a:off x="4114800" y="29718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Фина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Documents and Settings\admin\Рабочий стол\анимация\glamour332.gif"/>
          <p:cNvPicPr/>
          <p:nvPr/>
        </p:nvPicPr>
        <p:blipFill>
          <a:blip r:embed="rId1"/>
          <a:stretch/>
        </p:blipFill>
        <p:spPr>
          <a:xfrm>
            <a:off x="1752480" y="1905120"/>
            <a:ext cx="2514600" cy="2300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:\Documents and Settings\admin\Рабочий стол\анимация\glamour332.gif"/>
          <p:cNvPicPr/>
          <p:nvPr/>
        </p:nvPicPr>
        <p:blipFill>
          <a:blip r:embed="rId2"/>
          <a:stretch/>
        </p:blipFill>
        <p:spPr>
          <a:xfrm>
            <a:off x="5867280" y="2819520"/>
            <a:ext cx="2514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16f8d"/>
                </a:solidFill>
                <a:latin typeface="Arial"/>
              </a:rPr>
              <a:t>Составь как можно больше слов из данного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ЗДРАВООХРА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Documents and Settings\admin\Рабочий стол\анимация\dumy-118.gif"/>
          <p:cNvPicPr/>
          <p:nvPr/>
        </p:nvPicPr>
        <p:blipFill>
          <a:blip r:embed="rId1"/>
          <a:stretch/>
        </p:blipFill>
        <p:spPr>
          <a:xfrm>
            <a:off x="380880" y="839880"/>
            <a:ext cx="716436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Представление команды</a:t>
            </a:r>
            <a:br>
              <a:rPr sz="4800"/>
            </a:b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участ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C:\Documents and Settings\admin\Рабочий стол\анимация\70.gif"/>
          <p:cNvPicPr/>
          <p:nvPr/>
        </p:nvPicPr>
        <p:blipFill>
          <a:blip r:embed="rId1"/>
          <a:stretch/>
        </p:blipFill>
        <p:spPr>
          <a:xfrm>
            <a:off x="1828800" y="1676520"/>
            <a:ext cx="541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МОЛОДЦЫ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СПАСИБО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БУДЬТЕ ЗДОРОВЫМИ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C:\Documents and Settings\admin\Рабочий стол\анимация\171.gif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Arial"/>
              </a:rPr>
              <a:t>Что такое режим дня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C:\Documents and Settings\admin\Рабочий стол\анимация\butterfly46.gif"/>
          <p:cNvPicPr/>
          <p:nvPr/>
        </p:nvPicPr>
        <p:blipFill>
          <a:blip r:embed="rId1"/>
          <a:stretch/>
        </p:blipFill>
        <p:spPr>
          <a:xfrm>
            <a:off x="5181480" y="3505320"/>
            <a:ext cx="3733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Это распорядок д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. Это такая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.Это название предм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C:\Documents and Settings\admin\Рабочий стол\анимация\dog11.gif"/>
          <p:cNvPicPr/>
          <p:nvPr/>
        </p:nvPicPr>
        <p:blipFill>
          <a:blip r:embed="rId1"/>
          <a:stretch/>
        </p:blipFill>
        <p:spPr>
          <a:xfrm>
            <a:off x="4343400" y="342900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d1a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a80"/>
                </a:solidFill>
                <a:latin typeface="Arial"/>
              </a:rPr>
              <a:t>Это распорядок дня, в котором правильно сочетаются учёба, отдых, игра и другие занят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Чтобы быть здоровым, нужно питатьс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C:\Documents and Settings\admin\Рабочий стол\анимация\jivotniea-3798.gif"/>
          <p:cNvPicPr/>
          <p:nvPr/>
        </p:nvPicPr>
        <p:blipFill>
          <a:blip r:embed="rId1"/>
          <a:stretch/>
        </p:blipFill>
        <p:spPr>
          <a:xfrm>
            <a:off x="4572000" y="36576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1. Питаться только сладостя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2. Питаться разнообраз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3. Питаться только чипсами и газированной вод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Питаться разнообраз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4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Спортивная пауза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C:\Documents and Settings\admin\Рабочий стол\анимация\cat205.gif"/>
          <p:cNvPicPr/>
          <p:nvPr/>
        </p:nvPicPr>
        <p:blipFill>
          <a:blip r:embed="rId1"/>
          <a:stretch/>
        </p:blipFill>
        <p:spPr>
          <a:xfrm>
            <a:off x="4114800" y="29718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3-03-18T18:48:36Z</dcterms:modified>
  <cp:revision>20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