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9F19-D315-4E20-B20A-CE85A065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66E-B5D0-4950-B063-15610078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E767E-D116-475A-A14D-80F589D3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2C93A-FF87-4CC3-BB7F-6F4F1FE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41D9-B264-4DE9-BDE2-891652ED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F71AA-C47C-40D7-95C2-238E8B2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400AB-69C7-4128-BB9C-8168225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B3EEB-69AB-47B5-88B9-0F14288D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2F76C-327D-4172-B526-73A63CB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7F4BA-7DEB-4082-AD73-A094362E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61840-91B1-41F3-BE31-5E254E29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EDFE9-74AA-408C-964E-D538886B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A15-05BF-4C81-B575-AE3F464A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B5F1F-8A71-4EAA-A026-0CAF01B1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0B6C6-1460-4F7B-8837-436BACEC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20E65-6A5C-41BC-9EC9-EF533AF8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B08D2-CCD7-45F3-BCC2-9D2672A1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61DF5-F2C9-4AD2-8111-545D3F8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C9C97-27AD-4EAC-874E-701F002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6E520-CB05-4EE6-82AA-962D792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35600-245D-477D-A21C-805D552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BC142-5F16-42BA-87A2-5366D034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EC849-8351-4238-811F-5960D472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6C57-4C4E-4080-9D4A-9039EDCE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0CFE7-29A8-4521-9991-0175EC7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A501E-9860-4662-B8C2-E9F8F1B8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8A5C0-C3C2-47F0-AA13-B44C9877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2BA17-EE17-42D9-97AC-C356F77A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832F0-5C01-428F-B410-9208376A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DA20-869B-4E7B-9A67-0690F38B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849F1-0C1E-47EB-937D-BB1BC01A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A0CBB-2DCC-47BE-9B43-92ABE88C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42123-5067-437B-81FF-8D3567A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4CBAC-81AE-4E17-A11D-B87EA5D7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2E86-858F-4B4C-A276-98B5D8E3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CCA30-01EC-4926-B3CB-07E1A03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1ECE-8B2F-40B4-9886-FE8831AB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3CA90-CB9E-42C5-AEC4-822C93AD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02C88-5A68-4751-AB3B-477FFEFC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51CAD-7337-4064-94C2-08D93FB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D88DD-544E-456E-98C6-6166C41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557FE-9C6E-470C-96CB-FB4CF42F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EB2E7-8EC2-4924-B07B-B606F6EC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77803-C177-4118-B2C3-16CE023D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488A3-A35D-4E0C-87EE-2B35F6F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41C9-FF7B-4C89-A22F-D0E1680C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0E54B-BFD0-4989-BDF9-D618D43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9044F-0DF5-4C2A-BEA0-BCDED407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C2578-CBA7-4843-B0DB-60DC3904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B4144-CD4C-4E7B-A436-54C3BDC6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2803A-4241-4052-BE97-70CD39F1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226-D19C-4030-A83A-580E27CC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5743-046C-4B9C-A77F-638F3C0C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913B-BA2D-41BD-AED2-E9058B8F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282-21B0-4CC5-AB43-1109CA1B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D127-E06E-4030-8115-974CDC3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1B8-3042-43CF-9DD9-FCDC234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50DF-03E6-4543-9031-209B2569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AFCE-D8B3-4E3D-8685-E906AAFE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9E39-189E-45D3-905A-E42EB2F7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4ECC-DC5A-49B0-82EB-91A7BD0E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A25-A5FD-4930-A2D8-CA77A8DD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6BEB-32DF-424C-BFA6-5DAF9313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606C-C691-43FA-AD12-8B306F97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971E0-FA56-4A8D-A6ED-9071B608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A72C-F6EE-4194-B140-CDE5C5B2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94A8-8E7E-4DA5-8A4F-ED1D31A4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E01-3EBA-464C-8619-2975DA5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432E-B6E7-4517-870B-A3718CC1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84482-CC62-4552-9E9E-4BB10398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7072-FBE4-4819-AEE7-9A760E9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05D4-A5A0-43D5-A712-A4249ED3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44D3-7A83-46E0-8A0D-4BA7C96A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EA17-07ED-4F6F-982C-EFAB26D9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308BD-F205-46DA-B545-AFA75D14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8E1D-6CDE-40D6-93ED-41A548B9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1A6B3-9BD5-4A0E-96E5-9874A59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C608-E695-45FB-814B-40B4947C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1A6-F566-4DC3-91D5-22311C0B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FBAFE-90DA-49F6-AD50-534A0DC2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3B9D-FBEF-450F-80E0-C3B4B6C1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30D8-BF9C-421A-85D4-F7893960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1D8D2-BD0F-4E84-BFF4-DC82F6B9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1043-1351-4DF9-8F1B-4441D6E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5AF3-CE61-4DC9-AA5E-65BDBFD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3B75-B143-457F-9410-558AF22C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9A4BA-0120-445F-96F6-35C5FEF7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FAF7-C24E-4E55-A4DC-76EF13CE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3758-A695-4CB5-A6E8-53404591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6EC-166D-4A0D-A40A-DB927B6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8558-A3FC-4303-A60D-7A53976B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0EFB-7BDB-4E28-990C-26A692C3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469F-62A7-4B59-9685-457B678B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0D01-F835-46EA-A5A4-81C0679E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E194F-21FC-4B7A-BD96-39EA11E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C0EDC-AF01-46F8-A341-DCF6BEE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1650-D079-47AD-AB03-92C61322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908F-F444-482B-998C-05CD5CD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7CB76-95D6-4A89-88CC-2CEB982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6347A-0652-4CB4-AEF9-57B616F8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42D-7B12-4D6A-8639-BAD4F233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ABD93-9CB3-4C49-B29D-252F8A55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199E-3F93-4370-8740-5F4000E4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F0789-0E43-494E-91CA-577C2D3A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0FD7-9F8A-4D55-96A7-4055A28F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ED8EB-206F-4859-AF8C-A145BBD2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5A33-E5ED-43FA-8AC2-FC4F202D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6214-024D-4A66-B0CC-58E1360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B3BE-AF3F-4E74-9F70-740B29D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EC0F9-F79B-4333-8364-3D745B2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364D0-8776-4E9B-960A-5E3D5F9D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F0F4-8B69-48D3-9535-8122D9C4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FE58-B6C5-42D7-937E-E462C016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4DEC-0A1C-41E4-9919-AE224532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8723-6961-41CA-AD75-9A8838D2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8D564-2029-4AB3-9704-4B895DEC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1A79-77C3-48D9-AC71-CF8F2FA9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16FDF-CCE9-463B-8353-5CE8874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63DA-ACA0-4196-858D-CC0D834B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32BD-4A87-4C3E-B31D-29CF7DD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F8FB8-240C-4545-B9ED-70A9B813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8A0E3-0340-43A2-8C12-26392283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FA9-BF01-4C5C-90B4-8CBFCE5A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B2C61-8D67-42B3-9152-BC49227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C41A7-CE55-49F3-94D9-669B6D2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16B17-8DFA-48BF-AB4B-79621FF7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C72B9-3DE6-4539-BDB7-E999C38C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314C-A8BB-4ACE-B8DC-5282606B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0E076-9361-49ED-8418-7108E665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B1E72-6715-4C4C-9F4C-BD594C3C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C5B4C-B64C-411A-BB9F-0D64D6CB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941E2-756F-417F-B206-5EB1A0B1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6869-9510-47FE-A889-169DE16C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37E-4FC5-4FD8-935A-4297A5C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36A1A-D836-4144-8051-0C50B308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8403-706C-4119-80A6-09570D0C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36B26-EBDE-4604-B871-FFA5935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3136B-FF77-4CCA-90AC-B395FFE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361E-D38D-4ADB-B646-20C29DE4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07EE4-7D79-43DB-9224-80ADD309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93F9D-1D48-4DF3-AB1B-CB1214BE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57FF8-A27B-44E2-B24B-ED7EB03E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4C2DC-8B8B-4780-AE07-2E95D132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6038F-11FC-4E71-A7C1-9326C87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0A68-EE18-44A3-98BE-8E6924EA503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7EC4-A84D-4389-A01B-BAD0FB8E1B6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ABC3-EEEE-4FA8-894D-3DF8E43592B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56BE-7D01-4EAF-A4D6-52C4C51F5B2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D94F-B93D-44E5-9112-FDE25020E2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C1B6-131D-4447-B057-537F5AF8B5E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A926-B1D3-45D0-B71A-DCAD4FC35C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5B12-1FAD-474A-AC7A-DF46155824FA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C19-901E-4256-B6A7-3ABC0B2B257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993B-9D29-4D86-963D-2687AF68244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06C9-13F4-4E1D-849D-67650EEBCBD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C84C-BD99-4F62-91CB-A01F1095891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meslennic.ru/2012/10/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image" Target="../media/image21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802720" cy="21099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85520" y="242856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ученица 6 «А» класс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БОУ ГИМНАЗ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г. Мичуринска Тамбовской област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айорова Анастас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уководитель: учитель биолог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Кондакова Ирина Анатол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6000840" y="1143000"/>
            <a:ext cx="278604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ысушенное растение содержит яд – акон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ый зуд, дыхание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ется , затем замедляется,  снижается температура тела, боль в области сердца, судороги, паралич дыхательных мышц,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 Если нет дыхания, провести искусственную вентиляцию «рот-в-ро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"/>
          <p:cNvSpPr/>
          <p:nvPr/>
        </p:nvSpPr>
        <p:spPr>
          <a:xfrm>
            <a:off x="2143080" y="1429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oni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C:\Documents and Settings\alex\Мои документы\aconitum_napellus_230705.jpg"/>
          <p:cNvPicPr/>
          <p:nvPr/>
        </p:nvPicPr>
        <p:blipFill>
          <a:blip r:embed="rId1"/>
          <a:stretch/>
        </p:blipFill>
        <p:spPr>
          <a:xfrm>
            <a:off x="285840" y="1714680"/>
            <a:ext cx="2357280" cy="3714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7212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929200" y="4500720"/>
            <a:ext cx="714600" cy="571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6000840" y="2500200"/>
            <a:ext cx="500040" cy="428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2857680" y="1714680"/>
            <a:ext cx="285732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 прямостоячим стеблем, листья глубокопальчатораздельные, цветки синие или фиол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влажных местах вдоль берегов рек и по обочинам дорог, на богатых перегноем почвах, на горных 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о всё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1"/>
          <p:cNvSpPr/>
          <p:nvPr/>
        </p:nvSpPr>
        <p:spPr>
          <a:xfrm>
            <a:off x="428760" y="3500280"/>
            <a:ext cx="3429000" cy="283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бель растения — 15—40 см высотой. Цветет в мае — июле; плодоносит в июле — августе. Растет в лесах, среди кустарников, в тенистых мес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я ядовиты, особенно корневище и ягода. Корневище вызывает рвоту, а ягоды действуют на серд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214280" y="100008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3"/>
          <p:cNvSpPr/>
          <p:nvPr/>
        </p:nvSpPr>
        <p:spPr>
          <a:xfrm>
            <a:off x="4214880" y="2643120"/>
            <a:ext cx="457200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ное растение с неприятным запахом, высота стебля 30—100 см. Цветет в июне — августе; семена созревают в июле — сентябре. Встречается около жилья, у дорог, на полях, огородах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 все части растения (особенно семена!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вление вызывает сухость полости рта, кожную сыпь, жажду, тошноту и рвоту, сердечно - сосудистые нарушения, психическое расстройство, судороги. Симптомы отравления развиваются в промежутке времени от 10 мин до 15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572080" y="928800"/>
            <a:ext cx="1733760" cy="150012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5"/>
          <p:cNvSpPr/>
          <p:nvPr/>
        </p:nvSpPr>
        <p:spPr>
          <a:xfrm>
            <a:off x="214200" y="142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6"/>
          <p:cNvSpPr/>
          <p:nvPr/>
        </p:nvSpPr>
        <p:spPr>
          <a:xfrm>
            <a:off x="442908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1"/>
          <p:cNvSpPr/>
          <p:nvPr/>
        </p:nvSpPr>
        <p:spPr>
          <a:xfrm>
            <a:off x="2428920" y="285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4"/>
          <p:cNvSpPr/>
          <p:nvPr/>
        </p:nvSpPr>
        <p:spPr>
          <a:xfrm>
            <a:off x="1785960" y="1166760"/>
            <a:ext cx="57150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ще отравляются ядовитыми растениями дети. Это случается и потому, что они не знают, какие растения ядов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растения нельзя брать в рот, некоторые даже в руки, нельзя касаться глаз. Некоторые яды находятся в соке растений, который способен растворить жир, покрывающий поверхность кожи; впитываясь в кожу и попадая в кровь, такой сок вызывает от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в окружающей вас приро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крепкого здоров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1"/>
          <p:cNvSpPr/>
          <p:nvPr/>
        </p:nvSpPr>
        <p:spPr>
          <a:xfrm>
            <a:off x="857160" y="214200"/>
            <a:ext cx="79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4"/>
          <p:cNvSpPr/>
          <p:nvPr/>
        </p:nvSpPr>
        <p:spPr>
          <a:xfrm>
            <a:off x="589320" y="1000080"/>
            <a:ext cx="48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http://remeslennic.ru/2012/1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.wikipedia.org›wiki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usltd.ru›cvet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shevi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-flowers.ru›yadovitye-rasteniy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m.ru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енка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645120" y="157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571680" y="142920"/>
            <a:ext cx="81435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ебят с опасными растениями лет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ь их о последствиях контакта с данными растения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нформацию о ядовитых растени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личные источники, определи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пасности растений и меры перв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1"/>
          <p:cNvSpPr/>
          <p:nvPr/>
        </p:nvSpPr>
        <p:spPr>
          <a:xfrm>
            <a:off x="1714680" y="714240"/>
            <a:ext cx="57150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тения, вырабатывающие и накапливающие в процессе жизнедеятельности яды, вызывающие отравления животных и человека. В мировой флоре известно более 10 тыс. видов таких растений. Многие растительные яды в небольших дозах являются ценными лечебными сред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сть и невольных «обидчиков» лучше знать в лиц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ассмотрим часто встречающиеся и наиболее опасны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стут на наших дачных участках, у дорог и в лесу, по берегам водоё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C:\Documents and Settings\alex\Мои документы\0_image_12203_1.jpg"/>
          <p:cNvPicPr/>
          <p:nvPr/>
        </p:nvPicPr>
        <p:blipFill>
          <a:blip r:embed="rId1"/>
          <a:stretch/>
        </p:blipFill>
        <p:spPr>
          <a:xfrm>
            <a:off x="571680" y="34290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C:\Documents and Settings\alex\Мои документы\i.jpg"/>
          <p:cNvPicPr/>
          <p:nvPr/>
        </p:nvPicPr>
        <p:blipFill>
          <a:blip r:embed="rId2"/>
          <a:stretch/>
        </p:blipFill>
        <p:spPr>
          <a:xfrm>
            <a:off x="6643800" y="4643280"/>
            <a:ext cx="1714320" cy="1571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:\Documents and Settings\alex\Мои документы\Ricinus_communis3.jpg"/>
          <p:cNvPicPr/>
          <p:nvPr/>
        </p:nvPicPr>
        <p:blipFill>
          <a:blip r:embed="rId3"/>
          <a:stretch/>
        </p:blipFill>
        <p:spPr>
          <a:xfrm>
            <a:off x="4714920" y="1928880"/>
            <a:ext cx="1643040" cy="1635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C:\Documents and Settings\alex\Мои документы\0_37d8a_4def234f_L.jpg"/>
          <p:cNvPicPr/>
          <p:nvPr/>
        </p:nvPicPr>
        <p:blipFill>
          <a:blip r:embed="rId4"/>
          <a:stretch/>
        </p:blipFill>
        <p:spPr>
          <a:xfrm>
            <a:off x="2643120" y="142884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C:\Documents and Settings\alex\Мои документы\24403871_akonit02b.jpg"/>
          <p:cNvPicPr/>
          <p:nvPr/>
        </p:nvPicPr>
        <p:blipFill>
          <a:blip r:embed="rId5"/>
          <a:stretch/>
        </p:blipFill>
        <p:spPr>
          <a:xfrm>
            <a:off x="2643120" y="392904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17"/>
          <p:cNvSpPr/>
          <p:nvPr/>
        </p:nvSpPr>
        <p:spPr>
          <a:xfrm>
            <a:off x="2011680" y="29289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8"/>
          <p:cNvSpPr/>
          <p:nvPr/>
        </p:nvSpPr>
        <p:spPr>
          <a:xfrm>
            <a:off x="5977800" y="62150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9"/>
          <p:cNvSpPr/>
          <p:nvPr/>
        </p:nvSpPr>
        <p:spPr>
          <a:xfrm>
            <a:off x="577440" y="50720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х ядов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0"/>
          <p:cNvSpPr/>
          <p:nvPr/>
        </p:nvSpPr>
        <p:spPr>
          <a:xfrm>
            <a:off x="4866120" y="35719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ще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1"/>
          <p:cNvSpPr/>
          <p:nvPr/>
        </p:nvSpPr>
        <p:spPr>
          <a:xfrm>
            <a:off x="2292480" y="5643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C:\Documents and Settings\alex\Мои документы\yandsearch.jpg"/>
          <p:cNvPicPr/>
          <p:nvPr/>
        </p:nvPicPr>
        <p:blipFill>
          <a:blip r:embed="rId6"/>
          <a:stretch/>
        </p:blipFill>
        <p:spPr>
          <a:xfrm>
            <a:off x="571680" y="928800"/>
            <a:ext cx="1733400" cy="1500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Documents and Settings\alex\Мои документы\yandsearch.jpg"/>
          <p:cNvPicPr/>
          <p:nvPr/>
        </p:nvPicPr>
        <p:blipFill>
          <a:blip r:embed="rId7"/>
          <a:stretch/>
        </p:blipFill>
        <p:spPr>
          <a:xfrm>
            <a:off x="6643800" y="257184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C:\Documents and Settings\alex\Мои документы\yandsearch.jpg"/>
          <p:cNvPicPr/>
          <p:nvPr/>
        </p:nvPicPr>
        <p:blipFill>
          <a:blip r:embed="rId8"/>
          <a:stretch/>
        </p:blipFill>
        <p:spPr>
          <a:xfrm>
            <a:off x="4714920" y="442908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14"/>
          <p:cNvSpPr/>
          <p:nvPr/>
        </p:nvSpPr>
        <p:spPr>
          <a:xfrm>
            <a:off x="5076000" y="60008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5"/>
          <p:cNvSpPr/>
          <p:nvPr/>
        </p:nvSpPr>
        <p:spPr>
          <a:xfrm>
            <a:off x="6789960" y="41432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6"/>
          <p:cNvSpPr/>
          <p:nvPr/>
        </p:nvSpPr>
        <p:spPr>
          <a:xfrm>
            <a:off x="650880" y="24289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7"/>
          <p:cNvSpPr/>
          <p:nvPr/>
        </p:nvSpPr>
        <p:spPr>
          <a:xfrm>
            <a:off x="1214280" y="0"/>
            <a:ext cx="69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до знать в «лиц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"/>
          <p:cNvSpPr/>
          <p:nvPr/>
        </p:nvSpPr>
        <p:spPr>
          <a:xfrm>
            <a:off x="1071720" y="35712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643040" y="2000160"/>
            <a:ext cx="928800" cy="107172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3"/>
          <p:cNvSpPr/>
          <p:nvPr/>
        </p:nvSpPr>
        <p:spPr>
          <a:xfrm>
            <a:off x="1071720" y="1071720"/>
            <a:ext cx="6929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ны                  Симптомы от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                  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C:\Documents and Settings\alex\Мои документы\9f5971ad5b4a27c3e20c5c0815e_prev.jpg"/>
          <p:cNvPicPr/>
          <p:nvPr/>
        </p:nvPicPr>
        <p:blipFill>
          <a:blip r:embed="rId2"/>
          <a:stretch/>
        </p:blipFill>
        <p:spPr>
          <a:xfrm>
            <a:off x="1500120" y="385776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286240" y="37148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500800" y="207180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Прямоугольник 4"/>
          <p:cNvSpPr/>
          <p:nvPr/>
        </p:nvSpPr>
        <p:spPr>
          <a:xfrm>
            <a:off x="5929200" y="1214280"/>
            <a:ext cx="300060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окумарины в сок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тягивают» ультрафиоле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зают стебли, чтобы сделать дудочки, прикасаются к млечному соку и получают тяжёлые ож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сока на коже приводит к солнечному ожогу на кож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лдыри), дыхательный аллерг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 промыть кожу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2071800" y="214200"/>
            <a:ext cx="59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acleym sphondylium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C:\Documents and Settings\alex\Мои документы\b9d501965f31.jpg"/>
          <p:cNvPicPr/>
          <p:nvPr/>
        </p:nvPicPr>
        <p:blipFill>
          <a:blip r:embed="rId1"/>
          <a:stretch/>
        </p:blipFill>
        <p:spPr>
          <a:xfrm>
            <a:off x="285840" y="2286000"/>
            <a:ext cx="2262240" cy="3357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00840" y="1214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C:\Documents and Settings\alex\Мои документы\9f5971ad5b4a27c3e20c5c0815e_prev.jpg"/>
          <p:cNvPicPr/>
          <p:nvPr/>
        </p:nvPicPr>
        <p:blipFill>
          <a:blip r:embed="rId3"/>
          <a:stretch/>
        </p:blipFill>
        <p:spPr>
          <a:xfrm>
            <a:off x="6000840" y="25718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C:\Documents and Settings\alex\Мои документы\bd885714dbc499d759b400ccc9622945.gif"/>
          <p:cNvPicPr/>
          <p:nvPr/>
        </p:nvPicPr>
        <p:blipFill>
          <a:blip r:embed="rId4"/>
          <a:stretch/>
        </p:blipFill>
        <p:spPr>
          <a:xfrm>
            <a:off x="5857920" y="578628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C:\Documents and Settings\alex\Мои документы\NZ015w8_enl.jpg"/>
          <p:cNvPicPr/>
          <p:nvPr/>
        </p:nvPicPr>
        <p:blipFill>
          <a:blip r:embed="rId5"/>
          <a:stretch/>
        </p:blipFill>
        <p:spPr>
          <a:xfrm>
            <a:off x="6000840" y="4214880"/>
            <a:ext cx="500040" cy="3571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0"/>
          <p:cNvSpPr/>
          <p:nvPr/>
        </p:nvSpPr>
        <p:spPr>
          <a:xfrm>
            <a:off x="2714760" y="1643040"/>
            <a:ext cx="307152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летнее растение с мощным полым, ребристым стеблем, растущим до 150 см. Стебель покрыт жесткими волосками, ветви находятся в его верхней части, листья крупные Имеет приятный пряный слабо улавливаемый зап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в июне-июле. Белые цветы собраны в крупный зонтик. Плоды борщевика (двузерновка) появляются в авгу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полях, пустырях, по берегам водоё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C:\Documents and Settings\alex\Мои документы\0_37d8a_4def234f_L.jpg"/>
          <p:cNvPicPr/>
          <p:nvPr/>
        </p:nvPicPr>
        <p:blipFill>
          <a:blip r:embed="rId1"/>
          <a:stretch/>
        </p:blipFill>
        <p:spPr>
          <a:xfrm>
            <a:off x="3000240" y="450072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C:\Documents and Settings\alex\Мои документы\0_23629_986642f1_L.jpg"/>
          <p:cNvPicPr/>
          <p:nvPr/>
        </p:nvPicPr>
        <p:blipFill>
          <a:blip r:embed="rId2"/>
          <a:stretch/>
        </p:blipFill>
        <p:spPr>
          <a:xfrm>
            <a:off x="2928960" y="250020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C:\Documents and Settings\alex\Мои документы\2525_497_big.jpg"/>
          <p:cNvPicPr/>
          <p:nvPr/>
        </p:nvPicPr>
        <p:blipFill>
          <a:blip r:embed="rId3"/>
          <a:stretch/>
        </p:blipFill>
        <p:spPr>
          <a:xfrm>
            <a:off x="285840" y="2571840"/>
            <a:ext cx="2571840" cy="38574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0"/>
          <p:cNvSpPr/>
          <p:nvPr/>
        </p:nvSpPr>
        <p:spPr>
          <a:xfrm>
            <a:off x="1428840" y="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1"/>
          <p:cNvSpPr/>
          <p:nvPr/>
        </p:nvSpPr>
        <p:spPr>
          <a:xfrm>
            <a:off x="357120" y="1143000"/>
            <a:ext cx="4857840" cy="119124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ий кустарник до 180 см в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красные, вытянутые, дети часто путают их с барбари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2"/>
          <p:cNvSpPr/>
          <p:nvPr/>
        </p:nvSpPr>
        <p:spPr>
          <a:xfrm>
            <a:off x="5572080" y="1285920"/>
            <a:ext cx="3214800" cy="503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токсичны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моторное возбуждение, галлюцинации, бред., тахикардия, головная боль, головокружение, расширение зрачков, сухость в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р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3"/>
          <p:cNvSpPr/>
          <p:nvPr/>
        </p:nvSpPr>
        <p:spPr>
          <a:xfrm>
            <a:off x="5580720" y="642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anum dulcam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C:\Documents and Settings\alex\Мои документы\yandsearch.jpg"/>
          <p:cNvPicPr/>
          <p:nvPr/>
        </p:nvPicPr>
        <p:blipFill>
          <a:blip r:embed="rId4"/>
          <a:stretch/>
        </p:blipFill>
        <p:spPr>
          <a:xfrm>
            <a:off x="5643720" y="1500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C:\Documents and Settings\alex\Мои документы\bd885714dbc499d759b400ccc9622945.gif"/>
          <p:cNvPicPr/>
          <p:nvPr/>
        </p:nvPicPr>
        <p:blipFill>
          <a:blip r:embed="rId5"/>
          <a:stretch/>
        </p:blipFill>
        <p:spPr>
          <a:xfrm>
            <a:off x="5500800" y="4500720"/>
            <a:ext cx="714240" cy="428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C:\Documents and Settings\alex\Мои документы\NZ015w8_enl.jpg"/>
          <p:cNvPicPr/>
          <p:nvPr/>
        </p:nvPicPr>
        <p:blipFill>
          <a:blip r:embed="rId6"/>
          <a:stretch/>
        </p:blipFill>
        <p:spPr>
          <a:xfrm>
            <a:off x="5572080" y="228600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428760" y="0"/>
            <a:ext cx="792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ёх ядовитый, он же цик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cuta vir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357120" y="1571760"/>
            <a:ext cx="421488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по берегам стоячих водоёмов, в сырых местах, иногда в самой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ёт в июле – августе. Цветки мелкие, белые, собраны в сложный зон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перистые, двояко – трояко рассечённые, стебли ветвистые пол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округлые, корневище толстое, разделено поперечными перегородками на отдельные камеры, заполненные жёлтым соком – в малых дозах смертельно оп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вещества содержатся во всех частях, особенно в корневище и молодых побе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C:\Documents and Settings\alex\Мои документы\dddddd10.jpg"/>
          <p:cNvPicPr/>
          <p:nvPr/>
        </p:nvPicPr>
        <p:blipFill>
          <a:blip r:embed="rId1"/>
          <a:stretch/>
        </p:blipFill>
        <p:spPr>
          <a:xfrm>
            <a:off x="5357880" y="64296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4"/>
          <p:cNvSpPr/>
          <p:nvPr/>
        </p:nvSpPr>
        <p:spPr>
          <a:xfrm>
            <a:off x="4857840" y="3071880"/>
            <a:ext cx="3714840" cy="366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роток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в животе, головная боль, головокружение, слабость, тошнота, рвота, затруднение дыхания, бледность кожи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48578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4786200" y="514368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4857840" y="3786120"/>
            <a:ext cx="428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5643720" y="1785960"/>
            <a:ext cx="3214440" cy="393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енах опасный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 – риц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отравления возникают через 15 часов, иногда через 3-е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излияние в сетчатку глаз, тошнота, рвота, боль в животе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22860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ещ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cinus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un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3"/>
          <p:cNvSpPr/>
          <p:nvPr/>
        </p:nvSpPr>
        <p:spPr>
          <a:xfrm>
            <a:off x="285840" y="3500280"/>
            <a:ext cx="5000400" cy="2837160"/>
          </a:xfrm>
          <a:prstGeom prst="rect">
            <a:avLst/>
          </a:prstGeom>
          <a:solidFill>
            <a:srgbClr val="c4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высотой до 2-3 метров. Стебли прямые, листья пальчатораздельные, цветки малодекоративные. Выращивают в садах, цветниках. Ядовиты семена. Алкалоид рицин называют "одним из наиболее мощных известных токсинов". Это вещество, получаемое из касторовых бобов (плод клещевины), во много раз токсичнее цианистого калия, газа зарин и яда кобры. Поражаются клетки легких, печени, п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C:\Documents and Settings\alex\Мои документы\721288DEF3424408B18F8E31D36DA6F0.jpg"/>
          <p:cNvPicPr/>
          <p:nvPr/>
        </p:nvPicPr>
        <p:blipFill>
          <a:blip r:embed="rId1"/>
          <a:stretch/>
        </p:blipFill>
        <p:spPr>
          <a:xfrm>
            <a:off x="1643040" y="85716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572080" y="4714920"/>
            <a:ext cx="714600" cy="428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715000" y="278604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1:27:42Z</dcterms:created>
  <dc:creator>alex</dc:creator>
  <dc:description/>
  <dc:language>en-US</dc:language>
  <cp:lastModifiedBy>alex</cp:lastModifiedBy>
  <dcterms:modified xsi:type="dcterms:W3CDTF">2013-04-11T12:35:07Z</dcterms:modified>
  <cp:revision>61</cp:revision>
  <dc:subject/>
  <dc:title>Слайд 1</dc:title>
</cp:coreProperties>
</file>