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440-7BCB-457C-BF6E-ABCE29AC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857-4D35-4515-B619-AA889BB7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25F78-D516-42B2-923F-51BA5C30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14442-0E75-4222-B7B0-914C26D1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0D94D-F7DE-4AF7-9F89-FEFECB39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842FA-59C4-4730-A6F5-64B4F5E9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66E9E-E819-46D3-8D63-F64E04BC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8EDBE-10E3-4753-8760-57797ED8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E257F-8A2D-4AC9-8ACF-A1CD4F6B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C16AE-BA22-4D78-AB70-503C1DA9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9D159-9436-4F3B-85F8-382F718B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ED3BD-2F37-4EF0-AC43-187715D8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BEF-4F82-400F-BFC9-9E0E86F7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AFC9B-CEBC-4210-B6B6-B42FA137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A41A0-AE29-4784-A2D8-EA6C6F94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A9DEC-2C13-4AFD-96E0-A497C380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E96E7-6F10-4A61-9314-19898B8C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608D2-DDF7-49CA-BD1D-6FE55E9A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13820-6B89-4E8D-AC96-5DEEFEF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68FF1-65DC-4392-9DEB-7A3A42A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D07DB-57B6-4795-85ED-3E7DA9D1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18107-13EB-4C14-9529-91AE104C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C7793-358C-4753-A5A1-2246472D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6D0-CF60-48C3-9E0B-7DF2BF16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14129-33B1-4848-8CB8-2E6259DC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8A6F7-B66A-4433-B686-50644C9A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CE058-F469-4205-BB4B-8982890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B5285-9FCD-4CEA-B581-9EB84C6A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4460E-8150-4FB9-A097-772CA111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5D3D6-8654-4F6C-94F3-EFA6577B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408F1-88E8-4027-9FB7-76EB4D00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4AD2D-D0C2-48DA-943B-34A3EA6E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A743D-E29E-410E-B273-7393D3B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99BB8-EECB-4D8E-9413-D169CAC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2407-C146-4080-8DAE-38BAC4F8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52FFF-5128-4F9B-A765-376D3B9E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557F8-0013-41EA-B565-1DFEBB6E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925C6-A0CD-4CD7-8905-FCA7D903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6EF05-62B2-4D1C-85FC-10B87009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62E40-3E54-4E22-A62A-441E2F2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9D2EE-846A-4713-92B7-2A275356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73AED-012E-4C49-AD9A-5D550379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57171-2B4F-487A-9422-ED934359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CDC9A-ED14-4521-B9EE-B0FADF72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695D2-6A0B-4B07-A3F0-A0D762BC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01C0-3D5C-4151-ADF4-6A829C10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E64E9-50AC-4E9F-BEA3-18F30043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00230-1A9A-4510-81EB-809C428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9B18F-C1FC-491D-B379-D99C7FFD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9F7B7-C1AF-4047-B8C0-5938D3C8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14585-BE84-41BB-AEF9-C96FC204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DDA0-EA43-48DF-873D-FF0A179A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31D-5065-4AA3-BE9F-35667DB6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7FB4-C832-44B8-99E0-51A94BA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9870-74E4-4145-942A-740844DB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060C-F45A-4B5D-B877-D244D62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E73-38E4-4F8A-A675-D5B7A067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841E-C407-4B5B-93DD-D0BF0005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A48E-9C02-461F-872A-36BC671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FF0D-B822-4CF4-A095-DBE7B38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CFED-BCEB-4F93-A008-BDD0331C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833D-B187-45C5-9B9C-BA3C363F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DCD8-8B80-4185-AFB9-E931124E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F0AE-9FC3-4232-B16D-1C94531E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99ED-CE6F-4CF9-9F99-E7CA415B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1588-3CDE-4E7C-BC46-8F4E621B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E7C9-F058-4BA6-A188-44D1AFE3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AA2-30A4-4C8B-84AB-C290D8BB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8A27-385D-4B1B-832C-C7D83316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E47D-AD5C-4917-9A01-DF7D3BE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2E7B-1D21-4168-85EB-F8184492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8008-CB46-4D19-81AC-9B327F68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6D60-1E1B-4857-8E38-127EFDBB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7829-18CB-4EDB-B164-B5FF4CAD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742E-15EE-4BF8-AD0B-EE4157C8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FBFC-7BC8-4150-ACD1-7A08334D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498B-9040-47DF-AC6D-EFA703F2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4805-B0E6-4F81-AAD1-1B0A4F2C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B86-D96D-4FA0-9181-FC228E12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05CE4-231D-4715-82CA-B2C75017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4849-A9FB-47CB-93F9-AB890B91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3193B-37E5-4020-8FAE-FA238CCF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FD946-3AC2-48CC-9B3F-A0705B0E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C9029-3CD5-48CA-8A21-3F3CB47A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36FF-674A-4586-BB53-12464AB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52FB-72D8-4DEE-8953-4E648760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9927-8E10-4EA1-8324-07E6E4A2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8ECE7-3F83-4850-8492-DAC940B2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0086-4302-49A4-8F98-A99E2B40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F80-ECC4-4AC7-9246-2D5F715E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B5A3-5066-483D-9C81-EAE2C910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D2E6D-44F9-44AB-B6F8-1D69EBD4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E358-3962-4175-87A1-F9794F1E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DFF9B-F190-4150-8E69-21CF8005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96FB7-6B19-4D59-810C-3EE026F8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AE43-4186-4E29-B3AA-78013A5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E3B80-ED49-43FA-9572-EBC08D3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323F-8DE1-4F28-A41F-6848CC62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3C31-69BC-4D13-B65E-FD63F159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066B4-1B3D-4843-B179-8BE48FE4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056-AB0C-412B-8B06-C3785047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701A5-4321-4933-A319-42F19A6B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B5CE3-DFFC-46DF-8EBC-201934BC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462A1-D668-4762-A125-C8D7A053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99B63-0C12-41AC-A28E-1DA2D45C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018B2-05C5-4F63-A85E-5FCA2BA7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1289-4190-476D-8D7F-EC8F89A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9314-E3E7-41F6-AE90-A8788038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69B5D-D102-42C9-87B9-F1596BC8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0291A-A149-4E07-82D1-F346D51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A2557-AE63-4020-A47A-D412C7FD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56E-E3A3-4BA5-837A-4623F742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14769-CA58-40C1-B016-21301A39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854DA-CEDE-4E7C-89A4-6693C17A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90DBB-5021-40D0-BD23-E2BAD997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5311-0875-47E5-8635-239D85CA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447F8-A8D2-43AB-8DA0-A9165793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DE949-823B-44D7-999A-153D1AE0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FC383-8D48-4B88-B3E0-B133B26D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5892-80D5-41A0-BE26-7992F304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95E6E-6C29-4E07-9F84-EDE4C841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B8CE9-2D3D-4F5C-A090-C8455FAC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716-120F-48A9-BBED-7A527020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DCADA-9E4F-487A-B1CD-6F0C0F51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1B01B-9DA8-4ECA-A757-BE3532C6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96BA-EE9B-414F-9744-A74F3958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0A329-32EB-44DC-BD5C-079215C9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D28F6-C0B7-464C-A796-5A8B519F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27C87-5D20-49DF-BC11-0EA79716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40CB-027D-47B2-B9DC-FCBFFC70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5912-FAA7-4908-A6E3-D689AFF2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AF663-56BD-4CD2-BE9F-8F7555F4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8BDB8-3912-439A-AB3D-EBD0222E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7FA-BFCC-4BAD-BA00-1276C7A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F25B-43E0-4972-83DD-B77FF3DC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60F2D-9984-4C31-92CE-9C663512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670EE-0C88-4047-90C8-5E6DF9D7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024DD-4D77-45A7-9811-B549005E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DD312-2130-4854-8B10-3AFC52AD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B2CB5-6BCD-495B-A029-551502BB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E1826-540C-4107-8E08-7B6E4AA0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2B6C0-443F-4085-BB7E-88E3F2F2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913FF-9CF7-4487-B61C-CC47D98C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22BA2-2FCE-41B2-8C45-C17D648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34FE-1642-4AAB-953F-818AA7F00E1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2122-F48A-485D-AD4D-3DEAEBEAFDF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2B21-1C45-4F93-BD53-65B843587B9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BFCB-1534-4F1B-8CAD-6C3CEE02AA0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E8FF-A855-4DF9-88CF-8F12247DFE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0254-B1DB-4A9F-9B32-B9CC34BC3D7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67E4-DB0B-4B79-B722-4678284AD2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657A-6585-40CD-BF61-B508AC2BFEB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BEC3-11A8-40B3-9212-F74CAFD7A7C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B039-E54B-4220-9F83-C53C96816EC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FF5B-F05E-4493-8121-4325E5FB47C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BF3-0B16-4D7A-9638-6FA271C6902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meslennic.ru/2012/10/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1.jpeg"/><Relationship Id="rId3" Type="http://schemas.openxmlformats.org/officeDocument/2006/relationships/image" Target="../media/image21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133200" y="109440"/>
            <a:ext cx="8802720" cy="21099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85520" y="242856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Работу выполнил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ученица 6 «А» класс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МБОУ ГИМНАЗ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г. Мичуринска Тамбовской област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Майорова Анастас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Руководитель: учитель биологи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Кондакова Ирина Анатольев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1"/>
          <p:cNvSpPr/>
          <p:nvPr/>
        </p:nvSpPr>
        <p:spPr>
          <a:xfrm>
            <a:off x="6000840" y="1143000"/>
            <a:ext cx="2786040" cy="5306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ысушенное растение содержит яд – акони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ый зуд, дыхание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ется , затем замедляется,  снижается температура тела, боль в области сердца, судороги, паралич дыхательных мышц, смер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доставить в медицинское учреждение. Если нет дыхания, провести искусственную вентиляцию «рот-в-ро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2"/>
          <p:cNvSpPr/>
          <p:nvPr/>
        </p:nvSpPr>
        <p:spPr>
          <a:xfrm>
            <a:off x="2143080" y="14292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ец, он же ак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oni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C:\Documents and Settings\alex\Мои документы\aconitum_napellus_230705.jpg"/>
          <p:cNvPicPr/>
          <p:nvPr/>
        </p:nvPicPr>
        <p:blipFill>
          <a:blip r:embed="rId1"/>
          <a:stretch/>
        </p:blipFill>
        <p:spPr>
          <a:xfrm>
            <a:off x="285840" y="1714680"/>
            <a:ext cx="2357280" cy="3714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6072120" y="1357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929200" y="4500720"/>
            <a:ext cx="714600" cy="571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6000840" y="2500200"/>
            <a:ext cx="500040" cy="428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7"/>
          <p:cNvSpPr/>
          <p:nvPr/>
        </p:nvSpPr>
        <p:spPr>
          <a:xfrm>
            <a:off x="2857680" y="1714680"/>
            <a:ext cx="2857320" cy="366012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 прямостоячим стеблем, листья глубокопальчатораздельные, цветки синие или фиол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на влажных местах вдоль берегов рек и по обочинам дорог, на богатых перегноем почвах, на горных 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о всё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1"/>
          <p:cNvSpPr/>
          <p:nvPr/>
        </p:nvSpPr>
        <p:spPr>
          <a:xfrm>
            <a:off x="428760" y="3500280"/>
            <a:ext cx="3429000" cy="283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бель растения — 15—40 см высотой. Цветет в мае — июле; плодоносит в июле — августе. Растет в лесах, среди кустарников, в тенистых мес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растения ядовиты, особенно корневище и ягода. Корневище вызывает рвоту, а ягоды действуют на серд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C:\Documents and Settings\alex\Мои документы\yandsearch.jpg"/>
          <p:cNvPicPr/>
          <p:nvPr/>
        </p:nvPicPr>
        <p:blipFill>
          <a:blip r:embed="rId1"/>
          <a:stretch/>
        </p:blipFill>
        <p:spPr>
          <a:xfrm>
            <a:off x="1214280" y="1000080"/>
            <a:ext cx="1714680" cy="142884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3"/>
          <p:cNvSpPr/>
          <p:nvPr/>
        </p:nvSpPr>
        <p:spPr>
          <a:xfrm>
            <a:off x="4214880" y="2643120"/>
            <a:ext cx="4572000" cy="366012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ное растение с неприятным запахом, высота стебля 30—100 см. Цветет в июне — августе; семена созревают в июле — сентябре. Встречается около жилья, у дорог, на полях, огородах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 все части растения (особенно семена!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вление вызывает сухость полости рта, кожную сыпь, жажду, тошноту и рвоту, сердечно - сосудистые нарушения, психическое расстройство, судороги. Симптомы отравления развиваются в промежутке времени от 10 мин до 15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5572080" y="928800"/>
            <a:ext cx="1733760" cy="150012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5"/>
          <p:cNvSpPr/>
          <p:nvPr/>
        </p:nvSpPr>
        <p:spPr>
          <a:xfrm>
            <a:off x="214200" y="142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роний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6"/>
          <p:cNvSpPr/>
          <p:nvPr/>
        </p:nvSpPr>
        <p:spPr>
          <a:xfrm>
            <a:off x="442908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ена чё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Прямоугольник 1"/>
          <p:cNvSpPr/>
          <p:nvPr/>
        </p:nvSpPr>
        <p:spPr>
          <a:xfrm>
            <a:off x="2428920" y="2858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4"/>
          <p:cNvSpPr/>
          <p:nvPr/>
        </p:nvSpPr>
        <p:spPr>
          <a:xfrm>
            <a:off x="1785960" y="1166760"/>
            <a:ext cx="57150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ще отравляются ядовитыми растениями дети. Это случается и потому, что они не знают, какие растения ядов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растения нельзя брать в рот, некоторые даже в руки, нельзя касаться глаз. Некоторые яды находятся в соке растений, который способен растворить жир, покрывающий поверхность кожи; впитываясь в кожу и попадая в кровь, такой сок вызывает от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в окружающей вас приро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вам крепкого здоров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Прямоугольник 1"/>
          <p:cNvSpPr/>
          <p:nvPr/>
        </p:nvSpPr>
        <p:spPr>
          <a:xfrm>
            <a:off x="857160" y="214200"/>
            <a:ext cx="79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4"/>
          <p:cNvSpPr/>
          <p:nvPr/>
        </p:nvSpPr>
        <p:spPr>
          <a:xfrm>
            <a:off x="589320" y="1000080"/>
            <a:ext cx="48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http://remeslennic.ru/2012/1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.wikipedia.org›wiki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usltd.ru›cvet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shevi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-flowers.ru›yadovitye-rasteniy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m.ru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ребенка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3"/>
          <p:cNvSpPr/>
          <p:nvPr/>
        </p:nvSpPr>
        <p:spPr>
          <a:xfrm>
            <a:off x="645120" y="1571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"/>
          <p:cNvSpPr/>
          <p:nvPr/>
        </p:nvSpPr>
        <p:spPr>
          <a:xfrm>
            <a:off x="571680" y="142920"/>
            <a:ext cx="81435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ребят с опасными растениями лет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ть их о последствиях контакта с данными растениям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информацию о ядовитых растени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азличные источники, определит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пасности растений и меры перв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1"/>
          <p:cNvSpPr/>
          <p:nvPr/>
        </p:nvSpPr>
        <p:spPr>
          <a:xfrm>
            <a:off x="1714680" y="714240"/>
            <a:ext cx="57150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тения, вырабатывающие и накапливающие в процессе жизнедеятельности яды, вызывающие отравления животных и человека. В мировой флоре известно более 10 тыс. видов таких растений. Многие растительные яды в небольших дозах являются ценными лечебными сред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сть и невольных «обидчиков» лучше знать в лиц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рассмотрим часто встречающиеся и наиболее опасны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растут на наших дачных участках, у дорог и в лесу, по берегам водоё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" descr="C:\Documents and Settings\alex\Мои документы\0_image_12203_1.jpg"/>
          <p:cNvPicPr/>
          <p:nvPr/>
        </p:nvPicPr>
        <p:blipFill>
          <a:blip r:embed="rId1"/>
          <a:stretch/>
        </p:blipFill>
        <p:spPr>
          <a:xfrm>
            <a:off x="571680" y="342900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C:\Documents and Settings\alex\Мои документы\i.jpg"/>
          <p:cNvPicPr/>
          <p:nvPr/>
        </p:nvPicPr>
        <p:blipFill>
          <a:blip r:embed="rId2"/>
          <a:stretch/>
        </p:blipFill>
        <p:spPr>
          <a:xfrm>
            <a:off x="6643800" y="4643280"/>
            <a:ext cx="1714320" cy="1571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C:\Documents and Settings\alex\Мои документы\Ricinus_communis3.jpg"/>
          <p:cNvPicPr/>
          <p:nvPr/>
        </p:nvPicPr>
        <p:blipFill>
          <a:blip r:embed="rId3"/>
          <a:stretch/>
        </p:blipFill>
        <p:spPr>
          <a:xfrm>
            <a:off x="4714920" y="1928880"/>
            <a:ext cx="1643040" cy="1635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C:\Documents and Settings\alex\Мои документы\0_37d8a_4def234f_L.jpg"/>
          <p:cNvPicPr/>
          <p:nvPr/>
        </p:nvPicPr>
        <p:blipFill>
          <a:blip r:embed="rId4"/>
          <a:stretch/>
        </p:blipFill>
        <p:spPr>
          <a:xfrm>
            <a:off x="2643120" y="142884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C:\Documents and Settings\alex\Мои документы\24403871_akonit02b.jpg"/>
          <p:cNvPicPr/>
          <p:nvPr/>
        </p:nvPicPr>
        <p:blipFill>
          <a:blip r:embed="rId5"/>
          <a:stretch/>
        </p:blipFill>
        <p:spPr>
          <a:xfrm>
            <a:off x="2643120" y="392904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оугольник 17"/>
          <p:cNvSpPr/>
          <p:nvPr/>
        </p:nvSpPr>
        <p:spPr>
          <a:xfrm>
            <a:off x="2011680" y="29289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лён сладко –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8"/>
          <p:cNvSpPr/>
          <p:nvPr/>
        </p:nvSpPr>
        <p:spPr>
          <a:xfrm>
            <a:off x="5977800" y="621504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щевик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9"/>
          <p:cNvSpPr/>
          <p:nvPr/>
        </p:nvSpPr>
        <p:spPr>
          <a:xfrm>
            <a:off x="577440" y="50720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ёх ядови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0"/>
          <p:cNvSpPr/>
          <p:nvPr/>
        </p:nvSpPr>
        <p:spPr>
          <a:xfrm>
            <a:off x="4866120" y="35719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ще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21"/>
          <p:cNvSpPr/>
          <p:nvPr/>
        </p:nvSpPr>
        <p:spPr>
          <a:xfrm>
            <a:off x="2292480" y="5643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, он же ак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C:\Documents and Settings\alex\Мои документы\yandsearch.jpg"/>
          <p:cNvPicPr/>
          <p:nvPr/>
        </p:nvPicPr>
        <p:blipFill>
          <a:blip r:embed="rId6"/>
          <a:stretch/>
        </p:blipFill>
        <p:spPr>
          <a:xfrm>
            <a:off x="571680" y="928800"/>
            <a:ext cx="1733400" cy="1500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:\Documents and Settings\alex\Мои документы\yandsearch.jpg"/>
          <p:cNvPicPr/>
          <p:nvPr/>
        </p:nvPicPr>
        <p:blipFill>
          <a:blip r:embed="rId7"/>
          <a:stretch/>
        </p:blipFill>
        <p:spPr>
          <a:xfrm>
            <a:off x="6643800" y="257184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C:\Documents and Settings\alex\Мои документы\yandsearch.jpg"/>
          <p:cNvPicPr/>
          <p:nvPr/>
        </p:nvPicPr>
        <p:blipFill>
          <a:blip r:embed="rId8"/>
          <a:stretch/>
        </p:blipFill>
        <p:spPr>
          <a:xfrm>
            <a:off x="4714920" y="442908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14"/>
          <p:cNvSpPr/>
          <p:nvPr/>
        </p:nvSpPr>
        <p:spPr>
          <a:xfrm>
            <a:off x="5076000" y="60008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5"/>
          <p:cNvSpPr/>
          <p:nvPr/>
        </p:nvSpPr>
        <p:spPr>
          <a:xfrm>
            <a:off x="6789960" y="41432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ий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6"/>
          <p:cNvSpPr/>
          <p:nvPr/>
        </p:nvSpPr>
        <p:spPr>
          <a:xfrm>
            <a:off x="650880" y="24289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на чё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7"/>
          <p:cNvSpPr/>
          <p:nvPr/>
        </p:nvSpPr>
        <p:spPr>
          <a:xfrm>
            <a:off x="1214280" y="0"/>
            <a:ext cx="69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до знать в «лиц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1"/>
          <p:cNvSpPr/>
          <p:nvPr/>
        </p:nvSpPr>
        <p:spPr>
          <a:xfrm>
            <a:off x="1071720" y="35712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C:\Documents and Settings\alex\Мои документы\yandsearch.jpg"/>
          <p:cNvPicPr/>
          <p:nvPr/>
        </p:nvPicPr>
        <p:blipFill>
          <a:blip r:embed="rId1"/>
          <a:stretch/>
        </p:blipFill>
        <p:spPr>
          <a:xfrm>
            <a:off x="1643040" y="2000160"/>
            <a:ext cx="928800" cy="107172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3"/>
          <p:cNvSpPr/>
          <p:nvPr/>
        </p:nvSpPr>
        <p:spPr>
          <a:xfrm>
            <a:off x="1071720" y="1071720"/>
            <a:ext cx="6929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ны                  Симптомы от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ь                   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C:\Documents and Settings\alex\Мои документы\9f5971ad5b4a27c3e20c5c0815e_prev.jpg"/>
          <p:cNvPicPr/>
          <p:nvPr/>
        </p:nvPicPr>
        <p:blipFill>
          <a:blip r:embed="rId2"/>
          <a:stretch/>
        </p:blipFill>
        <p:spPr>
          <a:xfrm>
            <a:off x="1500120" y="385776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286240" y="3714840"/>
            <a:ext cx="1571760" cy="1143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5500800" y="2071800"/>
            <a:ext cx="1000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Прямоугольник 4"/>
          <p:cNvSpPr/>
          <p:nvPr/>
        </p:nvSpPr>
        <p:spPr>
          <a:xfrm>
            <a:off x="5929200" y="1214280"/>
            <a:ext cx="3000600" cy="5306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окумарины в сок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тягивают» ультрафиоле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зают стебли, чтобы сделать дудочки, прикасаются к млечному соку и получают тяжёлые ож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сока на коже приводит к солнечному ожогу на кож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лдыри), дыхательный аллерг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 промыть кожу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2071800" y="214200"/>
            <a:ext cx="59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щевик обыкно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acleym sphondylium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C:\Documents and Settings\alex\Мои документы\b9d501965f31.jpg"/>
          <p:cNvPicPr/>
          <p:nvPr/>
        </p:nvPicPr>
        <p:blipFill>
          <a:blip r:embed="rId1"/>
          <a:stretch/>
        </p:blipFill>
        <p:spPr>
          <a:xfrm>
            <a:off x="285840" y="2286000"/>
            <a:ext cx="2262240" cy="3357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6000840" y="1214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C:\Documents and Settings\alex\Мои документы\9f5971ad5b4a27c3e20c5c0815e_prev.jpg"/>
          <p:cNvPicPr/>
          <p:nvPr/>
        </p:nvPicPr>
        <p:blipFill>
          <a:blip r:embed="rId3"/>
          <a:stretch/>
        </p:blipFill>
        <p:spPr>
          <a:xfrm>
            <a:off x="6000840" y="257184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C:\Documents and Settings\alex\Мои документы\bd885714dbc499d759b400ccc9622945.gif"/>
          <p:cNvPicPr/>
          <p:nvPr/>
        </p:nvPicPr>
        <p:blipFill>
          <a:blip r:embed="rId4"/>
          <a:stretch/>
        </p:blipFill>
        <p:spPr>
          <a:xfrm>
            <a:off x="5857920" y="578628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C:\Documents and Settings\alex\Мои документы\NZ015w8_enl.jpg"/>
          <p:cNvPicPr/>
          <p:nvPr/>
        </p:nvPicPr>
        <p:blipFill>
          <a:blip r:embed="rId5"/>
          <a:stretch/>
        </p:blipFill>
        <p:spPr>
          <a:xfrm>
            <a:off x="6000840" y="4214880"/>
            <a:ext cx="500040" cy="35712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10"/>
          <p:cNvSpPr/>
          <p:nvPr/>
        </p:nvSpPr>
        <p:spPr>
          <a:xfrm>
            <a:off x="2714760" y="1643040"/>
            <a:ext cx="3071520" cy="448308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летнее растение с мощным полым, ребристым стеблем, растущим до 150 см. Стебель покрыт жесткими волосками, ветви находятся в его верхней части, листья крупные Имеет приятный пряный слабо улавливаемый зап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в июне-июле. Белые цветы собраны в крупный зонтик. Плоды борщевика (двузерновка) появляются в авгус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на полях, пустырях, по берегам водоё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C:\Documents and Settings\alex\Мои документы\0_37d8a_4def234f_L.jpg"/>
          <p:cNvPicPr/>
          <p:nvPr/>
        </p:nvPicPr>
        <p:blipFill>
          <a:blip r:embed="rId1"/>
          <a:stretch/>
        </p:blipFill>
        <p:spPr>
          <a:xfrm>
            <a:off x="3000240" y="4500720"/>
            <a:ext cx="2286000" cy="1928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C:\Documents and Settings\alex\Мои документы\0_23629_986642f1_L.jpg"/>
          <p:cNvPicPr/>
          <p:nvPr/>
        </p:nvPicPr>
        <p:blipFill>
          <a:blip r:embed="rId2"/>
          <a:stretch/>
        </p:blipFill>
        <p:spPr>
          <a:xfrm>
            <a:off x="2928960" y="250020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C:\Documents and Settings\alex\Мои документы\2525_497_big.jpg"/>
          <p:cNvPicPr/>
          <p:nvPr/>
        </p:nvPicPr>
        <p:blipFill>
          <a:blip r:embed="rId3"/>
          <a:stretch/>
        </p:blipFill>
        <p:spPr>
          <a:xfrm>
            <a:off x="285840" y="2571840"/>
            <a:ext cx="2571840" cy="385740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0"/>
          <p:cNvSpPr/>
          <p:nvPr/>
        </p:nvSpPr>
        <p:spPr>
          <a:xfrm>
            <a:off x="1428840" y="0"/>
            <a:ext cx="66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лён сладко – 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1"/>
          <p:cNvSpPr/>
          <p:nvPr/>
        </p:nvSpPr>
        <p:spPr>
          <a:xfrm>
            <a:off x="357120" y="1143000"/>
            <a:ext cx="4857840" cy="119124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ий кустарник до 180 см в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красные, вытянутые, дети часто путают их с барбари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2"/>
          <p:cNvSpPr/>
          <p:nvPr/>
        </p:nvSpPr>
        <p:spPr>
          <a:xfrm>
            <a:off x="5572080" y="1285920"/>
            <a:ext cx="3214800" cy="5031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токсичны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моторное возбуждение, галлюцинации, бред., тахикардия, головная боль, головокружение, расширение зрачков, сухость в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вызвать «скорую», до этого промыть желудок, дать любой энтеросорб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3"/>
          <p:cNvSpPr/>
          <p:nvPr/>
        </p:nvSpPr>
        <p:spPr>
          <a:xfrm>
            <a:off x="5580720" y="6429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lanum dulcam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C:\Documents and Settings\alex\Мои документы\yandsearch.jpg"/>
          <p:cNvPicPr/>
          <p:nvPr/>
        </p:nvPicPr>
        <p:blipFill>
          <a:blip r:embed="rId4"/>
          <a:stretch/>
        </p:blipFill>
        <p:spPr>
          <a:xfrm>
            <a:off x="5643720" y="1500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C:\Documents and Settings\alex\Мои документы\bd885714dbc499d759b400ccc9622945.gif"/>
          <p:cNvPicPr/>
          <p:nvPr/>
        </p:nvPicPr>
        <p:blipFill>
          <a:blip r:embed="rId5"/>
          <a:stretch/>
        </p:blipFill>
        <p:spPr>
          <a:xfrm>
            <a:off x="5500800" y="4500720"/>
            <a:ext cx="714240" cy="428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C:\Documents and Settings\alex\Мои документы\NZ015w8_enl.jpg"/>
          <p:cNvPicPr/>
          <p:nvPr/>
        </p:nvPicPr>
        <p:blipFill>
          <a:blip r:embed="rId6"/>
          <a:stretch/>
        </p:blipFill>
        <p:spPr>
          <a:xfrm>
            <a:off x="5572080" y="228600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1"/>
          <p:cNvSpPr/>
          <p:nvPr/>
        </p:nvSpPr>
        <p:spPr>
          <a:xfrm>
            <a:off x="428760" y="0"/>
            <a:ext cx="792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ёх ядовитый, он же цик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cuta viro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"/>
          <p:cNvSpPr/>
          <p:nvPr/>
        </p:nvSpPr>
        <p:spPr>
          <a:xfrm>
            <a:off x="357120" y="1571760"/>
            <a:ext cx="4214880" cy="448308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по берегам стоячих водоёмов, в сырых местах, иногда в самой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ёт в июле – августе. Цветки мелкие, белые, собраны в сложный зон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перистые, двояко – трояко рассечённые, стебли ветвистые пол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ы округлые, корневище толстое, разделено поперечными перегородками на отдельные камеры, заполненные жёлтым соком – в малых дозах смертельно опа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вещества содержатся во всех частях, особенно в корневище и молодых побе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3" descr="C:\Documents and Settings\alex\Мои документы\dddddd10.jpg"/>
          <p:cNvPicPr/>
          <p:nvPr/>
        </p:nvPicPr>
        <p:blipFill>
          <a:blip r:embed="rId1"/>
          <a:stretch/>
        </p:blipFill>
        <p:spPr>
          <a:xfrm>
            <a:off x="5357880" y="642960"/>
            <a:ext cx="2571840" cy="214308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4"/>
          <p:cNvSpPr/>
          <p:nvPr/>
        </p:nvSpPr>
        <p:spPr>
          <a:xfrm>
            <a:off x="4857840" y="3071880"/>
            <a:ext cx="3714840" cy="366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ротокс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в животе, головная боль, головокружение, слабость, тошнота, рвота, затруднение дыхания, бледность кожи, 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вызвать «скорую», до этого промыть желудок, дать любой энтерособ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485784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4786200" y="5143680"/>
            <a:ext cx="571680" cy="5000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4857840" y="3786120"/>
            <a:ext cx="4284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"/>
          <p:cNvSpPr/>
          <p:nvPr/>
        </p:nvSpPr>
        <p:spPr>
          <a:xfrm>
            <a:off x="5643720" y="1785960"/>
            <a:ext cx="3214440" cy="3934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енах опасный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 – риц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отравления возникают через 15 часов, иногда через 3-е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излияние в сетчатку глаз, тошнота, рвота, боль в животе, 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доставить в медицинское учре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2286000" y="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еще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cinus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un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3"/>
          <p:cNvSpPr/>
          <p:nvPr/>
        </p:nvSpPr>
        <p:spPr>
          <a:xfrm>
            <a:off x="285840" y="3500280"/>
            <a:ext cx="5000400" cy="2837160"/>
          </a:xfrm>
          <a:prstGeom prst="rect">
            <a:avLst/>
          </a:prstGeom>
          <a:solidFill>
            <a:srgbClr val="c4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высотой до 2-3 метров. Стебли прямые, листья пальчатораздельные, цветки малодекоративные. Выращивают в садах, цветниках. Ядовиты семена. Алкалоид рицин называют "одним из наиболее мощных известных токсинов". Это вещество, получаемое из касторовых бобов (плод клещевины), во много раз токсичнее цианистого калия, газа зарин и яда кобры. Поражаются клетки легких, печени, п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C:\Documents and Settings\alex\Мои документы\721288DEF3424408B18F8E31D36DA6F0.jpg"/>
          <p:cNvPicPr/>
          <p:nvPr/>
        </p:nvPicPr>
        <p:blipFill>
          <a:blip r:embed="rId1"/>
          <a:stretch/>
        </p:blipFill>
        <p:spPr>
          <a:xfrm>
            <a:off x="1643040" y="857160"/>
            <a:ext cx="2143080" cy="25005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571500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572080" y="4714920"/>
            <a:ext cx="714600" cy="428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5715000" y="278604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1:27:42Z</dcterms:created>
  <dc:creator>alex</dc:creator>
  <dc:description/>
  <dc:language>en-US</dc:language>
  <cp:lastModifiedBy>alex</cp:lastModifiedBy>
  <dcterms:modified xsi:type="dcterms:W3CDTF">2013-04-11T12:35:07Z</dcterms:modified>
  <cp:revision>61</cp:revision>
  <dc:subject/>
  <dc:title>Слайд 1</dc:title>
</cp:coreProperties>
</file>