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87F-48C6-4C61-BBF0-2B1481C1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AA3-FDCC-417C-A8AE-2C9AEFFD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587DB-BEC9-400C-A5C4-097D3ADE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84931-6190-45E8-AC34-BE7E7C2C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7B59E-E462-4E4E-8A17-FA316B48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7EBE3-926F-4A3A-B55F-6A0633F8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1AD37-86DD-4105-A6C0-12C60B85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BDA65-E097-427F-A3C1-270A37FA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2693F-ED93-43B7-8BD3-B46F34D8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3F7EC-5932-47C8-A8F3-58C1BFED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E4F0A-AC5D-46E0-9520-8F9DF1E2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9BAEE-4678-4B8C-BFE5-F33F92A0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3E2-BEBD-46D5-8689-F051991F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62815-4A0D-4989-8FB5-F7AB0130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0BBA9-94A8-4CC7-87DF-7B17E41A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C0DA8-0230-4CBC-A749-5C8D2E90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6D0ED-9A84-49A3-BA12-26DD8905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0A969-02CE-4D3F-B4A8-59DFB9E7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6C910-FE71-4629-A0DA-E012CF0C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FE221-E964-4F73-8BD0-AB59F46C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16FE7-EE52-4A33-BC71-F6A9F8FA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A1B46-54A5-40D1-AA1C-B38013D7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A4153-CE4D-4C33-A597-94A93381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9A3-CD02-4E91-94D8-6FC5B73F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36A0B-F2C8-4094-8AAD-132BE6C2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57938-9842-4B2D-9B32-C845E40D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4A82C-F0AA-468D-843C-44FC6F98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2485A-ABE0-4D89-8017-FF8F9363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07CB3-9E2B-4299-87D9-B0C339A4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BA00D-8A11-40A2-A9E7-5691AD28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3D33D-B8C1-411F-8788-C66DFF97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90062-1841-4704-8180-C8F9D0BB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7D603-316A-4109-ACDF-96E12414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C2F78-F3CD-46FF-9300-709EED0F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0A74-00B8-44FC-AF56-B18B1615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9B892-E2E6-41F6-8F2E-41DC5DC5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993E0-7F36-4070-9DEF-5E4C426C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32035-9F61-4256-9231-D9191305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8444F-B489-4190-ADEC-B81CB52B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A34D0-1816-46AF-9955-4851DDB0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8D272-AACE-42E6-95B6-19BCB90E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BC90F-0955-4A33-A0B3-3B602123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37326-663B-4A95-A413-56DF22A6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9466D-800D-474B-90FC-53FC7A8C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E290E-60C3-416C-9843-CA1DE3B9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61B2-84D4-4A96-91E7-0C615DD8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A1061-B817-4431-999A-19555062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442BC-CC0C-410A-81A5-0C264A0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AD588-7C59-4124-96A4-4732F3F3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4617C-8F48-4E99-BFE9-9F2CC925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2F3CA-71F9-4E3A-8427-AD689835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609A-F4C3-4F1F-B617-6ED92CFB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59BF-CAE6-478D-8515-E35F92C2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1AB1-4EF0-4A6E-9F68-2703814E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9987-0433-4031-AF72-AAA5EDDC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FB53-07D4-4341-A453-D3BFFB92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6FE-6807-40FE-BD8A-9ACF7BA5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EAFB-14F6-4374-A6F8-5FAB56FF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4266-4D54-4918-B707-7317F996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6127-052B-4439-AEBD-4D302B7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47A5-FB53-495F-8E51-84129D68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504F-717A-4054-A997-3E79380B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CC31-3487-4AAF-BC6D-B6B598B6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438D-B444-4975-813A-B24BE418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71DF4-C100-45F6-9871-E8620735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5C58F-5E5A-467C-BB7B-7650763B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250E-CA70-4184-A6FD-ACCD45DD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7E5-238C-47DB-988B-EDA76ED2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DE2C-E9BE-4086-8F0A-704A4BC7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7031-6917-4D99-A405-FD5C0EAF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DA120-A332-4A28-A594-87430260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FE01-225C-4962-B428-38D71EB4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5F9E-6153-41EB-B11A-0D0B1DA8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9C375-29C5-4989-B5D8-7DEDBC76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0E82-81D9-4D26-9479-1F1F52E0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CA0B4-F1B8-415B-BB05-49A65E8E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93B02-F19A-47A6-8A93-1BDF556B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EDD7F-FFFF-4F0E-9161-DF6ABAE8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B04-C039-4346-B441-4E863AAC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A52C8-0F13-4B26-B6DC-DB48252A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8D345-CD81-4A70-8678-8779DB98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6B387-BCA2-45B6-8F5C-EC3FC565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6C15-4705-4414-A2E5-BA3A3966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E30A-F080-4234-A824-8A1E6334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F244A-DCCF-4323-908E-59FA4309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79FF-2801-4A7D-9A57-45BDCEA9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F141C-A7C4-4CD5-8E9C-DE1A7F28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5DC6E-F96C-4D00-B411-6A9803EF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DDC05-10AF-4B32-AEBF-6EC21A0F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127-C9A5-40D8-ABC9-20B581C9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F973E-CB6B-434C-9A15-4071B4BD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B3FFB-F37B-4517-B738-6C8450DA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91AED-CD68-43E1-929D-C9CCB627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9882B-5431-43F8-88FA-7FBE0D1C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21AB5-48DA-4148-8F15-62089A7B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BA8A0-A437-47F7-A0A8-1D103782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3F228-CD3A-4631-B76E-F7C34B63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C07D-68E8-4C2C-BFC8-FC4A1833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E9E76-BC6E-4FA6-8B53-2132845F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68B87-D06E-484A-81FA-E8DF1A0B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AC2-6158-45F3-BEF3-BE5BA879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019C-624E-42FE-B2FA-A0AB1A23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7D9DB-1CF5-41F5-8A20-1E50E9C7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FE46F-1710-4E18-9ADA-CE0452D5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86EF1-5A30-416D-810C-36795B55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CCCEC-0ECF-4665-8A16-AA81D173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6601-217A-463B-AE25-F47CC52D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2EC0A-5D52-4783-A50C-579DDEE6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066BD-0E6F-4DC9-8A89-EAA4D226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CD365-BAFC-4C45-9EDB-A66F9B9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62CCE-12C2-4B84-9721-FEB597F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882-8A8E-4D1C-94C7-8F837299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7C862-0543-4E52-AFAA-698144BE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FF650-58C6-4A77-9C40-9CE1EE46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D1018-F8CC-48F5-A0A9-1B7C27D5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F4C80-99AD-404B-9DF6-E4CBA1A0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6ACE5-A50C-47C0-A4DD-0FFB4A0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01EAD-C5BE-4364-8C52-7F2D4D7A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38C5E-3272-47B8-B077-38D81E96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7E32E-171D-42C6-8D63-00680F86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CDC01-5E98-4552-AA3A-805732D3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104BB-043C-440A-9B38-A88C801A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BAF-432C-467C-80DB-EE6C7EC3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DFE06-BEC0-48E1-B4C9-F2CA31C6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C6B9B-0DC9-4895-A8F7-72B88868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22523-13E7-4DF5-8064-F551DA26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A26AB-82DA-44ED-B2C9-86E592A8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D10CF-7A44-4323-A4A9-546A7553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97945-BA18-4142-8473-90BA5833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6455C-0FE0-4A18-B758-B1C93FD5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9DEE5-BF44-4106-B4CC-A34649A8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9ABE4-FACB-4D4C-81A9-617237AC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DE2FA-C549-4204-BBFD-DD85EB26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AC4-4EE0-426C-80AD-1E38D80C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60419-A0D8-4BB1-9436-CF2030B0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D6DFA-7673-47C6-8EB2-35969C75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E7963-4EB1-4559-9E15-B702D8D3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AB7BC-DE1A-4FEF-87B4-7441CDF3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3B605-E9F4-451D-A54A-5320B1DC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580FA-B981-4D20-A78E-4D0CE6E5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0A771-5FEB-497E-96F0-E97966D0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930A7-F408-472B-ABB5-D0EB18BA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52088-4B5B-421B-B394-F840A8A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5E344-DEAA-4AA3-B9D7-52826F20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F8DA-A001-4824-A72F-42D96A4384F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DFCE-4444-44D4-B8C2-58F7F0A5434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14DA-83A9-4440-926F-27FF425E538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E2E0-8DD0-4D09-941B-732E8694B19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41DF-64A4-4822-96FF-F6088D07D67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6DC8-0D4D-4F5F-A6CD-5ECA653B8AD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D0C7-14F7-4A4E-BF97-37224EB9E7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865C-E642-49C0-99EF-5A9E5FA9376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59D1-ED0B-4493-9A02-C62143163F2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5228-415F-4B26-86A9-9F541EA3C8D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EF39-0709-404D-A496-4185A2D601B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3CEF-FF93-4B9F-8413-F6665A60F0C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1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emeslennic.ru/2012/10/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1.jpeg"/><Relationship Id="rId3" Type="http://schemas.openxmlformats.org/officeDocument/2006/relationships/image" Target="../media/image21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1" descr=""/>
          <p:cNvPicPr/>
          <p:nvPr/>
        </p:nvPicPr>
        <p:blipFill>
          <a:blip r:embed="rId1"/>
          <a:stretch/>
        </p:blipFill>
        <p:spPr>
          <a:xfrm>
            <a:off x="133200" y="109440"/>
            <a:ext cx="8802720" cy="21099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85520" y="2428560"/>
            <a:ext cx="7854840" cy="40719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Работу выполнила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ученица 6 «А» класс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МБОУ ГИМНАЗ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г. Мичуринска Тамбовской област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Майорова Анастас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Руководитель: учитель биологи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Кондакова Ирина Анатольев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1"/>
          <p:cNvSpPr/>
          <p:nvPr/>
        </p:nvSpPr>
        <p:spPr>
          <a:xfrm>
            <a:off x="6000840" y="1143000"/>
            <a:ext cx="2786040" cy="5306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высушенное растение содержит яд – аконит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ый зуд, дыхание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ается , затем замедляется,  снижается температура тела, боль в области сердца, судороги, паралич дыхательных мышц, смер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доставить в медицинское учреждение. Если нет дыхания, провести искусственную вентиляцию «рот-в-рот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оугольник 2"/>
          <p:cNvSpPr/>
          <p:nvPr/>
        </p:nvSpPr>
        <p:spPr>
          <a:xfrm>
            <a:off x="2143080" y="14292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рец, он же ак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oni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C:\Documents and Settings\alex\Мои документы\aconitum_napellus_230705.jpg"/>
          <p:cNvPicPr/>
          <p:nvPr/>
        </p:nvPicPr>
        <p:blipFill>
          <a:blip r:embed="rId1"/>
          <a:stretch/>
        </p:blipFill>
        <p:spPr>
          <a:xfrm>
            <a:off x="285840" y="1714680"/>
            <a:ext cx="2357280" cy="3714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6072120" y="1357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929200" y="4500720"/>
            <a:ext cx="714600" cy="571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6000840" y="2500200"/>
            <a:ext cx="500040" cy="42876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7"/>
          <p:cNvSpPr/>
          <p:nvPr/>
        </p:nvSpPr>
        <p:spPr>
          <a:xfrm>
            <a:off x="2857680" y="1714680"/>
            <a:ext cx="2857320" cy="366012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ее травянистое растение с прямостоячим стеблем, листья глубокопальчатораздельные, цветки синие или фиолет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на влажных местах вдоль берегов рек и по обочинам дорог, на богатых перегноем почвах, на горных лу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о всё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оугольник 1"/>
          <p:cNvSpPr/>
          <p:nvPr/>
        </p:nvSpPr>
        <p:spPr>
          <a:xfrm>
            <a:off x="428760" y="3500280"/>
            <a:ext cx="3429000" cy="283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бель растения — 15—40 см высотой. Цветет в мае — июле; плодоносит в июле — августе. Растет в лесах, среди кустарников, в тенистых мест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растения ядовиты, особенно корневище и ягода. Корневище вызывает рвоту, а ягоды действуют на серд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C:\Documents and Settings\alex\Мои документы\yandsearch.jpg"/>
          <p:cNvPicPr/>
          <p:nvPr/>
        </p:nvPicPr>
        <p:blipFill>
          <a:blip r:embed="rId1"/>
          <a:stretch/>
        </p:blipFill>
        <p:spPr>
          <a:xfrm>
            <a:off x="1214280" y="1000080"/>
            <a:ext cx="1714680" cy="142884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3"/>
          <p:cNvSpPr/>
          <p:nvPr/>
        </p:nvSpPr>
        <p:spPr>
          <a:xfrm>
            <a:off x="4214880" y="2643120"/>
            <a:ext cx="4572000" cy="366012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ное растение с неприятным запахом, высота стебля 30—100 см. Цветет в июне — августе; семена созревают в июле — сентябре. Встречается около жилья, у дорог, на полях, огородах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 все части растения (особенно семена!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вление вызывает сухость полости рта, кожную сыпь, жажду, тошноту и рвоту, сердечно - сосудистые нарушения, психическое расстройство, судороги. Симптомы отравления развиваются в промежутке времени от 10 мин до 15 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5572080" y="928800"/>
            <a:ext cx="1733760" cy="150012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5"/>
          <p:cNvSpPr/>
          <p:nvPr/>
        </p:nvSpPr>
        <p:spPr>
          <a:xfrm>
            <a:off x="214200" y="1429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роний г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6"/>
          <p:cNvSpPr/>
          <p:nvPr/>
        </p:nvSpPr>
        <p:spPr>
          <a:xfrm>
            <a:off x="4429080" y="14292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лена чё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Прямоугольник 1"/>
          <p:cNvSpPr/>
          <p:nvPr/>
        </p:nvSpPr>
        <p:spPr>
          <a:xfrm>
            <a:off x="2428920" y="2858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4"/>
          <p:cNvSpPr/>
          <p:nvPr/>
        </p:nvSpPr>
        <p:spPr>
          <a:xfrm>
            <a:off x="1785960" y="1166760"/>
            <a:ext cx="571500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ще отравляются ядовитыми растениями дети. Это случается и потому, что они не знают, какие растения ядов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растения нельзя брать в рот, некоторые даже в руки, нельзя касаться глаз. Некоторые яды находятся в соке растений, который способен растворить жир, покрывающий поверхность кожи; впитываясь в кожу и попадая в кровь, такой сок вызывает отравл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нимательны в окружающей вас природ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 вам крепкого здоров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Прямоугольник 1"/>
          <p:cNvSpPr/>
          <p:nvPr/>
        </p:nvSpPr>
        <p:spPr>
          <a:xfrm>
            <a:off x="857160" y="214200"/>
            <a:ext cx="79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4"/>
          <p:cNvSpPr/>
          <p:nvPr/>
        </p:nvSpPr>
        <p:spPr>
          <a:xfrm>
            <a:off x="589320" y="1000080"/>
            <a:ext cx="482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http://remeslennic.ru/2012/10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.wikipedia.org›wiki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usltd.ru›cvet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shevi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-flowers.ru›yadovitye-rasteniy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m.ru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ребенка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3"/>
          <p:cNvSpPr/>
          <p:nvPr/>
        </p:nvSpPr>
        <p:spPr>
          <a:xfrm>
            <a:off x="645120" y="1571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"/>
          <p:cNvSpPr/>
          <p:nvPr/>
        </p:nvSpPr>
        <p:spPr>
          <a:xfrm>
            <a:off x="571680" y="142920"/>
            <a:ext cx="81435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ребят с опасными растениями лет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дить их о последствиях контакта с данными растениям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информацию о ядовитых растения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различные источники, определит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опасности растений и меры перв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Прямоугольник 1"/>
          <p:cNvSpPr/>
          <p:nvPr/>
        </p:nvSpPr>
        <p:spPr>
          <a:xfrm>
            <a:off x="1714680" y="714240"/>
            <a:ext cx="5715000" cy="466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стения, вырабатывающие и накапливающие в процессе жизнедеятельности яды, вызывающие отравления животных и человека. В мировой флоре известно более 10 тыс. видов таких растений. Многие растительные яды в небольших дозах являются ценными лечебными сред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усть и невольных «обидчиков» лучше знать в лиц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рассмотрим часто встречающиеся и наиболее опасны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довитые раст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е растут на наших дачных участках, у дорог и в лесу, по берегам водоё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8" descr="C:\Documents and Settings\alex\Мои документы\0_image_12203_1.jpg"/>
          <p:cNvPicPr/>
          <p:nvPr/>
        </p:nvPicPr>
        <p:blipFill>
          <a:blip r:embed="rId1"/>
          <a:stretch/>
        </p:blipFill>
        <p:spPr>
          <a:xfrm>
            <a:off x="571680" y="342900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C:\Documents and Settings\alex\Мои документы\i.jpg"/>
          <p:cNvPicPr/>
          <p:nvPr/>
        </p:nvPicPr>
        <p:blipFill>
          <a:blip r:embed="rId2"/>
          <a:stretch/>
        </p:blipFill>
        <p:spPr>
          <a:xfrm>
            <a:off x="6643800" y="4643280"/>
            <a:ext cx="1714320" cy="15717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C:\Documents and Settings\alex\Мои документы\Ricinus_communis3.jpg"/>
          <p:cNvPicPr/>
          <p:nvPr/>
        </p:nvPicPr>
        <p:blipFill>
          <a:blip r:embed="rId3"/>
          <a:stretch/>
        </p:blipFill>
        <p:spPr>
          <a:xfrm>
            <a:off x="4714920" y="1928880"/>
            <a:ext cx="1643040" cy="1635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C:\Documents and Settings\alex\Мои документы\0_37d8a_4def234f_L.jpg"/>
          <p:cNvPicPr/>
          <p:nvPr/>
        </p:nvPicPr>
        <p:blipFill>
          <a:blip r:embed="rId4"/>
          <a:stretch/>
        </p:blipFill>
        <p:spPr>
          <a:xfrm>
            <a:off x="2643120" y="1428840"/>
            <a:ext cx="1785960" cy="15001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C:\Documents and Settings\alex\Мои документы\24403871_akonit02b.jpg"/>
          <p:cNvPicPr/>
          <p:nvPr/>
        </p:nvPicPr>
        <p:blipFill>
          <a:blip r:embed="rId5"/>
          <a:stretch/>
        </p:blipFill>
        <p:spPr>
          <a:xfrm>
            <a:off x="2643120" y="392904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513" name="Прямоугольник 17"/>
          <p:cNvSpPr/>
          <p:nvPr/>
        </p:nvSpPr>
        <p:spPr>
          <a:xfrm>
            <a:off x="2011680" y="29289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лён сладко – горь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18"/>
          <p:cNvSpPr/>
          <p:nvPr/>
        </p:nvSpPr>
        <p:spPr>
          <a:xfrm>
            <a:off x="5977800" y="621504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щевик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оугольник 19"/>
          <p:cNvSpPr/>
          <p:nvPr/>
        </p:nvSpPr>
        <p:spPr>
          <a:xfrm>
            <a:off x="577440" y="507204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ёх ядови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20"/>
          <p:cNvSpPr/>
          <p:nvPr/>
        </p:nvSpPr>
        <p:spPr>
          <a:xfrm>
            <a:off x="4866120" y="35719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ще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21"/>
          <p:cNvSpPr/>
          <p:nvPr/>
        </p:nvSpPr>
        <p:spPr>
          <a:xfrm>
            <a:off x="2292480" y="5643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ец, он же акон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C:\Documents and Settings\alex\Мои документы\yandsearch.jpg"/>
          <p:cNvPicPr/>
          <p:nvPr/>
        </p:nvPicPr>
        <p:blipFill>
          <a:blip r:embed="rId6"/>
          <a:stretch/>
        </p:blipFill>
        <p:spPr>
          <a:xfrm>
            <a:off x="571680" y="928800"/>
            <a:ext cx="1733400" cy="1500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C:\Documents and Settings\alex\Мои документы\yandsearch.jpg"/>
          <p:cNvPicPr/>
          <p:nvPr/>
        </p:nvPicPr>
        <p:blipFill>
          <a:blip r:embed="rId7"/>
          <a:stretch/>
        </p:blipFill>
        <p:spPr>
          <a:xfrm>
            <a:off x="6643800" y="2571840"/>
            <a:ext cx="1714320" cy="15714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C:\Documents and Settings\alex\Мои документы\yandsearch.jpg"/>
          <p:cNvPicPr/>
          <p:nvPr/>
        </p:nvPicPr>
        <p:blipFill>
          <a:blip r:embed="rId8"/>
          <a:stretch/>
        </p:blipFill>
        <p:spPr>
          <a:xfrm>
            <a:off x="4714920" y="4429080"/>
            <a:ext cx="1643040" cy="157176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14"/>
          <p:cNvSpPr/>
          <p:nvPr/>
        </p:nvSpPr>
        <p:spPr>
          <a:xfrm>
            <a:off x="5076000" y="60008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15"/>
          <p:cNvSpPr/>
          <p:nvPr/>
        </p:nvSpPr>
        <p:spPr>
          <a:xfrm>
            <a:off x="6789960" y="41432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ий гл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16"/>
          <p:cNvSpPr/>
          <p:nvPr/>
        </p:nvSpPr>
        <p:spPr>
          <a:xfrm>
            <a:off x="650880" y="242892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ена чё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17"/>
          <p:cNvSpPr/>
          <p:nvPr/>
        </p:nvSpPr>
        <p:spPr>
          <a:xfrm>
            <a:off x="1214280" y="0"/>
            <a:ext cx="6929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х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адо знать в «лиц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Прямоугольник 1"/>
          <p:cNvSpPr/>
          <p:nvPr/>
        </p:nvSpPr>
        <p:spPr>
          <a:xfrm>
            <a:off x="1071720" y="35712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C:\Documents and Settings\alex\Мои документы\yandsearch.jpg"/>
          <p:cNvPicPr/>
          <p:nvPr/>
        </p:nvPicPr>
        <p:blipFill>
          <a:blip r:embed="rId1"/>
          <a:stretch/>
        </p:blipFill>
        <p:spPr>
          <a:xfrm>
            <a:off x="1643040" y="2000160"/>
            <a:ext cx="928800" cy="107172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3"/>
          <p:cNvSpPr/>
          <p:nvPr/>
        </p:nvSpPr>
        <p:spPr>
          <a:xfrm>
            <a:off x="1071720" y="1071720"/>
            <a:ext cx="69292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ны                  Симптомы от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ость                   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C:\Documents and Settings\alex\Мои документы\9f5971ad5b4a27c3e20c5c0815e_prev.jpg"/>
          <p:cNvPicPr/>
          <p:nvPr/>
        </p:nvPicPr>
        <p:blipFill>
          <a:blip r:embed="rId2"/>
          <a:stretch/>
        </p:blipFill>
        <p:spPr>
          <a:xfrm>
            <a:off x="1500120" y="3857760"/>
            <a:ext cx="1285920" cy="10000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286240" y="3714840"/>
            <a:ext cx="1571760" cy="11430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5500800" y="2071800"/>
            <a:ext cx="1000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Прямоугольник 4"/>
          <p:cNvSpPr/>
          <p:nvPr/>
        </p:nvSpPr>
        <p:spPr>
          <a:xfrm>
            <a:off x="5929200" y="1214280"/>
            <a:ext cx="3000600" cy="5306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нокумарины в сок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тягивают» ультрафиолет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зают стебли, чтобы сделать дудочки, прикасаются к млечному соку и получают тяжёлые ож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ля сока на коже приводит к солнечному ожогу на кож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лдыри), дыхательный аллерг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льно промыть кожу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5"/>
          <p:cNvSpPr/>
          <p:nvPr/>
        </p:nvSpPr>
        <p:spPr>
          <a:xfrm>
            <a:off x="2071800" y="214200"/>
            <a:ext cx="59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рщевик обыкно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acleym sphondylium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C:\Documents and Settings\alex\Мои документы\b9d501965f31.jpg"/>
          <p:cNvPicPr/>
          <p:nvPr/>
        </p:nvPicPr>
        <p:blipFill>
          <a:blip r:embed="rId1"/>
          <a:stretch/>
        </p:blipFill>
        <p:spPr>
          <a:xfrm>
            <a:off x="285840" y="2286000"/>
            <a:ext cx="2262240" cy="3357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6000840" y="1214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C:\Documents and Settings\alex\Мои документы\9f5971ad5b4a27c3e20c5c0815e_prev.jpg"/>
          <p:cNvPicPr/>
          <p:nvPr/>
        </p:nvPicPr>
        <p:blipFill>
          <a:blip r:embed="rId3"/>
          <a:stretch/>
        </p:blipFill>
        <p:spPr>
          <a:xfrm>
            <a:off x="6000840" y="2571840"/>
            <a:ext cx="428400" cy="357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C:\Documents and Settings\alex\Мои документы\bd885714dbc499d759b400ccc9622945.gif"/>
          <p:cNvPicPr/>
          <p:nvPr/>
        </p:nvPicPr>
        <p:blipFill>
          <a:blip r:embed="rId4"/>
          <a:stretch/>
        </p:blipFill>
        <p:spPr>
          <a:xfrm>
            <a:off x="5857920" y="578628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C:\Documents and Settings\alex\Мои документы\NZ015w8_enl.jpg"/>
          <p:cNvPicPr/>
          <p:nvPr/>
        </p:nvPicPr>
        <p:blipFill>
          <a:blip r:embed="rId5"/>
          <a:stretch/>
        </p:blipFill>
        <p:spPr>
          <a:xfrm>
            <a:off x="6000840" y="4214880"/>
            <a:ext cx="500040" cy="357120"/>
          </a:xfrm>
          <a:prstGeom prst="rect">
            <a:avLst/>
          </a:prstGeom>
          <a:ln w="0">
            <a:noFill/>
          </a:ln>
        </p:spPr>
      </p:pic>
      <p:sp>
        <p:nvSpPr>
          <p:cNvPr id="538" name="Прямоугольник 10"/>
          <p:cNvSpPr/>
          <p:nvPr/>
        </p:nvSpPr>
        <p:spPr>
          <a:xfrm>
            <a:off x="2714760" y="1643040"/>
            <a:ext cx="3071520" cy="448308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летнее растение с мощным полым, ребристым стеблем, растущим до 150 см. Стебель покрыт жесткими волосками, ветви находятся в его верхней части, листья крупные Имеет приятный пряный слабо улавливаемый зап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ет в июне-июле. Белые цветы собраны в крупный зонтик. Плоды борщевика (двузерновка) появляются в авгус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на полях, пустырях, по берегам водоё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" descr="C:\Documents and Settings\alex\Мои документы\0_37d8a_4def234f_L.jpg"/>
          <p:cNvPicPr/>
          <p:nvPr/>
        </p:nvPicPr>
        <p:blipFill>
          <a:blip r:embed="rId1"/>
          <a:stretch/>
        </p:blipFill>
        <p:spPr>
          <a:xfrm>
            <a:off x="3000240" y="4500720"/>
            <a:ext cx="2286000" cy="1928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C:\Documents and Settings\alex\Мои документы\0_23629_986642f1_L.jpg"/>
          <p:cNvPicPr/>
          <p:nvPr/>
        </p:nvPicPr>
        <p:blipFill>
          <a:blip r:embed="rId2"/>
          <a:stretch/>
        </p:blipFill>
        <p:spPr>
          <a:xfrm>
            <a:off x="2928960" y="2500200"/>
            <a:ext cx="23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9" descr="C:\Documents and Settings\alex\Мои документы\2525_497_big.jpg"/>
          <p:cNvPicPr/>
          <p:nvPr/>
        </p:nvPicPr>
        <p:blipFill>
          <a:blip r:embed="rId3"/>
          <a:stretch/>
        </p:blipFill>
        <p:spPr>
          <a:xfrm>
            <a:off x="285840" y="2571840"/>
            <a:ext cx="2571840" cy="385740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10"/>
          <p:cNvSpPr/>
          <p:nvPr/>
        </p:nvSpPr>
        <p:spPr>
          <a:xfrm>
            <a:off x="1428840" y="0"/>
            <a:ext cx="66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слён сладко – 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1"/>
          <p:cNvSpPr/>
          <p:nvPr/>
        </p:nvSpPr>
        <p:spPr>
          <a:xfrm>
            <a:off x="357120" y="1143000"/>
            <a:ext cx="4857840" cy="119124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летний кустарник до 180 см в выс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 красные, вытянутые, дети часто путают их с барбари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2"/>
          <p:cNvSpPr/>
          <p:nvPr/>
        </p:nvSpPr>
        <p:spPr>
          <a:xfrm>
            <a:off x="5572080" y="1285920"/>
            <a:ext cx="3214800" cy="5031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токсичных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моторное возбуждение, галлюцинации, бред., тахикардия, головная боль, головокружение, расширение зрачков, сухость в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вызвать «скорую», до этого промыть желудок, дать любой энтеросорб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13"/>
          <p:cNvSpPr/>
          <p:nvPr/>
        </p:nvSpPr>
        <p:spPr>
          <a:xfrm>
            <a:off x="5580720" y="6429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lanum dulcama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C:\Documents and Settings\alex\Мои документы\yandsearch.jpg"/>
          <p:cNvPicPr/>
          <p:nvPr/>
        </p:nvPicPr>
        <p:blipFill>
          <a:blip r:embed="rId4"/>
          <a:stretch/>
        </p:blipFill>
        <p:spPr>
          <a:xfrm>
            <a:off x="5643720" y="1500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6" descr="C:\Documents and Settings\alex\Мои документы\bd885714dbc499d759b400ccc9622945.gif"/>
          <p:cNvPicPr/>
          <p:nvPr/>
        </p:nvPicPr>
        <p:blipFill>
          <a:blip r:embed="rId5"/>
          <a:stretch/>
        </p:blipFill>
        <p:spPr>
          <a:xfrm>
            <a:off x="5500800" y="4500720"/>
            <a:ext cx="714240" cy="428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C:\Documents and Settings\alex\Мои документы\NZ015w8_enl.jpg"/>
          <p:cNvPicPr/>
          <p:nvPr/>
        </p:nvPicPr>
        <p:blipFill>
          <a:blip r:embed="rId6"/>
          <a:stretch/>
        </p:blipFill>
        <p:spPr>
          <a:xfrm>
            <a:off x="5572080" y="228600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1"/>
          <p:cNvSpPr/>
          <p:nvPr/>
        </p:nvSpPr>
        <p:spPr>
          <a:xfrm>
            <a:off x="428760" y="0"/>
            <a:ext cx="792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ёх ядовитый, он же цик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cuta viro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2"/>
          <p:cNvSpPr/>
          <p:nvPr/>
        </p:nvSpPr>
        <p:spPr>
          <a:xfrm>
            <a:off x="357120" y="1571760"/>
            <a:ext cx="4214880" cy="4483080"/>
          </a:xfrm>
          <a:prstGeom prst="rect">
            <a:avLst/>
          </a:prstGeom>
          <a:solidFill>
            <a:srgbClr val="c4e2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ёт по берегам стоячих водоёмов, в сырых местах, иногда в самой в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ёт в июле – августе. Цветки мелкие, белые, собраны в сложный зон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перистые, двояко – трояко рассечённые, стебли ветвистые пол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ы округлые, корневище толстое, разделено поперечными перегородками на отдельные камеры, заполненные жёлтым соком – в малых дозах смертельно опас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ые вещества содержатся во всех частях, особенно в корневище и молодых побе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3" descr="C:\Documents and Settings\alex\Мои документы\dddddd10.jpg"/>
          <p:cNvPicPr/>
          <p:nvPr/>
        </p:nvPicPr>
        <p:blipFill>
          <a:blip r:embed="rId1"/>
          <a:stretch/>
        </p:blipFill>
        <p:spPr>
          <a:xfrm>
            <a:off x="5357880" y="642960"/>
            <a:ext cx="2571840" cy="2143080"/>
          </a:xfrm>
          <a:prstGeom prst="rect">
            <a:avLst/>
          </a:prstGeom>
          <a:ln w="0">
            <a:noFill/>
          </a:ln>
        </p:spPr>
      </p:pic>
      <p:sp>
        <p:nvSpPr>
          <p:cNvPr id="552" name="Прямоугольник 4"/>
          <p:cNvSpPr/>
          <p:nvPr/>
        </p:nvSpPr>
        <p:spPr>
          <a:xfrm>
            <a:off x="4857840" y="3071880"/>
            <a:ext cx="3714840" cy="36601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ротокс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 в животе, головная боль, головокружение, слабость, тошнота, рвота, затруднение дыхания, бледность кожи, 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вызвать «скорую», до этого промыть желудок, дать любой энтерособ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485784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4786200" y="5143680"/>
            <a:ext cx="571680" cy="5000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4857840" y="3786120"/>
            <a:ext cx="42840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"/>
          <p:cNvSpPr/>
          <p:nvPr/>
        </p:nvSpPr>
        <p:spPr>
          <a:xfrm>
            <a:off x="5643720" y="1785960"/>
            <a:ext cx="3214440" cy="3934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енах опасный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алоид – риц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отравления возникают через 15 часов, иногда через 3-е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излияние в сетчатку глаз, тошнота, рвота, боль в животе, су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чно доставить в медицинское учре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"/>
          <p:cNvSpPr/>
          <p:nvPr/>
        </p:nvSpPr>
        <p:spPr>
          <a:xfrm>
            <a:off x="2286000" y="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еще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cinus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mun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3"/>
          <p:cNvSpPr/>
          <p:nvPr/>
        </p:nvSpPr>
        <p:spPr>
          <a:xfrm>
            <a:off x="285840" y="3500280"/>
            <a:ext cx="5000400" cy="2837160"/>
          </a:xfrm>
          <a:prstGeom prst="rect">
            <a:avLst/>
          </a:prstGeom>
          <a:solidFill>
            <a:srgbClr val="c4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е высотой до 2-3 метров. Стебли прямые, листья пальчатораздельные, цветки малодекоративные. Выращивают в садах, цветниках. Ядовиты семена. Алкалоид рицин называют "одним из наиболее мощных известных токсинов". Это вещество, получаемое из касторовых бобов (плод клещевины), во много раз токсичнее цианистого калия, газа зарин и яда кобры. Поражаются клетки легких, печени, п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C:\Documents and Settings\alex\Мои документы\721288DEF3424408B18F8E31D36DA6F0.jpg"/>
          <p:cNvPicPr/>
          <p:nvPr/>
        </p:nvPicPr>
        <p:blipFill>
          <a:blip r:embed="rId1"/>
          <a:stretch/>
        </p:blipFill>
        <p:spPr>
          <a:xfrm>
            <a:off x="1643040" y="857160"/>
            <a:ext cx="2143080" cy="25005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C:\Documents and Settings\alex\Мои документы\yandsearch.jpg"/>
          <p:cNvPicPr/>
          <p:nvPr/>
        </p:nvPicPr>
        <p:blipFill>
          <a:blip r:embed="rId2"/>
          <a:stretch/>
        </p:blipFill>
        <p:spPr>
          <a:xfrm>
            <a:off x="571500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C:\Documents and Settings\alex\Мои документы\bd885714dbc499d759b400ccc9622945.gif"/>
          <p:cNvPicPr/>
          <p:nvPr/>
        </p:nvPicPr>
        <p:blipFill>
          <a:blip r:embed="rId3"/>
          <a:stretch/>
        </p:blipFill>
        <p:spPr>
          <a:xfrm>
            <a:off x="5572080" y="4714920"/>
            <a:ext cx="714600" cy="4287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C:\Documents and Settings\alex\Мои документы\NZ015w8_enl.jpg"/>
          <p:cNvPicPr/>
          <p:nvPr/>
        </p:nvPicPr>
        <p:blipFill>
          <a:blip r:embed="rId4"/>
          <a:stretch/>
        </p:blipFill>
        <p:spPr>
          <a:xfrm>
            <a:off x="5715000" y="2786040"/>
            <a:ext cx="5000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1:27:42Z</dcterms:created>
  <dc:creator>alex</dc:creator>
  <dc:description/>
  <dc:language>en-US</dc:language>
  <cp:lastModifiedBy>alex</cp:lastModifiedBy>
  <dcterms:modified xsi:type="dcterms:W3CDTF">2013-04-11T12:35:07Z</dcterms:modified>
  <cp:revision>61</cp:revision>
  <dc:subject/>
  <dc:title>Слайд 1</dc:title>
</cp:coreProperties>
</file>