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CD2-3D2C-43F3-8ECD-ADCDBA89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697-59F2-40D9-8C76-F55AB706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D5612-E2B0-43CE-8B2C-B619750E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ACD6E-E404-4E0B-8FB6-603650F5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895B0-9845-4410-BF27-BCFE8103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9FCD4-CB7D-4C1C-83A0-85D8133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2B0BF-9E5E-435D-A11A-77012F0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11E0-D229-4225-A516-75E085A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04B95-D83F-452E-9F6C-7A189ADF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F906C-6689-461F-B5F1-CE1C60B0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E06E-C76F-45A7-A723-155A46A1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32DA6-E04E-46C8-A344-3FA05186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040-286C-4C3A-93FA-7C608042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A7F91-7187-4C42-B1D2-F7EFADB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A499B-140D-441E-A571-08A7BDF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05BAF-484C-447E-8A38-4902E6C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BE515-FFC8-43A4-A872-757990A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2DC81-DA12-4841-9204-69629560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DAD2B-A0FC-44A7-8D13-B7E8F8F5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6341F-72CD-4723-9731-F1748D3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37891-B315-41B3-BC9B-770ADD8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F6192-994C-45A8-B339-A1D263A6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8ED81-A73E-4B35-8BAE-66D32AF3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A3A-4CCE-4829-8798-A2BF9764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1D9C3-D783-4A62-9034-22F42DF3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64EEA-4CF8-4BFD-825D-BFADEF33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D7ED8-B88F-4D51-BB18-B86493E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9555E-699C-44B0-8FCA-0650673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776CE-B05F-4B86-971D-10221BB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1DCF3-F158-4535-8803-B8128CD8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FC7F0-45E3-4C23-BED8-10ED60C7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42416-3B80-4DDF-9BAE-B6221EA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AC285-29CC-4CE0-946D-60672FB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28E1-5B7B-4A68-801E-32BB54C8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9257-CC82-4245-AD35-5D5F5D1F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602C-B24A-4366-A6A9-C85F0E06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40CD8-1665-4948-A8E0-54E0FC8F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2CC1C-380F-4C52-B1B4-F5FD03B5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CA0A2-AFED-41B7-8B92-845AA102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51ED2-2F09-43F7-BFF7-9A75DD18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A89C9-1E32-4830-9D6D-C5987845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E313F-F8E8-4EB8-B7CD-560B57D9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4A168-E4DF-40DB-87A1-3FC319C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4AC87-6BFB-4F41-8BA9-2CDAED6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5F9E9-6491-407A-AE9D-50E4B9E4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47E-D24F-44B9-89A0-361AFBD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2DFEA-5181-4CB6-A7D3-EAF2A95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5CF65-8209-4899-838A-A9CC3AB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25FE0-7FD8-4930-9FED-BE4552A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52B0-0948-4ADD-8F1B-3E3C300F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8AFD2-CF76-43D0-BA40-B3685509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9BC-7D30-450E-A922-FE82C65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FC35-4A9C-487F-839E-A433880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CCB-599D-4D38-87E0-FD305121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0782-3B41-44E0-B856-6F2BED53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D1D-F508-4DBC-9D25-DAF4751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D1C-4558-43EB-8E0F-07105593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81F0-B4EC-42B8-B894-C273406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9700-A02D-4473-B9C9-DB9790C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A8BF-C8D6-4A88-A01B-57A237F3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9B9E-B3EB-4F59-8232-BF415857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901A-3D2A-4EF0-B871-570583D6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2400-C7D4-4155-A67C-0D9B103E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B276-1906-4828-A39F-CD61489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A5F2-6787-4071-A38E-B943032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919C-C597-4A8E-8AB5-580ADDD3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2ED7-2196-4F4C-BBEA-A72BC008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E86-2EB4-4E2A-AC7F-B3ACF83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91CF-9F83-48EE-A1DC-A32BD318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A23B-491C-4EE0-BE2C-CD66BC7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FE93-146E-4A33-9F55-4ED10146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A7F5-9A10-4C12-A77E-C7BF22FE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2764-FB57-46B4-86D0-B81BED1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DA59-4414-4839-B41F-4DDB01C0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0AC8-D8BF-4801-BE42-D61548F1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7C3B-F1DE-418D-A2E8-337D191D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989C-01C9-4158-AC91-CD0AF04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73BD-2FAD-4768-A01F-61FFF688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E09-6860-4C00-B639-52C8275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9DCD-F640-4471-9CEA-854E16A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2040-3C79-4456-8056-F47B0834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3FCA-456A-41BD-9FAC-889FBD12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9ED7-3835-4F26-BC44-7459D09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2E34-5CC4-47C9-8927-A07A1D9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053E-728C-4228-82CE-1D5C14A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1E82-C591-45DA-8A35-9C7B75A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BF5AB-CCD0-400B-89ED-FCAA8584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21EB-0166-449C-858D-21CF1598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B403-2047-43BF-AB3E-DD79C53D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BAD-1B87-4024-8E1B-D0C8F66A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01B1-83E3-4F87-9BD5-3A836A4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EAF6-3BAA-4794-9CF6-ECF326A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ACDD-591A-49D8-AAD3-DCAF60B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93D7-4C5D-47F9-A4F2-5A72D9B3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7AACD-0AE2-4B5A-B5B3-92B98A3C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513AB-2A14-4180-BC13-06992F2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7DF4-C100-4A3A-B388-798D443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DBD3-347D-4C4B-9DDE-2EC187B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0EABA-897D-451F-BDD8-75A3F09C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038BF-51C6-474A-B25C-FBC6E99B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2FE-A6BD-4D17-8982-ADF36171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43739-FBA4-43B4-B3E2-050886C3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4662-A6E9-4FD8-B2FE-7EC20CD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D239-08CC-4741-8766-03FECA9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A9A89-0755-4950-B0E0-F3F1AC6B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982B6-B10B-4D98-AB49-A302F41C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98C5-0C33-4E00-AD82-5D9E0B7E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30F2-137E-4537-BEAB-3B40809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B327-562E-48CD-BE24-A0BF6C0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78AE-5518-43FE-AE5C-E355AC6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8B80-9765-4A4D-9CBC-071150E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9FA-6A29-491B-B745-061DA4B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89AE-7D1C-4837-8494-CD48034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A434-299C-44AF-B42A-85E23CF7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C68B-3806-48A9-BC8B-86EADBA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9461-5D8F-4F51-A2F0-26FE6063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6E985-9C31-448E-ADBE-390FF46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E430-F219-4F90-9CF9-ABBBFD0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97D2-A139-4EE2-8583-58F3161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A69D9-6518-4EE0-A99C-73DAA4F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0C55-29AD-430E-89E4-70A39E3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03EC-4D54-403D-B0D8-5494E2A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90E-6DD1-4583-9427-3CB07BC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A87C-E69A-4EE6-B5F0-33A7865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82A3C-F0FD-4FC9-90F1-C19FE5D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3857-BF2D-45FF-A70E-028F108E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850EF-ED67-416B-953C-69708AF6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DD95E-B932-49F4-BD95-2D7501B3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8F954-E9C5-4841-9E6F-9E68131E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26C7-82A6-462E-950E-8334A9EE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4DE65-B571-489F-B7E3-2F560504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81B87-7C14-4EE4-B780-627E721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DF589-ED32-462F-8327-FA116C90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7ED-ADD1-4B0C-BFA3-C5801DB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BAC0-75A9-4892-957C-52D0429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82A98-569D-4D89-B0D6-C949A4C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63591-1AFE-4137-A5C8-4BB9623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54E83-B7A8-4E4A-A2A1-FBC1BD2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90FFD-92F9-4811-A8C4-19B355CD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111D-CC28-40E5-A7E8-DA194487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54FF-1F4C-480D-9570-317580EB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0B760-DCFB-481B-AA7C-77D0BD92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A14CC-A100-4423-8B96-B3C0A091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8C6F-EEEB-4195-9DEB-A39BC361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C475-2F47-440F-A059-070B1197CA1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751-5C87-4370-84B6-749B774B6DF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C21-219D-4290-92D1-A21FE2CBD2D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817-9331-4DB1-BEEA-2E1481EA93C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C43-8742-4982-A516-CC2957F462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9EA2-F568-437C-891C-42643134D46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D9F-6C65-4B4F-BBB3-CC91180E45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D6C-4D37-46A8-9B38-BE950F6BAC7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788B-F723-440A-96C9-BE523DE2DA3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BD32-D4AF-4276-8865-A20448B2873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104-C04C-4B77-A891-DD286A3972E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D22-56FB-4CCC-9DA9-9CABD8328CC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meslennic.ru/2012/10/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image" Target="../media/image21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802720" cy="21099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85520" y="242856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ученица 6 «А» класс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БОУ ГИМНАЗ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г. Мичуринска Тамбовской област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айорова Анастас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уководитель: учитель биолог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Кондакова Ирина Анатол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6000840" y="1143000"/>
            <a:ext cx="278604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ысушенное растение содержит яд – акон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ый зуд, дыхание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ется , затем замедляется,  снижается температура тела, боль в области сердца, судороги, паралич дыхательных мышц,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 Если нет дыхания, провести искусственную вентиляцию «рот-в-ро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"/>
          <p:cNvSpPr/>
          <p:nvPr/>
        </p:nvSpPr>
        <p:spPr>
          <a:xfrm>
            <a:off x="2143080" y="1429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oni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C:\Documents and Settings\alex\Мои документы\aconitum_napellus_230705.jpg"/>
          <p:cNvPicPr/>
          <p:nvPr/>
        </p:nvPicPr>
        <p:blipFill>
          <a:blip r:embed="rId1"/>
          <a:stretch/>
        </p:blipFill>
        <p:spPr>
          <a:xfrm>
            <a:off x="285840" y="1714680"/>
            <a:ext cx="2357280" cy="3714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7212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929200" y="4500720"/>
            <a:ext cx="714600" cy="571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6000840" y="2500200"/>
            <a:ext cx="500040" cy="428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2857680" y="1714680"/>
            <a:ext cx="285732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 прямостоячим стеблем, листья глубокопальчатораздельные, цветки синие или фиол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влажных местах вдоль берегов рек и по обочинам дорог, на богатых перегноем почвах, на горных 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о всё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1"/>
          <p:cNvSpPr/>
          <p:nvPr/>
        </p:nvSpPr>
        <p:spPr>
          <a:xfrm>
            <a:off x="428760" y="3500280"/>
            <a:ext cx="3429000" cy="283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бель растения — 15—40 см высотой. Цветет в мае — июле; плодоносит в июле — августе. Растет в лесах, среди кустарников, в тенистых мес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я ядовиты, особенно корневище и ягода. Корневище вызывает рвоту, а ягоды действуют на серд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214280" y="100008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3"/>
          <p:cNvSpPr/>
          <p:nvPr/>
        </p:nvSpPr>
        <p:spPr>
          <a:xfrm>
            <a:off x="4214880" y="2643120"/>
            <a:ext cx="457200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ное растение с неприятным запахом, высота стебля 30—100 см. Цветет в июне — августе; семена созревают в июле — сентябре. Встречается около жилья, у дорог, на полях, огородах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 все части растения (особенно семена!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вление вызывает сухость полости рта, кожную сыпь, жажду, тошноту и рвоту, сердечно - сосудистые нарушения, психическое расстройство, судороги. Симптомы отравления развиваются в промежутке времени от 10 мин до 15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572080" y="928800"/>
            <a:ext cx="1733760" cy="150012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5"/>
          <p:cNvSpPr/>
          <p:nvPr/>
        </p:nvSpPr>
        <p:spPr>
          <a:xfrm>
            <a:off x="214200" y="142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6"/>
          <p:cNvSpPr/>
          <p:nvPr/>
        </p:nvSpPr>
        <p:spPr>
          <a:xfrm>
            <a:off x="442908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1"/>
          <p:cNvSpPr/>
          <p:nvPr/>
        </p:nvSpPr>
        <p:spPr>
          <a:xfrm>
            <a:off x="2428920" y="285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4"/>
          <p:cNvSpPr/>
          <p:nvPr/>
        </p:nvSpPr>
        <p:spPr>
          <a:xfrm>
            <a:off x="1785960" y="1166760"/>
            <a:ext cx="57150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ще отравляются ядовитыми растениями дети. Это случается и потому, что они не знают, какие растения ядов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растения нельзя брать в рот, некоторые даже в руки, нельзя касаться глаз. Некоторые яды находятся в соке растений, который способен растворить жир, покрывающий поверхность кожи; впитываясь в кожу и попадая в кровь, такой сок вызывает от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в окружающей вас приро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крепкого здоров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1"/>
          <p:cNvSpPr/>
          <p:nvPr/>
        </p:nvSpPr>
        <p:spPr>
          <a:xfrm>
            <a:off x="857160" y="214200"/>
            <a:ext cx="79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4"/>
          <p:cNvSpPr/>
          <p:nvPr/>
        </p:nvSpPr>
        <p:spPr>
          <a:xfrm>
            <a:off x="589320" y="1000080"/>
            <a:ext cx="48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http://remeslennic.ru/2012/1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.wikipedia.org›wiki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usltd.ru›cvet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shevi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-flowers.ru›yadovitye-rasteniy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m.ru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енка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645120" y="157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571680" y="142920"/>
            <a:ext cx="81435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ебят с опасными растениями лет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ь их о последствиях контакта с данными растения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нформацию о ядовитых растени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личные источники, определи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пасности растений и меры перв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1"/>
          <p:cNvSpPr/>
          <p:nvPr/>
        </p:nvSpPr>
        <p:spPr>
          <a:xfrm>
            <a:off x="1714680" y="714240"/>
            <a:ext cx="57150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тения, вырабатывающие и накапливающие в процессе жизнедеятельности яды, вызывающие отравления животных и человека. В мировой флоре известно более 10 тыс. видов таких растений. Многие растительные яды в небольших дозах являются ценными лечебными сред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сть и невольных «обидчиков» лучше знать в лиц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ассмотрим часто встречающиеся и наиболее опасны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стут на наших дачных участках, у дорог и в лесу, по берегам водоё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C:\Documents and Settings\alex\Мои документы\0_image_12203_1.jpg"/>
          <p:cNvPicPr/>
          <p:nvPr/>
        </p:nvPicPr>
        <p:blipFill>
          <a:blip r:embed="rId1"/>
          <a:stretch/>
        </p:blipFill>
        <p:spPr>
          <a:xfrm>
            <a:off x="571680" y="34290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C:\Documents and Settings\alex\Мои документы\i.jpg"/>
          <p:cNvPicPr/>
          <p:nvPr/>
        </p:nvPicPr>
        <p:blipFill>
          <a:blip r:embed="rId2"/>
          <a:stretch/>
        </p:blipFill>
        <p:spPr>
          <a:xfrm>
            <a:off x="6643800" y="4643280"/>
            <a:ext cx="1714320" cy="1571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:\Documents and Settings\alex\Мои документы\Ricinus_communis3.jpg"/>
          <p:cNvPicPr/>
          <p:nvPr/>
        </p:nvPicPr>
        <p:blipFill>
          <a:blip r:embed="rId3"/>
          <a:stretch/>
        </p:blipFill>
        <p:spPr>
          <a:xfrm>
            <a:off x="4714920" y="1928880"/>
            <a:ext cx="1643040" cy="1635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C:\Documents and Settings\alex\Мои документы\0_37d8a_4def234f_L.jpg"/>
          <p:cNvPicPr/>
          <p:nvPr/>
        </p:nvPicPr>
        <p:blipFill>
          <a:blip r:embed="rId4"/>
          <a:stretch/>
        </p:blipFill>
        <p:spPr>
          <a:xfrm>
            <a:off x="2643120" y="142884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C:\Documents and Settings\alex\Мои документы\24403871_akonit02b.jpg"/>
          <p:cNvPicPr/>
          <p:nvPr/>
        </p:nvPicPr>
        <p:blipFill>
          <a:blip r:embed="rId5"/>
          <a:stretch/>
        </p:blipFill>
        <p:spPr>
          <a:xfrm>
            <a:off x="2643120" y="392904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17"/>
          <p:cNvSpPr/>
          <p:nvPr/>
        </p:nvSpPr>
        <p:spPr>
          <a:xfrm>
            <a:off x="2011680" y="29289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8"/>
          <p:cNvSpPr/>
          <p:nvPr/>
        </p:nvSpPr>
        <p:spPr>
          <a:xfrm>
            <a:off x="5977800" y="62150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9"/>
          <p:cNvSpPr/>
          <p:nvPr/>
        </p:nvSpPr>
        <p:spPr>
          <a:xfrm>
            <a:off x="577440" y="50720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х ядов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0"/>
          <p:cNvSpPr/>
          <p:nvPr/>
        </p:nvSpPr>
        <p:spPr>
          <a:xfrm>
            <a:off x="4866120" y="35719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ще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1"/>
          <p:cNvSpPr/>
          <p:nvPr/>
        </p:nvSpPr>
        <p:spPr>
          <a:xfrm>
            <a:off x="2292480" y="5643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C:\Documents and Settings\alex\Мои документы\yandsearch.jpg"/>
          <p:cNvPicPr/>
          <p:nvPr/>
        </p:nvPicPr>
        <p:blipFill>
          <a:blip r:embed="rId6"/>
          <a:stretch/>
        </p:blipFill>
        <p:spPr>
          <a:xfrm>
            <a:off x="571680" y="928800"/>
            <a:ext cx="1733400" cy="1500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Documents and Settings\alex\Мои документы\yandsearch.jpg"/>
          <p:cNvPicPr/>
          <p:nvPr/>
        </p:nvPicPr>
        <p:blipFill>
          <a:blip r:embed="rId7"/>
          <a:stretch/>
        </p:blipFill>
        <p:spPr>
          <a:xfrm>
            <a:off x="6643800" y="257184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C:\Documents and Settings\alex\Мои документы\yandsearch.jpg"/>
          <p:cNvPicPr/>
          <p:nvPr/>
        </p:nvPicPr>
        <p:blipFill>
          <a:blip r:embed="rId8"/>
          <a:stretch/>
        </p:blipFill>
        <p:spPr>
          <a:xfrm>
            <a:off x="4714920" y="442908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14"/>
          <p:cNvSpPr/>
          <p:nvPr/>
        </p:nvSpPr>
        <p:spPr>
          <a:xfrm>
            <a:off x="5076000" y="60008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5"/>
          <p:cNvSpPr/>
          <p:nvPr/>
        </p:nvSpPr>
        <p:spPr>
          <a:xfrm>
            <a:off x="6789960" y="41432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6"/>
          <p:cNvSpPr/>
          <p:nvPr/>
        </p:nvSpPr>
        <p:spPr>
          <a:xfrm>
            <a:off x="650880" y="24289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7"/>
          <p:cNvSpPr/>
          <p:nvPr/>
        </p:nvSpPr>
        <p:spPr>
          <a:xfrm>
            <a:off x="1214280" y="0"/>
            <a:ext cx="69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до знать в «лиц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"/>
          <p:cNvSpPr/>
          <p:nvPr/>
        </p:nvSpPr>
        <p:spPr>
          <a:xfrm>
            <a:off x="1071720" y="35712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643040" y="2000160"/>
            <a:ext cx="928800" cy="107172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3"/>
          <p:cNvSpPr/>
          <p:nvPr/>
        </p:nvSpPr>
        <p:spPr>
          <a:xfrm>
            <a:off x="1071720" y="1071720"/>
            <a:ext cx="6929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ны                  Симптомы от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                  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C:\Documents and Settings\alex\Мои документы\9f5971ad5b4a27c3e20c5c0815e_prev.jpg"/>
          <p:cNvPicPr/>
          <p:nvPr/>
        </p:nvPicPr>
        <p:blipFill>
          <a:blip r:embed="rId2"/>
          <a:stretch/>
        </p:blipFill>
        <p:spPr>
          <a:xfrm>
            <a:off x="1500120" y="385776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286240" y="37148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500800" y="207180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Прямоугольник 4"/>
          <p:cNvSpPr/>
          <p:nvPr/>
        </p:nvSpPr>
        <p:spPr>
          <a:xfrm>
            <a:off x="5929200" y="1214280"/>
            <a:ext cx="300060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окумарины в сок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тягивают» ультрафиоле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зают стебли, чтобы сделать дудочки, прикасаются к млечному соку и получают тяжёлые ож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сока на коже приводит к солнечному ожогу на кож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лдыри), дыхательный аллерг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 промыть кожу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2071800" y="214200"/>
            <a:ext cx="59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acleym sphondylium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C:\Documents and Settings\alex\Мои документы\b9d501965f31.jpg"/>
          <p:cNvPicPr/>
          <p:nvPr/>
        </p:nvPicPr>
        <p:blipFill>
          <a:blip r:embed="rId1"/>
          <a:stretch/>
        </p:blipFill>
        <p:spPr>
          <a:xfrm>
            <a:off x="285840" y="2286000"/>
            <a:ext cx="2262240" cy="3357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00840" y="1214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C:\Documents and Settings\alex\Мои документы\9f5971ad5b4a27c3e20c5c0815e_prev.jpg"/>
          <p:cNvPicPr/>
          <p:nvPr/>
        </p:nvPicPr>
        <p:blipFill>
          <a:blip r:embed="rId3"/>
          <a:stretch/>
        </p:blipFill>
        <p:spPr>
          <a:xfrm>
            <a:off x="6000840" y="25718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C:\Documents and Settings\alex\Мои документы\bd885714dbc499d759b400ccc9622945.gif"/>
          <p:cNvPicPr/>
          <p:nvPr/>
        </p:nvPicPr>
        <p:blipFill>
          <a:blip r:embed="rId4"/>
          <a:stretch/>
        </p:blipFill>
        <p:spPr>
          <a:xfrm>
            <a:off x="5857920" y="578628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C:\Documents and Settings\alex\Мои документы\NZ015w8_enl.jpg"/>
          <p:cNvPicPr/>
          <p:nvPr/>
        </p:nvPicPr>
        <p:blipFill>
          <a:blip r:embed="rId5"/>
          <a:stretch/>
        </p:blipFill>
        <p:spPr>
          <a:xfrm>
            <a:off x="6000840" y="4214880"/>
            <a:ext cx="500040" cy="3571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0"/>
          <p:cNvSpPr/>
          <p:nvPr/>
        </p:nvSpPr>
        <p:spPr>
          <a:xfrm>
            <a:off x="2714760" y="1643040"/>
            <a:ext cx="307152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летнее растение с мощным полым, ребристым стеблем, растущим до 150 см. Стебель покрыт жесткими волосками, ветви находятся в его верхней части, листья крупные Имеет приятный пряный слабо улавливаемый зап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в июне-июле. Белые цветы собраны в крупный зонтик. Плоды борщевика (двузерновка) появляются в авгу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полях, пустырях, по берегам водоё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C:\Documents and Settings\alex\Мои документы\0_37d8a_4def234f_L.jpg"/>
          <p:cNvPicPr/>
          <p:nvPr/>
        </p:nvPicPr>
        <p:blipFill>
          <a:blip r:embed="rId1"/>
          <a:stretch/>
        </p:blipFill>
        <p:spPr>
          <a:xfrm>
            <a:off x="3000240" y="450072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C:\Documents and Settings\alex\Мои документы\0_23629_986642f1_L.jpg"/>
          <p:cNvPicPr/>
          <p:nvPr/>
        </p:nvPicPr>
        <p:blipFill>
          <a:blip r:embed="rId2"/>
          <a:stretch/>
        </p:blipFill>
        <p:spPr>
          <a:xfrm>
            <a:off x="2928960" y="250020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C:\Documents and Settings\alex\Мои документы\2525_497_big.jpg"/>
          <p:cNvPicPr/>
          <p:nvPr/>
        </p:nvPicPr>
        <p:blipFill>
          <a:blip r:embed="rId3"/>
          <a:stretch/>
        </p:blipFill>
        <p:spPr>
          <a:xfrm>
            <a:off x="285840" y="2571840"/>
            <a:ext cx="2571840" cy="38574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0"/>
          <p:cNvSpPr/>
          <p:nvPr/>
        </p:nvSpPr>
        <p:spPr>
          <a:xfrm>
            <a:off x="1428840" y="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1"/>
          <p:cNvSpPr/>
          <p:nvPr/>
        </p:nvSpPr>
        <p:spPr>
          <a:xfrm>
            <a:off x="357120" y="1143000"/>
            <a:ext cx="4857840" cy="119124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ий кустарник до 180 см в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красные, вытянутые, дети часто путают их с барбари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2"/>
          <p:cNvSpPr/>
          <p:nvPr/>
        </p:nvSpPr>
        <p:spPr>
          <a:xfrm>
            <a:off x="5572080" y="1285920"/>
            <a:ext cx="3214800" cy="503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токсичны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моторное возбуждение, галлюцинации, бред., тахикардия, головная боль, головокружение, расширение зрачков, сухость в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р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3"/>
          <p:cNvSpPr/>
          <p:nvPr/>
        </p:nvSpPr>
        <p:spPr>
          <a:xfrm>
            <a:off x="5580720" y="642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anum dulcam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C:\Documents and Settings\alex\Мои документы\yandsearch.jpg"/>
          <p:cNvPicPr/>
          <p:nvPr/>
        </p:nvPicPr>
        <p:blipFill>
          <a:blip r:embed="rId4"/>
          <a:stretch/>
        </p:blipFill>
        <p:spPr>
          <a:xfrm>
            <a:off x="5643720" y="1500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C:\Documents and Settings\alex\Мои документы\bd885714dbc499d759b400ccc9622945.gif"/>
          <p:cNvPicPr/>
          <p:nvPr/>
        </p:nvPicPr>
        <p:blipFill>
          <a:blip r:embed="rId5"/>
          <a:stretch/>
        </p:blipFill>
        <p:spPr>
          <a:xfrm>
            <a:off x="5500800" y="4500720"/>
            <a:ext cx="714240" cy="428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C:\Documents and Settings\alex\Мои документы\NZ015w8_enl.jpg"/>
          <p:cNvPicPr/>
          <p:nvPr/>
        </p:nvPicPr>
        <p:blipFill>
          <a:blip r:embed="rId6"/>
          <a:stretch/>
        </p:blipFill>
        <p:spPr>
          <a:xfrm>
            <a:off x="5572080" y="228600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428760" y="0"/>
            <a:ext cx="792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ёх ядовитый, он же цик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cuta vir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357120" y="1571760"/>
            <a:ext cx="421488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по берегам стоячих водоёмов, в сырых местах, иногда в самой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ёт в июле – августе. Цветки мелкие, белые, собраны в сложный зон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перистые, двояко – трояко рассечённые, стебли ветвистые пол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округлые, корневище толстое, разделено поперечными перегородками на отдельные камеры, заполненные жёлтым соком – в малых дозах смертельно оп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вещества содержатся во всех частях, особенно в корневище и молодых побе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C:\Documents and Settings\alex\Мои документы\dddddd10.jpg"/>
          <p:cNvPicPr/>
          <p:nvPr/>
        </p:nvPicPr>
        <p:blipFill>
          <a:blip r:embed="rId1"/>
          <a:stretch/>
        </p:blipFill>
        <p:spPr>
          <a:xfrm>
            <a:off x="5357880" y="64296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4"/>
          <p:cNvSpPr/>
          <p:nvPr/>
        </p:nvSpPr>
        <p:spPr>
          <a:xfrm>
            <a:off x="4857840" y="3071880"/>
            <a:ext cx="3714840" cy="366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роток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в животе, головная боль, головокружение, слабость, тошнота, рвота, затруднение дыхания, бледность кожи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48578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4786200" y="514368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4857840" y="3786120"/>
            <a:ext cx="428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5643720" y="1785960"/>
            <a:ext cx="3214440" cy="393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енах опасный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 – риц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отравления возникают через 15 часов, иногда через 3-е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излияние в сетчатку глаз, тошнота, рвота, боль в животе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22860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ещ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cinus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un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3"/>
          <p:cNvSpPr/>
          <p:nvPr/>
        </p:nvSpPr>
        <p:spPr>
          <a:xfrm>
            <a:off x="285840" y="3500280"/>
            <a:ext cx="5000400" cy="2837160"/>
          </a:xfrm>
          <a:prstGeom prst="rect">
            <a:avLst/>
          </a:prstGeom>
          <a:solidFill>
            <a:srgbClr val="c4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высотой до 2-3 метров. Стебли прямые, листья пальчатораздельные, цветки малодекоративные. Выращивают в садах, цветниках. Ядовиты семена. Алкалоид рицин называют "одним из наиболее мощных известных токсинов". Это вещество, получаемое из касторовых бобов (плод клещевины), во много раз токсичнее цианистого калия, газа зарин и яда кобры. Поражаются клетки легких, печени, п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C:\Documents and Settings\alex\Мои документы\721288DEF3424408B18F8E31D36DA6F0.jpg"/>
          <p:cNvPicPr/>
          <p:nvPr/>
        </p:nvPicPr>
        <p:blipFill>
          <a:blip r:embed="rId1"/>
          <a:stretch/>
        </p:blipFill>
        <p:spPr>
          <a:xfrm>
            <a:off x="1643040" y="85716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572080" y="4714920"/>
            <a:ext cx="714600" cy="428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715000" y="278604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1:27:42Z</dcterms:created>
  <dc:creator>alex</dc:creator>
  <dc:description/>
  <dc:language>en-US</dc:language>
  <cp:lastModifiedBy>alex</cp:lastModifiedBy>
  <dcterms:modified xsi:type="dcterms:W3CDTF">2013-04-11T12:35:07Z</dcterms:modified>
  <cp:revision>61</cp:revision>
  <dc:subject/>
  <dc:title>Слайд 1</dc:title>
</cp:coreProperties>
</file>