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4C5-2D7B-4C1D-89C3-0C0DB8D5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2686-B025-4BDF-A9B2-D810ADD0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E3A-F433-4CA9-92EC-4131DED9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E63-73C9-4094-B611-A3FC92AA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813B-28C5-4A8D-8E5C-BAF5E433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CD15-63BC-4805-B48A-BCA0FA0B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0284-E8AE-4176-B73B-12A19397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A7DE-03C3-44C3-96C7-21DC023D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03CB-D83C-46A9-AC41-6CBD5570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9450-9AAC-4488-8303-86544BAC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D4E0-DEF7-41A7-8FDB-6F487AE6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9014-7753-4E12-9CFB-9C688063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2064-9AC4-4BC6-B6E4-EFD72883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50B9-A6D4-4830-AEDF-DE3CD7BE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FD0C-F6C5-4B5A-BF47-769461FA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EBDF-9C38-4DC8-B189-7AE93C19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94BE-B40B-4814-9AAD-A181C756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D97-C1F7-4D08-823E-61B02B46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3E5-838C-4F40-9629-0D8C61EA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0E3-1BB3-426B-90DC-7536333D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DBC-151E-43B9-A363-6520617F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ABC-4F26-457D-B4E9-1877126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7F4-8A30-4502-BE14-C98D54D1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DF0-1F48-49E8-B9B4-D1B0429B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1D0E-5A00-48BE-8301-9158851681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0A18-953E-4D7C-B440-B13E2DB26F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66680" y="1447920"/>
            <a:ext cx="65534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зыв о книг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475452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собие к урокам русского я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 7 классе по учебника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.В. Бабайцев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втор презентации учитель русского языка и литературы Мечкова Т.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9080" y="762120"/>
            <a:ext cx="885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тзыв</a:t>
            </a: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– это суждение, мнен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держащее оценку кого – либо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чего – либ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441936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7680" y="646200"/>
            <a:ext cx="8397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зыв может быть написан в виде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РАССУЖДЕ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огда он обычно содержи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ЗИС ( мнение читателя о книг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АЗАТЕЛЬСТВА справедливости этого м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ВОД (общая оценка книг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(кому почитать данную книгу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715000" y="4267080"/>
            <a:ext cx="27432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040" y="228600"/>
            <a:ext cx="877896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и написании отзыва постарайтесь воспользовать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следующими совет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берите форму вашего отзыва (письмо другу, письмо автору книги, письмо в издательство, статья для газет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ределите стиль вашего сочинения (публицистический, научн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заглавии постарайтесь отразить его основную мыс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итая черновик сочинения, следите, нет ли в вашем отзыве неуместного, неоправданного повторения слов. Избежать этого могут синони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5450040"/>
            <a:ext cx="9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360" y="264960"/>
            <a:ext cx="8397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тзыв о научно – популярной кни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чему для отзыва я выбрал (а)  именно эту кни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я знал (а)  по той теме, которой посвящена эта книг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я узнал(а) нового, прочитав эту кни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Что можно сказать о языке книги; её оформлен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ие пожелания автору, художнику – оформителю, издателям книги хотелось бы выраз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ова общая оценка книг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7680" y="575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0"/>
            <a:ext cx="8610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Синони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нравиться, глубоко взволновать, произвести большое (неизгладимое)  впечатление, запомниться, привлечь внимание, запечатлеться в памяти, запасть в сердце и памя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тересный , увлекательный, занимательный, любопытны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писывать, обрисовывать, рисовать, очерчив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зображать, показывать, рассказывать о…, знакомить с…., вводить в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5638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Напишите отзыв о книге так, чтобы друг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захотелось прочитать её – непременно и немедленн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вуч</cp:lastModifiedBy>
  <dcterms:modified xsi:type="dcterms:W3CDTF">2011-12-20T17:42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