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56DA-BFF4-4657-B1B9-E81BED4C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6A3D-87F6-4FDC-AEEF-7A6444F9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D82-E5D7-4F41-8D78-4EF43327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B1FC-B6A6-4A85-89AA-121BFD84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98E3-FC3F-436F-B3CC-80C1DC6E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5D21-6ED4-454C-AB8A-A63163C5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4C57-737C-40C5-9C8F-5D8B6EBA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986E-97D7-41CB-A34A-3617AFCE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A554-6F27-4812-94CA-6FD6F4B9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E060-1C32-4D49-BF82-7E924B73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34FF-AAEA-430B-85C8-507F8CED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1C2C-96AD-44FB-B314-9BA686A7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99F9-88D5-4B61-818C-569143CB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64D2-A282-4EA2-9407-96E4D97D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2E80-E802-4A03-B609-BC720FE5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ECB8-0E14-49D5-9AFF-7FF846D9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D861-931C-4C3E-859E-C6A17633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FB0E-C19F-4F4E-BAC5-DBC8D903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E1B6-E9C4-4AB9-87C8-60FCFB1D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6BBD-6B1F-45F7-9B8E-92CE2CF3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5D8C-0A4E-4261-AAB3-B6AC75A3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F6EC-ADD5-4224-9253-A5A03094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28FB-8194-45F1-AF07-E675C295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AC03-C7BB-464E-BEA7-1CCCCBDC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3B09-6077-47BC-A8B1-E6BE368C74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DFCF-C759-4C1E-95DF-0B0F0DACC7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066680" y="1447920"/>
            <a:ext cx="655344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зыв о книг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475452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собие к урокам русского язы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 7 классе по учебника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.В. Бабайцев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втор презентации учитель русского языка и литературы Мечкова Т.Ф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89080" y="762120"/>
            <a:ext cx="885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тзыв</a:t>
            </a: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– это суждение, мнени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одержащее оценку кого – либо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чего – либ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4191120" y="3200400"/>
            <a:ext cx="441936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17680" y="646200"/>
            <a:ext cx="8397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зыв может быть написан в виде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РАССУЖДЕ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тогда он обычно содержи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ЗИС ( мнение читателя о книге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КАЗАТЕЛЬСТВА справедливости этого м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ВОД (общая оценка книг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КОМЕНДАЦИИ (кому почитать данную книгу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5715000" y="4267080"/>
            <a:ext cx="274320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5040" y="228600"/>
            <a:ext cx="877896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ри написании отзыва постарайтесь воспользова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ледующими совет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берите форму вашего отзыва (письмо другу, письмо автору книги, письмо в издательство, статья для газет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пределите стиль вашего сочинения (публицистический, научны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заглавии постарайтесь отразить его основную мыс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итая черновик сочинения, следите, нет ли в вашем отзыве неуместного, неоправданного повторения слов. Избежать этого могут синоним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5450040"/>
            <a:ext cx="917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360" y="264960"/>
            <a:ext cx="8397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Отзыв о научно – популярной книг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л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чему для отзыва я выбрал (а)  именно эту книг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я знал (а)  по той теме, которой посвящена эта книг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я узнал(а) нового, прочитав эту книг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можно сказать о языке книги; её оформлен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ие пожелания автору, художнику – оформителю, издателям книги хотелось бы выраз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ова общая оценка книг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7680" y="5751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0"/>
            <a:ext cx="8610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инони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нравиться, глубоко взволновать, произвести большое (неизгладимое)  впечатление, запомниться, привлечь внимание, запечатлеться в памяти, запасть в сердце и памя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нтересный , увлекательный, занимательный, любопытны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писывать, обрисовывать, рисовать, очерчива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зображать, показывать, рассказывать о…, знакомить с…., вводить в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2971800" y="3733920"/>
            <a:ext cx="2971800" cy="1981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8600" y="56386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Напишите отзыв о книге так, чтобы друг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захотелось прочитать её – непременно и немедленн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авуч</cp:lastModifiedBy>
  <dcterms:modified xsi:type="dcterms:W3CDTF">2011-12-20T17:42:5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