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305-5AED-4001-B491-2A047B67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C83-3D70-4A4E-ACC9-FDB1B7E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570-4C96-400F-A9AB-96E3830D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8E-50C4-40B2-BDE9-F4688599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E3A-BD53-4C58-B01F-63E7362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487-823B-4496-89E2-149804D1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6F8-4BF5-496C-9996-CFAA3A2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C26-0DD2-4EE9-B353-1C3443D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CE5-9185-49A0-911B-48D6B1A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EBB-AEC4-4212-BDFB-E77D49B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327-DF2A-4789-97FD-952392F9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8D3-99CB-4772-841A-D7F35DE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4236-6575-491B-A5FF-8D8BBB4D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тие мелкой моторики рук. Пальчиковые игры для дошколь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 изо деятельности. ДОУ №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говая С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380880"/>
          <a:ext cx="8305920" cy="6132600"/>
        </p:xfrm>
        <a:graphic>
          <a:graphicData uri="http://schemas.openxmlformats.org/drawingml/2006/table">
            <a:tbl>
              <a:tblPr/>
              <a:tblGrid>
                <a:gridCol w="2666880"/>
                <a:gridCol w="5639040"/>
              </a:tblGrid>
              <a:tr h="61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сим капу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 что еще за кус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 что еще за хруст?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же мне без хру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Если я – капуст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рубим, руби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солим, соли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мнем, мн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морковку трем, тр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 перемешаем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бочки набиваем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погреб опускаем.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х, вкусная капуста!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я, руки перед грудью в «зам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 «распружинился», подрос – руки соединены только основаниями ладоней и кончиками пальцев. Ладони чуть-чуть поворачиваем во встречном направлении и при этом издаем хруст, как умеем (горлом, языком, щеками…) Детям очень нравитс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т наша «капуста» вырастает и становится размером с кольцо из рук, кончики пальцев соединены над голово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бим капусту» на поверхности воображаемого стола ребрами ладоней. Детям достаточно рубить на одном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сложены щепотью и «солят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ем и разжимаем кул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 ладони друг об друга – для тренировки держите их на уровне груди и нажимайте на ладони с сило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ем – в горизонтальной плоск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онь на ладони, «уминаем» капусту, не наклоняясь, а сгибая и выпрямляя локти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аком же положении глубоко наклоняемся и кладем на пол сложенные ладо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рямляемся и гладим себя по живо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2" descr="http://img0.liveinternet.ru/images/foto/c/9/apps/2/52/2052432_knijka_igraem_s_palchikami_27.jpg"/>
          <p:cNvPicPr/>
          <p:nvPr/>
        </p:nvPicPr>
        <p:blipFill>
          <a:blip r:embed="rId1"/>
          <a:stretch/>
        </p:blipFill>
        <p:spPr>
          <a:xfrm>
            <a:off x="174312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http://img1.liveinternet.ru/images/foto/c/9/apps/2/52/2052435_knijka_igraem_s_palchikami_31.jpg"/>
          <p:cNvPicPr/>
          <p:nvPr/>
        </p:nvPicPr>
        <p:blipFill>
          <a:blip r:embed="rId1"/>
          <a:stretch/>
        </p:blipFill>
        <p:spPr>
          <a:xfrm>
            <a:off x="1495440" y="200160"/>
            <a:ext cx="62006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4" descr="http://img0.liveinternet.ru/images/foto/c/9/apps/2/52/2052404_knijka_igraem_s_palchikami.jpg"/>
          <p:cNvPicPr/>
          <p:nvPr/>
        </p:nvPicPr>
        <p:blipFill>
          <a:blip r:embed="rId1"/>
          <a:stretch/>
        </p:blipFill>
        <p:spPr>
          <a:xfrm>
            <a:off x="1676520" y="0"/>
            <a:ext cx="58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5" descr="http://img1.liveinternet.ru/images/foto/c/9/apps/2/52/2052405_knijka_igraem_s_palchikami_1.jpg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6" descr="http://img0.liveinternet.ru/images/foto/c/9/apps/2/52/2052406_knijka_igraem_s_palchikami_2.jpg"/>
          <p:cNvPicPr/>
          <p:nvPr/>
        </p:nvPicPr>
        <p:blipFill>
          <a:blip r:embed="rId1"/>
          <a:stretch/>
        </p:blipFill>
        <p:spPr>
          <a:xfrm>
            <a:off x="1828800" y="0"/>
            <a:ext cx="5324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7" descr="http://img1.liveinternet.ru/images/foto/c/9/apps/2/52/2052407_knijka_igraem_s_palchikami_3.jpg"/>
          <p:cNvPicPr/>
          <p:nvPr/>
        </p:nvPicPr>
        <p:blipFill>
          <a:blip r:embed="rId1"/>
          <a:stretch/>
        </p:blipFill>
        <p:spPr>
          <a:xfrm>
            <a:off x="1752480" y="0"/>
            <a:ext cx="5943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8" descr="http://img0.liveinternet.ru/images/foto/c/9/apps/2/52/2052408_knijka_igraem_s_palchikami_5.jpg"/>
          <p:cNvPicPr/>
          <p:nvPr/>
        </p:nvPicPr>
        <p:blipFill>
          <a:blip r:embed="rId1"/>
          <a:stretch/>
        </p:blipFill>
        <p:spPr>
          <a:xfrm>
            <a:off x="1200240" y="200160"/>
            <a:ext cx="56862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9" descr="http://img1.liveinternet.ru/images/foto/c/9/apps/2/52/2052409_knijka_igraem_s_palchikami_6.jpg"/>
          <p:cNvPicPr/>
          <p:nvPr/>
        </p:nvPicPr>
        <p:blipFill>
          <a:blip r:embed="rId1"/>
          <a:stretch/>
        </p:blipFill>
        <p:spPr>
          <a:xfrm>
            <a:off x="1752480" y="0"/>
            <a:ext cx="60962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0" descr="http://img0.liveinternet.ru/images/foto/c/9/apps/2/52/2052410_knijka_igraem_s_palchikami_7.jpg"/>
          <p:cNvPicPr/>
          <p:nvPr/>
        </p:nvPicPr>
        <p:blipFill>
          <a:blip r:embed="rId1"/>
          <a:stretch/>
        </p:blipFill>
        <p:spPr>
          <a:xfrm>
            <a:off x="1676520" y="190440"/>
            <a:ext cx="56005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кая моторика - это тонкие и точные движения пальцев. Их развитие является необходимым условием освоения ребенком большинства видов творческой и бытовой деятельности. Кроме того, «на кончиках детских пальчиков находится мышление и речь ребенка». От развития мелкой моторики напрямую зависит работа речевых и мыслительных центров головного мозга. Поэтому при поступлении ребенка в школу обязательно проверяется уровень развития мелкой моторики. Ведь овладеть письмом ребенок сможет, только если его пальчики хорошо слушаются и могут выполнять тонкие точные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го вышесказанного следует, что развитием мелкой моторики ребенка необходимо заниматься с раннего детства. Поможет пальчиковая гимнастика, обыгранная в виде известных игр: «Сорока, сорока…», «Идет коза рогатая…» и т.п. Кроме того, чтобы занятия проходили весело и интересно, необходимо использовать специальные игровые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1" descr="http://img1.liveinternet.ru/images/foto/c/9/apps/2/52/2052411_knijka_igraem_s_palchikami_8.jpg"/>
          <p:cNvPicPr/>
          <p:nvPr/>
        </p:nvPicPr>
        <p:blipFill>
          <a:blip r:embed="rId1"/>
          <a:stretch/>
        </p:blipFill>
        <p:spPr>
          <a:xfrm>
            <a:off x="1828800" y="190440"/>
            <a:ext cx="49150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2" descr="http://img0.liveinternet.ru/images/foto/c/9/apps/2/52/2052412_knijka_igraem_s_palchikami_9.jpg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го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ть приподнимите перед собой руку, так чтобы расслабленная кисть оказалась приблизительно на уровне лица. Пальчики расслаблены, свисают в ни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етки ягодки сним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лукошко собира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ет полное лукошк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 попробую немножк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 поем еще чуть-чу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будет к дому пу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другой руки поглаживаете каждый пальчик от основания до самого кончика, как будто снимая с него воображаемую ягод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ладошки складываете перед собой чашеч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у ладошку, сложенную лодочкой, накрываете другой также сложенной ладош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сложенная ладошка имитирует лукошко, другой рукой достаем воображаемые ягодки и отправляем их в ро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тируя ножки, средний и указательный пальчики на обеих руках «убегают» как можно даль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420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2120" y="457200"/>
          <a:ext cx="7619760" cy="264636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лоточком я стуч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м построить я хоч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ю я высокий до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 жить я в доме т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кивать кулачками друг 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ь кончики пальцев обеих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ять выпрямленные ладони в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лопать ладон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38080" y="3276720"/>
          <a:ext cx="7619760" cy="304704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30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рубим руб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морковку трем тр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солим сол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мнем мн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 ритмично, руками показывать как мы рубим капу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ками показывать как мы трем морков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и щепоткой-сол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ками "мнем" капу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3520" y="304920"/>
          <a:ext cx="8001000" cy="60688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0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сто ручками помн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ладкий тортик испеч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ерединку смажем джем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верхушку сладким крем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кокосовую крошк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присыплем торт немножк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потом заварим ч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гости друг-друга приглаш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ем и разжимаем пальч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удто мнем т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овые движения ладошками по плоскости ст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плем "крошку" пальчиками обеих ру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1492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2120" y="457200"/>
          <a:ext cx="7772400" cy="564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ж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ружат в нашей группе девочки и мальч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с тобой подружим маленькие пальч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, два, три, четыре, пя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чинай считать опят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, два, три, четыре, пят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закончили счит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ы рук соединяются в "замок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чное касание одноименных пальцев обеих ру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чередное касание одноименных пальцев, начиная с мизинц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вниз, встряхнуть кист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533520"/>
          <a:ext cx="7695720" cy="5485320"/>
        </p:xfrm>
        <a:graphic>
          <a:graphicData uri="http://schemas.openxmlformats.org/drawingml/2006/table">
            <a:tbl>
              <a:tblPr/>
              <a:tblGrid>
                <a:gridCol w="3847680"/>
                <a:gridCol w="3848040"/>
              </a:tblGrid>
              <a:tr h="54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ох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ши пальчики проснулис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тянулись, потянулись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встряхнулись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ладошке побежа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бежали, побежал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скакали, поскака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устали. Сели отдых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 все эти дви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адони одной руки бегают пальцы другой, потом наобор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 эти дви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ясите пальцами и положите руки на стол или на кол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304920"/>
          <a:ext cx="8686800" cy="5943600"/>
        </p:xfrm>
        <a:graphic>
          <a:graphicData uri="http://schemas.openxmlformats.org/drawingml/2006/table">
            <a:tbl>
              <a:tblPr/>
              <a:tblGrid>
                <a:gridCol w="4184640"/>
                <a:gridCol w="4502160"/>
              </a:tblGrid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ждик, дождик, полив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ет хлеба каравай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т булки, будут сушки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т вкусные ватруш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ельным пальцем постукивать по ладони друг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ь перед собой круг рука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лопывать поочередно одной ладонью друг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ь большой и указательный пальцы рук вместе, образовывая большой кру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512640"/>
          <a:ext cx="8381880" cy="57355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57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м стен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им стенк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ше, выше,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брались уже до крыши!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ья крыша вы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ше, выше, выш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рубили мы окошк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дверку для кош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дырочку для мышк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и-пи-пи-пи–пи!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 ладони держим горизонтально перед собой (мизинец каждой смотрит вниз, большой палец – вверх, внутренняя поверхность ладоней обращена к груди), поочередно «нижнюю» ладонь кладем на «верхнюю», имитируя кирпичную клад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моменту произнесения этих слов «стенка» должна «дорасти» примерно до глаз. Складываем из ладоней двухскатную крышу: конек – соприкасающиеся кончики средних пальцев, скаты – ладони и предплеч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ные руки тянутся-тянутся-тянутся вверх! Взрослые, следите, чтоб ваш позвоночник растягивался вслед за руками! (одна девочка даже на стул вставала, чтобы ее крыша была выше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мые отверстия изображаются большими и указательными пальцами: большой четырехугольник, арка, маленькая круглая дырочка. Строки про мышку произносятся тоненьким голос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7:16:20Z</dcterms:created>
  <dc:creator>СВЕТОЧКА</dc:creator>
  <dc:description/>
  <dc:language>en-US</dc:language>
  <cp:lastModifiedBy>СВЕТА</cp:lastModifiedBy>
  <dcterms:modified xsi:type="dcterms:W3CDTF">2013-04-11T10:06:4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