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4D55-470A-4078-8797-9099CE7D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387-20E9-41DA-992B-D0369934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F66-A344-4FE2-B3A1-ABBF4455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E4D-B92F-4B82-B774-FD934984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2EF-7254-46EF-964F-3F823228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967-D2A0-4E24-BEAB-7CC9E8DB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179-7FDB-418D-827C-7A013F8B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865-B7B4-43C3-A4B9-50BA7535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86C-1CEB-4FD0-8419-C3195B5D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C5C-5A68-419B-9E17-61AA4B39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48B-C4EE-4346-8D9D-0DD1CEFA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3A9-17D5-485A-9E56-64F0008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1F02-A708-4AA4-9AF9-4E79360A3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витие мелкой моторики рук. Пальчиковые игры для дошкольн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562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ель изо деятельности. ДОУ №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уговая С.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343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380880"/>
          <a:ext cx="8305920" cy="6132600"/>
        </p:xfrm>
        <a:graphic>
          <a:graphicData uri="http://schemas.openxmlformats.org/drawingml/2006/table">
            <a:tbl>
              <a:tblPr/>
              <a:tblGrid>
                <a:gridCol w="2666880"/>
                <a:gridCol w="5639040"/>
              </a:tblGrid>
              <a:tr h="613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сим капус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то что еще за куст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то что еще за хруст?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ак же мне без хруст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Если я – капуст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рубим, руби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солим, соли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мнем, мне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 морковку трем, тре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 перемешаем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бочки набиваем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погреб опускаем.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Эх, вкусная капуста!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я, руки перед грудью в «зам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 «распружинился», подрос – руки соединены только основаниями ладоней и кончиками пальцев. Ладони чуть-чуть поворачиваем во встречном направлении и при этом издаем хруст, как умеем (горлом, языком, щеками…) Детям очень нравится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т наша «капуста» вырастает и становится размером с кольцо из рук, кончики пальцев соединены над голово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бим капусту» на поверхности воображаемого стола ребрами ладоней. Детям достаточно рубить на одном мес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 руки сложены щепотью и «солят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имаем и разжимаем кула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м ладони друг об друга – для тренировки держите их на уровне груди и нажимайте на ладони с сило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мешиваем – в горизонтальной плоск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донь на ладони, «уминаем» капусту, не наклоняясь, а сгибая и выпрямляя локти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аком же положении глубоко наклоняемся и кладем на пол сложенные ладо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рямляемся и гладим себя по живот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2" descr="http://img0.liveinternet.ru/images/foto/c/9/apps/2/52/2052432_knijka_igraem_s_palchikami_27.jpg"/>
          <p:cNvPicPr/>
          <p:nvPr/>
        </p:nvPicPr>
        <p:blipFill>
          <a:blip r:embed="rId1"/>
          <a:stretch/>
        </p:blipFill>
        <p:spPr>
          <a:xfrm>
            <a:off x="174312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3" descr="http://img1.liveinternet.ru/images/foto/c/9/apps/2/52/2052435_knijka_igraem_s_palchikami_31.jpg"/>
          <p:cNvPicPr/>
          <p:nvPr/>
        </p:nvPicPr>
        <p:blipFill>
          <a:blip r:embed="rId1"/>
          <a:stretch/>
        </p:blipFill>
        <p:spPr>
          <a:xfrm>
            <a:off x="1495440" y="200160"/>
            <a:ext cx="620064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4" descr="http://img0.liveinternet.ru/images/foto/c/9/apps/2/52/2052404_knijka_igraem_s_palchikami.jpg"/>
          <p:cNvPicPr/>
          <p:nvPr/>
        </p:nvPicPr>
        <p:blipFill>
          <a:blip r:embed="rId1"/>
          <a:stretch/>
        </p:blipFill>
        <p:spPr>
          <a:xfrm>
            <a:off x="1676520" y="0"/>
            <a:ext cx="581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5" descr="http://img1.liveinternet.ru/images/foto/c/9/apps/2/52/2052405_knijka_igraem_s_palchikami_1.jpg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6" descr="http://img0.liveinternet.ru/images/foto/c/9/apps/2/52/2052406_knijka_igraem_s_palchikami_2.jpg"/>
          <p:cNvPicPr/>
          <p:nvPr/>
        </p:nvPicPr>
        <p:blipFill>
          <a:blip r:embed="rId1"/>
          <a:stretch/>
        </p:blipFill>
        <p:spPr>
          <a:xfrm>
            <a:off x="1828800" y="0"/>
            <a:ext cx="53244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7" descr="http://img1.liveinternet.ru/images/foto/c/9/apps/2/52/2052407_knijka_igraem_s_palchikami_3.jpg"/>
          <p:cNvPicPr/>
          <p:nvPr/>
        </p:nvPicPr>
        <p:blipFill>
          <a:blip r:embed="rId1"/>
          <a:stretch/>
        </p:blipFill>
        <p:spPr>
          <a:xfrm>
            <a:off x="1752480" y="0"/>
            <a:ext cx="5943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8" descr="http://img0.liveinternet.ru/images/foto/c/9/apps/2/52/2052408_knijka_igraem_s_palchikami_5.jpg"/>
          <p:cNvPicPr/>
          <p:nvPr/>
        </p:nvPicPr>
        <p:blipFill>
          <a:blip r:embed="rId1"/>
          <a:stretch/>
        </p:blipFill>
        <p:spPr>
          <a:xfrm>
            <a:off x="1200240" y="200160"/>
            <a:ext cx="56862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9" descr="http://img1.liveinternet.ru/images/foto/c/9/apps/2/52/2052409_knijka_igraem_s_palchikami_6.jpg"/>
          <p:cNvPicPr/>
          <p:nvPr/>
        </p:nvPicPr>
        <p:blipFill>
          <a:blip r:embed="rId1"/>
          <a:stretch/>
        </p:blipFill>
        <p:spPr>
          <a:xfrm>
            <a:off x="1752480" y="0"/>
            <a:ext cx="609624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20" descr="http://img0.liveinternet.ru/images/foto/c/9/apps/2/52/2052410_knijka_igraem_s_palchikami_7.jpg"/>
          <p:cNvPicPr/>
          <p:nvPr/>
        </p:nvPicPr>
        <p:blipFill>
          <a:blip r:embed="rId1"/>
          <a:stretch/>
        </p:blipFill>
        <p:spPr>
          <a:xfrm>
            <a:off x="1676520" y="190440"/>
            <a:ext cx="56005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лкая моторика - это тонкие и точные движения пальцев. Их развитие является необходимым условием освоения ребенком большинства видов творческой и бытовой деятельности. Кроме того, «на кончиках детских пальчиков находится мышление и речь ребенка». От развития мелкой моторики напрямую зависит работа речевых и мыслительных центров головного мозга. Поэтому при поступлении ребенка в школу обязательно проверяется уровень развития мелкой моторики. Ведь овладеть письмом ребенок сможет, только если его пальчики хорошо слушаются и могут выполнять тонкие точные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го вышесказанного следует, что развитием мелкой моторики ребенка необходимо заниматься с раннего детства. Поможет пальчиковая гимнастика, обыгранная в виде известных игр: «Сорока, сорока…», «Идет коза рогатая…» и т.п. Кроме того, чтобы занятия проходили весело и интересно, необходимо использовать специальные игровые пос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21" descr="http://img1.liveinternet.ru/images/foto/c/9/apps/2/52/2052411_knijka_igraem_s_palchikami_8.jpg"/>
          <p:cNvPicPr/>
          <p:nvPr/>
        </p:nvPicPr>
        <p:blipFill>
          <a:blip r:embed="rId1"/>
          <a:stretch/>
        </p:blipFill>
        <p:spPr>
          <a:xfrm>
            <a:off x="1828800" y="190440"/>
            <a:ext cx="49150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2" descr="http://img0.liveinternet.ru/images/foto/c/9/apps/2/52/2052412_knijka_igraem_s_palchikami_9.jpg"/>
          <p:cNvPicPr/>
          <p:nvPr/>
        </p:nvPicPr>
        <p:blipFill>
          <a:blip r:embed="rId1"/>
          <a:stretch/>
        </p:blipFill>
        <p:spPr>
          <a:xfrm>
            <a:off x="1371600" y="0"/>
            <a:ext cx="60958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5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год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ть приподнимите перед собой руку, так чтобы расслабленная кисть оказалась приблизительно на уровне лица. Пальчики расслаблены, свисают в низ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етки ягодки снима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в лукошко собира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ет полное лукошк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Я попробую немножк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Я поем еще чуть-чу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м будет к дому путь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цами другой руки поглаживаете каждый пальчик от основания до самого кончика, как будто снимая с него воображаемую ягодк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 ладошки складываете перед собой чашечк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у ладошку, сложенную лодочкой, накрываете другой также сложенной ладошко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а сложенная ладошка имитирует лукошко, другой рукой достаем воображаемые ягодки и отправляем их в ро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итируя ножки, средний и указательный пальчики на обеих руках «убегают» как можно дальш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257800"/>
            <a:ext cx="420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2120" y="457200"/>
          <a:ext cx="7619760" cy="264636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олоточком я стучу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м построить я хоч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рою я высокий дом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уду жить я в доме т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кивать кулачками друг о др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ить кончики пальцев обеих ру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нять выпрямленные ладони ввер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хлопать ладон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838080" y="3276720"/>
          <a:ext cx="7619760" cy="304704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30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рубим руби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морковку трем тр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солим соли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капусту мнем мне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 ритмично, руками показывать как мы рубим капус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чками показывать как мы трем морков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и щепоткой-сол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чками "мнем" капус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33520" y="304920"/>
          <a:ext cx="8001000" cy="606888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60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Тесто ручками помн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ладкий тортик испеч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ерединку смажем джем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 верхушку сладким кремо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 кокосовую крошк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присыплем торт немножк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 потом заварим ч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гости друг-друга приглаша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имаем и разжимаем пальч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будто мнем тес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овые движения ладошками по плоскости сто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плем "крошку" пальчиками обеих ру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0" y="3886200"/>
            <a:ext cx="1492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62120" y="457200"/>
          <a:ext cx="7772400" cy="56419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6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ж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ружат в нашей группе девочки и мальч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с тобой подружим маленькие пальчик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з, два, три, четыре, пя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чинай считать опят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аз, два, три, четыре, пять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Мы закончили счит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цы рук соединяются в "замок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мичное касание одноименных пальцев обеих ру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чередное касание одноименных пальцев, начиная с мизинц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и вниз, встряхнуть кистям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62120" y="533520"/>
          <a:ext cx="7695720" cy="5485320"/>
        </p:xfrm>
        <a:graphic>
          <a:graphicData uri="http://schemas.openxmlformats.org/drawingml/2006/table">
            <a:tbl>
              <a:tblPr/>
              <a:tblGrid>
                <a:gridCol w="3847680"/>
                <a:gridCol w="3848040"/>
              </a:tblGrid>
              <a:tr h="548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охн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ши пальчики проснулись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тянулись, потянулись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 встряхнулись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ладошке побежа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бежали, побежали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скакали, поскака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 устали. Сели отдыха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 все эти дви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адони одной руки бегают пальцы другой, потом наобор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 эти дви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ясите пальцами и положите руки на стол или на коле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304920"/>
          <a:ext cx="8686800" cy="5943600"/>
        </p:xfrm>
        <a:graphic>
          <a:graphicData uri="http://schemas.openxmlformats.org/drawingml/2006/table">
            <a:tbl>
              <a:tblPr/>
              <a:tblGrid>
                <a:gridCol w="4184640"/>
                <a:gridCol w="4502160"/>
              </a:tblGrid>
              <a:tr h="59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жд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ждик, дождик, полива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удет хлеба каравай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удут булки, будут сушки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удут вкусные ватрушк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ательным пальцем постукивать по ладони друго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ь перед собой круг рука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хлопывать поочередно одной ладонью другу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ить большой и указательный пальцы рук вместе, образовывая большой кру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99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80880" y="512640"/>
          <a:ext cx="8381880" cy="57355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57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м стен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троим стенк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ше, выше,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брались уже до крыши!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ья крыша выш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ше, выше, выше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рубили мы окошко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 дверку для кошк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 дырочку для мышки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и-пи-пи-пи–пи!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ые ладони держим горизонтально перед собой (мизинец каждой смотрит вниз, большой палец – вверх, внутренняя поверхность ладоней обращена к груди), поочередно «нижнюю» ладонь кладем на «верхнюю», имитируя кирпичную клад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моменту произнесения этих слов «стенка» должна «дорасти» примерно до глаз. Складываем из ладоней двухскатную крышу: конек – соприкасающиеся кончики средних пальцев, скаты – ладони и предплечь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ные руки тянутся-тянутся-тянутся вверх! Взрослые, следите, чтоб ваш позвоночник растягивался вслед за руками! (одна девочка даже на стул вставала, чтобы ее крыша была выше!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емые отверстия изображаются большими и указательными пальцами: большой четырехугольник, арка, маленькая круглая дырочка. Строки про мышку произносятся тоненьким голоско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7:16:20Z</dcterms:created>
  <dc:creator>СВЕТОЧКА</dc:creator>
  <dc:description/>
  <dc:language>en-US</dc:language>
  <cp:lastModifiedBy>СВЕТА</cp:lastModifiedBy>
  <dcterms:modified xsi:type="dcterms:W3CDTF">2013-04-11T10:06:4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