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40.jpeg" ContentType="image/jpeg"/>
  <Override PartName="/ppt/media/image29.jpeg" ContentType="image/jpeg"/>
  <Override PartName="/ppt/media/image5.png" ContentType="image/png"/>
  <Override PartName="/ppt/media/image30.png" ContentType="image/png"/>
  <Override PartName="/ppt/media/image37.jpeg" ContentType="image/jpeg"/>
  <Override PartName="/ppt/media/image41.png" ContentType="image/png"/>
  <Override PartName="/ppt/media/image35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32B-844E-4632-AFCE-87EA7727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DD33-AA86-4933-B004-0069BA20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5AE4-BA06-46EB-B5E0-2BB2B6D7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2714-B327-4B7C-89A7-2C8FD8E0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0577-641E-46E3-9BF0-3CBE69A4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FAF3-0084-497F-9E39-7826C933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9161-C798-4AF9-86F8-95881FC1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1DF7-DB0A-449B-9868-BF688BB3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9A8F-6F31-46A3-8C4C-68A72324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3BD8-2A0A-4F42-BE38-0E3194C8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C720-73BF-474E-A913-A97AB9D9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9F2-21CE-45E0-A0FE-8E2512C0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F9BA-AEFE-4206-9A1F-7CB561A5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87FF-470F-4D9F-8F8B-1BD88030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570A-C3E8-41B0-B82A-89C8968B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95D4-0B87-4DAD-B68A-04499DA4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45C2-F911-4F4C-A929-E9084140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8C5-460A-431D-808F-3B5AB25B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C55B-921F-41EE-89A2-96E2256B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048-C234-471C-92C2-0520AAC4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37D-82B2-4C61-92F7-275F831E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819-4648-4015-ACB9-B4AF3D61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FD5-B5D5-4E9E-88F4-6220A02D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A5D-CD7B-4CFA-B2E4-AE80A030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B834-DBCF-477A-8330-A9A77DA90A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F827-7675-4059-B11F-68DC96902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Роль федеральной образовательной программы в формировании гражданских установок учащих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00720" y="3886200"/>
            <a:ext cx="428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сенкова О.Ю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, классный руководитель 8 «Б» класс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6929280" y="285840"/>
            <a:ext cx="18208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143160" y="2786040"/>
            <a:ext cx="1438200" cy="1933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4572000"/>
            <a:ext cx="3274920" cy="208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Андрей\Pictures\с телефона\171.jpg"/>
          <p:cNvPicPr/>
          <p:nvPr/>
        </p:nvPicPr>
        <p:blipFill>
          <a:blip r:embed="rId3"/>
          <a:stretch/>
        </p:blipFill>
        <p:spPr>
          <a:xfrm>
            <a:off x="357120" y="214200"/>
            <a:ext cx="1555920" cy="27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Users\Андрей\Pictures\с телефона\179.jpg"/>
          <p:cNvPicPr/>
          <p:nvPr/>
        </p:nvPicPr>
        <p:blipFill>
          <a:blip r:embed="rId4"/>
          <a:stretch/>
        </p:blipFill>
        <p:spPr>
          <a:xfrm>
            <a:off x="2143080" y="500040"/>
            <a:ext cx="3656160" cy="205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Users\Андрей\Pictures\с телефона\175.jpg"/>
          <p:cNvPicPr/>
          <p:nvPr/>
        </p:nvPicPr>
        <p:blipFill>
          <a:blip r:embed="rId5"/>
          <a:stretch/>
        </p:blipFill>
        <p:spPr>
          <a:xfrm>
            <a:off x="5551560" y="428760"/>
            <a:ext cx="359244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C:\Users\Андрей\Pictures\с телефона\176.jpg"/>
          <p:cNvPicPr/>
          <p:nvPr/>
        </p:nvPicPr>
        <p:blipFill>
          <a:blip r:embed="rId6"/>
          <a:stretch/>
        </p:blipFill>
        <p:spPr>
          <a:xfrm>
            <a:off x="5000760" y="2786040"/>
            <a:ext cx="37209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Равнобедренный треугольник 3"/>
          <p:cNvSpPr/>
          <p:nvPr/>
        </p:nvSpPr>
        <p:spPr>
          <a:xfrm>
            <a:off x="2428920" y="1857240"/>
            <a:ext cx="4000320" cy="2428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заимо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час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разовательного проце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4"/>
          <p:cNvSpPr/>
          <p:nvPr/>
        </p:nvSpPr>
        <p:spPr>
          <a:xfrm>
            <a:off x="2000160" y="285840"/>
            <a:ext cx="4643640" cy="1500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учитель-учен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5"/>
          <p:cNvSpPr/>
          <p:nvPr/>
        </p:nvSpPr>
        <p:spPr>
          <a:xfrm>
            <a:off x="5286240" y="4286160"/>
            <a:ext cx="3571920" cy="235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родитель – учитель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7"/>
          <p:cNvSpPr/>
          <p:nvPr/>
        </p:nvSpPr>
        <p:spPr>
          <a:xfrm>
            <a:off x="428760" y="4286160"/>
            <a:ext cx="3000240" cy="2357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«Ученик – родит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428920" y="357120"/>
            <a:ext cx="122868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5857920" y="4357800"/>
            <a:ext cx="2228760" cy="1295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1000080" y="4357800"/>
            <a:ext cx="14781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етоды формирования гражданских установок у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Блок-схема: перфолента 3"/>
          <p:cNvSpPr/>
          <p:nvPr/>
        </p:nvSpPr>
        <p:spPr>
          <a:xfrm>
            <a:off x="428760" y="571680"/>
            <a:ext cx="2000160" cy="171432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оды формирования сознания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Блок-схема: перфолента 4"/>
          <p:cNvSpPr/>
          <p:nvPr/>
        </p:nvSpPr>
        <p:spPr>
          <a:xfrm>
            <a:off x="285840" y="2071800"/>
            <a:ext cx="2214360" cy="328608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б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иску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од прим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лок-схема: перфолента 6"/>
          <p:cNvSpPr/>
          <p:nvPr/>
        </p:nvSpPr>
        <p:spPr>
          <a:xfrm>
            <a:off x="3571920" y="1000080"/>
            <a:ext cx="2000160" cy="2571840"/>
          </a:xfrm>
          <a:prstGeom prst="flowChartPunchedTape">
            <a:avLst/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тоды организации деятельности и формирования опыта гражданского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лок-схема: перфолента 7"/>
          <p:cNvSpPr/>
          <p:nvPr/>
        </p:nvSpPr>
        <p:spPr>
          <a:xfrm>
            <a:off x="6715080" y="2071800"/>
            <a:ext cx="2000160" cy="1714320"/>
          </a:xfrm>
          <a:prstGeom prst="flowChartPunchedTap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тоды стимулирования деятельности и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перфолента 8"/>
          <p:cNvSpPr/>
          <p:nvPr/>
        </p:nvSpPr>
        <p:spPr>
          <a:xfrm>
            <a:off x="3500280" y="3214800"/>
            <a:ext cx="2214720" cy="3286080"/>
          </a:xfrm>
          <a:prstGeom prst="flowChartPunchedTape">
            <a:avLst/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дагогическое треб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ебование коллек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щественное м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Т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етод про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Блок-схема: перфолента 10"/>
          <p:cNvSpPr/>
          <p:nvPr/>
        </p:nvSpPr>
        <p:spPr>
          <a:xfrm>
            <a:off x="6643800" y="3571920"/>
            <a:ext cx="2214360" cy="3286080"/>
          </a:xfrm>
          <a:prstGeom prst="flowChartPunchedTape">
            <a:avLst/>
          </a:prstGeom>
          <a:solidFill>
            <a:srgbClr val="9bbb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рев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ощ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выр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здание ситуации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зультаты деятельности по программ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Я – гражданин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694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аточный уровень сформированности  личностных качеств граждан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ы анкетирования ,наблюдения классного руковод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ность участия школьников в мероприятия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тистический анализ и результаты учас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аточный уровень осознания учащимися ценности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здоровья по результатам медицинских осмо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участия учащихся в мероприятиях, сохраняющих и укрепляющих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ая степень формирования позитивного влияния на личность ребенка культуры семейных отно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ультаты анкетирования, отзывы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ват учащимися кружковой деятельностью, занятиями в детских объединениях учреждений дополнительно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тистический анализ участия школьников в работе кружков и с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ается уровень законопослуш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тистический анализ совершенных правонаруш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Граждан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не только человек, уважающий законы своей страны и готовый к труду на процветание и благо общества, но и человек, осознающий себя свободным и равноправным членом этого общества, участвующий в общественной жизни страны, обладающий совокупностью прав и находящийся под защитой зако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85840" y="485784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7323120" y="0"/>
            <a:ext cx="18208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57120" y="4071960"/>
            <a:ext cx="182088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1428840" y="214200"/>
            <a:ext cx="1919160" cy="2519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4857840" y="285840"/>
            <a:ext cx="1919160" cy="2519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4"/>
          <a:stretch/>
        </p:blipFill>
        <p:spPr>
          <a:xfrm>
            <a:off x="6215040" y="2143080"/>
            <a:ext cx="1924200" cy="251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5"/>
          <a:stretch/>
        </p:blipFill>
        <p:spPr>
          <a:xfrm>
            <a:off x="2571840" y="2143080"/>
            <a:ext cx="1909800" cy="2519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6"/>
          <a:stretch/>
        </p:blipFill>
        <p:spPr>
          <a:xfrm>
            <a:off x="3500280" y="4143240"/>
            <a:ext cx="1924200" cy="251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7"/>
          <a:stretch/>
        </p:blipFill>
        <p:spPr>
          <a:xfrm>
            <a:off x="7253280" y="4143240"/>
            <a:ext cx="1890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ntr" presetID="5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4" descr="Рисунок1.png"/>
          <p:cNvPicPr/>
          <p:nvPr/>
        </p:nvPicPr>
        <p:blipFill>
          <a:blip r:embed="rId1"/>
          <a:stretch/>
        </p:blipFill>
        <p:spPr>
          <a:xfrm>
            <a:off x="-214200" y="-285840"/>
            <a:ext cx="9929880" cy="714384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17"/>
          <p:cNvSpPr/>
          <p:nvPr/>
        </p:nvSpPr>
        <p:spPr>
          <a:xfrm>
            <a:off x="2786040" y="-214200"/>
            <a:ext cx="3571920" cy="1928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разовательно-воспитате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-гражданин Росси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357120" y="1859040"/>
            <a:ext cx="850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формировать и развивать у ребенка чувство принадлежности к обществу, в котором он живет, любовь к родному кра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формировать потребность к самообразованию, воспитанию своих морально-волевых каче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воспитывать толерантность, развивать способность к успешной социализации в 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7000920" y="285840"/>
            <a:ext cx="18208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:\Users\Андрей\Pictures\с телефона\048.jpg"/>
          <p:cNvPicPr/>
          <p:nvPr/>
        </p:nvPicPr>
        <p:blipFill>
          <a:blip r:embed="rId1"/>
          <a:stretch/>
        </p:blipFill>
        <p:spPr>
          <a:xfrm>
            <a:off x="214200" y="21420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Андрей\Pictures\с телефона\170.jpg"/>
          <p:cNvPicPr/>
          <p:nvPr/>
        </p:nvPicPr>
        <p:blipFill>
          <a:blip r:embed="rId2"/>
          <a:stretch/>
        </p:blipFill>
        <p:spPr>
          <a:xfrm>
            <a:off x="4286160" y="214200"/>
            <a:ext cx="4683240" cy="2627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500040" y="3071880"/>
            <a:ext cx="20844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10"/>
          <p:cNvGraphicFramePr/>
          <p:nvPr/>
        </p:nvGraphicFramePr>
        <p:xfrm>
          <a:off x="5000760" y="3071880"/>
          <a:ext cx="2477880" cy="3384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0760" y="3071880"/>
                    <a:ext cx="247788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85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Андрей\Desktop\фото\мои фото\Школа\сценка2.jpg"/>
          <p:cNvPicPr/>
          <p:nvPr/>
        </p:nvPicPr>
        <p:blipFill>
          <a:blip r:embed="rId1"/>
          <a:stretch/>
        </p:blipFill>
        <p:spPr>
          <a:xfrm>
            <a:off x="285840" y="114300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Андрей\Desktop\фото\мои фото\Школа\сценка1.jpg"/>
          <p:cNvPicPr/>
          <p:nvPr/>
        </p:nvPicPr>
        <p:blipFill>
          <a:blip r:embed="rId2"/>
          <a:stretch/>
        </p:blipFill>
        <p:spPr>
          <a:xfrm>
            <a:off x="3286080" y="0"/>
            <a:ext cx="2784600" cy="2087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Users\Андрей\Desktop\фото\мои фото\Школа\сценка3.jpg"/>
          <p:cNvPicPr/>
          <p:nvPr/>
        </p:nvPicPr>
        <p:blipFill>
          <a:blip r:embed="rId3"/>
          <a:stretch/>
        </p:blipFill>
        <p:spPr>
          <a:xfrm>
            <a:off x="5857920" y="1214280"/>
            <a:ext cx="2976480" cy="223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Андрей\Documents\2004_01_01\IMG_0002.jpg"/>
          <p:cNvPicPr/>
          <p:nvPr/>
        </p:nvPicPr>
        <p:blipFill>
          <a:blip r:embed="rId4"/>
          <a:stretch/>
        </p:blipFill>
        <p:spPr>
          <a:xfrm>
            <a:off x="214200" y="4071960"/>
            <a:ext cx="1839960" cy="255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Андрей\Documents\2004_01_01\IMG_0001.jpg"/>
          <p:cNvPicPr/>
          <p:nvPr/>
        </p:nvPicPr>
        <p:blipFill>
          <a:blip r:embed="rId5"/>
          <a:stretch/>
        </p:blipFill>
        <p:spPr>
          <a:xfrm>
            <a:off x="1857240" y="4071960"/>
            <a:ext cx="1851120" cy="255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Андрей\Documents\2004_01_01\IMG.jpg"/>
          <p:cNvPicPr/>
          <p:nvPr/>
        </p:nvPicPr>
        <p:blipFill>
          <a:blip r:embed="rId6"/>
          <a:stretch/>
        </p:blipFill>
        <p:spPr>
          <a:xfrm>
            <a:off x="5357880" y="4071960"/>
            <a:ext cx="3354480" cy="25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7"/>
          <a:stretch/>
        </p:blipFill>
        <p:spPr>
          <a:xfrm>
            <a:off x="3714840" y="1785960"/>
            <a:ext cx="19018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286080" y="1928880"/>
            <a:ext cx="1438200" cy="1933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4214880" y="2928960"/>
            <a:ext cx="143820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687400" cy="201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4"/>
          <a:stretch/>
        </p:blipFill>
        <p:spPr>
          <a:xfrm>
            <a:off x="3714840" y="357120"/>
            <a:ext cx="1189080" cy="151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5"/>
          <a:stretch/>
        </p:blipFill>
        <p:spPr>
          <a:xfrm>
            <a:off x="6143760" y="285840"/>
            <a:ext cx="2639880" cy="19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:\Users\Андрей\Desktop\фото\мои фото\Школа\агитбригада.jpg"/>
          <p:cNvPicPr/>
          <p:nvPr/>
        </p:nvPicPr>
        <p:blipFill>
          <a:blip r:embed="rId6"/>
          <a:stretch/>
        </p:blipFill>
        <p:spPr>
          <a:xfrm>
            <a:off x="285840" y="257184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Users\Андрей\Pictures\с телефона\052.jpg"/>
          <p:cNvPicPr/>
          <p:nvPr/>
        </p:nvPicPr>
        <p:blipFill>
          <a:blip r:embed="rId7"/>
          <a:stretch/>
        </p:blipFill>
        <p:spPr>
          <a:xfrm>
            <a:off x="5715000" y="264312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C:\Users\Андрей\Pictures\с телефона\055.jpg"/>
          <p:cNvPicPr/>
          <p:nvPr/>
        </p:nvPicPr>
        <p:blipFill>
          <a:blip r:embed="rId8"/>
          <a:stretch/>
        </p:blipFill>
        <p:spPr>
          <a:xfrm>
            <a:off x="857160" y="428616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500"/>
                            </p:stCondLst>
                            <p:childTnLst>
                              <p:par>
                                <p:cTn id="141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2786040" cy="2500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1214280" y="3071880"/>
            <a:ext cx="1901880" cy="25192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1071720" y="1928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готовила –ученица 8 «Б» класс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БУ СОШ № 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лова Анастас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500040" y="35712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Исследовательская рабо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«Ставрополь – курортный гор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5072040" y="378612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143680" y="571680"/>
            <a:ext cx="36464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14:16Z</dcterms:created>
  <dc:creator>ОЛЕЧКА</dc:creator>
  <dc:description/>
  <dc:language>en-US</dc:language>
  <cp:lastModifiedBy>Андрей</cp:lastModifiedBy>
  <dcterms:modified xsi:type="dcterms:W3CDTF">2003-12-31T22:05:11Z</dcterms:modified>
  <cp:revision>35</cp:revision>
  <dc:subject/>
  <dc:title>Слайд 1</dc:title>
</cp:coreProperties>
</file>