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29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41.png" ContentType="image/png"/>
  <Override PartName="/ppt/media/image35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0C5-13E5-4257-ABB5-A59A808C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6F1-6195-46BC-AC08-DBDCA134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B61-87A5-4D8C-8923-FB861482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F51-88EE-4880-89C1-F4FDA422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FE46-4170-4510-A371-E4099695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67CA-AB7F-45C8-90F0-8A1DEBCD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28CA-CCEF-426D-8C6D-330F1A1E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F8F0-6F85-4071-8F34-BD875075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6260-99B1-443E-B765-F8819CE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EB83-18D0-4E7B-814B-D5EB6337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8B4C-63A8-4CB1-8E58-FE6C94B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EFA-602C-4723-82BD-61DAF008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2256-1721-4389-B773-E5A4624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2887-F8AA-4575-B353-B9766201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E53D-F510-416A-9828-20FF5595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D5DE-6794-4691-8262-61B84FB2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F7F8-B605-45D7-AFCE-3E333D73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27F-643D-4C59-8490-430FF12E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BA0-CCD8-4B09-825B-E69B5844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21A-D4AA-4402-BB3F-34738F7C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882-047B-4673-B6F9-963DC504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609-18F6-4C20-9CC7-26B51F9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EC7-12DC-4760-9CB4-48B27F32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B52-9C34-4B77-9BED-7FFBAB9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319-6E15-43A0-93EA-E32142721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DB91-FF76-409E-B05C-096211487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Роль федеральной образовательной программы в формировании гражданских установок 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3886200"/>
            <a:ext cx="428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енкова О.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, классный руководитель 8 «Б» клас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6929280" y="285840"/>
            <a:ext cx="18208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143160" y="2786040"/>
            <a:ext cx="1438200" cy="193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4572000"/>
            <a:ext cx="3274920" cy="208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Андрей\Pictures\с телефона\171.jpg"/>
          <p:cNvPicPr/>
          <p:nvPr/>
        </p:nvPicPr>
        <p:blipFill>
          <a:blip r:embed="rId3"/>
          <a:stretch/>
        </p:blipFill>
        <p:spPr>
          <a:xfrm>
            <a:off x="357120" y="214200"/>
            <a:ext cx="1555920" cy="27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Андрей\Pictures\с телефона\179.jpg"/>
          <p:cNvPicPr/>
          <p:nvPr/>
        </p:nvPicPr>
        <p:blipFill>
          <a:blip r:embed="rId4"/>
          <a:stretch/>
        </p:blipFill>
        <p:spPr>
          <a:xfrm>
            <a:off x="2143080" y="500040"/>
            <a:ext cx="3656160" cy="20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Андрей\Pictures\с телефона\175.jpg"/>
          <p:cNvPicPr/>
          <p:nvPr/>
        </p:nvPicPr>
        <p:blipFill>
          <a:blip r:embed="rId5"/>
          <a:stretch/>
        </p:blipFill>
        <p:spPr>
          <a:xfrm>
            <a:off x="5551560" y="428760"/>
            <a:ext cx="359244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:\Users\Андрей\Pictures\с телефона\176.jpg"/>
          <p:cNvPicPr/>
          <p:nvPr/>
        </p:nvPicPr>
        <p:blipFill>
          <a:blip r:embed="rId6"/>
          <a:stretch/>
        </p:blipFill>
        <p:spPr>
          <a:xfrm>
            <a:off x="5000760" y="2786040"/>
            <a:ext cx="3720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Равнобедренный треугольник 3"/>
          <p:cNvSpPr/>
          <p:nvPr/>
        </p:nvSpPr>
        <p:spPr>
          <a:xfrm>
            <a:off x="2428920" y="1857240"/>
            <a:ext cx="4000320" cy="242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разовательного проце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2000160" y="285840"/>
            <a:ext cx="4643640" cy="1500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учитель-уче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5286240" y="4286160"/>
            <a:ext cx="3571920" cy="235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родитель – учите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7"/>
          <p:cNvSpPr/>
          <p:nvPr/>
        </p:nvSpPr>
        <p:spPr>
          <a:xfrm>
            <a:off x="428760" y="4286160"/>
            <a:ext cx="3000240" cy="235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Ученик – родит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428920" y="35712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857920" y="4357800"/>
            <a:ext cx="222876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1000080" y="4357800"/>
            <a:ext cx="1478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формирования гражданских установок у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Блок-схема: перфолента 3"/>
          <p:cNvSpPr/>
          <p:nvPr/>
        </p:nvSpPr>
        <p:spPr>
          <a:xfrm>
            <a:off x="428760" y="571680"/>
            <a:ext cx="2000160" cy="171432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ы формирования сознания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лок-схема: перфолента 4"/>
          <p:cNvSpPr/>
          <p:nvPr/>
        </p:nvSpPr>
        <p:spPr>
          <a:xfrm>
            <a:off x="285840" y="2071800"/>
            <a:ext cx="2214360" cy="32860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б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ску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 при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перфолента 6"/>
          <p:cNvSpPr/>
          <p:nvPr/>
        </p:nvSpPr>
        <p:spPr>
          <a:xfrm>
            <a:off x="3571920" y="1000080"/>
            <a:ext cx="2000160" cy="2571840"/>
          </a:xfrm>
          <a:prstGeom prst="flowChartPunchedTape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тоды организации деятельности и формирования опыта гражданского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перфолента 7"/>
          <p:cNvSpPr/>
          <p:nvPr/>
        </p:nvSpPr>
        <p:spPr>
          <a:xfrm>
            <a:off x="6715080" y="2071800"/>
            <a:ext cx="2000160" cy="1714320"/>
          </a:xfrm>
          <a:prstGeom prst="flowChartPunchedTap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ы стимулирования деятельности и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перфолента 8"/>
          <p:cNvSpPr/>
          <p:nvPr/>
        </p:nvSpPr>
        <p:spPr>
          <a:xfrm>
            <a:off x="3500280" y="3214800"/>
            <a:ext cx="2214720" cy="3286080"/>
          </a:xfrm>
          <a:prstGeom prst="flowChartPunchedTape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дагогическое треб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е колл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щественное м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Т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тод 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перфолента 10"/>
          <p:cNvSpPr/>
          <p:nvPr/>
        </p:nvSpPr>
        <p:spPr>
          <a:xfrm>
            <a:off x="6643800" y="3571920"/>
            <a:ext cx="2214360" cy="3286080"/>
          </a:xfrm>
          <a:prstGeom prst="flowChartPunchedTape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рев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ощ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вы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здание ситуации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ы деятельности по программ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Я – гражданин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аточный уровень сформированности  личностных качеств граждан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анкетирования ,наблюдения классного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ность участия школьников в мероприятия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истический анализ и результаты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аточный уровень осознания учащимися ценност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здоровья по результатам медицинских осмо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участия учащихся в мероприятиях, сохраняющих и укрепляющих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ая степень формирования позитивного влияния на личность ребенка культуры семей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анкетирования, отзывы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ват учащимися кружковой деятельностью, занятиями в детских объединениях учреждений дополнительно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истический анализ участия школьников в работе кружков и с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ается уровень законопослуш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истический анализ совершенных правонару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Граждан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не только человек, уважающий законы своей страны и готовый к труду на процветание и благо общества, но и человек, осознающий себя свободным и равноправным членом этого общества, участвующий в общественной жизни страны, обладающий совокупностью прав и находящийся под защитой зак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85840" y="485784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7323120" y="0"/>
            <a:ext cx="18208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4071960"/>
            <a:ext cx="182088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1428840" y="214200"/>
            <a:ext cx="1919160" cy="2519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4857840" y="285840"/>
            <a:ext cx="1919160" cy="251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4"/>
          <a:stretch/>
        </p:blipFill>
        <p:spPr>
          <a:xfrm>
            <a:off x="6215040" y="2143080"/>
            <a:ext cx="1924200" cy="251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5"/>
          <a:stretch/>
        </p:blipFill>
        <p:spPr>
          <a:xfrm>
            <a:off x="2571840" y="2143080"/>
            <a:ext cx="1909800" cy="251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3500280" y="4143240"/>
            <a:ext cx="1924200" cy="251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7"/>
          <a:stretch/>
        </p:blipFill>
        <p:spPr>
          <a:xfrm>
            <a:off x="7253280" y="4143240"/>
            <a:ext cx="1890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4" descr="Рисунок1.png"/>
          <p:cNvPicPr/>
          <p:nvPr/>
        </p:nvPicPr>
        <p:blipFill>
          <a:blip r:embed="rId1"/>
          <a:stretch/>
        </p:blipFill>
        <p:spPr>
          <a:xfrm>
            <a:off x="-214200" y="-285840"/>
            <a:ext cx="9929880" cy="714384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17"/>
          <p:cNvSpPr/>
          <p:nvPr/>
        </p:nvSpPr>
        <p:spPr>
          <a:xfrm>
            <a:off x="2786040" y="-214200"/>
            <a:ext cx="3571920" cy="1928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тельно-воспит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-гражданин Росс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357120" y="185904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формировать и развивать у ребенка чувство принадлежности к обществу, в котором он живет, любовь к родному кра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формировать потребность к самообразованию, воспитанию своих морально-волевых кач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воспитывать толерантность, развивать способность к успешной социализации в 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7000920" y="285840"/>
            <a:ext cx="18208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:\Users\Андрей\Pictures\с телефона\048.jpg"/>
          <p:cNvPicPr/>
          <p:nvPr/>
        </p:nvPicPr>
        <p:blipFill>
          <a:blip r:embed="rId1"/>
          <a:stretch/>
        </p:blipFill>
        <p:spPr>
          <a:xfrm>
            <a:off x="214200" y="21420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Андрей\Pictures\с телефона\170.jpg"/>
          <p:cNvPicPr/>
          <p:nvPr/>
        </p:nvPicPr>
        <p:blipFill>
          <a:blip r:embed="rId2"/>
          <a:stretch/>
        </p:blipFill>
        <p:spPr>
          <a:xfrm>
            <a:off x="4286160" y="214200"/>
            <a:ext cx="4683240" cy="262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500040" y="3071880"/>
            <a:ext cx="20844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0"/>
          <p:cNvGraphicFramePr/>
          <p:nvPr/>
        </p:nvGraphicFramePr>
        <p:xfrm>
          <a:off x="5000760" y="3071880"/>
          <a:ext cx="2477880" cy="3384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0760" y="3071880"/>
                    <a:ext cx="24778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Андрей\Desktop\фото\мои фото\Школа\сценка2.jpg"/>
          <p:cNvPicPr/>
          <p:nvPr/>
        </p:nvPicPr>
        <p:blipFill>
          <a:blip r:embed="rId1"/>
          <a:stretch/>
        </p:blipFill>
        <p:spPr>
          <a:xfrm>
            <a:off x="285840" y="114300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Андрей\Desktop\фото\мои фото\Школа\сценка1.jpg"/>
          <p:cNvPicPr/>
          <p:nvPr/>
        </p:nvPicPr>
        <p:blipFill>
          <a:blip r:embed="rId2"/>
          <a:stretch/>
        </p:blipFill>
        <p:spPr>
          <a:xfrm>
            <a:off x="3286080" y="0"/>
            <a:ext cx="2784600" cy="208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Андрей\Desktop\фото\мои фото\Школа\сценка3.jpg"/>
          <p:cNvPicPr/>
          <p:nvPr/>
        </p:nvPicPr>
        <p:blipFill>
          <a:blip r:embed="rId3"/>
          <a:stretch/>
        </p:blipFill>
        <p:spPr>
          <a:xfrm>
            <a:off x="5857920" y="1214280"/>
            <a:ext cx="2976480" cy="223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Андрей\Documents\2004_01_01\IMG_0002.jpg"/>
          <p:cNvPicPr/>
          <p:nvPr/>
        </p:nvPicPr>
        <p:blipFill>
          <a:blip r:embed="rId4"/>
          <a:stretch/>
        </p:blipFill>
        <p:spPr>
          <a:xfrm>
            <a:off x="214200" y="4071960"/>
            <a:ext cx="1839960" cy="25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Андрей\Documents\2004_01_01\IMG_0001.jpg"/>
          <p:cNvPicPr/>
          <p:nvPr/>
        </p:nvPicPr>
        <p:blipFill>
          <a:blip r:embed="rId5"/>
          <a:stretch/>
        </p:blipFill>
        <p:spPr>
          <a:xfrm>
            <a:off x="1857240" y="4071960"/>
            <a:ext cx="1851120" cy="25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Андрей\Documents\2004_01_01\IMG.jpg"/>
          <p:cNvPicPr/>
          <p:nvPr/>
        </p:nvPicPr>
        <p:blipFill>
          <a:blip r:embed="rId6"/>
          <a:stretch/>
        </p:blipFill>
        <p:spPr>
          <a:xfrm>
            <a:off x="5357880" y="4071960"/>
            <a:ext cx="335448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3714840" y="1785960"/>
            <a:ext cx="19018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286080" y="1928880"/>
            <a:ext cx="1438200" cy="1933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214880" y="2928960"/>
            <a:ext cx="143820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687400" cy="201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3714840" y="357120"/>
            <a:ext cx="118908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5"/>
          <a:stretch/>
        </p:blipFill>
        <p:spPr>
          <a:xfrm>
            <a:off x="6143760" y="285840"/>
            <a:ext cx="2639880" cy="19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Users\Андрей\Desktop\фото\мои фото\Школа\агитбригада.jpg"/>
          <p:cNvPicPr/>
          <p:nvPr/>
        </p:nvPicPr>
        <p:blipFill>
          <a:blip r:embed="rId6"/>
          <a:stretch/>
        </p:blipFill>
        <p:spPr>
          <a:xfrm>
            <a:off x="285840" y="25718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Андрей\Pictures\с телефона\052.jpg"/>
          <p:cNvPicPr/>
          <p:nvPr/>
        </p:nvPicPr>
        <p:blipFill>
          <a:blip r:embed="rId7"/>
          <a:stretch/>
        </p:blipFill>
        <p:spPr>
          <a:xfrm>
            <a:off x="5715000" y="264312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:\Users\Андрей\Pictures\с телефона\055.jpg"/>
          <p:cNvPicPr/>
          <p:nvPr/>
        </p:nvPicPr>
        <p:blipFill>
          <a:blip r:embed="rId8"/>
          <a:stretch/>
        </p:blipFill>
        <p:spPr>
          <a:xfrm>
            <a:off x="857160" y="428616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50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786040" cy="25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214280" y="3071880"/>
            <a:ext cx="1901880" cy="2519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1071720" y="1928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ила –ученица 8 «Б» класс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БУ СОШ № 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лова Анастас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500040" y="35712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Исследовательская рабо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«Ставрополь – курортный гор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5072040" y="378612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143680" y="571680"/>
            <a:ext cx="36464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4:16Z</dcterms:created>
  <dc:creator>ОЛЕЧКА</dc:creator>
  <dc:description/>
  <dc:language>en-US</dc:language>
  <cp:lastModifiedBy>Андрей</cp:lastModifiedBy>
  <dcterms:modified xsi:type="dcterms:W3CDTF">2003-12-31T22:05:11Z</dcterms:modified>
  <cp:revision>35</cp:revision>
  <dc:subject/>
  <dc:title>Слайд 1</dc:title>
</cp:coreProperties>
</file>