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CD641-E393-4270-9275-5E4A1F5109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AC290-9E07-4576-8262-4C80AED51E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739FF-5AB4-4FF6-BAFA-D490C8C242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110D2-3A59-45F4-8480-70A5DDA3A9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166FA-096D-47CB-A366-1ABCC0330D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29FDA-9C3C-43F5-BEA3-5B998ECF97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E458C-C90A-4E50-98F8-7BAACF7F2A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31E-3972-439A-B641-504C6C23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CF4-72C0-492E-8FFF-7A3D7029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DB9-0B1B-4D0E-9CF8-5920251A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E4E-BD98-43D4-B0F3-78F3B94A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625-0D56-4E21-871C-C446E2C5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B80-1BD4-4122-9E5C-B3398B3B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00E-8105-43C2-92BE-F930DCF2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4114-ECC5-4F77-9CD6-1A9C12B1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DA1-B8CB-4691-BC6E-FE52847C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CCB-E508-47AF-B001-441BD378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FEC-68C9-4E8E-A44F-FAF23CF6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6A20-9F2C-4AAA-9750-15ED8DC6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1DB34E-46CA-40C9-9463-45FF04FE8B8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теме: «Великие люди - Петр 1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ницы 5п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щеряковой Кс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260360"/>
            <a:ext cx="504036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.С.Пушкин писал о Петре 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..то академик, то герой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 мореплаватель, то плотник -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н всеобъемлющей душ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троне вечный был работник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32360" y="1116000"/>
            <a:ext cx="24195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0360" y="360360"/>
            <a:ext cx="9070920" cy="247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7мая 1703года на Заячьем острове начали строить крепость, это день рождение нового города  – Санкт-Петербурга, который стал столицей  нашей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19280" y="2916360"/>
            <a:ext cx="4464000" cy="28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1260360"/>
            <a:ext cx="4859280" cy="61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Verdana;BitStream vera Sans"/>
              </a:rPr>
              <a:t>      </a:t>
            </a:r>
            <a:r>
              <a:rPr b="0" lang="ru-RU" sz="3200" spc="-1" strike="noStrike">
                <a:solidFill>
                  <a:srgbClr val="333333"/>
                </a:solidFill>
                <a:latin typeface="Verdana;BitStream vera Sans"/>
              </a:rPr>
              <a:t>В годы правления  Петром 1 было создано много</a:t>
            </a:r>
            <a:r>
              <a:rPr b="0" lang="en-US" sz="3200" spc="-1" strike="noStrike">
                <a:solidFill>
                  <a:srgbClr val="333333"/>
                </a:solidFill>
                <a:latin typeface="Verdana;BitStream vera Sans"/>
              </a:rPr>
              <a:t>  мануфактур, металлургических, горных и других заводов, верфей, пристаней, кан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72000" y="971640"/>
            <a:ext cx="385128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79280" y="5040000"/>
            <a:ext cx="59403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1 руководил постройкой флота и созданием регулярной арм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952720" y="1116000"/>
            <a:ext cx="3816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000" y="5940360"/>
            <a:ext cx="9070920" cy="237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инициативе Петра I открыты многие учебные заведения, в т.ч Академия на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11280" y="395280"/>
            <a:ext cx="5543640" cy="49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800000"/>
            <a:ext cx="468000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учи создателем могущественного  государства, Петр1 добился признания России как великой держав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472000" y="1763640"/>
            <a:ext cx="3602160" cy="439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3:23:52Z</dcterms:created>
  <dc:creator/>
  <dc:description/>
  <dc:language>en-US</dc:language>
  <cp:lastModifiedBy>Светлана Михайловна</cp:lastModifiedBy>
  <dcterms:modified xsi:type="dcterms:W3CDTF">2013-04-11T10:47:21Z</dcterms:modified>
  <cp:revision>5</cp:revision>
  <dc:subject/>
  <dc:title>Слайд 1</dc:title>
</cp:coreProperties>
</file>