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A60086-4852-4652-83CD-7F7BF8F4374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C9612A-691C-4D07-86D6-8332DD742F6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7E41B4-2C39-43E5-92FB-EACB905EAC5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102EAA-0265-4E85-9F4E-94AC734260C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569ED6-360E-4C9F-BE95-190C7C22A9C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258D93-CFAD-4066-A6CA-E73ACD700FD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BAA0F2-3388-4DE5-B852-15918DE153F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6CA70-785F-4D35-AF59-D9A6E5481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CE97F-6441-4B43-B1FB-C2ADBD00D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44A66-3D72-4F03-B342-C2B6C9E70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1FA69-6DD0-446C-AC1B-5D5CD2897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2CE9F-054E-46EF-BDD3-B95F5A23D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A9FAC-7DF2-4489-9C0C-3F442830A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78FE9-3012-4E05-AFFC-2BE05154B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15AA5-2CFC-4943-A0CB-28CE4A6A6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37D81-9839-4070-94F5-2C47ABFDE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3419D-199C-4E73-BA18-C183749CC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CD0BD-609D-488E-9A92-2A8B3A20E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7B892-08A6-4B93-9DA7-248DB9FE0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0619F3A-DD08-4374-833A-C5F2CA1E1C66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або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 теме: «Великие люди - Петр 1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ченицы 5п клас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ещеряковой Ксен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178920" y="1260360"/>
            <a:ext cx="5040360" cy="48592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А.С.Пушкин писал о Петре 1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...то академик, то герой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то мореплаватель, то плотник -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он всеобъемлющей душой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на троне вечный был работник..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832360" y="1116000"/>
            <a:ext cx="2419560" cy="403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720360" y="360360"/>
            <a:ext cx="9070920" cy="2473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7мая 1703года на Заячьем острове начали строить крепость, это день рождение нового города  – Санкт-Петербурга, который стал столицей  нашей Росс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519280" y="2916360"/>
            <a:ext cx="4464000" cy="288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179280" y="1260360"/>
            <a:ext cx="4859280" cy="61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Aft>
                <a:spcPts val="1412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Verdana;BitStream vera Sans"/>
              </a:rPr>
              <a:t>      </a:t>
            </a:r>
            <a:r>
              <a:rPr b="0" lang="ru-RU" sz="3200" spc="-1" strike="noStrike">
                <a:solidFill>
                  <a:srgbClr val="333333"/>
                </a:solidFill>
                <a:latin typeface="Verdana;BitStream vera Sans"/>
              </a:rPr>
              <a:t>В годы правления  Петром 1 было создано много</a:t>
            </a:r>
            <a:r>
              <a:rPr b="0" lang="en-US" sz="3200" spc="-1" strike="noStrike">
                <a:solidFill>
                  <a:srgbClr val="333333"/>
                </a:solidFill>
                <a:latin typeface="Verdana;BitStream vera Sans"/>
              </a:rPr>
              <a:t>  мануфактур, металлургических, горных и других заводов, верфей, пристаней, канал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5472000" y="971640"/>
            <a:ext cx="3851280" cy="489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1979280" y="5040000"/>
            <a:ext cx="594036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етр1 руководил постройкой флота и созданием регулярной арм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952720" y="1116000"/>
            <a:ext cx="3816360" cy="36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68000" y="5940360"/>
            <a:ext cx="9070920" cy="237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 инициативе Петра I открыты многие учебные заведения, в т.ч Академия нау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511280" y="395280"/>
            <a:ext cx="5543640" cy="492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179280" y="1800000"/>
            <a:ext cx="4680000" cy="498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удучи создателем могущественного  государства, Петр1 добился признания России как великой держав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5472000" y="1763640"/>
            <a:ext cx="3602160" cy="4392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06T13:23:52Z</dcterms:created>
  <dc:creator/>
  <dc:description/>
  <dc:language>en-US</dc:language>
  <cp:lastModifiedBy>Светлана Михайловна</cp:lastModifiedBy>
  <dcterms:modified xsi:type="dcterms:W3CDTF">2013-04-11T10:47:21Z</dcterms:modified>
  <cp:revision>5</cp:revision>
  <dc:subject/>
  <dc:title>Слайд 1</dc:title>
</cp:coreProperties>
</file>