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910-1E45-4CE2-AACB-3C7A08CB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1E7-EDBA-4A6C-A85A-2FC5D087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47A-A4AA-4F26-8AD5-5BDA2723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134-4BCC-44D4-836F-A8864567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1AEF-9B47-4271-BCFB-F8CB3239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A516-976E-4944-A08D-61552EEA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7902-B67F-49B0-BADC-1E386E3D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CDFC-8692-4B55-B332-A353CC62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0739-DDB1-49C5-A68F-C23A162C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BDC1-FE53-4FF1-B333-5891029E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1E9D-210E-43C4-8B08-AD07B4AF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679-74BE-4BAF-846D-CA944C65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BEEB-BE75-4968-9A59-EAD59045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C398-E1F8-4207-A5D4-FC649E7F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E8A4-AC3B-4530-B757-3806AAB2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D349-8D00-4F19-B8C9-973FA236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8A10-5CBA-4501-9453-439D9023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6FB-DB0E-4C71-A362-93C16A1E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83F-0B50-4A82-AD83-352400DF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FA9-2DA0-45E4-A9B6-12B4B0D1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50C4-6CFD-4F8E-91B9-58932B4A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3E4-692C-4666-BE87-D3608A43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41E-1141-4815-8C5D-64EEAE34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5E8-4279-4C91-9830-7757AF22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C2B1-60AF-4698-A8AA-E1E8F4B594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FBBD-20A7-48D4-9233-137B3BC79D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836280"/>
            <a:ext cx="6629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0033"/>
                </a:solidFill>
                <a:latin typeface="Times New Roman"/>
              </a:rPr>
              <a:t>РОССИЙСКАЯ  ФЕДЕРАЦИЯ</a:t>
            </a:r>
            <a:br>
              <a:rPr sz="1000"/>
            </a:br>
            <a:r>
              <a:rPr b="0" lang="ru-RU" sz="1000" spc="-1" strike="noStrike">
                <a:solidFill>
                  <a:srgbClr val="330033"/>
                </a:solidFill>
                <a:latin typeface="Times New Roman"/>
              </a:rPr>
              <a:t>ЯМАЛО-НЕНЕЦКИЙ АВТОНОМНЫЙ ОКРУГ  ПУРОВСКИЙ РАЙОН</a:t>
            </a:r>
            <a:br>
              <a:rPr sz="1000"/>
            </a:br>
            <a:r>
              <a:rPr b="0" lang="ru-RU" sz="1000" spc="-1" strike="noStrike">
                <a:solidFill>
                  <a:srgbClr val="330033"/>
                </a:solidFill>
                <a:latin typeface="Times New Roman"/>
              </a:rPr>
              <a:t>МУНИЦИПАЛЬНОЕ  БЮДЖЕТНОЕ ОБРАЗОВАТЕЛЬНОЕ УЧРЕЖДЕНИЕ </a:t>
            </a:r>
            <a:br>
              <a:rPr sz="1000"/>
            </a:br>
            <a:r>
              <a:rPr b="0" lang="ru-RU" sz="1000" spc="-1" strike="noStrike">
                <a:solidFill>
                  <a:srgbClr val="330033"/>
                </a:solidFill>
                <a:latin typeface="Times New Roman"/>
              </a:rPr>
              <a:t>ДОПОЛНИТЕЛЬНОГО ОБРАЗОВАНИЯ ДЕТЕЙ</a:t>
            </a:r>
            <a:br>
              <a:rPr sz="1000"/>
            </a:br>
            <a:r>
              <a:rPr b="0" lang="ru-RU" sz="1000" spc="-1" strike="noStrike">
                <a:solidFill>
                  <a:srgbClr val="330033"/>
                </a:solidFill>
                <a:latin typeface="Times New Roman"/>
              </a:rPr>
              <a:t>«ДОМ ДЕТСКОГО ТВОРЧЕСТВА» П.Г.Т.УРЕНГОЙ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ГРАММА 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 ТЕХНИЧЕСКОГО   ТВОРЧЕСТВА «ВИРАЖ»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детского  объединения 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«Мотоклуб»</a:t>
            </a:r>
            <a:br>
              <a:rPr sz="1600"/>
            </a:b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87280" y="4005000"/>
            <a:ext cx="7561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п програм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образовательно - развивающая,  автор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ок реализации программы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раст дете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  14 до 18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педагог дополнительн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ба Виктор Иван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TR00172_"/>
          <p:cNvPicPr/>
          <p:nvPr/>
        </p:nvPicPr>
        <p:blipFill>
          <a:blip r:embed="rId1"/>
          <a:stretch/>
        </p:blipFill>
        <p:spPr>
          <a:xfrm>
            <a:off x="6084720" y="4581360"/>
            <a:ext cx="2374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0033"/>
                </a:solidFill>
                <a:latin typeface="Times New Roman"/>
              </a:rPr>
              <a:t>В деятельности Мотоклуба прослеживается преемственность поколений и интересов от старших воспитанников к младшим. В воскресные дни проводятся занятия с воспитанниками старшей и средней групп, на которых ребята передают свой опыт и знания в процессе самостоятельной практической работы.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3810240" cy="3311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8098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0033"/>
                </a:solidFill>
                <a:latin typeface="Times New Roman"/>
              </a:rPr>
              <a:t>В перерывах между занятиями и после их завершения ребята могут отдохнуть: выпить чай, сыграть в теннис и бильярд. Занятия в Мотоклубе проходят интересно, на высоком эмоциональном уровне, удовлетворяя интеллектуальные и духовные потребности и интересы ребят.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Picture 8" descr="TR00172_"/>
          <p:cNvPicPr/>
          <p:nvPr/>
        </p:nvPicPr>
        <p:blipFill>
          <a:blip r:embed="rId1"/>
          <a:stretch/>
        </p:blipFill>
        <p:spPr>
          <a:xfrm>
            <a:off x="6300720" y="5445000"/>
            <a:ext cx="2016360" cy="107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80988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826920" y="2571840"/>
            <a:ext cx="389736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нно в этот период у детей появляется потребность в активном, самостоятельном, творческом познании. По мнению Д.Б.Эльконина, подростковый возраст сенситивен к переходу учебной деятельности на более высокий уровень. Учение может приобрести для ребёнка новый личностный смысл – стать деятельностью по самообразованию и самосовершенствова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ь интересами подростков в этом направлении могут взрослые – любимые учителя и родители, искренне увлечённые своим делом. Побудить их к дополнительным занятиям определённым предметом им удаётся, только соблюдая осторожность: излишнее давление с их стороны приводит к противоположной реакции – нежеланию делать то, что навязывают, к апатии или бун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правило, увлечения имеют неучебный характер. Они связаны с глубоким интересом к любимому занят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тоцикл существует уже почти 100 лет. Сегодня это средство индивидуального транспорта насчитывает немало разновидностей: универсальный, шоссейный, гоночный, внедо-рожный, мотороллер и мопед, эндуро и трайел, мини-байк и мофа. Что представляет из себя каждый из них, каковы их назначения, особенности конструкции, каков современный уровень развития мотоциклетной техники и предстоит изучить ребятам на занятиях мотоклуба. Если дать определение мотоциклу как таковому в его современном виде, то это одноколейное двухколёсное средство индивидуального транспорта с автономным механическим (то есть не мускульным) двигателем. На заре появления первых мотоциклов их название было образовано из двух слов: «двигатель» – «мотор», «велосипед» - «цикл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Увлечения  –  сильные, часто сменяющие друг друга, иногда "запойные"  – характерны для подросткового возраста. Ребёнок сам выбирает себе занятие по душе, тем самым, удовлетворяя познавательную потребность и потребность в самостоятельности.</a:t>
            </a:r>
            <a:br>
              <a:rPr sz="1800"/>
            </a:b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стоящее время мотоклуб имеет следующие мотоциклы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осход – 3м»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Чизет – 250»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Ява-350»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4113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эти мотоциклы были отреставрированы воспитанниками мотоклуба под руководством педагога. В процессе  восстановления мототехники воспитанники изучали основные узлы, характеристики и параметры каждого мотоцикла, порядок разборки и сборки, обслуживание электрооборудования мотоцикла. В работе ребята знакомятся с пневматическим инструментом, применяемым при обслуживанием мотоциклов. Изучают технику безопасности и порядок работы с нестандартным оборудованием. Имеют возможность сравнивать работу электроинструментов и пневмо-инструментов, чем повышают свой уровень технических знаний и ум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859280" y="2421000"/>
            <a:ext cx="3745080" cy="295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ТОКЛУ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33"/>
                </a:solidFill>
                <a:uFillTx/>
                <a:latin typeface="Times New Roman"/>
              </a:rPr>
              <a:t>Цель программы</a:t>
            </a: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 – популяризация занятий техническим творчеством и техническими видами спорта, получение знаний о видах авто-мото-техники, их технического состояния и обслуживания, пропаганда здорового образа жизни среди старшеклассников. Определение ценностных ориентаций личности и общества как совокупности практического и духовного опыта человека.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дачи програм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оружение воспитанников глубокими  знаниями в области технического творче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навыков наблюдения и умения проводить анализ выполненной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 основам авто- мотто- де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ие в перспективе  «Автомотоклуба» на базе ДДТ, который станет поисково-творческой лабораторией по приобщению детей и подростков к  занятиям в области технического творче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ширение кругозора учащих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ь к жизненному и профессиональному самоопределе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практических умений и навыков автослесарных рабо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ние просвещенной личности, субъекта культуры путем создания разносторонних условий для личного участия, сопричастности к живому опыту технического прогре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престижности технологического образования и качества подготовки 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TR00172_"/>
          <p:cNvPicPr/>
          <p:nvPr/>
        </p:nvPicPr>
        <p:blipFill>
          <a:blip r:embed="rId1"/>
          <a:stretch/>
        </p:blipFill>
        <p:spPr>
          <a:xfrm>
            <a:off x="6516720" y="5589720"/>
            <a:ext cx="194472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ое содержание занятий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ение. Из истории создания мотоцик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ические данные  мото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комендации и предупреждения. Техника безопас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 мотоцик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боры контроля мото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виг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довая часть.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лектрооборудование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ическое обслуживание мотоцикл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менты и приспособления для ремонта и обслуживания мотоцикла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рессор, назначение и устройство. Порядок работы  и меры безопас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ические характеристики мотоцикла «Восход-3». Технические характеристики мотоцикла «ИЖ-Юпитер-4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начение номерных опознавательных знаков и надписей на транспортных средств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рки отечественных мотоцик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дение участников движения при ДТП. Оказание первой медицинск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астие в мероприятиях ДД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лючительное заня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TR00172_"/>
          <p:cNvPicPr/>
          <p:nvPr/>
        </p:nvPicPr>
        <p:blipFill>
          <a:blip r:embed="rId1"/>
          <a:stretch/>
        </p:blipFill>
        <p:spPr>
          <a:xfrm>
            <a:off x="7093080" y="404640"/>
            <a:ext cx="1655640" cy="93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4876920" y="2654280"/>
            <a:ext cx="38098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0033"/>
                </a:solidFill>
                <a:uFillTx/>
                <a:latin typeface="Times New Roman"/>
              </a:rPr>
              <a:t>Формы и методы работы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599840"/>
            <a:ext cx="38242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боте используются разнообразные методы учебной работы: словесные, наглядные, практические, частично-поисковые, методы проблемного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есные методы – беседа, рассказ, объяс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еда – вопросно-ответный метод, предусматривает наличие определённых знаний у учащихся. Беседа может быть воспроизводящей, эвристической и исследователь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каз – эмоциональное, живое, образное изложение учебного матери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е – словесное истолкование правил, законов, понятий. При объяснении используется большое разнообразие приё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лядные методы – наблюдение и демонст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методы – способствуют закреплению знаний, выработке умений и навыков, развитию умственных с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-поисковый метод и методы проблемного обучения – обеспечивают систематическое включение учащихся в систему познавательных задач. Знания не даются в готовом виде, а ставятся в виде проблемы для самостоятельной работы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TR00172_"/>
          <p:cNvPicPr/>
          <p:nvPr/>
        </p:nvPicPr>
        <p:blipFill>
          <a:blip r:embed="rId1"/>
          <a:stretch/>
        </p:blipFill>
        <p:spPr>
          <a:xfrm>
            <a:off x="6732720" y="333360"/>
            <a:ext cx="1944720" cy="100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4876920" y="2476440"/>
            <a:ext cx="39430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4176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технологических карт по этапам слесарных и других работ при обслуживании мотоцик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ая работа по разборке и сборке различных узлов мототехники: двигатель, топливная система, электрооборудование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докладов, выступлений по текущим те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ление чертежей и схем узлов и деталей мотоцик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е участие в мероприятиях, направленных на пропаганду здорового образа жизни и занятия техническим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330033"/>
                </a:solidFill>
                <a:uFillTx/>
                <a:latin typeface="Times New Roman"/>
              </a:rPr>
              <a:t>Формы самостоятельной работы для детей: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4876920" y="2486160"/>
            <a:ext cx="38098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0033"/>
                </a:solidFill>
                <a:uFillTx/>
                <a:latin typeface="Times New Roman"/>
              </a:rPr>
              <a:t>Ожидаемые результаты реализации программы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537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ом сформированности ценностных ориентаций будет модель воспитанника, которая предполаг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ие нестандартно мыслить и принимать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ие работать в групп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ами следует считать участие и победы в конкурсах поселкового, областного, российского уров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ладение различными приемами и навыками технического обслуживания авто- мотто- транспортного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м уровня успеваемости в школ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к жизненному  и профессиональному самоопределению (поступление в технические ВУЗы и средние специальные заведени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нность навыков слесарных  рабо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утей и овладение способами практической деятельности в составе детского объединения технического творч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информационного пространства педагогов и школь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нное сознательное и ответственное отношение к личной безопасности и безопасности окружающи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нные умения и навыки по оказанию первой медицинской помощи при несчастных случа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личности: целеустремлённость, ответственность, находчивость, дисциплини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ванность, стойкость, готовность к сотрудничеству, смелость, реши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2665440" cy="3413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244800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ел Лихачев, Василий Заика в прошлом воспитанники «Мото-клуба» Уренгойского Дома детского творчества, в настоящем – учащиеся Тарко-Салинского профессионального технического училищ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оскресные дни, приезжая в п.Уренгой, постоянно посещают «Мотоклуб», являются активными помощниками педагога на занят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TR00172_"/>
          <p:cNvPicPr/>
          <p:nvPr/>
        </p:nvPicPr>
        <p:blipFill>
          <a:blip r:embed="rId1"/>
          <a:stretch/>
        </p:blipFill>
        <p:spPr>
          <a:xfrm>
            <a:off x="4067280" y="260280"/>
            <a:ext cx="2305080" cy="1152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3024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6:23:54Z</dcterms:created>
  <dc:creator>Ирина</dc:creator>
  <dc:description/>
  <dc:language>en-US</dc:language>
  <cp:lastModifiedBy>ДДТ</cp:lastModifiedBy>
  <dcterms:modified xsi:type="dcterms:W3CDTF">2013-04-11T07:41:27Z</dcterms:modified>
  <cp:revision>24</cp:revision>
  <dc:subject/>
  <dc:title>РОССИЙСКАЯ  ФЕДЕРАЦИЯ ЯМАЛО-НЕНЕЦКИЙ АВТОНОМНЫЙ ОКРУГ  ПУРОВСКИЙ РАЙОН МУНИЦИПАЛЬНОЕ ОБРАЗОВАТЕЛЬНОЕ УЧРЕЖДЕНИЕ  ДОПОЛНИТЕЛЬНОГО ОБРАЗОВАНИЯ ДЕТЕЙ «УРЕНГОЙСКИЙ ДОМ ДЕТСКОГО ТВОРЧЕСТВА»   ПРОГРАММА   ТЕХНИЧЕСКОГО   ТВОРЧЕСТВА детского  объединения  «Мотоклуб» </dc:title>
</cp:coreProperties>
</file>