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3DE-2EEE-41DB-B690-E6C84991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B6B-1794-4BA5-8D57-815CFB15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1C1-1929-4D11-BEA4-52B19697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22D-A1AC-4902-BD33-2C695239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7C11-EF5F-4775-B598-7E565C33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8A0A-AFD6-46F7-9E49-C17D7304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593-52B6-44DE-840F-32F04CFB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D2BA-5FD5-4869-AAB0-80530D2F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DF0B-45B1-4BDE-86A8-A7CFD168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5D1E-1E2F-48B3-A02D-4B3716D4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41CA-36E6-464A-A315-DE2B6788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F3D-22EB-4667-9CD7-15FD2A04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97D5-D3A7-4206-B4F4-C1640F3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5EC4-7C9D-42BB-A3DF-1DE549E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EE40-2989-4F35-A50B-59CE9A9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D0E8-9E78-411A-A18C-EFA56941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7578-3523-4D09-9D9D-B8622095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646-46E9-4EA5-B394-BF3611CE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4F5B-2B46-4F33-B539-A331635F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239-56B1-4867-A54F-10538FA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EBD-3446-4E66-BDDA-9A94EDA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08A-92B6-41B6-B41A-2C938F4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233-AD01-453A-87D9-4827362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A91-4F6D-4A0C-8C94-FD08D15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8D6-D094-48A4-83DB-AB69B79F28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4897-154D-46F5-964D-45D7933F35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836280"/>
            <a:ext cx="6629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РОССИЙСКАЯ  ФЕДЕРАЦИЯ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ЯМАЛО-НЕНЕЦКИЙ АВТОНОМНЫЙ ОКРУГ  ПУРОВСКИЙ РАЙОН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МУНИЦИПАЛЬНОЕ  БЮДЖЕТНОЕ ОБРАЗОВАТЕЛЬНОЕ УЧРЕЖДЕНИЕ 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ДОПОЛНИТЕЛЬНОГО ОБРАЗОВАНИЯ ДЕТЕЙ</a:t>
            </a:r>
            <a:br>
              <a:rPr sz="1000"/>
            </a:br>
            <a:r>
              <a:rPr b="0" lang="ru-RU" sz="1000" spc="-1" strike="noStrike">
                <a:solidFill>
                  <a:srgbClr val="330033"/>
                </a:solidFill>
                <a:latin typeface="Times New Roman"/>
              </a:rPr>
              <a:t>«ДОМ ДЕТСКОГО ТВОРЧЕСТВА» П.Г.Т.УРЕНГОЙ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ГРАММА 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 ТЕХНИЧЕСКОГО   ТВОРЧЕСТВА «ВИРАЖ»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детского  объединения </a:t>
            </a:r>
            <a:br>
              <a:rPr sz="1600"/>
            </a:b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«Мотоклуб»</a:t>
            </a:r>
            <a:br>
              <a:rPr sz="1600"/>
            </a:b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87280" y="4005000"/>
            <a:ext cx="7561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 програм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образовательно - развивающая,  автор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ок реализации программы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раст детей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  14 до 18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педагог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й квалификационной катег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ба Виктор Иван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R00172_"/>
          <p:cNvPicPr/>
          <p:nvPr/>
        </p:nvPicPr>
        <p:blipFill>
          <a:blip r:embed="rId1"/>
          <a:stretch/>
        </p:blipFill>
        <p:spPr>
          <a:xfrm>
            <a:off x="6084720" y="4581360"/>
            <a:ext cx="23749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33"/>
                </a:solidFill>
                <a:latin typeface="Times New Roman"/>
              </a:rPr>
              <a:t>В деятельности Мотоклуба прослеживается преемственность поколений и интересов от старших воспитанников к младшим. В воскресные дни проводятся занятия с воспитанниками старшей и средней групп, на которых ребята передают свой опыт и знания в процессе самостоятельной практической работы.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81024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80988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0033"/>
                </a:solidFill>
                <a:latin typeface="Times New Roman"/>
              </a:rPr>
              <a:t>В перерывах между занятиями и после их завершения ребята могут отдохнуть: выпить чай, сыграть в теннис и бильярд. Занятия в Мотоклубе проходят интересно, на высоком эмоциональном уровне, удовлетворяя интеллектуальные и духовные потребности и интересы ребят.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1" name="Picture 8" descr="TR00172_"/>
          <p:cNvPicPr/>
          <p:nvPr/>
        </p:nvPicPr>
        <p:blipFill>
          <a:blip r:embed="rId1"/>
          <a:stretch/>
        </p:blipFill>
        <p:spPr>
          <a:xfrm>
            <a:off x="6300720" y="5445000"/>
            <a:ext cx="2016360" cy="1079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80988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826920" y="2571840"/>
            <a:ext cx="389736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нно в этот период у детей появляется потребность в активном, самостоятельном, творческом познании. По мнению Д.Б.Эльконина, подростковый возраст сенситивен к переходу учебной деятельности на более высокий уровень. Учение может приобрести для ребёнка новый личностный смысл – стать деятельностью по самообразованию и самосовершенств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ь интересами подростков в этом направлении могут взрослые – любимые учителя и родители, искренне увлечённые своим делом. Побудить их к дополнительным занятиям определённым предметом им удаётся, только соблюдая осторожность: излишнее давление с их стороны приводит к противоположной реакции – нежеланию делать то, что навязывают, к апатии или бун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правило, увлечения имеют неучебный характер. Они связаны с глубоким интересом к любимому занят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оцикл существует уже почти 100 лет. Сегодня это средство индивидуального транспорта насчитывает немало разновидностей: универсальный, шоссейный, гоночный, внедо-рожный, мотороллер и мопед, эндуро и трайел, мини-байк и мофа. Что представляет из себя каждый из них, каковы их назначения, особенности конструкции, каков современный уровень развития мотоциклетной техники и предстоит изучить ребятам на занятиях мотоклуба. Если дать определение мотоциклу как таковому в его современном виде, то это одноколейное двухколёсное средство индивидуального транспорта с автономным механическим (то есть не мускульным) двигателем. На заре появления первых мотоциклов их название было образовано из двух слов: «двигатель» – «мотор», «велосипед» - «цикл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Увлечения  –  сильные, часто сменяющие друг друга, иногда "запойные"  – характерны для подросткового возраста. Ребёнок сам выбирает себе занятие по душе, тем самым, удовлетворяя познавательную потребность и потребность в самостоятельности.</a:t>
            </a:r>
            <a:br>
              <a:rPr sz="1800"/>
            </a:b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мотоклуб имеет следующие мотоциклы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сход – 3м»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Чизет – 250»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Ява-350»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4113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эти мотоциклы были отреставрированы воспитанниками мотоклуба под руководством педагога. В процессе  восстановления мототехники воспитанники изучали основные узлы, характеристики и параметры каждого мотоцикла, порядок разборки и сборки, обслуживание электрооборудования мотоцикла. В работе ребята знакомятся с пневматическим инструментом, применяемым при обслуживанием мотоциклов. Изучают технику безопасности и порядок работы с нестандартным оборудованием. Имеют возможность сравнивать работу электроинструментов и пневмо-инструментов, чем повышают свой уровень технических знаний и ум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859280" y="2421000"/>
            <a:ext cx="3745080" cy="295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ТОКЛУБ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0033"/>
                </a:solidFill>
                <a:uFillTx/>
                <a:latin typeface="Times New Roman"/>
              </a:rPr>
              <a:t>Цель программы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– популяризация занятий техническим творчеством и техническими видами спорта, получение знаний о видах авто-мото-техники, их технического состояния и обслуживания, пропаганда здорового образа жизни среди старшеклассников. Определение ценностных ориентаций личности и общества как совокупности практического и духовного опыта человека.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оружение воспитанников глубокими  знаниями в области технического творч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навыков наблюдения и умения проводить анализ выполненной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 основам авто- мотто- де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ие в перспективе  «Автомотоклуба» на базе ДДТ, который станет поисково-творческой лабораторией по приобщению детей и подростков к  занятиям в области технического творче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ширение кругозора учащихс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ь к жизненному и профессиональному самоопредел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ие практических умений и навыков автослесарных рабо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ие просвещенной личности, субъекта культуры путем создания разносторонних условий для личного участия, сопричастности к живому опыту технического прогрес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стижности технологического образования и качества подготовки школь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TR00172_"/>
          <p:cNvPicPr/>
          <p:nvPr/>
        </p:nvPicPr>
        <p:blipFill>
          <a:blip r:embed="rId1"/>
          <a:stretch/>
        </p:blipFill>
        <p:spPr>
          <a:xfrm>
            <a:off x="6516720" y="5589720"/>
            <a:ext cx="194472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ое содержание занятий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. Из истории создания мотоцик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ие данные  мото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комендации и предупреждения. Техника безопа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 мотоцик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боры контроля мото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виг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довая часть.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оборудование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ое обслуживание мотоцикл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трументы и приспособления для ремонта и обслуживания мотоцикла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рессор, назначение и устройство. Порядок работы  и меры безопас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ические характеристики мотоцикла «Восход-3». Технические характеристики мотоцикла «ИЖ-Юпитер-4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начение номерных опознавательных знаков и надписей на транспортных средств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рки отечественных мотоцик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дение участников движения при ДТП. Оказание первой медицинск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астие в мероприятиях ДД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ительное зан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TR00172_"/>
          <p:cNvPicPr/>
          <p:nvPr/>
        </p:nvPicPr>
        <p:blipFill>
          <a:blip r:embed="rId1"/>
          <a:stretch/>
        </p:blipFill>
        <p:spPr>
          <a:xfrm>
            <a:off x="7093080" y="404640"/>
            <a:ext cx="165564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4876920" y="2654280"/>
            <a:ext cx="38098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Формы и методы работы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599840"/>
            <a:ext cx="3824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боте используются разнообразные методы учебной работы: словесные, наглядные, практические, частично-поисковые, методы проблемного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есные методы – беседа, рассказ, объяс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– вопросно-ответный метод, предусматривает наличие определённых знаний у учащихся. Беседа может быть воспроизводящей, эвристической и исследователь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з – эмоциональное, живое, образное изложение учебного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е – словесное истолкование правил, законов, понятий. При объяснении используется большое разнообразие приё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ядные методы – наблюдение и демонст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методы – способствуют закреплению знаний, выработке умений и навыков, развитию умственн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чно-поисковый метод и методы проблемного обучения – обеспечивают систематическое включение учащихся в систему познавательных задач. Знания не даются в готовом виде, а ставятся в виде проблемы для самостоятельной работы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TR00172_"/>
          <p:cNvPicPr/>
          <p:nvPr/>
        </p:nvPicPr>
        <p:blipFill>
          <a:blip r:embed="rId1"/>
          <a:stretch/>
        </p:blipFill>
        <p:spPr>
          <a:xfrm>
            <a:off x="6732720" y="333360"/>
            <a:ext cx="1944720" cy="10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876920" y="2476440"/>
            <a:ext cx="394308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4176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технологических карт по этапам слесарных и других работ при обслуживании мото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ая работа по разборке и сборке различных узлов мототехники: двигатель, топливная система, электрооборудовани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ка докладов, выступлений по текущим те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овление чертежей и схем узлов и деталей мотоцик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участие в мероприятиях, направленных на пропаганду здорового образа жизни и занятия техническим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Формы самостоятельной работы для детей: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38098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0033"/>
                </a:solidFill>
                <a:uFillTx/>
                <a:latin typeface="Times New Roman"/>
              </a:rPr>
              <a:t>Ожидаемые результаты реализации программы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537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ом сформированности ценностных ориентаций будет модель воспитанника, которая предполаг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е нестандартно мыслить и принимать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ие работать в групп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ами следует считать участие и победы в конкурсах поселкового, областного, российского уров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ладение различными приемами и навыками технического обслуживания авто- мотто- транспортного сре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м уровня успеваемости в школ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к жизненному  и профессиональному самоопределению (поступление в технические ВУЗы и средние специальные завед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ность навыков слесарных  рабо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и овладение способами практической деятельности в составе детского объединения технического творч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ение информационного пространства педагогов и шко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ное сознательное и ответственное отношение к личной безопасности и безопасности окружающи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ированные умения и навыки по оказанию первой медицинской помощи при несчастных случа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личности: целеустремлённость, ответственность, находчивость, дисциплини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ванность, стойкость, готовность к сотрудничеству, смелость, реши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665440" cy="341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24480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ел Лихачев, Василий Заика в прошлом воспитанники «Мото-клуба» Уренгойского Дома детского творчества, в настоящем – учащиеся Тарко-Салинского профессионального технического училищ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скресные дни, приезжая в п.Уренгой, постоянно посещают «Мотоклуб», являются активными помощниками педагога на занят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TR00172_"/>
          <p:cNvPicPr/>
          <p:nvPr/>
        </p:nvPicPr>
        <p:blipFill>
          <a:blip r:embed="rId1"/>
          <a:stretch/>
        </p:blipFill>
        <p:spPr>
          <a:xfrm>
            <a:off x="4067280" y="260280"/>
            <a:ext cx="230508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024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6:23:54Z</dcterms:created>
  <dc:creator>Ирина</dc:creator>
  <dc:description/>
  <dc:language>en-US</dc:language>
  <cp:lastModifiedBy>ДДТ</cp:lastModifiedBy>
  <dcterms:modified xsi:type="dcterms:W3CDTF">2013-04-11T07:41:27Z</dcterms:modified>
  <cp:revision>24</cp:revision>
  <dc:subject/>
  <dc:title>РОССИЙСКАЯ  ФЕДЕРАЦИЯ ЯМАЛО-НЕНЕЦКИЙ АВТОНОМНЫЙ ОКРУГ  ПУРОВСКИЙ РАЙОН МУНИЦИПАЛЬНОЕ ОБРАЗОВАТЕЛЬНОЕ УЧРЕЖДЕНИЕ  ДОПОЛНИТЕЛЬНОГО ОБРАЗОВАНИЯ ДЕТЕЙ «УРЕНГОЙСКИЙ ДОМ ДЕТСКОГО ТВОРЧЕСТВА»   ПРОГРАММА   ТЕХНИЧЕСКОГО   ТВОРЧЕСТВА детского  объединения  «Мотоклуб» </dc:title>
</cp:coreProperties>
</file>