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DA7D-F7A8-4840-8CA0-03EDE8FE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2857-1518-4620-A051-00830C6F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0BF45A-2F17-4DDC-B83E-E84C1766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BFABD-B7CD-4DCE-B198-C42D2AEC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F5320-6241-436A-88EC-D908BE51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AA9296-34F9-436A-9AAD-36B275FF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B5C5EF-AA83-4EEE-9A9C-5C46D5F3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6BC21F-E6C4-44F7-93DD-3382C8BF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CFE45-5F88-4495-B289-85A22AA1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D500C-5F3A-4178-904C-D38DF2A5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D542A-8A29-4261-AF0D-D7277881B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853DDA-08C8-4468-9500-BC097E569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7557-6C2D-4B19-9654-D1D1DE606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E007AE-E42B-46B6-A579-D9397EB6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AF6047-1247-4295-BE18-8E9E3E00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4FD148-E9B7-461E-9B18-2DA66716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70FFF5-A68A-40FA-82D1-D6C74E17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CEFBB-01FC-40DF-A4D2-DFADB4B4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46252A-7468-4AE1-8E89-0B7E400F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7F1C0C-0EC8-44C8-9DD6-9E751C01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15652-E81B-4B6A-A231-D068F4B7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7E508-6FD0-4E0C-A97D-A7F61C32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309D8-912B-4F6B-8765-942FFC33F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3501-84BC-4369-B64F-B2B1F9598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B94D20-88A0-48F6-B370-86C99298E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234C8-74E3-4637-A1F4-1D7B5DCF4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7F9C7-7DFD-49A1-B50C-7986D855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F2047-37C6-4539-B0F3-BF293EDF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F79DA-07BD-47AD-8CC9-CFE49DFF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FB25D-11EB-44A9-8170-1EB5C718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5D7D6-D224-41A5-8BF5-954C48FC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E1C34-6ED3-44D6-9DFA-3C237613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86BAE-23BA-4E00-9E86-30E691A4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B59CD-FCBE-4BA9-A847-9BAE619B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894B-7384-4448-A286-4D51783B6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760A4-968D-40FF-96F3-6F0C601D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E3CDD-B112-4228-A39A-48764E021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A8F4B-ED9A-41A7-AC88-342A2B709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13A581-F626-4AB9-9D44-105766D46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4F866B-C751-46D6-A96F-A8837596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24521A-2C4F-4B5C-AFF8-E02515BB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431DB5-0F0F-4C16-BB98-F60C5AEA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C9FD31-51EC-4874-850A-6C7AB6A3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B3B953-6AEA-4562-A054-24598DDA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54026E-0E0F-4E3E-BC0A-F87C9301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44C8-2AB4-4DFF-B4C1-A1E10D47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6785B5-1D7A-426B-9EB4-8FF98FD5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17CB85-6BE3-471D-BB73-B411C25B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E0B4AC-2578-4BFB-B4C3-77626221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9EA6FB-10BA-433B-9DD3-FD1C216F4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4F395C-75EB-44B5-9FAB-343AA52E9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8925-4509-47AB-BA9C-C27C3FA8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34AE-9952-47F9-B6F1-8D4BBCBE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F054-542D-4C9B-A4DC-23BDC0F3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7F8A-377D-4D4F-83B7-E37BE0A4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8FD9-83A7-4A66-82E6-6B6770BA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2153-9014-481E-9B2B-383DD10A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69E11-31A8-4619-B557-BACCAA3E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6623-AEAE-4CDA-8B39-2CA0070E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F370-CDBD-469A-9542-213A64EF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7289-DB3B-4EA2-BB53-E9C6CB292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DF5A-7FC2-482F-A3E2-11F61D9DA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FD57E-E965-4E78-9D50-6D6C0E439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EF232-CAB1-4ECA-98C1-D0E22268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A40BE-6A94-4E28-A019-58820EF5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46C39-ECE2-45C5-9CF6-241C8487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E1CDD-C8EF-48D8-8978-D097AA32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2341-7029-4070-97F2-160B1793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BB47B-D7A1-46BA-AF12-AAA9FB88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8F1F7-C7BF-4DD2-B677-5C971221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FF333-A8FE-4E29-A129-EBDBD304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1F0D9-578A-4353-BA8C-87F6F95B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4BC8B-DAF1-43A9-9A13-D41D6886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FEAB9-CD11-4D45-9036-35D305038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99749-807D-4B6A-A96B-F3C40A7D2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B7695-368F-470F-80E9-56EB78B9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FEEFF-1B63-4947-A5DE-C64C536D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6A33D-65FC-4779-8317-694DD5F6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4735-F7B2-45DC-B3BD-B4C968F3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B89DD-7524-43FB-82F5-FFDE98C0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413BF-5C7E-4976-B2F3-8D12DF3B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3FB8A-A20E-4BAE-B579-9EB4ADA8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5D039-E3E7-4751-9A35-4585E15C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DF599-3E23-4B80-821A-F0AF892E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B44A8-E5C4-44CD-99DA-135C491D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F19B1-1870-48A4-BA66-EFFD3450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4F335-BA97-4688-96B6-6D8A00A3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96E97-6DA1-4E11-B7B6-A6846BFCA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29886-95F1-4A62-917A-F0E00ED5C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9E7A-F1AA-40A5-AB1A-13F5C0FF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6D213-61B5-4350-B73D-0FBBF6E7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30CAE-38A7-43E7-BBCA-43AA734F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68CCE-9E32-44D2-864D-3ACCEAEC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E030E-BB8B-446A-B2BA-C20E673F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1021B-FC1F-4BA7-A55C-065AA1B1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9022F-561A-43AE-A4E7-67DD7A5C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E51FB-8428-4CBF-BDF7-B160D077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4C5B4-2390-44C9-872F-BE317B49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DF831-DCDD-4DDC-9958-8E73C273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66FB9-0359-4BED-A96A-8A950F16E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A4B7-C6EF-4805-98DD-E7F6AAE6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6D06A-B2B2-40FA-866C-05E12463C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7E486-0A0A-43F7-9E24-3DF1DB038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E8565-262F-4453-B441-0743A6B7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0B276-CD6E-4098-B147-002491F9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B06AA-4B45-4FD5-895C-4E771D2B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300C5-F98A-488A-8311-8F160B25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A3624-88D8-4D5A-A507-CB8FA3FF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D3F19-18AA-4F3B-BA44-D015D903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48A99-23E7-4EC5-9D50-D35D4C30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55350-1D58-40EA-BD36-7D51CD17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8CDB-C0C2-4F3E-9E87-1E095160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94B7B-1FF8-4F84-A1AC-2AAF2C48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29930-B4EF-4361-B384-E11216A0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F1991-BA99-4EB3-9C64-575AA5843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70535-E654-4DA5-BBDC-9431B32D7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08003-8191-4C5B-B8D2-3960B4D0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6B23A-09CA-4850-AA88-2BBAC661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7DAD8-9F03-48C5-8C1A-7B986511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50EE0-F6B0-4D85-B882-348FEDE6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CCA0E-FC60-4D2E-B156-291296E6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B4631-BE36-4162-A9DF-028BC749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828A-95EC-4C4A-B49B-ADADA3EB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60C5B-88FA-4E5F-BAC8-C1B98425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733AD-C89B-4EA1-B2C8-324456E3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C0E6C-1B72-407F-BD13-3E8AB339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DE85C-AFB1-4E8E-8AAE-92B49F11E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6FDDD-8733-4793-A10E-828E1F2E2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3ED6C-536A-4487-8B72-C88D25296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EA3EE-68D4-42D8-8D5E-AF0CA443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67ABE-199F-44EE-90FB-7F916F68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9ABD1-EA91-4EED-8004-17701E26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00F2E-9F50-4469-90E8-ADADFC83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23B1-DDF5-41D1-AE7B-C43114BF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B929C-2BF9-41C4-99E4-6AE3ECA8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20507-266F-49D2-8070-F36BB865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B832A-A563-4D14-B338-163B16D5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0371C-3A7B-4B2A-910A-D01B80FB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4431D-7F45-457A-8EEE-70E4946A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B459E-CF88-40C8-B560-21FBA581D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43CB1-56C3-4AFD-991E-C04816009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9C906-7EC5-44B0-8A55-3F3D6119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89AE6-F2DD-4B0D-9661-CF5B2A61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CC8C4-0288-4685-A44F-44F57772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E1E82902-89ED-499D-98A0-71B232D5518C}" type="slidenum"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040" y="223920"/>
                <a:ext cx="1007064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20160" y="529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76480"/>
                <a:ext cx="1010304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20160" y="5796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Прямоугольник с одним вырезанным скругленным углом 13"/>
          <p:cNvSpPr/>
          <p:nvPr/>
        </p:nvSpPr>
        <p:spPr>
          <a:xfrm flipV="1" rot="420000">
            <a:off x="3489120" y="1220400"/>
            <a:ext cx="5797440" cy="453708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ый треугольник 14"/>
          <p:cNvSpPr/>
          <p:nvPr/>
        </p:nvSpPr>
        <p:spPr>
          <a:xfrm flipV="1" rot="420000">
            <a:off x="8823240" y="5907960"/>
            <a:ext cx="171360" cy="17136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400" bIns="5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олилиния 15"/>
          <p:cNvSpPr/>
          <p:nvPr/>
        </p:nvSpPr>
        <p:spPr>
          <a:xfrm flipV="1">
            <a:off x="-10800" y="641196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олилиния 16"/>
          <p:cNvSpPr/>
          <p:nvPr/>
        </p:nvSpPr>
        <p:spPr>
          <a:xfrm flipV="1">
            <a:off x="4830840" y="685584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8904240" y="7007040"/>
            <a:ext cx="6732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544AEBAB-6A85-424D-A229-0F0C8D07EE77}" type="slidenum"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498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4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040" y="223920"/>
                <a:ext cx="1007064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"/>
              <p:cNvSpPr/>
              <p:nvPr/>
            </p:nvSpPr>
            <p:spPr>
              <a:xfrm rot="21435600">
                <a:off x="-20160" y="529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5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76480"/>
                <a:ext cx="1010304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 rot="21435600">
                <a:off x="-20160" y="5796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A6CC1448-62D6-4AE7-A77C-7E1F0A77C474}" type="slidenum"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548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5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040" y="223920"/>
                <a:ext cx="1007064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20160" y="529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5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76480"/>
                <a:ext cx="1010304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20160" y="5796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B9578FBD-6B86-4F78-8AC6-33674B6DE080}" type="slidenum"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598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5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040" y="223920"/>
                <a:ext cx="1007064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0" name=""/>
              <p:cNvSpPr/>
              <p:nvPr/>
            </p:nvSpPr>
            <p:spPr>
              <a:xfrm rot="21435600">
                <a:off x="-20160" y="529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6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76480"/>
                <a:ext cx="1010304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"/>
              <p:cNvSpPr/>
              <p:nvPr/>
            </p:nvSpPr>
            <p:spPr>
              <a:xfrm rot="21435600">
                <a:off x="-20160" y="5796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645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64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040" y="223920"/>
                <a:ext cx="1007064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7" name=""/>
              <p:cNvSpPr/>
              <p:nvPr/>
            </p:nvSpPr>
            <p:spPr>
              <a:xfrm rot="21435600">
                <a:off x="-20160" y="529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8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64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76480"/>
                <a:ext cx="1010304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21435600">
                <a:off x="-20160" y="5796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040" y="223920"/>
                <a:ext cx="1007064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20160" y="529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76480"/>
                <a:ext cx="1010304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20160" y="5796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D8FD397A-3058-4A35-832C-A24A53F154AD}" type="slidenum"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040" y="223920"/>
                <a:ext cx="1007064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20160" y="529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76480"/>
                <a:ext cx="1010304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20160" y="5796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99650991-AD1F-4CD8-B72E-CE13EE3F69EE}" type="slidenum"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040" y="223920"/>
                <a:ext cx="1007064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20160" y="529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76480"/>
                <a:ext cx="1010304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20160" y="5796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456510D8-E8AD-4BE3-9771-5B1169FE63A8}" type="slidenum"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20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2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040" y="223920"/>
                <a:ext cx="1007064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20160" y="529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2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76480"/>
                <a:ext cx="1010304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20160" y="5796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AF37A55C-414A-4C8A-AB9E-EF01595E3C25}" type="slidenum"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25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2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040" y="223920"/>
                <a:ext cx="1007064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20160" y="529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2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76480"/>
                <a:ext cx="1010304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20160" y="5796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55312FCE-FC0A-4D85-97E0-C5FAA19CEBEC}" type="slidenum"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30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3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040" y="223920"/>
                <a:ext cx="1007064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20160" y="529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3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76480"/>
                <a:ext cx="1010304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20160" y="5796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453157A4-A7A9-4054-B656-D6DB6FC07BA3}" type="slidenum"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35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3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040" y="223920"/>
                <a:ext cx="1007064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20160" y="529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3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76480"/>
                <a:ext cx="1010304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20160" y="5796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29C3876C-1F6F-44B7-AE40-080679D286F0}" type="slidenum"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олилиния 6"/>
          <p:cNvSpPr/>
          <p:nvPr/>
        </p:nvSpPr>
        <p:spPr>
          <a:xfrm>
            <a:off x="-11160" y="-7920"/>
            <a:ext cx="10103040" cy="11476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олилиния 7"/>
          <p:cNvSpPr/>
          <p:nvPr/>
        </p:nvSpPr>
        <p:spPr>
          <a:xfrm>
            <a:off x="4830840" y="-7920"/>
            <a:ext cx="5249880" cy="7030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Группа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403" name="Полилиния 11"/>
            <p:cNvGrpSpPr/>
            <p:nvPr/>
          </p:nvGrpSpPr>
          <p:grpSpPr>
            <a:xfrm>
              <a:off x="-20520" y="223920"/>
              <a:ext cx="10096200" cy="714240"/>
              <a:chOff x="-20520" y="223920"/>
              <a:chExt cx="10096200" cy="714240"/>
            </a:xfrm>
          </p:grpSpPr>
          <p:pic>
            <p:nvPicPr>
              <p:cNvPr id="4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040" y="223920"/>
                <a:ext cx="1007064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20160" y="529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Полилиния 12"/>
            <p:cNvGrpSpPr/>
            <p:nvPr/>
          </p:nvGrpSpPr>
          <p:grpSpPr>
            <a:xfrm>
              <a:off x="-20520" y="276480"/>
              <a:ext cx="10120680" cy="616680"/>
              <a:chOff x="-20520" y="276480"/>
              <a:chExt cx="10120680" cy="616680"/>
            </a:xfrm>
          </p:grpSpPr>
          <p:pic>
            <p:nvPicPr>
              <p:cNvPr id="4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76480"/>
                <a:ext cx="10103040" cy="61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20160" y="5796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5B8F9293-BB3B-48D0-8239-9522D4C7E1C5}" type="slidenum">
              <a:rPr b="0" lang="en-US" sz="13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ирода в произведениях русских писателей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90" name="Picture 2" descr="C:\Documents and Settings\Учитель\Local Settings\Temporary Internet Files\Content.IE5\1TLMHYNJ\MP900425297[1].jpg"/>
          <p:cNvPicPr/>
          <p:nvPr/>
        </p:nvPicPr>
        <p:blipFill>
          <a:blip r:embed="rId1"/>
          <a:stretch/>
        </p:blipFill>
        <p:spPr>
          <a:xfrm>
            <a:off x="1414440" y="2133720"/>
            <a:ext cx="725184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1" descr="file:///C:/Users/Acer/Pictures/соколов-микитов.jpg"/>
          <p:cNvPicPr/>
          <p:nvPr/>
        </p:nvPicPr>
        <p:blipFill>
          <a:blip r:embed="rId1"/>
          <a:stretch/>
        </p:blipFill>
        <p:spPr>
          <a:xfrm>
            <a:off x="5708520" y="2101680"/>
            <a:ext cx="3086280" cy="476280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229600"/>
                <a:tab algn="l" pos="9144000"/>
                <a:tab algn="l" pos="10058400"/>
              </a:tabLst>
            </a:pPr>
            <a:r>
              <a:rPr b="0" lang="ru-RU" sz="5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ван Соколов-Микитов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16000" y="2101680"/>
            <a:ext cx="5256000" cy="467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2-1975гг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лекательные рассказы о русской природе, написанные старейшим русским писателем, давно полюбились юному читателю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ван Сергеевич Тургенев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60360" y="2101320"/>
            <a:ext cx="4967280" cy="4761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18-1883гг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й из самых мучительных загадок для Тургенева была Природа, ибо она для писателя являлась Божеством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19" name="Picture 2" descr="E:\фото писателей\9a6f84550bc533460c69be74a9fc41f6[1].jpg"/>
          <p:cNvPicPr/>
          <p:nvPr/>
        </p:nvPicPr>
        <p:blipFill>
          <a:blip r:embed="rId1"/>
          <a:stretch/>
        </p:blipFill>
        <p:spPr>
          <a:xfrm>
            <a:off x="5483160" y="2101680"/>
            <a:ext cx="350352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3280" y="102600"/>
            <a:ext cx="9074160" cy="79740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31280" y="1115640"/>
            <a:ext cx="9433080" cy="583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ru-RU" sz="5400" spc="-1" strike="noStrike">
                <a:solidFill>
                  <a:srgbClr val="000000"/>
                </a:solidFill>
                <a:latin typeface="Times New Roman"/>
              </a:rPr>
              <a:t>Каждый поэт и писатель, как вдохновенный художник, «рисует» нам в своих произведениях русскую природу в её неизменной, но вечно новой смене времен года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741240" y="-812520"/>
            <a:ext cx="8609040" cy="8125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Times New Roman"/>
              <a:ea typeface="Times New Roman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215640" y="324000"/>
            <a:ext cx="9504360" cy="691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-30168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жество маленьких чудес видят глаза писателя, а его перо создает поэтическую прозу, полную замечательных образов. Глубокая наблюдательность, чуткость помогает проникнуть в сокровенную жизнь природы, вслушаться в завывание зимней вьюги, песню весенних ручьев, звонкие голоса птиц, почувствовать скрытую жизнь леса. 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286920" y="250560"/>
            <a:ext cx="90630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Михаил Михаилович Пришвин</a:t>
            </a: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286920" y="1619280"/>
            <a:ext cx="4824360" cy="515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30200" indent="0">
              <a:spcBef>
                <a:spcPts val="901"/>
              </a:spcBef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73-1954гг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430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нашел для себя любимое дело: искать и открывать в природе прекрасные стороны души человека»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95" name="Picture 3" descr=""/>
          <p:cNvPicPr/>
          <p:nvPr/>
        </p:nvPicPr>
        <p:blipFill>
          <a:blip r:embed="rId1"/>
          <a:stretch/>
        </p:blipFill>
        <p:spPr>
          <a:xfrm>
            <a:off x="5151600" y="2220840"/>
            <a:ext cx="4200480" cy="45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Picture 1" descr="file:///C:/Users/Acer/Pictures/сладков.jpg"/>
          <p:cNvPicPr/>
          <p:nvPr/>
        </p:nvPicPr>
        <p:blipFill>
          <a:blip r:embed="rId1"/>
          <a:stretch/>
        </p:blipFill>
        <p:spPr>
          <a:xfrm>
            <a:off x="5408640" y="2101680"/>
            <a:ext cx="3686040" cy="476280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86920" y="555120"/>
            <a:ext cx="906300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Николай Иванович Сладков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0-1996гг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 бери в лес ружьё , возьми в лес фоторужьё»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Picture 1" descr="file:///C:/Users/Acer/Pictures/толстой.jpg"/>
          <p:cNvPicPr/>
          <p:nvPr/>
        </p:nvPicPr>
        <p:blipFill>
          <a:blip r:embed="rId1"/>
          <a:stretch/>
        </p:blipFill>
        <p:spPr>
          <a:xfrm>
            <a:off x="5433840" y="2101680"/>
            <a:ext cx="3633840" cy="476280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Лев Николаевич Толстой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3280" y="2101680"/>
            <a:ext cx="4681440" cy="467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28 – 1910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люблю природу, когда со всех сторон окружает меня и потом развивается бесконечно вдаль…»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Picture 1" descr="file:///C:/Users/Acer/Pictures/паустовский.jpg"/>
          <p:cNvPicPr/>
          <p:nvPr/>
        </p:nvPicPr>
        <p:blipFill>
          <a:blip r:embed="rId1"/>
          <a:stretch/>
        </p:blipFill>
        <p:spPr>
          <a:xfrm>
            <a:off x="990720" y="2101680"/>
            <a:ext cx="3700440" cy="4762800"/>
          </a:xfrm>
          <a:prstGeom prst="rect">
            <a:avLst/>
          </a:prstGeom>
          <a:ln w="0">
            <a:noFill/>
          </a:ln>
        </p:spPr>
      </p:pic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741240" y="561600"/>
            <a:ext cx="860904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онстантин Георгиевич Паустовский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2-1968гг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его все было милым в русской природе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1" descr="file:///C:/Users/Acer/Pictures/ушинский.jpg"/>
          <p:cNvPicPr/>
          <p:nvPr/>
        </p:nvPicPr>
        <p:blipFill>
          <a:blip r:embed="rId1"/>
          <a:stretch/>
        </p:blipFill>
        <p:spPr>
          <a:xfrm>
            <a:off x="1252440" y="2101680"/>
            <a:ext cx="3176640" cy="476280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741240" y="600120"/>
            <a:ext cx="860904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онстантин Дмитриевич Ушинский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752720" y="2101680"/>
            <a:ext cx="4895640" cy="467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24-1870гг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т в нашей стране человека, который бы не знал сказок про курочку Рябу, колобка, братца Иванушку …»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1" descr="file:///C:/Users/Acer/Pictures/чехов.jpg"/>
          <p:cNvPicPr/>
          <p:nvPr/>
        </p:nvPicPr>
        <p:blipFill>
          <a:blip r:embed="rId1"/>
          <a:stretch/>
        </p:blipFill>
        <p:spPr>
          <a:xfrm>
            <a:off x="5465880" y="2101680"/>
            <a:ext cx="3571920" cy="4762800"/>
          </a:xfrm>
          <a:prstGeom prst="rect">
            <a:avLst/>
          </a:prstGeom>
          <a:ln w="0">
            <a:noFill/>
          </a:ln>
        </p:spPr>
      </p:pic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7192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Антон Павлович Чехов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60-1904гг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рода очень хорошее  успокоительное средство…»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Picture 1" descr="file:///C:/Users/Acer/Pictures/скребицкий.png"/>
          <p:cNvPicPr/>
          <p:nvPr/>
        </p:nvPicPr>
        <p:blipFill>
          <a:blip r:embed="rId1"/>
          <a:stretch/>
        </p:blipFill>
        <p:spPr>
          <a:xfrm>
            <a:off x="1082520" y="2101680"/>
            <a:ext cx="3516480" cy="4762800"/>
          </a:xfrm>
          <a:prstGeom prst="rect">
            <a:avLst/>
          </a:prstGeom>
          <a:ln w="0">
            <a:noFill/>
          </a:ln>
        </p:spPr>
      </p:pic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618000"/>
                <a:tab algn="l" pos="4341960"/>
                <a:tab algn="l" pos="5065560"/>
                <a:tab algn="l" pos="5789520"/>
                <a:tab algn="l" pos="6513480"/>
                <a:tab algn="l" pos="7237440"/>
                <a:tab algn="l" pos="79596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Георгий Скребицкий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824000" y="2101680"/>
            <a:ext cx="4824360" cy="467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3-1964гг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 детства интересовали две вещи – природоведение и художественная литература»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16:50:27Z</dcterms:created>
  <dc:creator/>
  <dc:description/>
  <dc:language>en-US</dc:language>
  <cp:lastModifiedBy>Библиотекарь</cp:lastModifiedBy>
  <dcterms:modified xsi:type="dcterms:W3CDTF">2013-02-20T09:01:33Z</dcterms:modified>
  <cp:revision>22</cp:revision>
  <dc:subject/>
  <dc:title>Природа в произведениях русских писателей</dc:title>
</cp:coreProperties>
</file>