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768-8F4A-47BD-8AD7-8B0F7B47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911-4822-412E-A10C-1D5AE4D4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1226A-9DA0-4508-8FFF-51C8D36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E3713-A29B-4E2E-9A9E-ACB37479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64CE5-D31C-4A3C-8B3B-CA4B17B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F26D3-FC65-4E74-8AF7-0910CFA5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F4F8B-23CE-4151-A6AD-49B93215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A4815-4E64-4CC4-AAB7-1181F0A5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1F3E8-1B0F-414B-A1CA-19EDAFB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4CD71-2D84-4E8E-9CD6-EBED8FCE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2DBD2-DFC2-4A68-8F47-A7375DC2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A5181-6209-4925-BB05-E2436110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5B7-BC9F-44DA-9C46-860B7620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B1F86-D5A3-4721-9419-805FFE95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18F06-64E4-4FE4-A9BD-30A18AB7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5ED07-9CDB-481D-B5FC-825DAF0F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B32CD-0AFC-4CBD-860E-FC6FB063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4F6D7-F5A9-42FD-AB90-E20B7FB7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22876-9D70-464D-AF63-C06EAF9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08657-5A4A-40EF-8479-409B042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8F401-7A9E-4118-89E1-8406ED52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9E746-BBD2-4DF3-A76F-804C34B8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31D10-B70C-4132-9169-A4305830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2D7-C13E-4E6B-8517-8F7979C8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AEEA6-F0D1-4F2F-B2F1-FA41A5E1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2DE88-713E-41B7-8BE1-5EBA0603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B009D-8B76-47D8-8C77-AD1AA26D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BBCF1-4512-45AA-A137-7286B07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52344-5034-41B6-89D5-57EC00E9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7FF0-4E3D-4D1B-AF57-D91F989A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EC956-38DA-4446-94AB-6ABCF5D1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EECA0-B288-446E-9983-EB4330A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17F40-62A5-4FCE-8DAD-16E72C1E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CE06F-12DB-47D4-9564-88AC9B5C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3E18-2455-4C53-BFEB-7675C64F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57EB3-9E73-443B-8CB1-F899B844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FA8E7-32DE-4F24-85DD-5DA49897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B6C19-2499-470B-9012-5D226AC5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77013-AEA6-4829-BD1A-B42ACC04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FC8EC-EB8D-4E48-80AA-85060E9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36695-A659-44C2-AF4E-0B6BD831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4A8C5-7042-4B81-8CEA-7538537A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CFB92-885F-4E6B-822D-82E8FD9C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5C98A-6675-4E83-8A14-7D42EC38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98573-BA0D-40A5-AEB0-4C9582A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75B4-3C57-45BD-BA0A-E98C27F7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F42C9-87D6-46C4-9C3F-00EBCC5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AC6A1-E779-42F9-9752-C1E208E4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7D0BE-C657-4A00-B58A-D967E93D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EA946-4EE2-4531-9C8A-B9FECD1C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B08FE-788B-48DF-920D-5CB46EF3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CB4A-AFBE-456C-B5DE-7070D5CD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2A73-EDBE-4926-887E-48C8D9DD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71E2-ED99-4F88-B48C-E71C8363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CFA5-FEB6-4AF1-99D8-202DB2EA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4F4F-2FD4-49D8-BABB-937E370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C02-CFA9-4C6F-A3C3-2328B1B3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ED72-36F7-40A6-B9A1-FF9A7D24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6C5E-6C53-44BA-9BE3-CAA6A89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6C58-2E3D-4E97-A4FE-5543E754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24F0-74F7-4D87-B9F3-9345FF4A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2F69-0147-4A86-93F8-5474DBAA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465F-5CAB-409B-A56C-97E39B9E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E889-132A-4D6D-8143-DFD48632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565B-3DA1-46A4-88EB-58B7AA4E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806A6-9C92-462D-8243-74FB0C06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DC42-095F-4C90-B29F-B61B7228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356-2868-4BED-BCDE-37E59DF7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62115-F821-4636-A704-40E60672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6BA3-7700-4841-9697-FC401D14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9515-B8BC-4985-99AE-1E5D5672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FDDA-02E8-4FC4-94A6-613F9FD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82BA-6008-4198-8E83-614C1B1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5126-69CB-45D1-B42F-DFDF1639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9853-2E79-4D46-80AA-6BDE2844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16F50-0EB9-4A17-A4AF-ABA42571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0CB77-2E70-45BB-A371-BB7A2D6F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D9BF-A9D7-4EAB-832A-18B2BDC7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FB7-2BED-4BA5-85FF-568D3C58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7FF8E-833F-40A2-B574-78C35F74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4BAF-1644-45E5-A208-5A1B930F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4FC89-4986-4456-8FF7-6F49942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77AD-668D-458A-B1A0-3A7115E9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97BF-0FC4-4D79-888C-1897CCEA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1980-11C9-4570-8F73-E9BDF500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293E-5E9F-4B41-B85B-47CF5356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18DB-C94F-4135-9CAD-1D368E4D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6D5A-D785-4787-A9A9-0048FC4E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CBF6-CEAE-4E2B-B063-CD0C29B5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FDC-7F1C-4634-8364-B74F71C9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98AB-3B54-4324-9E5C-52521B77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32D0A-1B94-4C77-9B01-1559DEB3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08B3A-391A-4E2B-A278-4141053C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C235D-EB93-408B-BF35-FFAADFFA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3B76-EDAA-4DC5-AD58-F4BC93F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073DC-48CF-4998-BA45-363E4C94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782B-E0B4-4CC3-8A14-53DA38D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1047-EFF5-49C5-8AEC-EF745203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BB6EC-E214-420D-98EA-F8E0C5FF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B123-F10A-429E-A8E5-9F323CDB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879-C712-431F-9853-FC45D54F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61858-D855-4FE7-AEC5-7111D819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6223-3DB9-462E-A848-8213F42A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D80F-CB2F-47B6-81C8-CDEB433D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B5DA9-2ECE-43BB-A9B4-75F2A812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993FD-E0D9-4CF7-8B82-C77066F6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72508-015A-4057-BEE1-D7494017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A343D-CAFB-469E-AA31-7EAD51A9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369BB-9F60-43E1-A07A-5D4D61DB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9C122-11F2-41B4-A66D-90EE04CD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F7935-998E-4873-AF0A-6B2B9862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050-F7D2-48DD-B8EB-23A0DFD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76F14-FFDF-4E8C-8D28-5A0DE846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58539-AA96-4504-8EDC-C10F24B7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0C4FE-E206-41F8-AE53-2230192F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14464-744A-4A1B-9D02-F0A046B8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30B5E-4160-4A00-BEEE-62E7004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7D29-9B64-4F5C-91EC-4FDBE626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E9BC0-65AE-4CD7-8650-4DF3EEFD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5A469-5460-4F78-8273-2B3AC0C3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8C9AD-4F3B-44FF-B3CD-82173ADE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DC96D-0235-408D-92DB-014850A3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0E2-4E91-4DD2-B839-69F970E4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8106F-F50D-4EEA-9D89-F21A924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0950C-BF9A-420A-9310-0D3BE041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DB223-E9BA-47C8-96DA-51C5871A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219AD-002D-49EA-AC53-D5196BC8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1149-7E1E-4761-BD79-F965083D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F9392-3D3B-42E2-8075-3A0BC18D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7ECCB-9082-49BF-B400-EFE0946F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9F3A2-D271-4968-B0EB-E2A69FEE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82978-52D0-4EB5-A932-F99BC4AD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1264A-0BA5-40DD-886B-84C8E0D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EF5-EAF7-4C84-B33D-A0C014F0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7736-B13E-4346-BC1B-BDE731EF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FDC3D-D5CA-4050-A39D-E969A26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381C7-3E80-4EB4-9A88-E95A91E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D10CD-D73A-4416-B18D-2EC7261D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050F0-A667-4E88-86BF-BDC6B39E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ADEF9-DDBA-4C44-B369-42816794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67C09-0706-4794-AEFC-C4FF43AA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2EF94-39D5-4A93-B6B5-F6A75E6C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60BB0-5432-4954-A0CD-DDB34E6D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2A2DF-DBE5-4855-BCF0-DED2B8E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BD85738-C80B-44BE-A42F-D5F7778F1841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EE4DA9A-DF40-4966-B4C7-BD5DF4A2FE5B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5D9BF9D-C8A9-43A3-90DC-665753386482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FBD6E5A-C77F-4872-9CA2-91E0D51EA19B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645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64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64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250588D-3AFE-4037-AFE0-A8C409D262A4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DBEF5D8-B737-4FFF-8DB9-E191213C438D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7C8FDF0-5D91-4C1E-A562-3993BF2CAF29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1689111-1EEB-45F8-86E0-CDAC4D5780D6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DDE2708-6121-4B29-A2C6-951EF185F731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5C5B13A-BB02-4B75-B24D-A9D9B7EBD29A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BC7E3FD-9564-422F-AD47-12247A955128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8630BE6-A203-4EFC-B152-FB780C4F38D5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рода в произведениях русских писател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0" name="Picture 2" descr="C:\Documents and Settings\Учитель\Local Settings\Temporary Internet Files\Content.IE5\1TLMHYNJ\MP900425297[1].jpg"/>
          <p:cNvPicPr/>
          <p:nvPr/>
        </p:nvPicPr>
        <p:blipFill>
          <a:blip r:embed="rId1"/>
          <a:stretch/>
        </p:blipFill>
        <p:spPr>
          <a:xfrm>
            <a:off x="1414440" y="2133720"/>
            <a:ext cx="72518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file:///C:/Users/Acer/Pictures/соколов-микитов.jpg"/>
          <p:cNvPicPr/>
          <p:nvPr/>
        </p:nvPicPr>
        <p:blipFill>
          <a:blip r:embed="rId1"/>
          <a:stretch/>
        </p:blipFill>
        <p:spPr>
          <a:xfrm>
            <a:off x="5708520" y="2101680"/>
            <a:ext cx="3086280" cy="476280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ван Соколов-Микитов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16000" y="2101680"/>
            <a:ext cx="525600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-1975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ые рассказы о русской природе, написанные старейшим русским писателем, давно полюбились юному читателю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ван Сергеевич Тургенев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60360" y="2101320"/>
            <a:ext cx="4967280" cy="476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18-1883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самых мучительных загадок для Тургенева была Природа, ибо она для писателя являлась Божество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9" name="Picture 2" descr="E:\фото писателей\9a6f84550bc533460c69be74a9fc41f6[1].jpg"/>
          <p:cNvPicPr/>
          <p:nvPr/>
        </p:nvPicPr>
        <p:blipFill>
          <a:blip r:embed="rId1"/>
          <a:stretch/>
        </p:blipFill>
        <p:spPr>
          <a:xfrm>
            <a:off x="5483160" y="2101680"/>
            <a:ext cx="35035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3280" y="102600"/>
            <a:ext cx="9074160" cy="7974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31280" y="1115640"/>
            <a:ext cx="9433080" cy="58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Каждый поэт и писатель, как вдохновенный художник, «рисует» нам в своих произведениях русскую природу в её неизменной, но вечно новой смене времен года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41240" y="-812520"/>
            <a:ext cx="860904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215640" y="324000"/>
            <a:ext cx="9504360" cy="691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маленьких чудес видят глаза писателя, а его перо создает поэтическую прозу, полную замечательных образов. Глубокая наблюдательность, чуткость помогает проникнуть в сокровенную жизнь природы, вслушаться в завывание зимней вьюги, песню весенних ручьев, звонкие голоса птиц, почувствовать скрытую жизнь леса.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86920" y="250560"/>
            <a:ext cx="9063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ихаил Михаилович Пришвин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86920" y="1619280"/>
            <a:ext cx="4824360" cy="515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0">
              <a:spcBef>
                <a:spcPts val="901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3-1954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нашел для себя любимое дело: искать и открывать в природе прекрасные стороны души человека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5" name="Picture 3" descr=""/>
          <p:cNvPicPr/>
          <p:nvPr/>
        </p:nvPicPr>
        <p:blipFill>
          <a:blip r:embed="rId1"/>
          <a:stretch/>
        </p:blipFill>
        <p:spPr>
          <a:xfrm>
            <a:off x="5151600" y="2220840"/>
            <a:ext cx="42004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1" descr="file:///C:/Users/Acer/Pictures/сладков.jpg"/>
          <p:cNvPicPr/>
          <p:nvPr/>
        </p:nvPicPr>
        <p:blipFill>
          <a:blip r:embed="rId1"/>
          <a:stretch/>
        </p:blipFill>
        <p:spPr>
          <a:xfrm>
            <a:off x="5408640" y="210168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6920" y="555120"/>
            <a:ext cx="90630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иколай Иванович Сладков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-1996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бери в лес ружьё , возьми в лес фоторужьё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1" descr="file:///C:/Users/Acer/Pictures/толстой.jpg"/>
          <p:cNvPicPr/>
          <p:nvPr/>
        </p:nvPicPr>
        <p:blipFill>
          <a:blip r:embed="rId1"/>
          <a:stretch/>
        </p:blipFill>
        <p:spPr>
          <a:xfrm>
            <a:off x="5433840" y="2101680"/>
            <a:ext cx="3633840" cy="476280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ев Николаевич Толстой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3280" y="2101680"/>
            <a:ext cx="468144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– 1910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люблю природу, когда со всех сторон окружает меня и потом развивается бесконечно вдаль…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file:///C:/Users/Acer/Pictures/паустовский.jpg"/>
          <p:cNvPicPr/>
          <p:nvPr/>
        </p:nvPicPr>
        <p:blipFill>
          <a:blip r:embed="rId1"/>
          <a:stretch/>
        </p:blipFill>
        <p:spPr>
          <a:xfrm>
            <a:off x="990720" y="2101680"/>
            <a:ext cx="3700440" cy="47628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41240" y="56160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стантин Георгиевич Паустовс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-1968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го все было милым в русской природ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file:///C:/Users/Acer/Pictures/ушинский.jpg"/>
          <p:cNvPicPr/>
          <p:nvPr/>
        </p:nvPicPr>
        <p:blipFill>
          <a:blip r:embed="rId1"/>
          <a:stretch/>
        </p:blipFill>
        <p:spPr>
          <a:xfrm>
            <a:off x="1252440" y="2101680"/>
            <a:ext cx="3176640" cy="47628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90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стантин Дмитриевич Ушинский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752720" y="2101680"/>
            <a:ext cx="489564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4-1870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т в нашей стране человека, который бы не знал сказок про курочку Рябу, колобка, братца Иванушку …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file:///C:/Users/Acer/Pictures/чехов.jpg"/>
          <p:cNvPicPr/>
          <p:nvPr/>
        </p:nvPicPr>
        <p:blipFill>
          <a:blip r:embed="rId1"/>
          <a:stretch/>
        </p:blipFill>
        <p:spPr>
          <a:xfrm>
            <a:off x="5465880" y="2101680"/>
            <a:ext cx="3571920" cy="476280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192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нтон Павлович Чехов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0-1904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рода очень хорошее  успокоительное средство…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1" descr="file:///C:/Users/Acer/Pictures/скребицкий.png"/>
          <p:cNvPicPr/>
          <p:nvPr/>
        </p:nvPicPr>
        <p:blipFill>
          <a:blip r:embed="rId1"/>
          <a:stretch/>
        </p:blipFill>
        <p:spPr>
          <a:xfrm>
            <a:off x="1082520" y="2101680"/>
            <a:ext cx="3516480" cy="476280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еоргий Скребицкий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824000" y="2101680"/>
            <a:ext cx="482436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3-1964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 детства интересовали две вещи – природоведение и художественная литература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6:50:27Z</dcterms:created>
  <dc:creator/>
  <dc:description/>
  <dc:language>en-US</dc:language>
  <cp:lastModifiedBy>Библиотекарь</cp:lastModifiedBy>
  <dcterms:modified xsi:type="dcterms:W3CDTF">2013-02-20T09:01:33Z</dcterms:modified>
  <cp:revision>22</cp:revision>
  <dc:subject/>
  <dc:title>Природа в произведениях русских писателей</dc:title>
</cp:coreProperties>
</file>