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26B5-3374-4A83-85A1-A52D1725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DFA-9E76-4287-B8A9-DA9D7868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9C2-65E6-4F53-A517-136AE16B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E55-9775-4ACE-9F71-C3CCF12B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FC66-7585-4EAD-8544-CA5D8CA8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26D9-A8BC-4F78-9C07-7347740D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8AD-040A-4D67-BDA6-1654F96E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1A8-B81B-4A7C-8452-98AE668C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465-035D-47D6-8752-D15BC33A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478-13C7-4EC3-81AF-41004AB4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D3A-6AF3-45F5-9DE2-F1B9B6CA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84C7-CBE0-4825-82F4-104385AE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88C5-C8E8-43AD-B9F2-64474C6A85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Язык – как важнейшее средство общ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343400" y="4952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обие к урокам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учебникам В.В. Бабайцев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презентации учитель русского языка и литературы Мечкова Т.Ф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начение языка как важнейшего средства об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 В. Шефнер писал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Словом можно убить, словом можно спасти, можно полки за собой повести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ет ли быть общение между людьми, которые говорят на разных языках и не знают языка собесед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Значение русского языка в культуре нашего на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В. Ломоносов еще в 18 веке говорил, что русскому языку присущи великолепие испанского, живость французского, крепость немецкого, нежность итальянск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esenin_14_h100"/>
          <p:cNvPicPr/>
          <p:nvPr/>
        </p:nvPicPr>
        <p:blipFill>
          <a:blip r:embed="rId1"/>
          <a:stretch/>
        </p:blipFill>
        <p:spPr>
          <a:xfrm>
            <a:off x="6553080" y="1447920"/>
            <a:ext cx="2030400" cy="2361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666880" cy="22384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Л. Толстой 1.jpg"/>
          <p:cNvPicPr/>
          <p:nvPr/>
        </p:nvPicPr>
        <p:blipFill>
          <a:blip r:embed="rId3"/>
          <a:stretch/>
        </p:blipFill>
        <p:spPr>
          <a:xfrm>
            <a:off x="3352680" y="1447920"/>
            <a:ext cx="1981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усский язык как язык межнационального общения Росс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5153454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1T15:20:4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