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DB9-ED3D-4835-8EA2-FC15205D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715-F923-434B-9119-5D444D4E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C91-EF21-4716-8822-5E55DFA1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A43-D1EB-4557-B607-10589964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5FF-5A81-4BAE-A332-1658194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1B5-D31A-4D0A-8635-EB36DDCD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E8E-B2B3-45AB-A07F-D4B59E7F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A66-5E34-4EF0-AF81-9E53129B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5F3-0641-40BC-9A90-07B6DC2C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AF4-459B-4168-B8E7-252183D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B2D-7027-4BB8-AEF7-C305765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C42-1566-414A-AF38-EF6949AD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517-B691-4213-861C-1D153B90D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Язык – как важнейшее средство общ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4340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 к урокам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учебникам В.В. Бабайце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езентации учитель русского языка и литературы Мечкова Т.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чение языка как важнейшего средства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 В. Шефнер писа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Словом можно убить, словом можно спасти, можно полки за собой повести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общение между людьми, которые говорят на разных языках и не знают языка собесе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начение русского языка в культуре нашего на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В. Ломоносов еще в 18 веке говорил, что русскому языку присущи великолепие испанского, живость французского, крепость немецкого, нежность итальянск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senin_14_h100"/>
          <p:cNvPicPr/>
          <p:nvPr/>
        </p:nvPicPr>
        <p:blipFill>
          <a:blip r:embed="rId1"/>
          <a:stretch/>
        </p:blipFill>
        <p:spPr>
          <a:xfrm>
            <a:off x="6553080" y="1447920"/>
            <a:ext cx="203040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668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Л. Толстой 1.jpg"/>
          <p:cNvPicPr/>
          <p:nvPr/>
        </p:nvPicPr>
        <p:blipFill>
          <a:blip r:embed="rId3"/>
          <a:stretch/>
        </p:blipFill>
        <p:spPr>
          <a:xfrm>
            <a:off x="3352680" y="1447920"/>
            <a:ext cx="1981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усский язык как язык межнационального общения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5153454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1T15:20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