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36C-630F-4348-B0CB-479CB33BA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799-BC37-4167-8834-1AD559F059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441-5CD8-42D1-8F4F-C0238BBF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8DA-C2E2-4710-A06D-7D4ACA30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011-9C00-4D23-B566-EB664933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0A1-9C1B-49AC-87D2-EEE4993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2C0-D259-4C90-8414-6137DFFF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C881-0CDD-44C7-8CD7-02C426AE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FB6E-8216-44DF-AB8E-BF16925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73E-A3BD-49D0-B8EF-C4504CEC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E60E-F9A8-4837-9183-9B330A44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C10E-337D-467A-A76C-C5AEA3E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F6E8-39F6-4F4E-91DE-78B0F2B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851-5DDA-49F5-8E48-76414D90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97FE-A9BB-4BC7-954E-3960279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CFF-D126-41DB-8428-3BC0015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BCC9-7C23-4A35-A8A7-FDA70FD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B021-9E6B-4F33-9C4E-1CF39E4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A4C1-EED8-4EE9-BFEB-57C6FFCD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FA4B-9068-4133-9E92-07CC1811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CCAC-C4F9-4CE8-88CD-5D273C78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DDDA-BF9E-4353-84DA-C2FD627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41A3-AC35-44F5-921E-B53B473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1BBB-2767-488E-9892-AEFC86D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901-76ED-4F3F-A5F0-E4356428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1A89-4423-4DBF-9AC0-203A476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2841-88C3-4864-B037-332415D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61AA-6F1E-4430-BB48-333718E3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BF0C-224D-4E39-BC03-97F37E8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5D14-40FE-4FC9-A4C6-B514FC56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964D-0FB5-49F8-BD49-751643BC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6511-F3A9-41D8-AD76-2A9D99E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3C2C2-A1A4-41D4-B06A-6B7456B1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F5643-F847-47B9-AEA8-E3A97E5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99567-7E62-4E97-8196-AA1C556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9CC-59AD-4E80-A619-85FBF97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B839B-91B8-4916-9DF7-061226FB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ADCED-B9E9-4179-9796-BE096D8F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B2D09-34A2-4292-8E83-91CC672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6D3C6-CE2E-4C42-85B3-141345A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76E31-A90C-45CB-BD2E-709CA692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84581-1E2B-4DB5-BF6C-3877DAB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84995-AA7C-43C3-84F3-2CF9D14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D9E71-0B4B-485C-9BDA-16D71ADA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E3161-77C8-4428-B02A-D7A48C77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743-6A6C-4439-88CC-B8B10E0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382-BB4B-41D4-83DE-DD0EFFA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36F-8A1C-4971-BF06-498D29B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C43-61E9-4528-8DEA-C510852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803-0BA0-40A8-9E69-B48D4DF4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976-94E7-4FE4-B654-535CE0A43A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0CF-2FF0-40DC-9A23-4699E97CB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A85-ACA8-44E8-AE4E-39DF89E81B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269-9AB0-4267-9545-88653109BC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matmetod-popova.narod.ru/theme24/example2_4_1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Симплекс-метод линейного программирования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При этом каждый этап может включать несколько шагов, соответствующих тому или иному базисному решению. Но так как число базисных решений всегда ограниченно, то ограниченно и число шагов симплексного мет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Приведенная схема симплексного метода явно выражает его алгоритмический характер (характер четкого предписания о выполнении последовательных операций), что позволяет успешно программировать и реализовать этот метод на ЭВМ. </a:t>
            </a: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Задачи же с небольшим числом переменных и ограничений могут быть решены симплексным методом вручную.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Не останавливаясь подробнее на сути алгоритма, опишем его вычислительную сторону. </a:t>
            </a: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Вычисления по симплекс-методу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организуются в виде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мплекс-таблиц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которые являются сокращенной записью задачи линейного программирования в канонической форме. Перед составлением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мплекс-таблицы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задача должна быть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преобразована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стема ограничений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приведена к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опустимому базисному виду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c помощью которого из целевой функции должны быть исключены базисные переменные. Вопрос об этих предварительных преобразованиях мы рассмотрим ниже. Сейчас же будем считать, что они уже выполнены и задача 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602080"/>
            <a:ext cx="89647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Здесь для определенности записи считается, что в качестве базисных переменных можно взять перемен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 что при это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1, b2,..., b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≥ 0 (соответствующее базисное решение является опорным). Для составления симплекс-таблицы во всех равенствах в условии задачи члены, содержащие переменные, переносятся в левую часть, свободные оставляются справа, т.е. задача записывается в виде системы равенст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example2"/>
          <p:cNvPicPr/>
          <p:nvPr/>
        </p:nvPicPr>
        <p:blipFill>
          <a:blip r:embed="rId1"/>
          <a:stretch/>
        </p:blipFill>
        <p:spPr>
          <a:xfrm>
            <a:off x="2843280" y="189000"/>
            <a:ext cx="3672000" cy="24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алее эта система оформляется в виде симплекс-табли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5" descr="example3"/>
          <p:cNvPicPr/>
          <p:nvPr/>
        </p:nvPicPr>
        <p:blipFill>
          <a:blip r:embed="rId1"/>
          <a:stretch/>
        </p:blipFill>
        <p:spPr>
          <a:xfrm>
            <a:off x="2627280" y="189000"/>
            <a:ext cx="3889440" cy="223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example4"/>
          <p:cNvPicPr/>
          <p:nvPr/>
        </p:nvPicPr>
        <p:blipFill>
          <a:blip r:embed="rId2"/>
          <a:stretch/>
        </p:blipFill>
        <p:spPr>
          <a:xfrm>
            <a:off x="826920" y="2924280"/>
            <a:ext cx="7632720" cy="2565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5484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римечание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звания базисных переменных здесь взяты лишь для определенности записи и в реальной таблице могут оказаться друг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Tahoma"/>
              </a:rPr>
              <a:t>Порядок работы с симплекс таблиц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ервая симплекс-таблица подвергается преобразованию, суть которого заключается в переходе к новому опорному реш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Алгоритм перехода к следующей таблице так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сматривае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последняя строка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(индексная) таблицы и среди коэффициентов этой строки (исключая столбец свободных членов  ) выбирается наименьшее отрицательное число при отыскании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max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, либо наибольшее положительное при задачи на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min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. Если такового нет, то исходное базисное решение является оптимальным и данная таблица является последн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сматривае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столбец таблицы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, отвечающий выбранному отрицательному (положительному) коэффициенту в последней строке- ключевой столбец, и в этом столбце выбираю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положительные коэффициенты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. Если таковых нет, то целевая функция неограниченна на области допустимых значений переменных и задача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решений не имеет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реди выбранных коэффициентов столбца выбирается тот, для которого абсолютная величина отношения соответствующего свободного члена (находящегося в столбце свободных членов) к этому элементу минимальна. Этот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оэффициен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зывае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разрешающи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а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в которой он находи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лючево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дальнейше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базисная переменная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отвечающая строке разрешающего элемента, должна бы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переведена в разряд свободных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а свободная переменная, отвечающая столбцу разрешающего элемента, вводится в число базисных. Строится новая таблица, содержащая новые названия базисных переменны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здели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аждый элемент ключевой строк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исключая столбец свободных членов) на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азрешающий элемен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 полученные значени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запишем в строку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с измененной базисной переменной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новой симплекс табл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 разрешающего элемента делится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 этот элемент и полученная строка записывается в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новую таблицу на то же мест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новой таблиц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с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элементы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лючевого столбца =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ром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азрезающег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он всегда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равен 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олбец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у которог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 ключевой строке имеется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в новой таблице будет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таким ж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у которой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 ключевом столбце имеется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в новой таблице будет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такой ж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остальны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клетки новой таблицы записываетс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езульта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реобразования элементо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арой таблицы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результате получают новую симплекс-таблицу, отвечающую новому базисному решен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еперь следует просмотре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у целевой функци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индексную), если в ней нет отрицательных значений (в задачи на нахождение максимального значения), либо положительных (в задачи на нахождение минимального значения) кроме стоящего на месте   (свободного столбца), то значит, чт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оптимальное решение получен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В противном случае, переходим к новой симплекс таблице по выше описанному алгоритму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ссмотрим порядок решения задачи с помощью симплекс-таблиц на пример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picture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166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Если в только что рассмотренной задаче первое же полученное без всякого труда базисное решение оказалось допустимым, то в ряде задач исходное базисное решение может иметь одну, две и т. д. отрицательных компонент, т. е. быть недопустимым. В таких задачах надо сначала применить первый этап симплексного метода, т. е. с его помощью найти какое-либо допустимое решение (или установить несовместность системы ограничений), а затем уже искать оптимальное решение (сделать вывод о противоречии условий задачи). При этом надо помнить, что на первом этапе применения симплексного метода, т. е. пока мы ищем допустимое базисное решение, линейная форма не рассматривается, а все преобразования относятся только к системе ограничений.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усть задача линейного программирования задана в канонической форме, состоящей из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независимых уравнений с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еременными (или же она приведена к такому виду после введения добавочных неотрицательных переменных)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ыберем группу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основных переменных, которые позволяют найти исходное базисное решение (не нарушая общности, можем считать, что основными переменными являются первые m переменных). Выразив эти основные переменные через неосновные, получим следующую систему ограничени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67080" y="2446200"/>
          <a:ext cx="1428840" cy="196560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212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5" descr="example13"/>
          <p:cNvPicPr/>
          <p:nvPr/>
        </p:nvPicPr>
        <p:blipFill>
          <a:blip r:embed="rId1"/>
          <a:stretch/>
        </p:blipFill>
        <p:spPr>
          <a:xfrm>
            <a:off x="2050920" y="2637000"/>
            <a:ext cx="4824720" cy="34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18108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Симплекс-метод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является основным 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линейном программировани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Решение задачи начинается с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ссмотрени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одной из вершин многогранника условий. Если исследуемая вершина не соответствует максимуму (минимуму), то переходят к соседней, увеличивая значение функции цели при решении задачи на максимум и уменьшая при решении задачи на минимум. Таким образом, переход от одной вершины к другой улучшает значение функции цели. Так как число вершин многогранника ограничено, то за конечное число шагов гарантируется нахождение оптимального значения или установление того факта, что задача неразреши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Этому способу разбиения переменных на основные и неосновные соответствует базисное решение (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1 , k2, ... , km , 0, 0, ... ,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). Рассмотрим общий случай, когда это решение является недопустимым. От полученного базисного решения следует сначала перейти к какому-нибудь допустимому базисному решению. Причем не обязательно, чтобы этот переход осуществлялся сразу, за один шаг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о предположению исходное базисное решение недопустимо. Следовательно, среди свободных членов системы ограничений (2.16) имеется хотя бы один отрицательный (число отрицательных свободных членов этой системы совпадает с числом отрицательных компонент исходного базисного решения). Пусть им является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го уравнени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i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. е. основная переменна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в соответствующем базисном решении отрицательн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ля перехода к новому базисному решению необходимо: выбрать переменную, которую следует перевести из неосновных в основные; установить, какая основная переменная при этом перейдет в число неосновных переменных. При переводе неосновной переменной в основные ее значение, как правило, возрастает: вместо нуля в исходном базисном решении оно будет положительно в новом базисном решении (исключая случай вырождения). Вернемся к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у уравнению системы (2.16), содержащему отрицательный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Оно показывает, что значение переменной xi растет при возрастании значений тех неосновных переменных, которые в этом уравнении имеют положительные коэффициенты. Отсюда следует, что в основные можно переводить те неосновные переменные, которые в уравнении системы (2.16) с отрицательным свободным членом имеют положительные коэффициент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Здесь может быть три исх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и системы (2.16) нет основных переменных с положительными коэффициентами, т. е. все коэффициенты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i, 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как и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) отрицательны. В этом случае система ограничений несовместна, она не имеет ни одного допустимого решения, а следовательно, и оптимальн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я имеется одна переменна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оэффициент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ри которой положителен. В этом случае именно эта переменная переводится в основ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и имеется несколько переменных с положительными коэффициентам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i, 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В этом случае в основные можно перевести любую из н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алее необходимо установить, какая основная переменная должна быть переведена в число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х на место переводимой в основные. В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 переводится та основная переменная, которая первой обратится в нуль при возрастании от нуля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ой переменной, переводимой в основные. Иными словами, пользуемся тем же правилом, которое было установлено ранее. Находятся отношения свободных членов к коэффициентам при переменной, переводимой в основные, из всех уравнений, где знаки свободных членов и указанных коэффициентов противоположны, берется абсолютная величина этих отношений и из них выбирается наименьшая (если в некоторых уравнениях знаки свободных членов и указанных коэффициентов совпадают или в каких-то уравнениях переменная, переводимая в основные, отсутствует, то указанное отношение считается равным 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Уравнение, из которого получено наименьшее отношение, выделяется. Выделенное уравнение и покажет, какая из основных переменных должна быть переведена в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. Выразив новые основные переменные через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, перейдем к следующему базисному решению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Если выделенным окажется уравнение с отрицательным свободным членом, то в новом базисном решении число отрицательных компонент будет на единицу меньше, чем в исходном. Если же выделенным окажется уравнение с положительным (или равным нулю) свободным членом, то в новом базисном решении число отрицательных компонент сохранится таким же, каким оно было в исходном базисном решени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аким образом, при переходе к новому базисному решению выгодно, чтобы выделенным оказалось уравнение с отрицательным свободным членом, и если есть возможность выбора, то предпочтение следует отдать такому обмену переменных, при котором выделенным оказывается уравнение с отрицательным свободным членом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так, мы получим новое, улучшенное базисное решение, которое ближе к области допустимых решений системы ограничений. Если оно недопустимое, то к нему следует применить ту же схему еще раз. В результате через конечное число шагов мы получим допустимое базисное решение. Как только будет найдено допустимое базисное решение, переходят ко второму этапу симплексного метода, сущность которого рассмотрена при решении задач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примера 2.4.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03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Этот метод является универсальным, применимым к любой задаче линейного программирования в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анонической форм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Система ограничений здесь - система линейных уравнений, в которой количество неизвестных больше количества уравнений. Если ранг системы рав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мы можем выбра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известных, которые выразим через остальные неизвестные. Для определенности предположим, что выбраны первые, идущие подряд, неизвест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Тогда наша система уравнений может быть записана ка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К такому виду можно привест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любую совместную систему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например, методом Гаусса. Правда, не всегда можно выражать через остальные первые r неизвестных (мы это сделали для определенности записи). Однако так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известных обязательно найдутся. Эти неизвестные (переменные) называются базисными, остальные свободным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example1"/>
          <p:cNvPicPr/>
          <p:nvPr/>
        </p:nvPicPr>
        <p:blipFill>
          <a:blip r:embed="rId1"/>
          <a:stretch/>
        </p:blipFill>
        <p:spPr>
          <a:xfrm>
            <a:off x="2700360" y="260280"/>
            <a:ext cx="36734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ридавая определенные значения свободным переменным и вычисляя значения базисных (выраженных через свободные), мы будем получать различные решения нашей системы ограничений. Таким образом, можно получить любое ее решение. Нас будут интересовать особые решения, получаемые в случае, когда свободные переменные равны нулю. Такие решения называю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азисным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их столько же, сколько различных базисных видов у данной системы ограничений. Базисное решение называе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допустимым базисным решение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порным решение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если в нем значения переменных неотрицательны. Если в качестве базисных взяты перемен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решен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{b1, b2,..., br, 0, ..., 0}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будет опорным при условии, чт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1, b2,..., br ≥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имплекс-метод основан на теореме, которая называется фундаментальной теоремой симплекс-метода. Среди оптимальных планов задачи линейного программирования в канонической форме обязательно есть опорное решение ее системы ограничений. Если оптимальный план задачи единственен, то он совпадает с некоторым опорным решением. Различных опорных решений системы ограничений конечное число. Поэтому решение задачи в канонической форме можно было бы искать перебором опорных решений и выбором среди них того, для которого значен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самое большое. Но, во-первых, все опорные решения неизвестны и их нужно находить, a, во-вторых, в реальных задачах этих решений очень много и прямой перебор вряд ли возможен. Симплекс-метод представляет собой некоторую процедуру направленного перебора опорных решени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сходя из некоторого, найденного заранее опорного решения по определенному алгоритму симплекс-метода мы подсчитываем новое опорное решение, на котором значение целевой функци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 меньше, чем на старом. После ряда шагов мы приходим к опорному решению, которое является оптимальным пла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так, симплексный метод вносит определенный порядок как при нахождении первого (исходного) базисного решения, так и при переходе к другим базисным решениям. Его идея состоит в следующем. Имея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систему ограничени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приведенную к общему виду, то есть к системе m линейных уравнений с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еременным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(m &lt; n)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находят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любое базисное решени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этой системы, заботясь только о том, чтобы найти его как можно прощ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72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Если первое же найденное базисное решение оказалось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допустимы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то проверяют его н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птимальность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Если он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е оптимальн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, осуществляется переход к другому, обязательно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допустимому базисному решению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имплексный метод гарантирует, что при этом новом решении линейная форма, если и не достигнет оптимума, то приблизится к нему. С новым допустимым базисным решением поступают так же, пока не находят решение, которое является оптимальны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Если первое найденное базисное решение окажетс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едопустимы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с помощью симплексного метода осуществляется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переход к другим базисным решения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оторые приближают нас к области допустимых решений, пока на каком-то шаге решения либо базисное решение окажется допустимым и к нему применяют алгоритм симплексного метода, либо мы убеждаемся в противоречивости системы ограничений.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аким образом, применение симплексного метода распадается на два этапа: нахождение допустимого базисного решения системы ограничений или установление факта ее несовместности; нахождени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птимального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ешения.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4:37:10Z</dcterms:created>
  <dc:creator>Admin</dc:creator>
  <dc:description/>
  <dc:language>en-US</dc:language>
  <cp:lastModifiedBy>User</cp:lastModifiedBy>
  <dcterms:modified xsi:type="dcterms:W3CDTF">2011-05-31T14:59:35Z</dcterms:modified>
  <cp:revision>36</cp:revision>
  <dc:subject/>
  <dc:title>Симплекс-метод линейного программирования </dc:title>
</cp:coreProperties>
</file>