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487E-E9CA-467C-9B6F-300B1FC7D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578E-056A-4AB9-ACB1-715D5A66FA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14C-97A7-4978-8A4F-A564D25D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60A-E075-41D9-BE73-6ECC3261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CBC-1B14-466F-9C2C-018676E7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E13-1E1A-494A-AD4D-3F162F20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DB8D-8E60-4C7A-B47C-0878C3B6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528E-71CB-4B8D-A734-4A13C240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7B38-2A0B-4700-AE87-7FADDB61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FD77-2A0D-42BF-BD90-C41A94A4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28B5-32ED-4DAC-A17D-659FBF77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C088-4F06-4B16-89A4-7B9AE4A8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85B8-D7E6-4BDB-87DC-58C0215B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579-C180-4474-91A3-E2C059E7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FD6D-43E7-4003-A06F-C4A0B9AE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ABE1-FA1B-4880-BD4E-5F968095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2ACD-7EDA-4601-A514-87013CC9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205A-F8FD-4F33-8C1C-714FEFA1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5D02-8442-47A2-B764-16C9FDAB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1C1C-AC6B-4BEB-B066-26A59583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FC76-FFFD-4760-AE13-807CDEBF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1FAE-217A-40AF-A061-EE486AF3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63E4-4F7F-412C-BC2A-5D68B439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D8744-BB4A-46BF-BCD3-0338BA55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A96-63F5-4A18-894A-F62D9A7D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85E2-2C99-40F4-93CC-BFE538CB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B161-75E7-4137-9FCB-BF5779EC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EA8E-485F-46CF-A9A1-F7F49FF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9E8AF-31CA-47BE-907E-8561EAC8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15DE-17D1-4097-928A-0852BB40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5BA52-85E6-496F-9342-906722D7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E595-D4B3-4381-B26F-A1B38693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FC6D6-A784-4154-9D91-BBFE5B3A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17BEE-A95C-4AD2-992B-3F5211F7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BE686-C41E-4348-9833-9B30A7E6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303-3E30-4B2B-9894-8CEDE7ED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3DB9D-168F-4405-A46B-E562299C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FC4A4-4C1D-4C84-9EE6-BCF01D10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297A0-A47B-4702-A377-2742A085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BE9EC-9A7C-40CA-8DC6-ACF465AD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DCA01-11A6-4024-BE0A-E426E1C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78F74-A48C-485E-8BD7-C2BF595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C8BDD-0953-4B43-BA8D-AAE6D182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C2DA1-B3C9-44BA-939A-C1A73D7A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C4A3EE-EA61-4FD5-AD8F-02394043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773E-E182-4FF0-9BD8-EAA83C8B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014-5A2D-4A53-AD70-477C5579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B22-8172-4D07-BC25-C259F955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C52A-1530-4AFC-A7BC-001AB71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FA1-E617-4C26-939E-66EE135E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AAA5-0A27-4F19-A001-F137AB5D4E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2C37-B445-409D-BAE3-BC9D6AF9A6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CFEB-AF02-40E3-8259-CA649F845A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5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2FFC-E606-41DD-8390-39DDCA17AF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matmetod-popova.narod.ru/theme24/example2_4_1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Симплекс-метод линейного программирования</a:t>
            </a: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9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9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9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9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При этом каждый этап может включать несколько шагов, соответствующих тому или иному базисному решению. Но так как число базисных решений всегда ограниченно, то ограниченно и число шагов симплексного мет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76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Приведенная схема симплексного метода явно выражает его алгоритмический характер (характер четкого предписания о выполнении последовательных операций), что позволяет успешно программировать и реализовать этот метод на ЭВМ. </a:t>
            </a:r>
            <a:r>
              <a:rPr b="1" i="1" lang="ru-RU" sz="3200" spc="-1" strike="noStrike">
                <a:solidFill>
                  <a:srgbClr val="ffff99"/>
                </a:solidFill>
                <a:latin typeface="Times New Roman"/>
              </a:rPr>
              <a:t>Задачи же с небольшим числом переменных и ограничений могут быть решены симплексным методом вручную.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Не останавливаясь подробнее на сути алгоритма, опишем его вычислительную сторону. </a:t>
            </a:r>
            <a:r>
              <a:rPr b="1" i="1" lang="ru-RU" sz="3200" spc="-1" strike="noStrike">
                <a:solidFill>
                  <a:srgbClr val="ffff99"/>
                </a:solidFill>
                <a:latin typeface="Times New Roman"/>
              </a:rPr>
              <a:t>Вычисления по симплекс-методу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организуются в виде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симплекс-таблиц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, которые являются сокращенной записью задачи линейного программирования в канонической форме. Перед составлением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симплекс-таблицы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задача должна быть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преобразована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система ограничений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приведена к </a:t>
            </a:r>
            <a:r>
              <a:rPr b="1" lang="ru-RU" sz="3200" spc="-1" strike="noStrike">
                <a:solidFill>
                  <a:srgbClr val="ffff99"/>
                </a:solidFill>
                <a:latin typeface="Times New Roman"/>
              </a:rPr>
              <a:t>допустимому базисному виду</a:t>
            </a: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, c помощью которого из целевой функции должны быть исключены базисные переменные. Вопрос об этих предварительных преобразованиях мы рассмотрим ниже. Сейчас же будем считать, что они уже выполнены и задача имеет ви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2602080"/>
            <a:ext cx="896472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Здесь для определенности записи считается, что в качестве базисных переменных можно взять переменны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1, X2, ..., X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и что при этом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1, b2,..., b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≥ 0 (соответствующее базисное решение является опорным). Для составления симплекс-таблицы во всех равенствах в условии задачи члены, содержащие переменные, переносятся в левую часть, свободные оставляются справа, т.е. задача записывается в виде системы равенств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example2"/>
          <p:cNvPicPr/>
          <p:nvPr/>
        </p:nvPicPr>
        <p:blipFill>
          <a:blip r:embed="rId1"/>
          <a:stretch/>
        </p:blipFill>
        <p:spPr>
          <a:xfrm>
            <a:off x="2843280" y="189000"/>
            <a:ext cx="3672000" cy="243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349000"/>
            <a:ext cx="8964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Далее эта система оформляется в виде симплекс-табли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5" descr="example3"/>
          <p:cNvPicPr/>
          <p:nvPr/>
        </p:nvPicPr>
        <p:blipFill>
          <a:blip r:embed="rId1"/>
          <a:stretch/>
        </p:blipFill>
        <p:spPr>
          <a:xfrm>
            <a:off x="2627280" y="189000"/>
            <a:ext cx="3889440" cy="2239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example4"/>
          <p:cNvPicPr/>
          <p:nvPr/>
        </p:nvPicPr>
        <p:blipFill>
          <a:blip r:embed="rId2"/>
          <a:stretch/>
        </p:blipFill>
        <p:spPr>
          <a:xfrm>
            <a:off x="826920" y="2924280"/>
            <a:ext cx="7632720" cy="2565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54846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римечание.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азвания базисных переменных здесь взяты лишь для определенности записи и в реальной таблице могут оказаться други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0752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Tahoma"/>
              </a:rPr>
              <a:t>Порядок работы с симплекс таблице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ервая симплекс-таблица подвергается преобразованию, суть которого заключается в переходе к новому опорному реш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Алгоритм перехода к следующей таблице такой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сматривается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последняя строка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(индексная) таблицы и среди коэффициентов этой строки (исключая столбец свободных членов  ) выбирается наименьшее отрицательное число при отыскании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max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, либо наибольшее положительное при задачи на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min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. Если такового нет, то исходное базисное решение является оптимальным и данная таблица является последн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сматривается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столбец таблицы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, отвечающий выбранному отрицательному (положительному) коэффициенту в последней строке- ключевой столбец, и в этом столбце выбираются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положительные коэффициенты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. Если таковых нет, то целевая функция неограниченна на области допустимых значений переменных и задача </a:t>
            </a: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решений не имеет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среди выбранных коэффициентов столбца выбирается тот, для которого абсолютная величина отношения соответствующего свободного члена (находящегося в столбце свободных членов) к этому элементу минимальна. Этот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коэффициент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азываетс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разрешающи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а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рока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в которой он находитс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лючевой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дальнейшем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базисная переменная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отвечающая строке разрешающего элемента, должна быть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переведена в разряд свободных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а свободная переменная, отвечающая столбцу разрешающего элемента, вводится в число базисных. Строится новая таблица, содержащая новые названия базисных переменных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разделим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каждый элемент ключевой строк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(исключая столбец свободных членов) на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разрешающий элемент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и полученные значени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запишем в строку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с измененной базисной переменной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новой симплекс табл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рока разрешающего элемента делится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а этот элемент и полученная строка записывается в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новую таблицу на то же место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новой таблиц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вс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элементы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ключевого столбца =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кром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разрезающего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он всегда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равен 1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олбец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у которого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в ключевой строке имеется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в новой таблице будет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таким ж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рока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у которой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в ключевом столбце имеется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в новой таблице будет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такой ж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остальны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клетки новой таблицы записываетс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результат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преобразования элементо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арой таблицы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89647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результате получают новую симплекс-таблицу, отвечающую новому базисному решени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Теперь следует просмотреть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строку целевой функци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(индексную), если в ней нет отрицательных значений (в задачи на нахождение максимального значения), либо положительных (в задачи на нахождение минимального значения) кроме стоящего на месте   (свободного столбца), то значит, что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оптимальное решение получено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r>
              <a:rPr b="0" i="1" lang="ru-RU" sz="2800" spc="-1" strike="noStrike">
                <a:solidFill>
                  <a:srgbClr val="ffff99"/>
                </a:solidFill>
                <a:latin typeface="Times New Roman"/>
              </a:rPr>
              <a:t>В противном случае, переходим к новой симплекс таблице по выше описанному алгоритму.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Рассмотрим порядок решения задачи с помощью симплекс-таблиц на пример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picture"/>
          <p:cNvPicPr/>
          <p:nvPr/>
        </p:nvPicPr>
        <p:blipFill>
          <a:blip r:embed="rId1"/>
          <a:stretch/>
        </p:blipFill>
        <p:spPr>
          <a:xfrm>
            <a:off x="826920" y="115920"/>
            <a:ext cx="7201080" cy="166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Если в только что рассмотренной задаче первое же полученное без всякого труда базисное решение оказалось допустимым, то в ряде задач исходное базисное решение может иметь одну, две и т. д. отрицательных компонент, т. е. быть недопустимым. В таких задачах надо сначала применить первый этап симплексного метода, т. е. с его помощью найти какое-либо допустимое решение (или установить несовместность системы ограничений), а затем уже искать оптимальное решение (сделать вывод о противоречии условий задачи). При этом надо помнить, что на первом этапе применения симплексного метода, т. е. пока мы ищем допустимое базисное решение, линейная форма не рассматривается, а все преобразования относятся только к системе ограничений.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усть задача линейного программирования задана в канонической форме, состоящей из 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независимых уравнений с </a:t>
            </a:r>
            <a:r>
              <a:rPr b="1" i="1" lang="ru-RU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еременными (или же она приведена к такому виду после введения добавочных неотрицательных переменных)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ыберем группу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основных переменных, которые позволяют найти исходное базисное решение (не нарушая общности, можем считать, что основными переменными являются первые m переменных). Выразив эти основные переменные через неосновные, получим следующую систему ограничений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367080" y="2446200"/>
          <a:ext cx="1428840" cy="1965600"/>
        </p:xfrm>
        <a:graphic>
          <a:graphicData uri="http://schemas.openxmlformats.org/drawingml/2006/table">
            <a:tbl>
              <a:tblPr/>
              <a:tblGrid>
                <a:gridCol w="1428840"/>
              </a:tblGrid>
              <a:tr h="212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0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                  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5" descr="example13"/>
          <p:cNvPicPr/>
          <p:nvPr/>
        </p:nvPicPr>
        <p:blipFill>
          <a:blip r:embed="rId1"/>
          <a:stretch/>
        </p:blipFill>
        <p:spPr>
          <a:xfrm>
            <a:off x="2050920" y="2637000"/>
            <a:ext cx="4824720" cy="345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-181080" y="47628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 u="sng">
                <a:solidFill>
                  <a:srgbClr val="ffff99"/>
                </a:solidFill>
                <a:uFillTx/>
                <a:latin typeface="Times New Roman"/>
              </a:rPr>
              <a:t>Симплекс-метод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является основным 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линейном программировани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Решение задачи начинается с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рассмотрений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одной из вершин многогранника условий. Если исследуемая вершина не соответствует максимуму (минимуму), то переходят к соседней, увеличивая значение функции цели при решении задачи на максимум и уменьшая при решении задачи на минимум. Таким образом, переход от одной вершины к другой улучшает значение функции цели. Так как число вершин многогранника ограничено, то за конечное число шагов гарантируется нахождение оптимального значения или установление того факта, что задача неразреши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Этому способу разбиения переменных на основные и неосновные соответствует базисное решение (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k1 , k2, ... , km , 0, 0, ... ,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). Рассмотрим общий случай, когда это решение является недопустимым. От полученного базисного решения следует сначала перейти к какому-нибудь допустимому базисному решению. Причем не обязательно, чтобы этот переход осуществлялся сразу, за один шаг.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о предположению исходное базисное решение недопустимо. Следовательно, среди свободных членов системы ограничений (2.16) имеется хотя бы один отрицательный (число отрицательных свободных членов этой системы совпадает с числом отрицательных компонент исходного базисного решения). Пусть им является свободный член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го уравнени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ki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. е. основная переменна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в соответствующем базисном решении отрицательна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Для перехода к новому базисному решению необходимо: выбрать переменную, которую следует перевести из неосновных в основные; установить, какая основная переменная при этом перейдет в число неосновных переменных. При переводе неосновной переменной в основные ее значение, как правило, возрастает: вместо нуля в исходном базисном решении оно будет положительно в новом базисном решении (исключая случай вырождения). Вернемся к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му уравнению системы (2.16), содержащему отрицательный свободный член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k1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Оно показывает, что значение переменной xi растет при возрастании значений тех неосновных переменных, которые в этом уравнении имеют положительные коэффициенты. Отсюда следует, что в основные можно переводить те неосновные переменные, которые в уравнении системы (2.16) с отрицательным свободным членом имеют положительные коэффициенты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imes New Roman"/>
              </a:rPr>
              <a:t>Здесь может быть три исх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м уравнении системы (2.16) нет основных переменных с положительными коэффициентами, т. е. все коэффициенты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i, m+j 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(как и свободный член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k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) отрицательны. В этом случае система ограничений несовместна, она не имеет ни одного допустимого решения, а следовательно, и оптимальног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м уравнения имеется одна переменна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m+j 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коэффициент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при которой положителен. В этом случае именно эта переменная переводится в основны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в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-м уравнении имеется несколько переменных с положительными коэффициентами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i, m+j 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В этом случае в основные можно перевести любую из ни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Далее необходимо установить, какая основная переменная должна быть переведена в число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ых на место переводимой в основные. В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ые переводится та основная переменная, которая первой обратится в нуль при возрастании от нуля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ой переменной, переводимой в основные. Иными словами, пользуемся тем же правилом, которое было установлено ранее. Находятся отношения свободных членов к коэффициентам при переменной, переводимой в основные, из всех уравнений, где знаки свободных членов и указанных коэффициентов противоположны, берется абсолютная величина этих отношений и из них выбирается наименьшая (если в некоторых уравнениях знаки свободных членов и указанных коэффициентов совпадают или в каких-то уравнениях переменная, переводимая в основные, отсутствует, то указанное отношение считается равным )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Уравнение, из которого получено наименьшее отношение, выделяется. Выделенное уравнение и покажет, какая из основных переменных должна быть переведена в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ые. Выразив новые основные переменные через н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сновные, перейдем к следующему базисному решению.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Если выделенным окажется уравнение с отрицательным свободным членом, то в новом базисном решении число отрицательных компонент будет на единицу меньше, чем в исходном. Если же выделенным окажется уравнение с положительным (или равным нулю) свободным членом, то в новом базисном решении число отрицательных компонент сохранится таким же, каким оно было в исходном базисном решении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Таким образом, при переходе к новому базисному решению выгодно, чтобы выделенным оказалось уравнение с отрицательным свободным членом, и если есть возможность выбора, то предпочтение следует отдать такому обмену переменных, при котором выделенным оказывается уравнение с отрицательным свободным членом. </a:t>
            </a:r>
            <a:br>
              <a:rPr sz="2800"/>
            </a:b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Итак, мы получим новое, улучшенное базисное решение, которое ближе к области допустимых решений системы ограничений. Если оно недопустимое, то к нему следует применить ту же схему еще раз. В результате через конечное число шагов мы получим допустимое базисное решение. Как только будет найдено допустимое базисное решение, переходят ко второму этапу симплексного метода, сущность которого рассмотрена при решении задачи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imes New Roman"/>
                <a:hlinkClick r:id="rId1"/>
              </a:rPr>
              <a:t>примера 2.4.1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036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Этот метод является универсальным, применимым к любой задаче линейного программирования в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анонической форм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Система ограничений здесь - система линейных уравнений, в которой количество неизвестных больше количества уравнений. Если ранг системы равен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о мы можем выбрать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еизвестных, которые выразим через остальные неизвестные. Для определенности предположим, что выбраны первые, идущие подряд, неизвестны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1, X2, ..., X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Тогда наша система уравнений может быть записана ка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9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К такому виду можно привести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любую совместную систему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например, методом Гаусса. Правда, не всегда можно выражать через остальные первые r неизвестных (мы это сделали для определенности записи). Однако таки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еизвестных обязательно найдутся. Эти неизвестные (переменные) называются базисными, остальные свободным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5" name="Picture 5" descr="example1"/>
          <p:cNvPicPr/>
          <p:nvPr/>
        </p:nvPicPr>
        <p:blipFill>
          <a:blip r:embed="rId1"/>
          <a:stretch/>
        </p:blipFill>
        <p:spPr>
          <a:xfrm>
            <a:off x="2700360" y="260280"/>
            <a:ext cx="3673440" cy="181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42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Придавая определенные значения свободным переменным и вычисляя значения базисных (выраженных через свободные), мы будем получать различные решения нашей системы ограничений. Таким образом, можно получить любое ее решение. Нас будут интересовать особые решения, получаемые в случае, когда свободные переменные равны нулю. Такие решения называютс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базисными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их столько же, сколько различных базисных видов у данной системы ограничений. Базисное решение называется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допустимым базисным решение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или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порным решение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если в нем значения переменных неотрицательны. Если в качестве базисных взяты переменны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X1, X2, ..., Xr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о решени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{b1, b2,..., br, 0, ..., 0}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будет опорным при условии, что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b1, b2,..., br ≥ 0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Симплекс-метод основан на теореме, которая называется фундаментальной теоремой симплекс-метода. Среди оптимальных планов задачи линейного программирования в канонической форме обязательно есть опорное решение ее системы ограничений. Если оптимальный план задачи единственен, то он совпадает с некоторым опорным решением. Различных опорных решений системы ограничений конечное число. Поэтому решение задачи в канонической форме можно было бы искать перебором опорных решений и выбором среди них того, для которого значение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самое большое. Но, во-первых, все опорные решения неизвестны и их нужно находить, a, во-вторых, в реальных задачах этих решений очень много и прямой перебор вряд ли возможен. Симплекс-метод представляет собой некоторую процедуру направленного перебора опорных решений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Исходя из некоторого, найденного заранее опорного решения по определенному алгоритму симплекс-метода мы подсчитываем новое опорное решение, на котором значение целевой функции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не меньше, чем на старом. После ряда шагов мы приходим к опорному решению, которое является оптимальным план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6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Итак, симплексный метод вносит определенный порядок как при нахождении первого (исходного) базисного решения, так и при переходе к другим базисным решениям. Его идея состоит в следующем. Имея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 систему ограничений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приведенную к общему виду, то есть к системе m линейных уравнений с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переменными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(m &lt; n)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находят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любое базисное решение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этой системы, заботясь только о том, чтобы найти его как можно проще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72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ff99"/>
                </a:solidFill>
                <a:latin typeface="Times New Roman"/>
              </a:rPr>
              <a:t>Если первое же найденное базисное решение оказалось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допустимы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ffff99"/>
                </a:solidFill>
                <a:latin typeface="Times New Roman"/>
              </a:rPr>
              <a:t>то проверяют его на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оптимальность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Если оно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не оптимально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о, осуществляется переход к другому, обязательно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допустимому базисному решению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Симплексный метод гарантирует, что при этом новом решении линейная форма, если и не достигнет оптимума, то приблизится к нему. С новым допустимым базисным решением поступают так же, пока не находят решение, которое является оптимальны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Если первое найденное базисное решение окажется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недопустимы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то с помощью симплексного метода осуществляется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 переход к другим базисным решениям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, которые приближают нас к области допустимых решений, пока на каком-то шаге решения либо базисное решение окажется допустимым и к нему применяют алгоритм симплексного метода, либо мы убеждаемся в противоречивости системы ограничений.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Таким образом, применение симплексного метода распадается на два этапа: нахождение допустимого базисного решения системы ограничений или установление факта ее несовместности; нахождение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оптимального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99"/>
                </a:solidFill>
                <a:latin typeface="Times New Roman"/>
              </a:rPr>
              <a:t>решения.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77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14:37:10Z</dcterms:created>
  <dc:creator>Admin</dc:creator>
  <dc:description/>
  <dc:language>en-US</dc:language>
  <cp:lastModifiedBy>User</cp:lastModifiedBy>
  <dcterms:modified xsi:type="dcterms:W3CDTF">2011-05-31T14:59:35Z</dcterms:modified>
  <cp:revision>36</cp:revision>
  <dc:subject/>
  <dc:title>Симплекс-метод линейного программирования </dc:title>
</cp:coreProperties>
</file>