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B09D-24B9-4354-9131-188ED0C6FC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2F26-F184-41CF-A316-9BE26A6CFC79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F4F0-ED22-4961-A477-E184F6F6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E0DA-428B-42ED-8D9C-E51CDD26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66D8-9B0F-434D-A4AE-89BDFE60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B2EF-0FB1-442F-BF09-E835CE0B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4A94-A961-4B35-BE6F-AB3137C7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BC00-1DCF-4974-9309-F90D6FE8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0103-9CEF-4D7B-9914-E717920D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9E00-FE36-487E-AC95-2DAC7975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2756-F9CC-4792-96AF-D6BFF518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0BC2-77DA-42EE-A472-9555B9DF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D16B-E464-4150-BB09-6DD5B0B1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8DE3-D562-4CF8-969C-3F174591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4912-0624-467B-B9CE-01C5E253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D32E-7B3D-4211-AB49-02EE6B02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67B5-A113-4EDD-9B3F-2AA5D68F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1AEE-20FE-45DA-86D0-D1E4E91A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18B5-3F11-4D78-B9A7-6B1C2AF0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53C8-C107-4FB0-B78D-88A53EF7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446B-72F4-4EA4-88F8-CF8084CC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A399-9FCB-4A07-BA98-FD303F14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5DAD-DFC5-42B8-8E25-EB57FCB6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E5EF-11AC-47EF-B717-3A9D1EEB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94C2-A21B-4B17-880B-42679C98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BDFB-9187-43C7-9FB2-6A29B03B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10B5-EB4C-4FAC-B731-779E0BA8B1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399B-3A61-42EA-B250-55105ACF06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2438280"/>
            <a:ext cx="6400800" cy="19051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Итоги 1 и 2 триместров 2012-2013 учебного год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343400"/>
            <a:ext cx="603252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 клас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лассный руководитель: Бокова Н.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личество учащихс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85800" y="2057400"/>
          <a:ext cx="7696080" cy="2987640"/>
        </p:xfrm>
        <a:graphic>
          <a:graphicData uri="http://schemas.openxmlformats.org/drawingml/2006/table">
            <a:tbl>
              <a:tblPr/>
              <a:tblGrid>
                <a:gridCol w="3809880"/>
                <a:gridCol w="3886200"/>
              </a:tblGrid>
              <a:tr h="106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тримес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альчики-дево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 тримес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альчики-дево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-1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ыбыли: Дашпылов Б-Ц.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велин Ю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-1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спеваем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 тримест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100%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 тримест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100%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чество зна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 тримест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43%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 тримест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omic Sans MS"/>
              </a:rPr>
              <a:t>52%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тлични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 тримест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Машеева Алин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Цыбенова Дарим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 тримест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ашеева Алин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ыбенова Дарим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люснина Алес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отопопов Саш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Хорошист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 тримест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адмаева А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окова Лиз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ондокова Сарю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удрявцева Жен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люснина Але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топопов Саш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Федосеева Окса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 тримест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адмаева А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окова Лиз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утаков Саш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ладышев Сереж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ребе Жен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ондокова Сарю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сквитина Тан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 одной «3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 тримест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ладышев Сережа         (бурятский язык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ребе Женя (математика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сквитина Таня (английский язык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атаренко Максим (английский язык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фонов Юра (английский язык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 тримест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удрявцева Женя (математика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авельева Настя (математика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Результаты участия в конкурсах, соревнования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 место –День здоровь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 место –Осенний фестивал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 место - математический КВ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 место – конкурс стенгазет (неделя точных наук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 место - конкурс песен на иностранном язык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 место – конкурс песен на бурятском язык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 место –конкурс стенгазет (неделя иностранных языков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 место – исторический КВН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3-28T11:53:4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