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798C-DC14-4E35-803D-52FD41F8A2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9C67-527C-4848-8469-5A5B853DB323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1649-8662-4C18-95DD-649E1C4A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0AD-65CE-4C8B-A9FB-7227F0FE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8CE-E2A7-4744-AE55-B3071DCB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2B7-27C7-483B-B71E-570A592B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5CF3-AFCA-4405-AC73-DE31C94D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DBB6-1434-429D-BB08-9150DA6F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1452-F4FA-4AF6-A92C-A2C13AC9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F408-9806-433E-937C-92A48645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4172-38B0-4737-9BCB-B53A5EE9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BDEF-C711-4DFC-924A-E1D326CD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AB0E-5BED-49B0-9195-96953278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30BF-45C8-481A-BFD5-9B4BC8F7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8F5D-184F-4FA8-B4E4-E612ED55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B18B-F228-4B00-8791-740C840D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D5A4-0CC5-4F79-A861-8FD31AEB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80E7-0795-4020-AC5E-392FF238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42F5-3B0D-462A-BE86-D541600A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0E1A-C19F-4FD3-B044-E49E4115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C7A-E2E8-483C-BA7E-4C71344A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0DAA-ADCE-4B45-8446-C9DE4D3F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82B3-284F-46D6-B804-B261B533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F93F-9A4F-4C0E-9D76-FB3B96C5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350-7497-4761-B1D6-FB8201D8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EDC7-6E8C-44BD-BB4A-0C443F55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041B-11EC-4ACE-B744-2B3D2227A7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D2E1-835F-49AF-909F-2D7A12D509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438280"/>
            <a:ext cx="6400800" cy="1905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Итоги 1 и 2 триместров 2012-2013 учебного год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343400"/>
            <a:ext cx="603252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 клас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лассный руководитель: Бокова Н.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личество учащихс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85800" y="2057400"/>
          <a:ext cx="7696080" cy="2987640"/>
        </p:xfrm>
        <a:graphic>
          <a:graphicData uri="http://schemas.openxmlformats.org/drawingml/2006/table">
            <a:tbl>
              <a:tblPr/>
              <a:tblGrid>
                <a:gridCol w="3809880"/>
                <a:gridCol w="3886200"/>
              </a:tblGrid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тримес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альчики-дев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тримес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альчики-дев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-1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ыбыли: Дашпылов Б-Ц.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велин 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-1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спеваем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 тримес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100%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 тримес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100%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чество зна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 тримес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43%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 тримес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52%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тличн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 тримес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Машеева Алин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Цыбенова Дарим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 тримес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ашеева Али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ыбенова Дарим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люснина Алес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отопопов Саш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Хорошис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 тримес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адмаева А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окова Лиз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ндокова Сарю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удрявцева Жен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люснина Але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топопов Саш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Федосеева Окса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 тримес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адмаева А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окова Лиз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утаков Саш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ладышев Сереж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ребе Жен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ндокова Сарю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сквитина Тан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 одной «3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 тримес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ладышев Сережа         (бурятский язык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ребе Женя (математик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сквитина Таня (английский язык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таренко Максим (английский язык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фонов Юра (английский язык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 тримес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удрявцева Женя (математик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вельева Настя (математик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Результаты участия в конкурсах, соревнования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место –День здоровь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место –Осенний фестивал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 место - математический КВ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 место – конкурс стенгазет (неделя точных наук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 место - конкурс песен на иностранном язык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 место – конкурс песен на бурятском язык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место –конкурс стенгазет (неделя иностранных языков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 место – исторический КВН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28T11:53:4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