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F72-A9AD-4EA9-A9F1-9D2235A5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748B-9E0C-44E9-98E4-BF460507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12CA-614B-44E3-B4B2-3053AC4A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DF3-0301-4AF7-9E32-FDDF9483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F9E3-23B2-4698-8856-CD2CFB27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D452-4025-4872-B2FB-385B72D1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25EA-5C4E-492C-BC54-2D248E2C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D046-E112-425D-89E4-DE40AA09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E348-BB50-4CF9-A022-11DD19F0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384C-EC5F-424B-86D6-D148B95D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7CAD-217B-499F-87C6-9EB33942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604-9154-4AE5-A7E0-65582877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A8A5-9B32-43ED-AB9E-ADA5C801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58BD-E2CF-4861-95D3-C123CC6A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FFF0-95CF-4605-BC70-23CF0BCE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C6DB-FE63-4CDB-8635-62A6B46C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BEF9-5056-414B-ADF4-19F777B5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65384-0740-4BF3-88A4-E8E361A35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DC7EC-7C40-41B8-8857-A680229F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6450A-21BF-4D29-9DFB-5402DF73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9A8C6-D4B1-45CC-8E12-85715E21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5A9EB-8BCC-4092-A691-112E1BE8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FCF6-D7A7-4353-84A0-4CA2BFF7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68784-609F-401B-BB7B-E2E1BF27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C73F8-1966-41CE-B8BC-D92C1664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C4A99-56B7-4430-A4DD-449100C1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5801C-77AC-4AB1-9164-E0AD9D77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809DD-BCDE-4ABF-9215-48083F3A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4FFE2-BC7C-4172-9829-2BA7832F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9FEFE-4BAA-474F-B5D6-A86E4936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75297-ECAD-4DE5-A809-162EF3F5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2B983-F1F3-4847-B766-DA6D0EBC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C43F9-219C-4D1B-9E4D-50FE882A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A452-39D6-487F-96CA-8C0C4B46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B7AE3-F48E-41E4-B905-AD8FA08C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C96C3-737B-434A-82EB-09DBC4D7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0590B-836A-4A3E-9BB9-D083DF34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AD878-36A5-4CBB-A8D1-146A4C92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F7405-BD92-452C-A7EB-C4E8F378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BC4AC-008A-452A-BF2C-61FEDE12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1F72A-4FFA-4EAE-BE26-8268CA05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BE696-114B-4D81-B35B-3BBF8886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91A7D-456B-4CA1-A3FC-A10138ED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1B3DD-8A63-424F-BF87-A251CC02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EF66-203D-4EBB-8743-D0E42D55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AD284-A389-4C5C-B3DB-CC524581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4DDFA-49DE-4DE6-BA71-DF3A173E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FE1DB-A44A-4283-9DF1-F61B3DD4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50632-859D-4A15-90B0-A297DE92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E2393-3B60-4B04-AA0E-803970B5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F3CC5-2639-4775-BA82-CE64D932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8259F-7CA9-4E1B-B6D6-EE226F8C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1C0B5-26E9-441A-BAFA-01783D95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8C7D2-E050-41E5-9722-01CCEEED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16637-124F-4816-B565-C717BCA4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A18-430F-4205-A39D-8F9FF314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83199-04B6-4E82-A821-020A1A6D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D3B5-6277-4602-B6F2-D83AB014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F14D-4C20-46F0-A641-C00A8644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74DE-628E-4B81-9D4E-DB24699D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C893-C52E-466F-83AF-76237D465F6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056F-1675-4838-A399-EE5248C2550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A9A1-9A75-44C4-95B7-A11E82BF91F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AF0D-AB97-4134-BDE9-3FE0C241E08E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71F9-7937-43C2-BBDB-2CE91CD6D31E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530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600" y="5072040"/>
            <a:ext cx="6400800" cy="566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Кощеева Т.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7058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8091360" cy="52531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3"/>
          <p:cNvSpPr/>
          <p:nvPr/>
        </p:nvSpPr>
        <p:spPr>
          <a:xfrm>
            <a:off x="785880" y="28584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рос № 2 на выборку: Мосты, построенные до 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395280" y="507960"/>
            <a:ext cx="820908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142920" y="1000080"/>
            <a:ext cx="8093160" cy="5286600"/>
          </a:xfrm>
          <a:prstGeom prst="rect">
            <a:avLst/>
          </a:prstGeom>
          <a:ln w="0">
            <a:noFill/>
          </a:ln>
        </p:spPr>
      </p:pic>
      <p:sp>
        <p:nvSpPr>
          <p:cNvPr id="248" name="TextBox 2"/>
          <p:cNvSpPr/>
          <p:nvPr/>
        </p:nvSpPr>
        <p:spPr>
          <a:xfrm>
            <a:off x="428760" y="285840"/>
            <a:ext cx="764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рос № 3 на выборку: Мосты в США и длина пролета которых больше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71280" y="85716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142920" y="928800"/>
            <a:ext cx="8424720" cy="58528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"/>
          <p:cNvSpPr/>
          <p:nvPr/>
        </p:nvSpPr>
        <p:spPr>
          <a:xfrm>
            <a:off x="428760" y="214200"/>
            <a:ext cx="764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ос № 4 на выборку: Мосты В Японии или построенные раньше 19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395280" y="82440"/>
            <a:ext cx="820908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142920" y="928800"/>
            <a:ext cx="8542440" cy="55720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357120" y="21420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ие отчетов с помощью Мастера отч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4"/>
          <p:cNvSpPr/>
          <p:nvPr/>
        </p:nvSpPr>
        <p:spPr>
          <a:xfrm>
            <a:off x="1928880" y="2928960"/>
            <a:ext cx="1928880" cy="144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трелка вправо 5"/>
          <p:cNvSpPr/>
          <p:nvPr/>
        </p:nvSpPr>
        <p:spPr>
          <a:xfrm>
            <a:off x="3214800" y="4286160"/>
            <a:ext cx="785880" cy="21456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7"/>
          <p:cNvSpPr/>
          <p:nvPr/>
        </p:nvSpPr>
        <p:spPr>
          <a:xfrm>
            <a:off x="6858000" y="6286680"/>
            <a:ext cx="785880" cy="144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252360" y="638280"/>
            <a:ext cx="8640720" cy="5581440"/>
          </a:xfrm>
          <a:prstGeom prst="rect">
            <a:avLst/>
          </a:prstGeom>
          <a:ln w="0">
            <a:noFill/>
          </a:ln>
        </p:spPr>
      </p:pic>
      <p:sp>
        <p:nvSpPr>
          <p:cNvPr id="259" name="Стрелка вправо 2"/>
          <p:cNvSpPr/>
          <p:nvPr/>
        </p:nvSpPr>
        <p:spPr>
          <a:xfrm>
            <a:off x="5143680" y="4643280"/>
            <a:ext cx="78552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353880" y="623880"/>
            <a:ext cx="8437680" cy="561024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ая соединительная линия 3"/>
          <p:cNvSpPr/>
          <p:nvPr/>
        </p:nvSpPr>
        <p:spPr>
          <a:xfrm>
            <a:off x="7000920" y="5929200"/>
            <a:ext cx="642960" cy="180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8034120" cy="58528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857160" y="2142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ть Б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382680" y="590400"/>
            <a:ext cx="8380440" cy="567720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ая соединительная линия 3"/>
          <p:cNvSpPr/>
          <p:nvPr/>
        </p:nvSpPr>
        <p:spPr>
          <a:xfrm>
            <a:off x="6072120" y="3714840"/>
            <a:ext cx="2571840" cy="144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301680" y="638280"/>
            <a:ext cx="8542440" cy="558144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ая соединительная линия 3"/>
          <p:cNvSpPr/>
          <p:nvPr/>
        </p:nvSpPr>
        <p:spPr>
          <a:xfrm>
            <a:off x="6500880" y="3786120"/>
            <a:ext cx="1214280" cy="180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6"/>
          <p:cNvSpPr/>
          <p:nvPr/>
        </p:nvSpPr>
        <p:spPr>
          <a:xfrm>
            <a:off x="7786800" y="3571920"/>
            <a:ext cx="785880" cy="144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8"/>
          <p:cNvSpPr/>
          <p:nvPr/>
        </p:nvSpPr>
        <p:spPr>
          <a:xfrm>
            <a:off x="7143840" y="6000840"/>
            <a:ext cx="642960" cy="144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314280" y="704880"/>
            <a:ext cx="8516880" cy="544824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ая соединительная линия 3"/>
          <p:cNvSpPr/>
          <p:nvPr/>
        </p:nvSpPr>
        <p:spPr>
          <a:xfrm>
            <a:off x="7072200" y="6000840"/>
            <a:ext cx="785880" cy="144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304920" y="657360"/>
            <a:ext cx="8535960" cy="554328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ая соединительная линия 3"/>
          <p:cNvSpPr/>
          <p:nvPr/>
        </p:nvSpPr>
        <p:spPr>
          <a:xfrm>
            <a:off x="5643720" y="3429000"/>
            <a:ext cx="2428560" cy="1440"/>
          </a:xfrm>
          <a:prstGeom prst="line">
            <a:avLst/>
          </a:prstGeom>
          <a:ln w="763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5"/>
          <p:cNvSpPr/>
          <p:nvPr/>
        </p:nvSpPr>
        <p:spPr>
          <a:xfrm>
            <a:off x="7786800" y="6000840"/>
            <a:ext cx="857160" cy="144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11692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C:\Users\Пользователь\Desktop\БД 2010 офис.bmp"/>
          <p:cNvPicPr/>
          <p:nvPr/>
        </p:nvPicPr>
        <p:blipFill>
          <a:blip r:embed="rId1"/>
          <a:srcRect l="0" t="-367" r="28587" b="371"/>
          <a:stretch/>
        </p:blipFill>
        <p:spPr>
          <a:xfrm>
            <a:off x="142920" y="500040"/>
            <a:ext cx="8610480" cy="63579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2"/>
          <p:cNvSpPr/>
          <p:nvPr/>
        </p:nvSpPr>
        <p:spPr>
          <a:xfrm>
            <a:off x="571680" y="14292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7869240" cy="53118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857160" y="214200"/>
            <a:ext cx="65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РАТЬ Объекты - За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трелка влево 3"/>
          <p:cNvSpPr/>
          <p:nvPr/>
        </p:nvSpPr>
        <p:spPr>
          <a:xfrm>
            <a:off x="4643280" y="2000160"/>
            <a:ext cx="1357560" cy="57168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трелка вправо 4"/>
          <p:cNvSpPr/>
          <p:nvPr/>
        </p:nvSpPr>
        <p:spPr>
          <a:xfrm>
            <a:off x="214200" y="271476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7707240" cy="6164280"/>
          </a:xfrm>
          <a:prstGeom prst="rect">
            <a:avLst/>
          </a:prstGeom>
          <a:ln w="0">
            <a:noFill/>
          </a:ln>
        </p:spPr>
      </p:pic>
      <p:sp>
        <p:nvSpPr>
          <p:cNvPr id="229" name="Стрелка влево 3"/>
          <p:cNvSpPr/>
          <p:nvPr/>
        </p:nvSpPr>
        <p:spPr>
          <a:xfrm>
            <a:off x="5429160" y="2357280"/>
            <a:ext cx="785880" cy="14292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трелка влево 4"/>
          <p:cNvSpPr/>
          <p:nvPr/>
        </p:nvSpPr>
        <p:spPr>
          <a:xfrm>
            <a:off x="5429160" y="2571840"/>
            <a:ext cx="785880" cy="14292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142920" y="571680"/>
            <a:ext cx="8713800" cy="5865480"/>
          </a:xfrm>
          <a:prstGeom prst="rect">
            <a:avLst/>
          </a:prstGeom>
          <a:ln w="0">
            <a:noFill/>
          </a:ln>
        </p:spPr>
      </p:pic>
      <p:cxnSp>
        <p:nvCxnSpPr>
          <p:cNvPr id="232" name="Прямая со стрелкой 3"/>
          <p:cNvCxnSpPr/>
          <p:nvPr/>
        </p:nvCxnSpPr>
        <p:spPr>
          <a:xfrm>
            <a:off x="1428840" y="2643120"/>
            <a:ext cx="1357920" cy="185832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33" name="Прямая со стрелкой 4"/>
          <p:cNvCxnSpPr/>
          <p:nvPr/>
        </p:nvCxnSpPr>
        <p:spPr>
          <a:xfrm>
            <a:off x="1927800" y="2714400"/>
            <a:ext cx="1429560" cy="1786680"/>
          </a:xfrm>
          <a:prstGeom prst="straightConnector1">
            <a:avLst/>
          </a:prstGeom>
          <a:ln w="7632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234" name="TextBox 8"/>
          <p:cNvSpPr/>
          <p:nvPr/>
        </p:nvSpPr>
        <p:spPr>
          <a:xfrm>
            <a:off x="3143160" y="2857680"/>
            <a:ext cx="378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ойной щелчок ЛВ кнопкой мыши по каждому полю 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142920" y="571680"/>
            <a:ext cx="7708680" cy="61480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"/>
          <p:cNvSpPr/>
          <p:nvPr/>
        </p:nvSpPr>
        <p:spPr>
          <a:xfrm>
            <a:off x="500040" y="142920"/>
            <a:ext cx="742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рос № 1 на выборку: Мосты, находящиеся в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4"/>
          <p:cNvSpPr/>
          <p:nvPr/>
        </p:nvSpPr>
        <p:spPr>
          <a:xfrm>
            <a:off x="2928960" y="4857840"/>
            <a:ext cx="857160" cy="1440"/>
          </a:xfrm>
          <a:prstGeom prst="line">
            <a:avLst/>
          </a:prstGeom>
          <a:ln w="5724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трелка вниз 6"/>
          <p:cNvSpPr/>
          <p:nvPr/>
        </p:nvSpPr>
        <p:spPr>
          <a:xfrm flipH="1">
            <a:off x="3286080" y="3429000"/>
            <a:ext cx="163440" cy="57168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79930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142920" y="428760"/>
            <a:ext cx="84186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250920" y="658800"/>
            <a:ext cx="8259840" cy="56498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2"/>
          <p:cNvSpPr/>
          <p:nvPr/>
        </p:nvSpPr>
        <p:spPr>
          <a:xfrm>
            <a:off x="785880" y="214200"/>
            <a:ext cx="64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хранить за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5:22:28Z</dcterms:created>
  <dc:creator>сош 4</dc:creator>
  <dc:description/>
  <dc:language>en-US</dc:language>
  <cp:lastModifiedBy>Тамара</cp:lastModifiedBy>
  <dcterms:modified xsi:type="dcterms:W3CDTF">2012-12-07T19:42:33Z</dcterms:modified>
  <cp:revision>6</cp:revision>
  <dc:subject/>
  <dc:title>Слайд 1</dc:title>
</cp:coreProperties>
</file>