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CEE-1979-4B57-8830-EADCFB1D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F63-3A47-4EAE-9C31-5BD4048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100-E96F-43CB-8CC8-173A94F2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7CB-A144-4190-B2A0-9033BA2E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07C3-0854-47CA-91B7-46C9250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A41-A933-4CA8-9A14-395502AA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026-2FB8-4222-B846-4AE8C5C7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0534-2549-4296-A559-F7B9E26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8868-0CFA-4A34-96A0-F23E53F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296-2FC8-491D-AD08-292868F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DCD-5EFB-4D24-B77F-8C70DE7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B72-4E01-4737-A441-B6DDB3B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EF8-321C-4204-BBC0-82E4AD3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E46A-0A74-41E3-AE75-B2B205B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1A9B-3CCF-4357-955D-E752205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FC7-845D-451D-B65B-D6115998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40A4-72BC-4640-9FEC-FB671FB5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1D0C-BDD5-4BF0-8D7F-ED4B02E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4D39-F0C1-4AEC-8007-FA061F3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715B-1B94-4296-9A24-1A09FFF3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7E9D-1794-4FAB-ABDE-6925ABBB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E43F-74BB-4CEA-9CBB-10E1EAD3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DA1-9F60-4757-9346-E1487B9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5EED-7A3A-4B5D-AE55-9E92700E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4381-AE84-42AF-8D5E-2B31BCF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9126-5D90-4851-A53D-67B6B6C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1BE2-876F-4965-87D7-CADDDDE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CF12-8B57-4C9E-B58D-D94D850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66D9-922F-4AC2-8041-17CD2032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F1EA-46A5-4E02-B199-41FB8D97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AF2A-D372-4F95-9F89-C9B91B40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FD8E-8E66-48CA-ACD4-26237A16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A83E-8CEF-4440-9616-BD2E6F41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73C-32EF-4862-BAE5-5F31E0A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04D3-F34B-4073-AFA0-BCFEBB5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DD8F-0E39-49BD-8535-6383D73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67F4-55E9-4B95-94F9-5B92D76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ACA5-C66F-48FF-BAC0-0541621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827E-44F1-4C47-9B81-7CBEB36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84B9-08D3-4D9D-BF7B-B5E5916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6B18-AA1F-4888-8C53-A2A24DC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A07C-4D98-4C64-AC7C-54906398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1812-AE19-40B3-BCA8-DE20F529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F1E3-D54D-44E0-8EAA-063779BC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389-DFE2-41FA-B50A-6CF52ED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453D-437F-415C-A9DE-D2004A3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E38E-3C50-4B9D-B28E-0C1F26B8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DB80-3A4B-47C4-913B-CEF27F5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5C46-DBA2-4ADB-9C28-9D2D56F2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E6B4-0A17-47E3-A79A-3FB6E51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971B-3AA0-4EF9-BF56-33D3889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C5ADB-AF52-46F8-B7C6-39B84AB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772E-B03B-4AB6-8C6C-FB36683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5679A-3B96-4985-AD37-7AE3F71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C69B-CC10-4F38-86B0-2A0FEDBB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4EF-AC5F-4E03-95F3-1603BF31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8A3E5-9C20-453F-939A-DF3329BB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F41-C5A5-488A-8A0D-E5A5E5B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BE5-4313-4628-8796-1CC21E7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D37-E30C-4D28-8F89-9F213ED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60C-4870-4AFB-AB66-802485DA0D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1C48-5DEF-44C2-9D9E-C9A4CF080E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A05-1AFD-4F67-A3C6-7719B5A6BD7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D9D-69A1-4BB8-A0BA-673C573DF37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6E05-933E-4C02-AD8D-A90FFB4A17D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Кощеева Т.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058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091360" cy="5253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"/>
          <p:cNvSpPr/>
          <p:nvPr/>
        </p:nvSpPr>
        <p:spPr>
          <a:xfrm>
            <a:off x="785880" y="28584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2 на выборку: Мосты, построенные до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95280" y="507960"/>
            <a:ext cx="820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093160" cy="5286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428760" y="2858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3 на выборку: Мосты в США и длина пролета которых больше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71280" y="8571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424720" cy="58528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428760" y="21420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 № 4 на выборку: Мосты В Японии или построенные раньше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395280" y="82440"/>
            <a:ext cx="82090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542440" cy="55720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357120" y="21420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отчетов с помощью Мастера от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4"/>
          <p:cNvSpPr/>
          <p:nvPr/>
        </p:nvSpPr>
        <p:spPr>
          <a:xfrm>
            <a:off x="1928880" y="2928960"/>
            <a:ext cx="1928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5"/>
          <p:cNvSpPr/>
          <p:nvPr/>
        </p:nvSpPr>
        <p:spPr>
          <a:xfrm>
            <a:off x="3214800" y="428616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6858000" y="628668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52360" y="638280"/>
            <a:ext cx="8640720" cy="5581440"/>
          </a:xfrm>
          <a:prstGeom prst="rect">
            <a:avLst/>
          </a:prstGeom>
          <a:ln w="0">
            <a:noFill/>
          </a:ln>
        </p:spPr>
      </p:pic>
      <p:sp>
        <p:nvSpPr>
          <p:cNvPr id="259" name="Стрелка вправо 2"/>
          <p:cNvSpPr/>
          <p:nvPr/>
        </p:nvSpPr>
        <p:spPr>
          <a:xfrm>
            <a:off x="5143680" y="4643280"/>
            <a:ext cx="78552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53880" y="623880"/>
            <a:ext cx="8437680" cy="56102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ая соединительная линия 3"/>
          <p:cNvSpPr/>
          <p:nvPr/>
        </p:nvSpPr>
        <p:spPr>
          <a:xfrm>
            <a:off x="7000920" y="5929200"/>
            <a:ext cx="642960" cy="180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034120" cy="5852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857160" y="214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ть Б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82680" y="590400"/>
            <a:ext cx="8380440" cy="56772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ая соединительная линия 3"/>
          <p:cNvSpPr/>
          <p:nvPr/>
        </p:nvSpPr>
        <p:spPr>
          <a:xfrm>
            <a:off x="6072120" y="3714840"/>
            <a:ext cx="257184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01680" y="638280"/>
            <a:ext cx="8542440" cy="5581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3"/>
          <p:cNvSpPr/>
          <p:nvPr/>
        </p:nvSpPr>
        <p:spPr>
          <a:xfrm>
            <a:off x="6500880" y="3786120"/>
            <a:ext cx="1214280" cy="180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"/>
          <p:cNvSpPr/>
          <p:nvPr/>
        </p:nvSpPr>
        <p:spPr>
          <a:xfrm>
            <a:off x="7786800" y="357192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8"/>
          <p:cNvSpPr/>
          <p:nvPr/>
        </p:nvSpPr>
        <p:spPr>
          <a:xfrm>
            <a:off x="7143840" y="6000840"/>
            <a:ext cx="6429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14280" y="704880"/>
            <a:ext cx="8516880" cy="54482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ая соединительная линия 3"/>
          <p:cNvSpPr/>
          <p:nvPr/>
        </p:nvSpPr>
        <p:spPr>
          <a:xfrm>
            <a:off x="7072200" y="600084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04920" y="657360"/>
            <a:ext cx="8535960" cy="55432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3"/>
          <p:cNvSpPr/>
          <p:nvPr/>
        </p:nvSpPr>
        <p:spPr>
          <a:xfrm>
            <a:off x="5643720" y="3429000"/>
            <a:ext cx="2428560" cy="1440"/>
          </a:xfrm>
          <a:prstGeom prst="line">
            <a:avLst/>
          </a:prstGeom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"/>
          <p:cNvSpPr/>
          <p:nvPr/>
        </p:nvSpPr>
        <p:spPr>
          <a:xfrm>
            <a:off x="7786800" y="6000840"/>
            <a:ext cx="8571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1169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C:\Users\Пользователь\Desktop\БД 2010 офис.bmp"/>
          <p:cNvPicPr/>
          <p:nvPr/>
        </p:nvPicPr>
        <p:blipFill>
          <a:blip r:embed="rId1"/>
          <a:srcRect l="0" t="-367" r="28587" b="371"/>
          <a:stretch/>
        </p:blipFill>
        <p:spPr>
          <a:xfrm>
            <a:off x="142920" y="500040"/>
            <a:ext cx="861048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71680" y="1429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7869240" cy="5311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857160" y="21420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Объекты - За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лево 3"/>
          <p:cNvSpPr/>
          <p:nvPr/>
        </p:nvSpPr>
        <p:spPr>
          <a:xfrm>
            <a:off x="4643280" y="2000160"/>
            <a:ext cx="1357560" cy="57168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право 4"/>
          <p:cNvSpPr/>
          <p:nvPr/>
        </p:nvSpPr>
        <p:spPr>
          <a:xfrm>
            <a:off x="214200" y="2714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7707240" cy="616428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лево 3"/>
          <p:cNvSpPr/>
          <p:nvPr/>
        </p:nvSpPr>
        <p:spPr>
          <a:xfrm>
            <a:off x="5429160" y="2357280"/>
            <a:ext cx="785880" cy="1429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лево 4"/>
          <p:cNvSpPr/>
          <p:nvPr/>
        </p:nvSpPr>
        <p:spPr>
          <a:xfrm>
            <a:off x="5429160" y="2571840"/>
            <a:ext cx="785880" cy="1429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8713800" cy="5865480"/>
          </a:xfrm>
          <a:prstGeom prst="rect">
            <a:avLst/>
          </a:prstGeom>
          <a:ln w="0">
            <a:noFill/>
          </a:ln>
        </p:spPr>
      </p:pic>
      <p:cxnSp>
        <p:nvCxnSpPr>
          <p:cNvPr id="232" name="Прямая со стрелкой 3"/>
          <p:cNvCxnSpPr/>
          <p:nvPr/>
        </p:nvCxnSpPr>
        <p:spPr>
          <a:xfrm>
            <a:off x="1428840" y="2643120"/>
            <a:ext cx="1357920" cy="18583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3" name="Прямая со стрелкой 4"/>
          <p:cNvCxnSpPr/>
          <p:nvPr/>
        </p:nvCxnSpPr>
        <p:spPr>
          <a:xfrm>
            <a:off x="1927800" y="2714400"/>
            <a:ext cx="1429560" cy="178668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34" name="TextBox 8"/>
          <p:cNvSpPr/>
          <p:nvPr/>
        </p:nvSpPr>
        <p:spPr>
          <a:xfrm>
            <a:off x="3143160" y="285768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йной щелчок ЛВ кнопкой мыши по каждому полю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7708680" cy="6148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500040" y="1429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1 на выборку: Мосты, находящиеся в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4"/>
          <p:cNvSpPr/>
          <p:nvPr/>
        </p:nvSpPr>
        <p:spPr>
          <a:xfrm>
            <a:off x="2928960" y="4857840"/>
            <a:ext cx="8571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низ 6"/>
          <p:cNvSpPr/>
          <p:nvPr/>
        </p:nvSpPr>
        <p:spPr>
          <a:xfrm flipH="1">
            <a:off x="3286080" y="3429000"/>
            <a:ext cx="163440" cy="57168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930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418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658800"/>
            <a:ext cx="8259840" cy="5649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785880" y="2142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ить за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28Z</dcterms:created>
  <dc:creator>сош 4</dc:creator>
  <dc:description/>
  <dc:language>en-US</dc:language>
  <cp:lastModifiedBy>Тамара</cp:lastModifiedBy>
  <dcterms:modified xsi:type="dcterms:W3CDTF">2012-12-07T19:42:33Z</dcterms:modified>
  <cp:revision>6</cp:revision>
  <dc:subject/>
  <dc:title>Слайд 1</dc:title>
</cp:coreProperties>
</file>