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038-242B-4208-BCA0-1184CCFF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4BB-E8C2-4C3F-BA9B-440B910A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83F-1DC9-4D8B-A2A9-1837842E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947-BAC2-47CF-BBC5-C0CFB6AE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F73-A1F5-49B1-A732-70815B23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072-B853-47F9-BEE8-35694C5B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FE2-1A11-47BF-87BD-8785CB12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EE38-4756-4195-9A54-E41499A6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D80-2734-47CC-ABAA-1A289D6F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997-562F-45A0-8FB8-5F9AA8B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FFC-39F6-4225-8844-D2FC804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45E-7DCE-4720-B7C6-C854D2B9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7C4F1-6B5A-4C0E-9FD6-360DC9D4E1E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БОУ МСК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501560"/>
            <a:ext cx="907092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Внутрен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80"/>
                </a:solidFill>
                <a:latin typeface="Arial"/>
              </a:rPr>
              <a:t>Мурманской обл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-6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географии – Гапенкова Л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Минькино. 2013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5. «Держать на румбе 2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3280" y="1245960"/>
            <a:ext cx="906624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ыберите верное утвержд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е большое озеро области – Иманд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2. Озеро вытянуто  с запада на вост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 Воды Имандры отличаются большой прозрачностью – до 11 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4. Озеро Имандра – бессточное  озе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5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зеро впадают многочисленные реки, ручьи и ручейки, но из озера вытекает одна река Нива, несущая воды в Кандалакшский зали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Проверь себя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ьные ответы: 1, 3,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Если 3 ответа правильных, то отметка «5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2 – «4»;  1 – «3», 0- «2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6. «Держать на румбе 28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Водохранилищ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это искусственные озёра, создаются на реках для накопления воды и дальнейшего использования на предприятиях, в сельском хозяйстве и водоснабжения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1, 6, 2, 3, 5, 8, 7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сли всё верно, то отметка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80"/>
                </a:solidFill>
                <a:uFillTx/>
                <a:latin typeface="Times New Roman"/>
                <a:ea typeface="Times New Roman"/>
              </a:rPr>
              <a:t>«Держать на румбе 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16000" y="1768320"/>
          <a:ext cx="9647280" cy="2309760"/>
        </p:xfrm>
        <a:graphic>
          <a:graphicData uri="http://schemas.openxmlformats.org/drawingml/2006/table">
            <a:tbl>
              <a:tblPr/>
              <a:tblGrid>
                <a:gridCol w="942840"/>
                <a:gridCol w="1165320"/>
                <a:gridCol w="1198440"/>
                <a:gridCol w="1165320"/>
                <a:gridCol w="1198440"/>
                <a:gridCol w="1262160"/>
                <a:gridCol w="1214280"/>
                <a:gridCol w="1500480"/>
              </a:tblGrid>
              <a:tr h="692280">
                <a:tc>
                  <a:txBody>
                    <a:bodyPr lIns="90000" rIns="90000" tIns="20916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ие №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ая работа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ая работа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повторить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1680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о повторить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647640" y="5543640"/>
            <a:ext cx="4824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метка за урок___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Домашнее задание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(в учебнике, стр. 1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читать текст  стр.196; вопросы №1-3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опрос №4 (письменно)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дготовить сообщение об озере Могильном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Спасибо за уро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55840" y="2562120"/>
            <a:ext cx="535608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60000" y="517680"/>
            <a:ext cx="9070920" cy="60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ода ты просто необходима для жизни, ты и есть жизнь... ты величайшее в мире богатство"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т-Экзюпе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особенности внутренних вод Мурман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Совершить заочное путешествие по Кольскому полуостр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знакомиться с внутренними водам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03640" y="1720800"/>
            <a:ext cx="5472000" cy="202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3280" y="252360"/>
            <a:ext cx="906948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Ветромёт  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(от поморского выражения «метать ветер», т. е. определять направл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52360" y="4103640"/>
            <a:ext cx="6991560" cy="31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таринных поморских компасов была разделена на 32 основных и промежуточных направления – румба.       Румбы имели номера от 0 (на север) до 31 (север-северо-запад и еще 10 градусов к север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1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76640" y="1407960"/>
            <a:ext cx="3230640" cy="3416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32000" y="4873680"/>
            <a:ext cx="482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все стороны подписаны верно, то отметка «5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оценочном листе можно поставить «5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80"/>
                </a:solidFill>
                <a:latin typeface="Arial"/>
              </a:rPr>
              <a:t>Молодец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2.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«Держать на румбе 1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3200" y="1511280"/>
          <a:ext cx="9047160" cy="3398400"/>
        </p:xfrm>
        <a:graphic>
          <a:graphicData uri="http://schemas.openxmlformats.org/drawingml/2006/table">
            <a:tbl>
              <a:tblPr/>
              <a:tblGrid>
                <a:gridCol w="3274920"/>
                <a:gridCol w="5772240"/>
              </a:tblGrid>
              <a:tr h="1005840"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Ист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А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Река вместе со всеми приток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Речная сис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Б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Начало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сть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Изменение реки в течение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Режим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Г.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Окончание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Питание ре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61400" bIns="46800" anchor="t">
                      <a:noAutofit/>
                    </a:bodyPr>
                    <a:p>
                      <a:pPr>
                        <a:lnSpc>
                          <a:spcPct val="5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Д.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Поступление воды в ре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47640" y="5348160"/>
            <a:ext cx="842328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твет: 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-Б;   2- А;   3-Г;    4-В;    5-Д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5 ответов правильных, то отметка «5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«4»;  3 – «3», 2 – «2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6920" y="366840"/>
            <a:ext cx="9605880" cy="6905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72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амая большая река области - Поной (426 км)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38040"/>
            <a:ext cx="906948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3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«Держать на румбе 1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9240" y="1525320"/>
            <a:ext cx="941076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йди ошиб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Твёрдые породы перегораживают русло реки – образуются водопад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Твёрдые породы выходят в виде крутого уступа реки, с которого вода падает вниз – образуются порог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Для нашей области характерны небольшие реки, отличающиеся обилием порогов и водопа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оры называли водопады – падун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5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еках Кольского полуострова нет водопадов и порог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: 1,  2,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3 ответа правильных, то отметка «5».    2 – «4»;     1 – «3»,    0 – «2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03280" y="301680"/>
            <a:ext cx="90676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Задание №4</a:t>
            </a:r>
            <a:br>
              <a:rPr sz="3200"/>
            </a:b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«Держать на румбе 28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684440"/>
            <a:ext cx="864072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урманская область является крупнейшим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 озёрным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регионом в стране. После освобождения от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ледника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на территории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Кольского полуострова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создались условия, благоприятные для возникновения крупных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зёр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: обширные впадины, разломы, провалы, обилие талых ледниковых вод, прохладный умеренно дождливый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 климат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 Так в нашей области появились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есные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зёра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ледниково-тектонического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происхождения. Вода в озёрах отличается большой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зрачностью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 Самым глубоким и вторым по величине озером нашей области является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Умбозеро,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его максимальная глубина достигает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115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7120" y="287280"/>
            <a:ext cx="9445680" cy="7064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348840"/>
            <a:ext cx="9231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мбозеро – самое глубокое на Кольском полуострове озеро (д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)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по размерам второе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19,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в.к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3:48:33Z</dcterms:created>
  <dc:creator/>
  <dc:description/>
  <dc:language>en-US</dc:language>
  <cp:lastModifiedBy/>
  <cp:revision>0</cp:revision>
  <dc:subject/>
  <dc:title/>
</cp:coreProperties>
</file>