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2CB-96D0-4ABD-8FC8-F03920C9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270-C463-4B99-A904-10710C7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8B9-D6D5-4104-8439-152FB20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748-B5C4-40E6-9DB0-C9775718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7DE-8AA1-4D18-840B-DC8722D7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F5D-0D83-400A-B5A5-1604CF0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834-E538-494A-9AB3-8A623AAC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0AD-E1C3-49B7-914B-5C6532EA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CE7-1482-4DC8-AB1A-276E0E0C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02E-A05D-4822-897A-F9FD9AB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0F0-935F-4F92-A960-3C5C1E0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5DC-D38B-40BE-A723-F287069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609A6-ABBF-410E-B562-94A5D2D0CA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БОУ МСК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501560"/>
            <a:ext cx="907092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Внутрен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Мурма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-6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географии – Гапенкова Л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нькино. 2013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5. «Держать на румбе 2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3280" y="1245960"/>
            <a:ext cx="90662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берите верное утвер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е большое озеро области – Иманд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 Озеро вытянуто  с запада на вос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Воды Имандры отличаются большой прозрачностью – до 11 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. Озеро Имандра – бессточное  озе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зеро впадают многочисленные реки, ручьи и ручейки, но из озера вытекает одна река Нива, несущая воды в Кандалакшский зали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Проверь себя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ые ответы: 1, 3,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3 ответа правильных, то отметка «5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2 – «4»;  1 – «3», 0- «2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6. «Держать на румбе 2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одохранилищ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это искусственные озёра, создаются на реках для накопления воды и дальнейшего использования на предприятиях, в сельском хозяйстве и водоснабжени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, 6, 2, 3, 5, 8, 7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всё верно, то отметка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«Держать на румбе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6000" y="1768320"/>
          <a:ext cx="9647280" cy="2309760"/>
        </p:xfrm>
        <a:graphic>
          <a:graphicData uri="http://schemas.openxmlformats.org/drawingml/2006/table">
            <a:tbl>
              <a:tblPr/>
              <a:tblGrid>
                <a:gridCol w="942840"/>
                <a:gridCol w="1165320"/>
                <a:gridCol w="1198440"/>
                <a:gridCol w="1165320"/>
                <a:gridCol w="1198440"/>
                <a:gridCol w="1262160"/>
                <a:gridCol w="1214280"/>
                <a:gridCol w="1500480"/>
              </a:tblGrid>
              <a:tr h="692280">
                <a:tc>
                  <a:txBody>
                    <a:bodyPr lIns="90000" rIns="90000" tIns="209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ая работ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ая работ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повтор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повтор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47640" y="5543640"/>
            <a:ext cx="482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ка за урок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Домашнее задание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(в учебнике, стр. 1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читать текст  стр.196; вопросы №1-3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прос №4 (письменно)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готовить сообщение об озере Могильном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55840" y="2562120"/>
            <a:ext cx="53560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60000" y="517680"/>
            <a:ext cx="907092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ода ты просто необходима для жизни, ты и есть жизнь... ты величайшее в мире богатство"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-Экзюпе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внутренних вод Мурма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овершить заочное путешествие по Кольскому полуостр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знакомиться с внутренними вода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03640" y="1720800"/>
            <a:ext cx="5472000" cy="20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3280" y="252360"/>
            <a:ext cx="90694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Ветромёт  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(от поморского выражения «метать ветер», т. е. определять направ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52360" y="4103640"/>
            <a:ext cx="699156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таринных поморских компасов была разделена на 32 основных и промежуточных направления – румба.       Румбы имели номера от 0 (на север) до 31 (север-северо-запад и еще 10 градусов к север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1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76640" y="1407960"/>
            <a:ext cx="323064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32000" y="4873680"/>
            <a:ext cx="482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все стороны подписаны верно, то отметка «5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ценочном листе можно поставить «5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Молодец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2.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3200" y="1511280"/>
          <a:ext cx="9047160" cy="3398400"/>
        </p:xfrm>
        <a:graphic>
          <a:graphicData uri="http://schemas.openxmlformats.org/drawingml/2006/table">
            <a:tbl>
              <a:tblPr/>
              <a:tblGrid>
                <a:gridCol w="3274920"/>
                <a:gridCol w="5772240"/>
              </a:tblGrid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ка вместе со всеми прито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чная 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Начало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Изменение реки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жим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Окончание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Питание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Д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Поступление воды в ре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47640" y="5348160"/>
            <a:ext cx="842328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: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-Б;   2- А;   3-Г;    4-В;    5-Д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5 ответов правильных, то отметка «5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«4»;  3 – «3», 2 – «2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920" y="366840"/>
            <a:ext cx="9605880" cy="6905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амая большая река области - Поной (426 км)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8040"/>
            <a:ext cx="9069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3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525320"/>
            <a:ext cx="94107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 ошиб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вёрдые породы перегораживают русло реки – образуются водопа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вёрдые породы выходят в виде крутого уступа реки, с которого вода падает вниз – образуются пор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нашей области характерны небольшие реки, отличающиеся обилием порогов и водопа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ры называли водопады – падун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еках Кольского полуострова нет водопадов и поро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 1,  2,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3 ответа правильных, то отметка «5».    2 – «4»;     1 – «3»,    0 – «2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4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2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684440"/>
            <a:ext cx="8640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урманская область является крупнейшим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озёрным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регионом в стране. После освобождения о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ледник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на территории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Кольского полуостров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создались условия, благоприятные для возникновения крупных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зё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обширные впадины, разломы, провалы, обилие талых ледниковых вод, прохладный умеренно дождливый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клима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Так в нашей области появились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есны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зёр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ледниково-тектоническог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происхождения. Вода в озёрах отличается большой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зрачностью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Самым глубоким и вторым по величине озером нашей области является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Умбозеро,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его максимальная глубина достигае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115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7120" y="287280"/>
            <a:ext cx="9445680" cy="7064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348840"/>
            <a:ext cx="9231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бозеро – самое глубокое на Кольском полуострове озеро (д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о размерам второе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19,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в.к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48:33Z</dcterms:created>
  <dc:creator/>
  <dc:description/>
  <dc:language>en-US</dc:language>
  <cp:lastModifiedBy/>
  <cp:revision>0</cp:revision>
  <dc:subject/>
  <dc:title/>
</cp:coreProperties>
</file>