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5.gif" ContentType="image/gif"/>
  <Override PartName="/ppt/media/image30.gif" ContentType="image/gif"/>
  <Override PartName="/ppt/media/image28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34.png" ContentType="image/png"/>
  <Override PartName="/ppt/media/image11.gif" ContentType="image/gif"/>
  <Override PartName="/ppt/media/image33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4.gif" ContentType="image/gif"/>
  <Override PartName="/ppt/media/image27.gif" ContentType="image/gif"/>
  <Override PartName="/ppt/media/image3.gif" ContentType="image/gif"/>
  <Override PartName="/ppt/media/image26.gif" ContentType="image/gif"/>
  <Override PartName="/ppt/media/image2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31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015-E615-4D65-954B-FC6B22C3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0CB-04F6-44CD-8F2C-76901186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3A9-EB52-43F0-828E-604E7D1E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27C-3F26-4622-9118-2145D718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E5B-DF69-472F-83FA-5FAA398C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411-CCDB-4D0B-9E88-00E8F82B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D44-F74B-41EF-857B-BC7CB76C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2C7-0C59-479D-A270-FA839F10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AB9-BA83-4F0D-A23E-B605BCCC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DF4-4C05-4C2C-8515-CC830A3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046-A4A0-4C6C-B6D5-CAF855F9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05C-D394-473D-8C4D-24904E0A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224E-A2D2-43F6-BA40-CCFAAACFC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22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image" Target="../media/image18.gif"/><Relationship Id="rId18" Type="http://schemas.openxmlformats.org/officeDocument/2006/relationships/image" Target="../media/image19.gif"/><Relationship Id="rId19" Type="http://schemas.openxmlformats.org/officeDocument/2006/relationships/image" Target="../media/image20.gif"/><Relationship Id="rId20" Type="http://schemas.openxmlformats.org/officeDocument/2006/relationships/image" Target="../media/image21.gif"/><Relationship Id="rId21" Type="http://schemas.openxmlformats.org/officeDocument/2006/relationships/image" Target="../media/image22.gif"/><Relationship Id="rId22" Type="http://schemas.openxmlformats.org/officeDocument/2006/relationships/image" Target="../media/image23.gif"/><Relationship Id="rId23" Type="http://schemas.openxmlformats.org/officeDocument/2006/relationships/image" Target="../media/image24.gif"/><Relationship Id="rId24" Type="http://schemas.openxmlformats.org/officeDocument/2006/relationships/image" Target="../media/image25.gif"/><Relationship Id="rId25" Type="http://schemas.openxmlformats.org/officeDocument/2006/relationships/image" Target="../media/image26.gif"/><Relationship Id="rId26" Type="http://schemas.openxmlformats.org/officeDocument/2006/relationships/image" Target="../media/image27.gif"/><Relationship Id="rId27" Type="http://schemas.openxmlformats.org/officeDocument/2006/relationships/image" Target="../media/image28.gif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image" Target="../media/image17.gif"/><Relationship Id="rId16" Type="http://schemas.openxmlformats.org/officeDocument/2006/relationships/image" Target="../media/image18.gif"/><Relationship Id="rId17" Type="http://schemas.openxmlformats.org/officeDocument/2006/relationships/image" Target="../media/image19.gif"/><Relationship Id="rId18" Type="http://schemas.openxmlformats.org/officeDocument/2006/relationships/image" Target="../media/image20.gif"/><Relationship Id="rId19" Type="http://schemas.openxmlformats.org/officeDocument/2006/relationships/image" Target="../media/image21.gif"/><Relationship Id="rId20" Type="http://schemas.openxmlformats.org/officeDocument/2006/relationships/image" Target="../media/image22.gif"/><Relationship Id="rId21" Type="http://schemas.openxmlformats.org/officeDocument/2006/relationships/image" Target="../media/image23.gif"/><Relationship Id="rId22" Type="http://schemas.openxmlformats.org/officeDocument/2006/relationships/image" Target="../media/image24.gif"/><Relationship Id="rId23" Type="http://schemas.openxmlformats.org/officeDocument/2006/relationships/image" Target="../media/image25.gif"/><Relationship Id="rId24" Type="http://schemas.openxmlformats.org/officeDocument/2006/relationships/image" Target="../media/image26.gif"/><Relationship Id="rId25" Type="http://schemas.openxmlformats.org/officeDocument/2006/relationships/image" Target="../media/image27.gif"/><Relationship Id="rId26" Type="http://schemas.openxmlformats.org/officeDocument/2006/relationships/image" Target="../media/image28.gi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р работы: Мишхожева Анжела Хадокшуковна (МОУ СОШ №4с.п.Исламей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для 2-х класс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42976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акие английские слова ты знаешь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составление слов из данных букв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ирина\Рабочий стол\для презентации\Новая папка (2)\КАРТИНКИ 8\ДЕТИ\Рисунок105.png"/>
          <p:cNvPicPr/>
          <p:nvPr/>
        </p:nvPicPr>
        <p:blipFill>
          <a:blip r:embed="rId1"/>
          <a:stretch/>
        </p:blipFill>
        <p:spPr>
          <a:xfrm>
            <a:off x="5191200" y="4429080"/>
            <a:ext cx="3649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8" descr="C:\Documents and Settings\ирина\Рабочий стол\для презентации\Новая папка (2)\КАРТИНКИ 8\ШРИФТЫ\1.gif"/>
          <p:cNvPicPr/>
          <p:nvPr/>
        </p:nvPicPr>
        <p:blipFill>
          <a:blip r:embed="rId1"/>
          <a:stretch/>
        </p:blipFill>
        <p:spPr>
          <a:xfrm>
            <a:off x="2714760" y="642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9" descr="C:\Documents and Settings\ирина\Рабочий стол\для презентации\Новая папка (2)\КАРТИНКИ 8\ШРИФТЫ\2.gif"/>
          <p:cNvPicPr/>
          <p:nvPr/>
        </p:nvPicPr>
        <p:blipFill>
          <a:blip r:embed="rId2"/>
          <a:stretch/>
        </p:blipFill>
        <p:spPr>
          <a:xfrm>
            <a:off x="3643200" y="4786200"/>
            <a:ext cx="1352520" cy="150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C:\Documents and Settings\ирина\Рабочий стол\для презентации\Новая папка (2)\КАРТИНКИ 8\ШРИФТЫ\3.gif"/>
          <p:cNvPicPr/>
          <p:nvPr/>
        </p:nvPicPr>
        <p:blipFill>
          <a:blip r:embed="rId3"/>
          <a:stretch/>
        </p:blipFill>
        <p:spPr>
          <a:xfrm>
            <a:off x="6429240" y="3571920"/>
            <a:ext cx="2425680" cy="13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1" descr="C:\Documents and Settings\ирина\Рабочий стол\для презентации\Новая папка (2)\КАРТИНКИ 8\ШРИФТЫ\4.gif"/>
          <p:cNvPicPr/>
          <p:nvPr/>
        </p:nvPicPr>
        <p:blipFill>
          <a:blip r:embed="rId4"/>
          <a:stretch/>
        </p:blipFill>
        <p:spPr>
          <a:xfrm>
            <a:off x="4643280" y="0"/>
            <a:ext cx="107640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2" descr="C:\Documents and Settings\ирина\Рабочий стол\для презентации\Новая папка (2)\КАРТИНКИ 8\ШРИФТЫ\5.gif"/>
          <p:cNvPicPr/>
          <p:nvPr/>
        </p:nvPicPr>
        <p:blipFill>
          <a:blip r:embed="rId5"/>
          <a:stretch/>
        </p:blipFill>
        <p:spPr>
          <a:xfrm>
            <a:off x="785880" y="285840"/>
            <a:ext cx="1263600" cy="1190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3" descr="C:\Documents and Settings\ирина\Рабочий стол\для презентации\Новая папка (2)\КАРТИНКИ 8\ШРИФТЫ\6.gif"/>
          <p:cNvPicPr/>
          <p:nvPr/>
        </p:nvPicPr>
        <p:blipFill>
          <a:blip r:embed="rId6"/>
          <a:stretch/>
        </p:blipFill>
        <p:spPr>
          <a:xfrm>
            <a:off x="6215040" y="4786200"/>
            <a:ext cx="1000080" cy="130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4" descr="C:\Documents and Settings\ирина\Рабочий стол\для презентации\Новая папка (2)\КАРТИНКИ 8\ШРИФТЫ\7.gif"/>
          <p:cNvPicPr/>
          <p:nvPr/>
        </p:nvPicPr>
        <p:blipFill>
          <a:blip r:embed="rId7"/>
          <a:stretch/>
        </p:blipFill>
        <p:spPr>
          <a:xfrm>
            <a:off x="7000920" y="571680"/>
            <a:ext cx="191592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0" descr="C:\Documents and Settings\ирина\Рабочий стол\для презентации\Новая папка (2)\КАРТИНКИ 8\ШРИФТЫ\14.gif"/>
          <p:cNvPicPr/>
          <p:nvPr/>
        </p:nvPicPr>
        <p:blipFill>
          <a:blip r:embed="rId8"/>
          <a:stretch/>
        </p:blipFill>
        <p:spPr>
          <a:xfrm>
            <a:off x="928800" y="4429080"/>
            <a:ext cx="1895400" cy="164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1" descr="C:\Documents and Settings\ирина\Рабочий стол\для презентации\Новая папка (2)\КАРТИНКИ 8\ШРИФТЫ\15.gif"/>
          <p:cNvPicPr/>
          <p:nvPr/>
        </p:nvPicPr>
        <p:blipFill>
          <a:blip r:embed="rId9"/>
          <a:stretch/>
        </p:blipFill>
        <p:spPr>
          <a:xfrm>
            <a:off x="5643720" y="2071800"/>
            <a:ext cx="2000160" cy="145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2" descr="C:\Documents and Settings\ирина\Рабочий стол\для презентации\Новая папка (2)\КАРТИНКИ 8\ШРИФТЫ\16.gif"/>
          <p:cNvPicPr/>
          <p:nvPr/>
        </p:nvPicPr>
        <p:blipFill>
          <a:blip r:embed="rId10"/>
          <a:stretch/>
        </p:blipFill>
        <p:spPr>
          <a:xfrm>
            <a:off x="2214720" y="2214720"/>
            <a:ext cx="142848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8" descr="C:\Documents and Settings\ирина\Рабочий стол\для презентации\Новая папка (2)\КАРТИНКИ 8\ШРИФТЫ\22.gif"/>
          <p:cNvPicPr/>
          <p:nvPr/>
        </p:nvPicPr>
        <p:blipFill>
          <a:blip r:embed="rId11"/>
          <a:stretch/>
        </p:blipFill>
        <p:spPr>
          <a:xfrm>
            <a:off x="4143240" y="2714760"/>
            <a:ext cx="1171800" cy="1118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2" descr="C:\Documents and Settings\ирина\Рабочий стол\для презентации\Новая папка (2)\КАРТИНКИ 8\ШРИФТЫ\26.gif"/>
          <p:cNvPicPr/>
          <p:nvPr/>
        </p:nvPicPr>
        <p:blipFill>
          <a:blip r:embed="rId12"/>
          <a:stretch/>
        </p:blipFill>
        <p:spPr>
          <a:xfrm>
            <a:off x="0" y="235728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Do you know the ABC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ирина\Рабочий стол\для презентации\Новая папка (2)\рисунки2\дети\child2.files\woman_teacher_blackboard_md_wht.gif"/>
          <p:cNvPicPr/>
          <p:nvPr/>
        </p:nvPicPr>
        <p:blipFill>
          <a:blip r:embed="rId1"/>
          <a:stretch/>
        </p:blipFill>
        <p:spPr>
          <a:xfrm>
            <a:off x="1857240" y="4000680"/>
            <a:ext cx="5857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360" y="1071720"/>
            <a:ext cx="172872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188720" y="1928520"/>
            <a:ext cx="151272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8" descr="C:\Documents and Settings\ирина\Рабочий стол\для презентации\Новая папка (2)\КАРТИНКИ 8\ШРИФТЫ\1.gif"/>
          <p:cNvPicPr/>
          <p:nvPr/>
        </p:nvPicPr>
        <p:blipFill>
          <a:blip r:embed="rId2"/>
          <a:stretch/>
        </p:blipFill>
        <p:spPr>
          <a:xfrm>
            <a:off x="0" y="785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9" descr="C:\Documents and Settings\ирина\Рабочий стол\для презентации\Новая папка (2)\КАРТИНКИ 8\ШРИФТЫ\2.gif"/>
          <p:cNvPicPr/>
          <p:nvPr/>
        </p:nvPicPr>
        <p:blipFill>
          <a:blip r:embed="rId3"/>
          <a:stretch/>
        </p:blipFill>
        <p:spPr>
          <a:xfrm>
            <a:off x="1428840" y="142920"/>
            <a:ext cx="63792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0" descr="C:\Documents and Settings\ирина\Рабочий стол\для презентации\Новая папка (2)\КАРТИНКИ 8\ШРИФТЫ\3.gif"/>
          <p:cNvPicPr/>
          <p:nvPr/>
        </p:nvPicPr>
        <p:blipFill>
          <a:blip r:embed="rId4"/>
          <a:stretch/>
        </p:blipFill>
        <p:spPr>
          <a:xfrm>
            <a:off x="2357280" y="365040"/>
            <a:ext cx="1071720" cy="1040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1" descr="C:\Documents and Settings\ирина\Рабочий стол\для презентации\Новая папка (2)\КАРТИНКИ 8\ШРИФТЫ\4.gif"/>
          <p:cNvPicPr/>
          <p:nvPr/>
        </p:nvPicPr>
        <p:blipFill>
          <a:blip r:embed="rId5"/>
          <a:stretch/>
        </p:blipFill>
        <p:spPr>
          <a:xfrm>
            <a:off x="3448080" y="571680"/>
            <a:ext cx="1076400" cy="1000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2" descr="C:\Documents and Settings\ирина\Рабочий стол\для презентации\Новая папка (2)\КАРТИНКИ 8\ШРИФТЫ\5.gif"/>
          <p:cNvPicPr/>
          <p:nvPr/>
        </p:nvPicPr>
        <p:blipFill>
          <a:blip r:embed="rId6"/>
          <a:stretch/>
        </p:blipFill>
        <p:spPr>
          <a:xfrm>
            <a:off x="4714920" y="500040"/>
            <a:ext cx="1263600" cy="119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3" descr="C:\Documents and Settings\ирина\Рабочий стол\для презентации\Новая папка (2)\КАРТИНКИ 8\ШРИФТЫ\6.gif"/>
          <p:cNvPicPr/>
          <p:nvPr/>
        </p:nvPicPr>
        <p:blipFill>
          <a:blip r:embed="rId7"/>
          <a:stretch/>
        </p:blipFill>
        <p:spPr>
          <a:xfrm>
            <a:off x="6143760" y="119160"/>
            <a:ext cx="1000080" cy="13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4" descr="C:\Documents and Settings\ирина\Рабочий стол\для презентации\Новая папка (2)\КАРТИНКИ 8\ШРИФТЫ\7.gif"/>
          <p:cNvPicPr/>
          <p:nvPr/>
        </p:nvPicPr>
        <p:blipFill>
          <a:blip r:embed="rId8"/>
          <a:stretch/>
        </p:blipFill>
        <p:spPr>
          <a:xfrm>
            <a:off x="7000920" y="571680"/>
            <a:ext cx="1915920" cy="100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5" descr="C:\Documents and Settings\ирина\Рабочий стол\для презентации\Новая папка (2)\КАРТИНКИ 8\ШРИФТЫ\8.gif"/>
          <p:cNvPicPr/>
          <p:nvPr/>
        </p:nvPicPr>
        <p:blipFill>
          <a:blip r:embed="rId9"/>
          <a:stretch/>
        </p:blipFill>
        <p:spPr>
          <a:xfrm>
            <a:off x="142920" y="2214720"/>
            <a:ext cx="1392120" cy="119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6" descr="C:\Documents and Settings\ирина\Рабочий стол\для презентации\Новая папка (2)\КАРТИНКИ 8\ШРИФТЫ\10.gif"/>
          <p:cNvPicPr/>
          <p:nvPr/>
        </p:nvPicPr>
        <p:blipFill>
          <a:blip r:embed="rId10"/>
          <a:stretch/>
        </p:blipFill>
        <p:spPr>
          <a:xfrm>
            <a:off x="2286000" y="2286000"/>
            <a:ext cx="843120" cy="156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7" descr="C:\Documents and Settings\ирина\Рабочий стол\для презентации\Новая папка (2)\КАРТИНКИ 8\ШРИФТЫ\11.gif"/>
          <p:cNvPicPr/>
          <p:nvPr/>
        </p:nvPicPr>
        <p:blipFill>
          <a:blip r:embed="rId11"/>
          <a:stretch/>
        </p:blipFill>
        <p:spPr>
          <a:xfrm>
            <a:off x="3106800" y="2335320"/>
            <a:ext cx="1465200" cy="1236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8" descr="C:\Documents and Settings\ирина\Рабочий стол\для презентации\Новая папка (2)\КАРТИНКИ 8\ШРИФТЫ\12.gif"/>
          <p:cNvPicPr/>
          <p:nvPr/>
        </p:nvPicPr>
        <p:blipFill>
          <a:blip r:embed="rId12"/>
          <a:stretch/>
        </p:blipFill>
        <p:spPr>
          <a:xfrm>
            <a:off x="4572000" y="2500200"/>
            <a:ext cx="117144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9" descr="C:\Documents and Settings\ирина\Рабочий стол\для презентации\Новая папка (2)\КАРТИНКИ 8\ШРИФТЫ\13.gif"/>
          <p:cNvPicPr/>
          <p:nvPr/>
        </p:nvPicPr>
        <p:blipFill>
          <a:blip r:embed="rId13"/>
          <a:stretch/>
        </p:blipFill>
        <p:spPr>
          <a:xfrm>
            <a:off x="5464080" y="2057400"/>
            <a:ext cx="1322640" cy="12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0" descr="C:\Documents and Settings\ирина\Рабочий стол\для презентации\Новая папка (2)\КАРТИНКИ 8\ШРИФТЫ\14.gif"/>
          <p:cNvPicPr/>
          <p:nvPr/>
        </p:nvPicPr>
        <p:blipFill>
          <a:blip r:embed="rId14"/>
          <a:stretch/>
        </p:blipFill>
        <p:spPr>
          <a:xfrm>
            <a:off x="6967440" y="1857240"/>
            <a:ext cx="189540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1" descr="C:\Documents and Settings\ирина\Рабочий стол\для презентации\Новая папка (2)\КАРТИНКИ 8\ШРИФТЫ\15.gif"/>
          <p:cNvPicPr/>
          <p:nvPr/>
        </p:nvPicPr>
        <p:blipFill>
          <a:blip r:embed="rId15"/>
          <a:stretch/>
        </p:blipFill>
        <p:spPr>
          <a:xfrm>
            <a:off x="0" y="3949560"/>
            <a:ext cx="1500120" cy="14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2" descr="C:\Documents and Settings\ирина\Рабочий стол\для презентации\Новая папка (2)\КАРТИНКИ 8\ШРИФТЫ\16.gif"/>
          <p:cNvPicPr/>
          <p:nvPr/>
        </p:nvPicPr>
        <p:blipFill>
          <a:blip r:embed="rId16"/>
          <a:stretch/>
        </p:blipFill>
        <p:spPr>
          <a:xfrm>
            <a:off x="1428840" y="39765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3" descr="C:\Documents and Settings\ирина\Рабочий стол\для презентации\Новая папка (2)\КАРТИНКИ 8\ШРИФТЫ\17.gif"/>
          <p:cNvPicPr/>
          <p:nvPr/>
        </p:nvPicPr>
        <p:blipFill>
          <a:blip r:embed="rId17"/>
          <a:stretch/>
        </p:blipFill>
        <p:spPr>
          <a:xfrm>
            <a:off x="2643120" y="4410000"/>
            <a:ext cx="1071720" cy="9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4" descr="C:\Documents and Settings\ирина\Рабочий стол\для презентации\Новая папка (2)\КАРТИНКИ 8\ШРИФТЫ\18.gif"/>
          <p:cNvPicPr/>
          <p:nvPr/>
        </p:nvPicPr>
        <p:blipFill>
          <a:blip r:embed="rId18"/>
          <a:stretch/>
        </p:blipFill>
        <p:spPr>
          <a:xfrm>
            <a:off x="3929040" y="4429080"/>
            <a:ext cx="1030320" cy="905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6" descr="C:\Documents and Settings\ирина\Рабочий стол\для презентации\Новая папка (2)\КАРТИНКИ 8\ШРИФТЫ\20.gif"/>
          <p:cNvPicPr/>
          <p:nvPr/>
        </p:nvPicPr>
        <p:blipFill>
          <a:blip r:embed="rId19"/>
          <a:stretch/>
        </p:blipFill>
        <p:spPr>
          <a:xfrm>
            <a:off x="7500960" y="4000680"/>
            <a:ext cx="1209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7" descr="C:\Documents and Settings\ирина\Рабочий стол\для презентации\Новая папка (2)\КАРТИНКИ 8\ШРИФТЫ\21.gif"/>
          <p:cNvPicPr/>
          <p:nvPr/>
        </p:nvPicPr>
        <p:blipFill>
          <a:blip r:embed="rId20"/>
          <a:stretch/>
        </p:blipFill>
        <p:spPr>
          <a:xfrm>
            <a:off x="5000760" y="4357800"/>
            <a:ext cx="91908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8" descr="C:\Documents and Settings\ирина\Рабочий стол\для презентации\Новая папка (2)\КАРТИНКИ 8\ШРИФТЫ\22.gif"/>
          <p:cNvPicPr/>
          <p:nvPr/>
        </p:nvPicPr>
        <p:blipFill>
          <a:blip r:embed="rId21"/>
          <a:stretch/>
        </p:blipFill>
        <p:spPr>
          <a:xfrm>
            <a:off x="6286680" y="4071960"/>
            <a:ext cx="117144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0" descr="C:\Documents and Settings\ирина\Рабочий стол\для презентации\Новая папка (2)\КАРТИНКИ 8\ШРИФТЫ\24.gif"/>
          <p:cNvPicPr/>
          <p:nvPr/>
        </p:nvPicPr>
        <p:blipFill>
          <a:blip r:embed="rId22"/>
          <a:stretch/>
        </p:blipFill>
        <p:spPr>
          <a:xfrm>
            <a:off x="714240" y="542916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1" descr="C:\Documents and Settings\ирина\Рабочий стол\для презентации\Новая папка (2)\КАРТИНКИ 8\ШРИФТЫ\25.gif"/>
          <p:cNvPicPr/>
          <p:nvPr/>
        </p:nvPicPr>
        <p:blipFill>
          <a:blip r:embed="rId23"/>
          <a:stretch/>
        </p:blipFill>
        <p:spPr>
          <a:xfrm>
            <a:off x="2571840" y="5643720"/>
            <a:ext cx="1170000" cy="90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2" descr="C:\Documents and Settings\ирина\Рабочий стол\для презентации\Новая папка (2)\КАРТИНКИ 8\ШРИФТЫ\26.gif"/>
          <p:cNvPicPr/>
          <p:nvPr/>
        </p:nvPicPr>
        <p:blipFill>
          <a:blip r:embed="rId24"/>
          <a:stretch/>
        </p:blipFill>
        <p:spPr>
          <a:xfrm>
            <a:off x="4214880" y="5535720"/>
            <a:ext cx="1071360" cy="94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3" descr="C:\Documents and Settings\ирина\Рабочий стол\для презентации\Новая папка (2)\КАРТИНКИ 8\ШРИФТЫ\27.gif"/>
          <p:cNvPicPr/>
          <p:nvPr/>
        </p:nvPicPr>
        <p:blipFill>
          <a:blip r:embed="rId25"/>
          <a:stretch/>
        </p:blipFill>
        <p:spPr>
          <a:xfrm>
            <a:off x="5643720" y="5535720"/>
            <a:ext cx="1428480" cy="94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4" descr="C:\Documents and Settings\ирина\Рабочий стол\для презентации\Новая папка (2)\КАРТИНКИ 8\ШРИФТЫ\28.gif"/>
          <p:cNvPicPr/>
          <p:nvPr/>
        </p:nvPicPr>
        <p:blipFill>
          <a:blip r:embed="rId26"/>
          <a:stretch/>
        </p:blipFill>
        <p:spPr>
          <a:xfrm>
            <a:off x="7429680" y="51912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5" descr="C:\Documents and Settings\ирина\Рабочий стол\для презентации\Новая папка (2)\КАРТИНКИ 8\ШРИФТЫ\29.gif"/>
          <p:cNvPicPr/>
          <p:nvPr/>
        </p:nvPicPr>
        <p:blipFill>
          <a:blip r:embed="rId27"/>
          <a:stretch/>
        </p:blipFill>
        <p:spPr>
          <a:xfrm>
            <a:off x="1357200" y="1785960"/>
            <a:ext cx="1127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Сколько букв в английском алфавите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Напиши 11 букву алфавита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Какой звук дает 8 буква алфавита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Попробуй записать гласные буквы алфави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ставь букву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(ребятам предлага</a:t>
            </a: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тся разрезанные  буквы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Documents and Settings\ирина\Рабочий стол\для презентации\Новая папка (2)\рисунки2\дети\72.gif"/>
          <p:cNvPicPr/>
          <p:nvPr/>
        </p:nvPicPr>
        <p:blipFill>
          <a:blip r:embed="rId1"/>
          <a:stretch/>
        </p:blipFill>
        <p:spPr>
          <a:xfrm>
            <a:off x="0" y="3719520"/>
            <a:ext cx="3357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айди недостающую букву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ирина\Рабочий стол\для презентации\Новая папка (2)\КАРТИНКИ 8\ДЕТИ\10.gif"/>
          <p:cNvPicPr/>
          <p:nvPr/>
        </p:nvPicPr>
        <p:blipFill>
          <a:blip r:embed="rId1"/>
          <a:stretch/>
        </p:blipFill>
        <p:spPr>
          <a:xfrm>
            <a:off x="4714920" y="3500280"/>
            <a:ext cx="37861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8" descr="C:\Documents and Settings\ирина\Рабочий стол\для презентации\Новая папка (2)\КАРТИНКИ 8\ШРИФТЫ\1.gif"/>
          <p:cNvPicPr/>
          <p:nvPr/>
        </p:nvPicPr>
        <p:blipFill>
          <a:blip r:embed="rId2"/>
          <a:stretch/>
        </p:blipFill>
        <p:spPr>
          <a:xfrm>
            <a:off x="0" y="785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9" descr="C:\Documents and Settings\ирина\Рабочий стол\для презентации\Новая папка (2)\КАРТИНКИ 8\ШРИФТЫ\2.gif"/>
          <p:cNvPicPr/>
          <p:nvPr/>
        </p:nvPicPr>
        <p:blipFill>
          <a:blip r:embed="rId3"/>
          <a:stretch/>
        </p:blipFill>
        <p:spPr>
          <a:xfrm>
            <a:off x="1428840" y="142920"/>
            <a:ext cx="63792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0" descr="C:\Documents and Settings\ирина\Рабочий стол\для презентации\Новая папка (2)\КАРТИНКИ 8\ШРИФТЫ\3.gif"/>
          <p:cNvPicPr/>
          <p:nvPr/>
        </p:nvPicPr>
        <p:blipFill>
          <a:blip r:embed="rId4"/>
          <a:stretch/>
        </p:blipFill>
        <p:spPr>
          <a:xfrm>
            <a:off x="2357280" y="365040"/>
            <a:ext cx="1071720" cy="1040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1" descr="C:\Documents and Settings\ирина\Рабочий стол\для презентации\Новая папка (2)\КАРТИНКИ 8\ШРИФТЫ\4.gif"/>
          <p:cNvPicPr/>
          <p:nvPr/>
        </p:nvPicPr>
        <p:blipFill>
          <a:blip r:embed="rId5"/>
          <a:stretch/>
        </p:blipFill>
        <p:spPr>
          <a:xfrm>
            <a:off x="3448080" y="571680"/>
            <a:ext cx="1076400" cy="100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2" descr="C:\Documents and Settings\ирина\Рабочий стол\для презентации\Новая папка (2)\КАРТИНКИ 8\ШРИФТЫ\5.gif"/>
          <p:cNvPicPr/>
          <p:nvPr/>
        </p:nvPicPr>
        <p:blipFill>
          <a:blip r:embed="rId6"/>
          <a:stretch/>
        </p:blipFill>
        <p:spPr>
          <a:xfrm>
            <a:off x="4714920" y="500040"/>
            <a:ext cx="1263600" cy="119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3" descr="C:\Documents and Settings\ирина\Рабочий стол\для презентации\Новая папка (2)\КАРТИНКИ 8\ШРИФТЫ\6.gif"/>
          <p:cNvPicPr/>
          <p:nvPr/>
        </p:nvPicPr>
        <p:blipFill>
          <a:blip r:embed="rId7"/>
          <a:stretch/>
        </p:blipFill>
        <p:spPr>
          <a:xfrm>
            <a:off x="6143760" y="119160"/>
            <a:ext cx="1000080" cy="130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4" descr="C:\Documents and Settings\ирина\Рабочий стол\для презентации\Новая папка (2)\КАРТИНКИ 8\ШРИФТЫ\7.gif"/>
          <p:cNvPicPr/>
          <p:nvPr/>
        </p:nvPicPr>
        <p:blipFill>
          <a:blip r:embed="rId8"/>
          <a:stretch/>
        </p:blipFill>
        <p:spPr>
          <a:xfrm>
            <a:off x="7000920" y="571680"/>
            <a:ext cx="191592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5" descr="C:\Documents and Settings\ирина\Рабочий стол\для презентации\Новая папка (2)\КАРТИНКИ 8\ШРИФТЫ\8.gif"/>
          <p:cNvPicPr/>
          <p:nvPr/>
        </p:nvPicPr>
        <p:blipFill>
          <a:blip r:embed="rId9"/>
          <a:stretch/>
        </p:blipFill>
        <p:spPr>
          <a:xfrm>
            <a:off x="142920" y="2214720"/>
            <a:ext cx="1392120" cy="1190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6" descr="C:\Documents and Settings\ирина\Рабочий стол\для презентации\Новая папка (2)\КАРТИНКИ 8\ШРИФТЫ\10.gif"/>
          <p:cNvPicPr/>
          <p:nvPr/>
        </p:nvPicPr>
        <p:blipFill>
          <a:blip r:embed="rId10"/>
          <a:stretch/>
        </p:blipFill>
        <p:spPr>
          <a:xfrm>
            <a:off x="2286000" y="2286000"/>
            <a:ext cx="843120" cy="156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7" descr="C:\Documents and Settings\ирина\Рабочий стол\для презентации\Новая папка (2)\КАРТИНКИ 8\ШРИФТЫ\11.gif"/>
          <p:cNvPicPr/>
          <p:nvPr/>
        </p:nvPicPr>
        <p:blipFill>
          <a:blip r:embed="rId11"/>
          <a:stretch/>
        </p:blipFill>
        <p:spPr>
          <a:xfrm>
            <a:off x="3714840" y="2143080"/>
            <a:ext cx="1465200" cy="1236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8" descr="C:\Documents and Settings\ирина\Рабочий стол\для презентации\Новая папка (2)\КАРТИНКИ 8\ШРИФТЫ\12.gif"/>
          <p:cNvPicPr/>
          <p:nvPr/>
        </p:nvPicPr>
        <p:blipFill>
          <a:blip r:embed="rId12"/>
          <a:stretch/>
        </p:blipFill>
        <p:spPr>
          <a:xfrm>
            <a:off x="5786280" y="2286000"/>
            <a:ext cx="1171800" cy="1119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0" descr="C:\Documents and Settings\ирина\Рабочий стол\для презентации\Новая папка (2)\КАРТИНКИ 8\ШРИФТЫ\14.gif"/>
          <p:cNvPicPr/>
          <p:nvPr/>
        </p:nvPicPr>
        <p:blipFill>
          <a:blip r:embed="rId13"/>
          <a:stretch/>
        </p:blipFill>
        <p:spPr>
          <a:xfrm>
            <a:off x="6967440" y="1857240"/>
            <a:ext cx="1895400" cy="164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1" descr="C:\Documents and Settings\ирина\Рабочий стол\для презентации\Новая папка (2)\КАРТИНКИ 8\ШРИФТЫ\15.gif"/>
          <p:cNvPicPr/>
          <p:nvPr/>
        </p:nvPicPr>
        <p:blipFill>
          <a:blip r:embed="rId14"/>
          <a:stretch/>
        </p:blipFill>
        <p:spPr>
          <a:xfrm>
            <a:off x="0" y="3949560"/>
            <a:ext cx="1500120" cy="1455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2" descr="C:\Documents and Settings\ирина\Рабочий стол\для презентации\Новая папка (2)\КАРТИНКИ 8\ШРИФТЫ\16.gif"/>
          <p:cNvPicPr/>
          <p:nvPr/>
        </p:nvPicPr>
        <p:blipFill>
          <a:blip r:embed="rId15"/>
          <a:stretch/>
        </p:blipFill>
        <p:spPr>
          <a:xfrm>
            <a:off x="1428840" y="39765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3" descr="C:\Documents and Settings\ирина\Рабочий стол\для презентации\Новая папка (2)\КАРТИНКИ 8\ШРИФТЫ\17.gif"/>
          <p:cNvPicPr/>
          <p:nvPr/>
        </p:nvPicPr>
        <p:blipFill>
          <a:blip r:embed="rId16"/>
          <a:stretch/>
        </p:blipFill>
        <p:spPr>
          <a:xfrm>
            <a:off x="2643120" y="4410000"/>
            <a:ext cx="1071720" cy="99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4" descr="C:\Documents and Settings\ирина\Рабочий стол\для презентации\Новая папка (2)\КАРТИНКИ 8\ШРИФТЫ\18.gif"/>
          <p:cNvPicPr/>
          <p:nvPr/>
        </p:nvPicPr>
        <p:blipFill>
          <a:blip r:embed="rId17"/>
          <a:stretch/>
        </p:blipFill>
        <p:spPr>
          <a:xfrm>
            <a:off x="3929040" y="4429080"/>
            <a:ext cx="1030320" cy="90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6" descr="C:\Documents and Settings\ирина\Рабочий стол\для презентации\Новая папка (2)\КАРТИНКИ 8\ШРИФТЫ\20.gif"/>
          <p:cNvPicPr/>
          <p:nvPr/>
        </p:nvPicPr>
        <p:blipFill>
          <a:blip r:embed="rId18"/>
          <a:stretch/>
        </p:blipFill>
        <p:spPr>
          <a:xfrm>
            <a:off x="7500960" y="4000680"/>
            <a:ext cx="1209600" cy="104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7" descr="C:\Documents and Settings\ирина\Рабочий стол\для презентации\Новая папка (2)\КАРТИНКИ 8\ШРИФТЫ\21.gif"/>
          <p:cNvPicPr/>
          <p:nvPr/>
        </p:nvPicPr>
        <p:blipFill>
          <a:blip r:embed="rId19"/>
          <a:stretch/>
        </p:blipFill>
        <p:spPr>
          <a:xfrm>
            <a:off x="5000760" y="4357800"/>
            <a:ext cx="919080" cy="104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8" descr="C:\Documents and Settings\ирина\Рабочий стол\для презентации\Новая папка (2)\КАРТИНКИ 8\ШРИФТЫ\22.gif"/>
          <p:cNvPicPr/>
          <p:nvPr/>
        </p:nvPicPr>
        <p:blipFill>
          <a:blip r:embed="rId20"/>
          <a:stretch/>
        </p:blipFill>
        <p:spPr>
          <a:xfrm>
            <a:off x="6286680" y="4071960"/>
            <a:ext cx="1171440" cy="1119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0" descr="C:\Documents and Settings\ирина\Рабочий стол\для презентации\Новая папка (2)\КАРТИНКИ 8\ШРИФТЫ\24.gif"/>
          <p:cNvPicPr/>
          <p:nvPr/>
        </p:nvPicPr>
        <p:blipFill>
          <a:blip r:embed="rId21"/>
          <a:stretch/>
        </p:blipFill>
        <p:spPr>
          <a:xfrm>
            <a:off x="714240" y="542916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1" descr="C:\Documents and Settings\ирина\Рабочий стол\для презентации\Новая папка (2)\КАРТИНКИ 8\ШРИФТЫ\25.gif"/>
          <p:cNvPicPr/>
          <p:nvPr/>
        </p:nvPicPr>
        <p:blipFill>
          <a:blip r:embed="rId22"/>
          <a:stretch/>
        </p:blipFill>
        <p:spPr>
          <a:xfrm>
            <a:off x="2571840" y="5643720"/>
            <a:ext cx="1170000" cy="90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2" descr="C:\Documents and Settings\ирина\Рабочий стол\для презентации\Новая папка (2)\КАРТИНКИ 8\ШРИФТЫ\26.gif"/>
          <p:cNvPicPr/>
          <p:nvPr/>
        </p:nvPicPr>
        <p:blipFill>
          <a:blip r:embed="rId23"/>
          <a:stretch/>
        </p:blipFill>
        <p:spPr>
          <a:xfrm>
            <a:off x="4214880" y="5535720"/>
            <a:ext cx="1071360" cy="941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3" descr="C:\Documents and Settings\ирина\Рабочий стол\для презентации\Новая папка (2)\КАРТИНКИ 8\ШРИФТЫ\27.gif"/>
          <p:cNvPicPr/>
          <p:nvPr/>
        </p:nvPicPr>
        <p:blipFill>
          <a:blip r:embed="rId24"/>
          <a:stretch/>
        </p:blipFill>
        <p:spPr>
          <a:xfrm>
            <a:off x="5643720" y="5535720"/>
            <a:ext cx="1428480" cy="941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4" descr="C:\Documents and Settings\ирина\Рабочий стол\для презентации\Новая папка (2)\КАРТИНКИ 8\ШРИФТЫ\28.gif"/>
          <p:cNvPicPr/>
          <p:nvPr/>
        </p:nvPicPr>
        <p:blipFill>
          <a:blip r:embed="rId25"/>
          <a:stretch/>
        </p:blipFill>
        <p:spPr>
          <a:xfrm>
            <a:off x="7429680" y="51912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5" descr="C:\Documents and Settings\ирина\Рабочий стол\для презентации\Новая папка (2)\КАРТИНКИ 8\ШРИФТЫ\29.gif"/>
          <p:cNvPicPr/>
          <p:nvPr/>
        </p:nvPicPr>
        <p:blipFill>
          <a:blip r:embed="rId26"/>
          <a:stretch/>
        </p:blipFill>
        <p:spPr>
          <a:xfrm>
            <a:off x="1357200" y="1785960"/>
            <a:ext cx="1127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ap your hand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Физминут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ирина\Рабочий стол\для презентации\Новая папка (2)\рисунки2\руки\CLAP.WMF"/>
          <p:cNvPicPr/>
          <p:nvPr/>
        </p:nvPicPr>
        <p:blipFill>
          <a:blip r:embed="rId2"/>
          <a:stretch/>
        </p:blipFill>
        <p:spPr>
          <a:xfrm>
            <a:off x="5068800" y="3929040"/>
            <a:ext cx="4075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ставь в алфавитном поряд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 на доске наклеены английские буквы, ребята расставляют их в алфавитном порядке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4:11:38Z</dcterms:created>
  <dc:creator>ирина</dc:creator>
  <dc:description/>
  <dc:language>en-US</dc:language>
  <cp:lastModifiedBy>анжела</cp:lastModifiedBy>
  <dcterms:modified xsi:type="dcterms:W3CDTF">2013-03-27T16:53:43Z</dcterms:modified>
  <cp:revision>11</cp:revision>
  <dc:subject/>
  <dc:title>Do you know the ABC?</dc:title>
</cp:coreProperties>
</file>