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6.gif" ContentType="image/gif"/>
  <Override PartName="/ppt/media/image25.png" ContentType="image/png"/>
  <Override PartName="/ppt/media/image2.gif" ContentType="image/gif"/>
  <Override PartName="/ppt/media/image22.png" ContentType="image/png"/>
  <Override PartName="/ppt/media/image21.png" ContentType="image/png"/>
  <Override PartName="/ppt/media/image5.jpeg" ContentType="image/jpeg"/>
  <Override PartName="/ppt/media/image35.png" ContentType="image/png"/>
  <Override PartName="/ppt/media/image9.png" ContentType="image/png"/>
  <Override PartName="/ppt/media/image10.png" ContentType="image/png"/>
  <Override PartName="/ppt/media/image1.jpeg" ContentType="image/jpeg"/>
  <Override PartName="/ppt/media/image27.gif" ContentType="image/gif"/>
  <Override PartName="/ppt/media/image7.png" ContentType="image/png"/>
  <Override PartName="/ppt/media/image32.png" ContentType="image/png"/>
  <Override PartName="/ppt/media/image8.png" ContentType="image/png"/>
  <Override PartName="/ppt/media/image28.gif" ContentType="image/gif"/>
  <Override PartName="/ppt/media/image12.png" ContentType="image/png"/>
  <Override PartName="/ppt/media/image31.png" ContentType="image/png"/>
  <Override PartName="/ppt/media/image34.png" ContentType="image/png"/>
  <Override PartName="/ppt/media/image4.png" ContentType="image/png"/>
  <Override PartName="/ppt/media/image24.gif" ContentType="image/gif"/>
  <Override PartName="/ppt/media/image33.png" ContentType="image/png"/>
  <Override PartName="/ppt/media/image3.png" ContentType="image/png"/>
  <Override PartName="/ppt/media/image17.jpeg" ContentType="image/jpeg"/>
  <Override PartName="/ppt/media/image11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6.jpeg" ContentType="image/jpeg"/>
  <Override PartName="/ppt/media/image18.png" ContentType="image/png"/>
  <Override PartName="/ppt/media/image19.gif" ContentType="image/gif"/>
  <Override PartName="/ppt/media/image13.png" ContentType="image/png"/>
  <Override PartName="/ppt/media/image20.gif" ContentType="image/gif"/>
  <Override PartName="/ppt/media/image30.gif" ContentType="image/gif"/>
  <Override PartName="/ppt/media/image2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59FB-7A9F-455D-AE16-F6C4865DB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3E01-8496-44D1-80D6-EBE308AE1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FD14-498E-4E2E-B571-1DE8A4EB4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10DA-B4E9-46CF-85E2-A20D2E4FD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E05CC-C47B-41BE-A94D-3453D6DFE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C6E35-6639-4C4D-8ABC-4E4EF767C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81953-2D72-4009-A74A-E37CFBD0F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44DDF-225F-42A9-9AFB-067046786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E1C6C-D899-4F2E-AF76-BC16CFBE9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E6226-7109-4B18-9BE9-7F145F166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FCD27-42D2-4647-8901-BD80FFFD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8E03-89CB-44CF-A91E-1C1E78CEC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88CEC-E567-49F7-B918-DB552F12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DBFCF-CC36-4CE0-9DEA-40C12B4D7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A8E37-F47A-4804-B5BD-901BEF3D4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C9E9A-6855-403B-ACED-6DB5FFFB6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D0879-8282-46DA-B8B5-85B0C1F46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C9C2-E013-4865-A39A-37B62B7ED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6AB2-F05A-4680-A117-C72FC532A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AAD1-22B9-4468-85C7-AD5CAE0F5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713D-9AFD-46EC-8E2C-3ED8E8000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343D-356D-485F-AF0E-9FC5DC5CA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DF1E-9EBE-4CEC-880E-76B8AAAAB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C043-49F7-434D-AE45-DDFAD4ED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33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33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33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33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33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83FCC-3B75-4DD1-B2C3-093E70AEF1A9}" type="slidenum">
              <a:rPr b="0" lang="ru-RU" sz="1000" spc="-1" strike="noStrike">
                <a:solidFill>
                  <a:srgbClr val="0033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8080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33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33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33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33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33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EAAF4-5DC2-4DB4-B07F-5E90CF2A7646}" type="slidenum">
              <a:rPr b="0" lang="ru-RU" sz="1000" spc="-1" strike="noStrike">
                <a:solidFill>
                  <a:srgbClr val="0033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33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8080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8080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&#1042;&#1086;&#1083;&#1077;&#1081;&#1073;&#1086;&#1083;.ppt#12. &#1058;&#1077;&#1093;&#1085;&#1080;&#1082;&#1072; &#1074;&#1099;&#1087;&#1086;&#1083;&#1085;&#1077;&#1085;&#1080;&#1103; &#1087;&#1077;&#1088;&#1077;&#1076;&#1072;&#1095;&#1080; &#1084;&#1103;&#1095;&#1072; &#1089;&#1074;&#1077;&#1088;&#1093;&#1091; &#1076;&#1074;&#1091;&#1084;&#1103; &#1088;&#1091;&#1082;&#1072;&#1084;&#1080;" TargetMode="External"/><Relationship Id="rId2" Type="http://schemas.openxmlformats.org/officeDocument/2006/relationships/hyperlink" Target="file:///&#1042;&#1086;&#1083;&#1077;&#1081;&#1073;&#1086;&#1083;.ppt#13. &#1058;&#1077;&#1093;&#1085;&#1080;&#1082;&#1072; &#1074;&#1099;&#1087;&#1086;&#1083;&#1085;&#1077;&#1085;&#1080;&#1103; &#1087;&#1077;&#1088;&#1077;&#1076;&#1072;&#1095;&#1080; &#1084;&#1103;&#1095;&#1072;, &#1089;&#1090;&#1086;&#1103; &#1089;&#1087;&#1080;&#1085;&#1086;&#1081; &#1082; &#1094;&#1077;&#1083;&#1080;" TargetMode="External"/><Relationship Id="rId3" Type="http://schemas.openxmlformats.org/officeDocument/2006/relationships/hyperlink" Target="file:///&#1042;&#1086;&#1083;&#1077;&#1081;&#1073;&#1086;&#1083;.ppt#13. &#1058;&#1077;&#1093;&#1085;&#1080;&#1082;&#1072; &#1074;&#1099;&#1087;&#1086;&#1083;&#1085;&#1077;&#1085;&#1080;&#1103; &#1087;&#1077;&#1088;&#1077;&#1076;&#1072;&#1095;&#1080; &#1084;&#1103;&#1095;&#1072; &#1095;&#1077;&#1088;&#1077;&#1079; &#1089;&#1077;&#1090;&#1082;&#1091; &#1074; &#1087;&#1088;&#1099;&#1078;&#1082;&#1077;" TargetMode="External"/><Relationship Id="rId4" Type="http://schemas.openxmlformats.org/officeDocument/2006/relationships/hyperlink" Target="file:///&#1042;&#1086;&#1083;&#1077;&#1081;&#1073;&#1086;&#1083;.ppt#14. &#1058;&#1077;&#1093;&#1085;&#1080;&#1082;&#1072; &#1074;&#1099;&#1087;&#1086;&#1083;&#1085;&#1077;&#1085;&#1080;&#1103; &#1087;&#1077;&#1088;&#1077;&#1076;&#1072;&#1095;&#1080; &#1084;&#1103;&#1095;&#1072; &#1076;&#1074;&#1091;&#1084;&#1103; &#1088;&#1091;&#1082;&#1072;&#1084;&#1080; &#1089;&#1085;&#1080;&#1079;&#1091;" TargetMode="External"/><Relationship Id="rId5" Type="http://schemas.openxmlformats.org/officeDocument/2006/relationships/hyperlink" Target="file:///&#1042;&#1086;&#1083;&#1077;&#1081;&#1073;&#1086;&#1083;.ppt" TargetMode="External"/><Relationship Id="rId6" Type="http://schemas.openxmlformats.org/officeDocument/2006/relationships/image" Target="../media/image9.png"/><Relationship Id="rId7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3" Type="http://schemas.openxmlformats.org/officeDocument/2006/relationships/slideLayout" Target="../slideLayouts/slideLayout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file:///&#1042;&#1086;&#1083;&#1077;&#1081;&#1073;&#1086;&#1083;.ppt" TargetMode="External"/><Relationship Id="rId3" Type="http://schemas.openxmlformats.org/officeDocument/2006/relationships/image" Target="../media/image12.png"/><Relationship Id="rId4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5" Type="http://schemas.openxmlformats.org/officeDocument/2006/relationships/slideLayout" Target="../slideLayouts/slideLayout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&#1042;&#1086;&#1083;&#1077;&#1081;&#1073;&#1086;&#1083;.ppt" TargetMode="External"/><Relationship Id="rId2" Type="http://schemas.openxmlformats.org/officeDocument/2006/relationships/image" Target="../media/image13.png"/><Relationship Id="rId3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&#1042;&#1086;&#1083;&#1077;&#1081;&#1073;&#1086;&#1083;.ppt" TargetMode="External"/><Relationship Id="rId2" Type="http://schemas.openxmlformats.org/officeDocument/2006/relationships/image" Target="../media/image14.png"/><Relationship Id="rId3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file:///&#1042;&#1086;&#1083;&#1077;&#1081;&#1073;&#1086;&#1083;.ppt" TargetMode="External"/><Relationship Id="rId3" Type="http://schemas.openxmlformats.org/officeDocument/2006/relationships/image" Target="../media/image16.png"/><Relationship Id="rId4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5" Type="http://schemas.openxmlformats.org/officeDocument/2006/relationships/slideLayout" Target="../slideLayouts/slideLayout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&#1042;&#1086;&#1083;&#1077;&#1081;&#1073;&#1086;&#1083;.ppt#17. &#1058;&#1077;&#1093;&#1085;&#1080;&#1082;&#1072; &#1074;&#1099;&#1087;&#1086;&#1083;&#1085;&#1077;&#1085;&#1080;&#1103; &#1086;&#1090;&#1073;&#1080;&#1074;&#1072;&#1085;&#1080;&#1103; &#1084;&#1103;&#1095;&#1072; &#1082;&#1091;&#1083;&#1072;&#1082;&#1086;&#1084; &#1091; &#1089;&#1077;&#1090;&#1082;&#1080;" TargetMode="External"/><Relationship Id="rId2" Type="http://schemas.openxmlformats.org/officeDocument/2006/relationships/hyperlink" Target="file:///&#1042;&#1086;&#1083;&#1077;&#1081;&#1073;&#1086;&#1083;.ppt" TargetMode="External"/><Relationship Id="rId3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4" Type="http://schemas.openxmlformats.org/officeDocument/2006/relationships/hyperlink" Target="file:///&#1042;&#1086;&#1083;&#1077;&#1081;&#1073;&#1086;&#1083;.ppt" TargetMode="External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&#1042;&#1086;&#1083;&#1077;&#1081;&#1073;&#1086;&#1083;.ppt" TargetMode="External"/><Relationship Id="rId2" Type="http://schemas.openxmlformats.org/officeDocument/2006/relationships/image" Target="../media/image18.png"/><Relationship Id="rId3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hyperlink" Target="file:///&#1042;&#1086;&#1083;&#1077;&#1081;&#1073;&#1086;&#1083;.ppt#19. &#1058;&#1077;&#1093;&#1085;&#1080;&#1082;&#1072; &#1074;&#1099;&#1087;&#1086;&#1083;&#1085;&#1077;&#1085;&#1080;&#1103; &#1085;&#1080;&#1078;&#1085;&#1077;&#1081; &#1087;&#1088;&#1103;&#1084;&#1086;&#1081; &#1087;&#1086;&#1076;&#1072;&#1095;&#1080;" TargetMode="External"/><Relationship Id="rId3" Type="http://schemas.openxmlformats.org/officeDocument/2006/relationships/hyperlink" Target="file:///&#1042;&#1086;&#1083;&#1077;&#1081;&#1073;&#1086;&#1083;.ppt#20. &#1058;&#1077;&#1093;&#1085;&#1080;&#1082;&#1072; &#1074;&#1099;&#1087;&#1086;&#1083;&#1085;&#1077;&#1085;&#1080;&#1103; &#1074;&#1077;&#1088;&#1093;&#1085;&#1077;&#1081; &#1087;&#1088;&#1103;&#1084;&#1086;&#1081; &#1087;&#1086;&#1076;&#1072;&#1095;&#1080;" TargetMode="External"/><Relationship Id="rId4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5" Type="http://schemas.openxmlformats.org/officeDocument/2006/relationships/image" Target="../media/image20.gif"/><Relationship Id="rId6" Type="http://schemas.openxmlformats.org/officeDocument/2006/relationships/slideLayout" Target="../slideLayouts/slideLayout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&#1042;&#1086;&#1083;&#1077;&#1081;&#1073;&#1086;&#1083;.ppt#3. &#1048;&#1079; &#1080;&#1089;&#1090;&#1086;&#1088;&#1080;&#1080; &#1074;&#1086;&#1083;&#1077;&#1081;&#1073;&#1086;&#1083;&#1072;" TargetMode="External"/><Relationship Id="rId2" Type="http://schemas.openxmlformats.org/officeDocument/2006/relationships/hyperlink" Target="file:///&#1042;&#1086;&#1083;&#1077;&#1081;&#1073;&#1086;&#1083;.ppt#4. &#1056;&#1072;&#1079;&#1084;&#1077;&#1088;&#1099; &#1080; &#1083;&#1080;&#1085;&#1080;&#1080; &#1087;&#1083;&#1086;&#1097;&#1072;&#1076;&#1082;&#1080;" TargetMode="External"/><Relationship Id="rId3" Type="http://schemas.openxmlformats.org/officeDocument/2006/relationships/hyperlink" Target="file:///&#1042;&#1086;&#1083;&#1077;&#1081;&#1073;&#1086;&#1083;.ppt#5. &#1042;&#1086;&#1083;&#1077;&#1081;&#1073;&#1086;&#1083;&#1100;&#1085;&#1099;&#1081; &#1084;&#1103;&#1095;" TargetMode="External"/><Relationship Id="rId4" Type="http://schemas.openxmlformats.org/officeDocument/2006/relationships/hyperlink" Target="file:///&#1042;&#1086;&#1083;&#1077;&#1081;&#1073;&#1086;&#1083;.ppt#6. &#1054;&#1076;&#1077;&#1078;&#1076;&#1072;" TargetMode="External"/><Relationship Id="rId5" Type="http://schemas.openxmlformats.org/officeDocument/2006/relationships/hyperlink" Target="file:///&#1042;&#1086;&#1083;&#1077;&#1081;&#1073;&#1086;&#1083;.ppt#7. &#1055;&#1088;&#1072;&#1074;&#1080;&#1083;&#1072; &#1080;&#1075;&#1088;&#1099;" TargetMode="External"/><Relationship Id="rId6" Type="http://schemas.openxmlformats.org/officeDocument/2006/relationships/hyperlink" Target="file:///&#1042;&#1086;&#1083;&#1077;&#1081;&#1073;&#1086;&#1083;.ppt#8. &#1054; &#1090;&#1077;&#1093;&#1085;&#1080;&#1082;&#1077; &#1080;&#1075;&#1088;&#1099;" TargetMode="External"/><Relationship Id="rId7" Type="http://schemas.openxmlformats.org/officeDocument/2006/relationships/hyperlink" Target="file:///&#1042;&#1086;&#1083;&#1077;&#1081;&#1073;&#1086;&#1083;.ppt#9. &#1057;&#1090;&#1086;&#1081;&#1082;&#1072; &#1074;&#1086;&#1083;&#1077;&#1081;&#1073;&#1086;&#1083;&#1080;&#1089;&#1090;&#1072;" TargetMode="External"/><Relationship Id="rId8" Type="http://schemas.openxmlformats.org/officeDocument/2006/relationships/hyperlink" Target="file:///&#1042;&#1086;&#1083;&#1077;&#1081;&#1073;&#1086;&#1083;.ppt#10. &#1055;&#1077;&#1088;&#1077;&#1076;&#1072;&#1095;&#1072; &#1084;&#1103;&#1095;&#1072; &#1089;&#1074;&#1077;&#1088;&#1093;&#1091; &#1076;&#1074;&#1091;&#1084;&#1103; &#1088;&#1091;&#1082;&#1072;&#1084;&#1080;" TargetMode="External"/><Relationship Id="rId9" Type="http://schemas.openxmlformats.org/officeDocument/2006/relationships/hyperlink" Target="file:///&#1042;&#1086;&#1083;&#1077;&#1081;&#1073;&#1086;&#1083;.ppt#11. &#1055;&#1088;&#1072;&#1074;&#1080;&#1083;&#1100;&#1085;&#1086;&#1077; &#1087;&#1086;&#1083;&#1086;&#1078;&#1077;&#1085;&#1080;&#1077; &#1082;&#1080;&#1089;&#1090;&#1077;&#1081; &#1080; &#1087;&#1072;&#1083;&#1100;&#1094;&#1077;&#1074;" TargetMode="External"/><Relationship Id="rId10" Type="http://schemas.openxmlformats.org/officeDocument/2006/relationships/hyperlink" Target="file:///&#1042;&#1086;&#1083;&#1077;&#1081;&#1073;&#1086;&#1083;.ppt#16. &#1054;&#1090;&#1073;&#1080;&#1074;&#1072;&#1085;&#1080;&#1077; &#1084;&#1103;&#1095;&#1072; &#1082;&#1091;&#1083;&#1072;&#1082;&#1086;&#1084;" TargetMode="External"/><Relationship Id="rId11" Type="http://schemas.openxmlformats.org/officeDocument/2006/relationships/hyperlink" Target="file:///&#1042;&#1086;&#1083;&#1077;&#1081;&#1073;&#1086;&#1083;.ppt#18. &#1055;&#1086;&#1076;&#1072;&#1095;&#1080;" TargetMode="External"/><Relationship Id="rId12" Type="http://schemas.openxmlformats.org/officeDocument/2006/relationships/hyperlink" Target="file:///&#1042;&#1086;&#1083;&#1077;&#1081;&#1073;&#1086;&#1083;.ppt#21. &#1055;&#1088;&#1080;&#1077;&#1084; &#1084;&#1103;&#1095;&#1072;" TargetMode="External"/><Relationship Id="rId13" Type="http://schemas.openxmlformats.org/officeDocument/2006/relationships/hyperlink" Target="file:///&#1042;&#1086;&#1083;&#1077;&#1081;&#1073;&#1086;&#1083;.ppt#24. &#1055;&#1088;&#1080;&#1077;&#1084; &#1084;&#1103;&#1095;&#1072; &#1074; &#1087;&#1072;&#1076;&#1077;&#1085;&#1080;&#1077;" TargetMode="External"/><Relationship Id="rId14" Type="http://schemas.openxmlformats.org/officeDocument/2006/relationships/hyperlink" Target="file:///&#1042;&#1086;&#1083;&#1077;&#1081;&#1073;&#1086;&#1083;.ppt#27. &#1053;&#1072;&#1087;&#1072;&#1076;&#1072;&#1102;&#1097;&#1080;&#1081; &#1091;&#1076;&#1072;&#1088;" TargetMode="External"/><Relationship Id="rId15" Type="http://schemas.openxmlformats.org/officeDocument/2006/relationships/hyperlink" Target="file:///&#1042;&#1086;&#1083;&#1077;&#1081;&#1073;&#1086;&#1083;.ppt#29. &#1041;&#1083;&#1086;&#1082;&#1080;&#1088;&#1086;&#1074;&#1072;&#1085;&#1080;&#1103; &#1084;&#1103;&#1095;&#1072;" TargetMode="External"/><Relationship Id="rId16" Type="http://schemas.openxmlformats.org/officeDocument/2006/relationships/hyperlink" Target="file:///&#1042;&#1086;&#1083;&#1077;&#1081;&#1073;&#1086;&#1083;.ppt#31. &#1055;&#1077;&#1088;&#1077;&#1076;&#1072;&#1095;&#1080;" TargetMode="External"/><Relationship Id="rId17" Type="http://schemas.openxmlformats.org/officeDocument/2006/relationships/hyperlink" Target="file:///&#1042;&#1086;&#1083;&#1077;&#1081;&#1073;&#1086;&#1083;.ppt#32. &#1055;&#1088;&#1080;&#1077;&#1084;&#1099;" TargetMode="External"/><Relationship Id="rId18" Type="http://schemas.openxmlformats.org/officeDocument/2006/relationships/hyperlink" Target="file:///&#1042;&#1086;&#1083;&#1077;&#1081;&#1073;&#1086;&#1083;.ppt#33. &#1055;&#1086;&#1076;&#1072;&#1095;&#1080;" TargetMode="External"/><Relationship Id="rId19" Type="http://schemas.openxmlformats.org/officeDocument/2006/relationships/image" Target="../media/image2.gif"/><Relationship Id="rId2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&#1042;&#1086;&#1083;&#1077;&#1081;&#1073;&#1086;&#1083;.ppt" TargetMode="External"/><Relationship Id="rId2" Type="http://schemas.openxmlformats.org/officeDocument/2006/relationships/image" Target="../media/image21.png"/><Relationship Id="rId3" Type="http://schemas.openxmlformats.org/officeDocument/2006/relationships/hyperlink" Target="file:///&#1042;&#1086;&#1083;&#1077;&#1081;&#1073;&#1086;&#1083;.ppt#22. &#1058;&#1077;&#1093;&#1085;&#1080;&#1082;&#1072; &#1074;&#1099;&#1087;&#1086;&#1083;&#1085;&#1077;&#1085;&#1080;&#1103; &#1087;&#1088;&#1080;&#1077;&#1084;&#1072; &#1084;&#1103;&#1095;&#1072; &#1076;&#1074;&#1091;&#1084;&#1103; &#1088;&#1091;&#1082;&#1072;&#1084;&#1080; &#1089;&#1074;&#1077;&#1088;&#1093;&#1091;" TargetMode="External"/><Relationship Id="rId4" Type="http://schemas.openxmlformats.org/officeDocument/2006/relationships/hyperlink" Target="file:///&#1042;&#1086;&#1083;&#1077;&#1081;&#1073;&#1086;&#1083;.ppt#23. &#1058;&#1077;&#1093;&#1085;&#1080;&#1082;&#1072; &#1074;&#1099;&#1087;&#1086;&#1083;&#1085;&#1077;&#1085;&#1080;&#1103; &#1087;&#1088;&#1080;&#1077;&#1084;&#1072; &#1084;&#1103;&#1095;&#1072; &#1089;&#1085;&#1080;&#1079;&#1091; &#1076;&#1074;&#1091;&#1084;&#1103; &#1088;&#1091;&#1082;&#1072;&#1084;&#1080;" TargetMode="External"/><Relationship Id="rId5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&#1042;&#1086;&#1083;&#1077;&#1081;&#1073;&#1086;&#1083;.ppt" TargetMode="External"/><Relationship Id="rId2" Type="http://schemas.openxmlformats.org/officeDocument/2006/relationships/image" Target="../media/image22.png"/><Relationship Id="rId3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4" Type="http://schemas.openxmlformats.org/officeDocument/2006/relationships/slideLayout" Target="../slideLayouts/slideLayout10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&#1042;&#1086;&#1083;&#1077;&#1081;&#1073;&#1086;&#1083;.ppt#25. &#1058;&#1077;&#1093;&#1085;&#1080;&#1082;&#1072; &#1074;&#1099;&#1087;&#1086;&#1083;&#1085;&#1077;&#1085;&#1080;&#1103; &#1087;&#1088;&#1080;&#1077;&#1084;&#1072; &#1084;&#1103;&#1095;&#1072; &#1086;&#1076;&#1085;&#1086;&#1081; &#1088;&#1091;&#1082;&#1086;&#1081; &#1089; &#1087;&#1086;&#1089;&#1083;&#1077;&#1076;&#1091;&#1102;&#1097;&#1080;&#1084; ..." TargetMode="External"/><Relationship Id="rId2" Type="http://schemas.openxmlformats.org/officeDocument/2006/relationships/hyperlink" Target="file:///&#1042;&#1086;&#1083;&#1077;&#1081;&#1073;&#1086;&#1083;.ppt#26. &#1058;&#1077;&#1093;&#1085;&#1080;&#1082;&#1072; &#1074;&#1099;&#1087;&#1086;&#1083;&#1085;&#1077;&#1085;&#1080;&#1103; &#1087;&#1088;&#1080;&#1077;&#1084;&#1072; &#1084;&#1103;&#1095;&#1072; &#1086;&#1076;&#1085;&#1086;&#1081; &#1088;&#1091;&#1082;&#1086;&#1081; &#1074;&#1087;&#1072;&#1076;&#1077;&#1085;&#1080;&#1080; &#1074;&#1087;&#1077;&#1088;&#1077;..." TargetMode="External"/><Relationship Id="rId3" Type="http://schemas.openxmlformats.org/officeDocument/2006/relationships/hyperlink" Target="file:///&#1042;&#1086;&#1083;&#1077;&#1081;&#1073;&#1086;&#1083;.ppt" TargetMode="External"/><Relationship Id="rId4" Type="http://schemas.openxmlformats.org/officeDocument/2006/relationships/image" Target="../media/image25.png"/><Relationship Id="rId5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0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&#1042;&#1086;&#1083;&#1077;&#1081;&#1073;&#1086;&#1083;.ppt#28. &#1058;&#1077;&#1093;&#1085;&#1080;&#1082;&#1072; &#1074;&#1099;&#1087;&#1086;&#1083;&#1085;&#1077;&#1085;&#1080;&#1103; &#1085;&#1072;&#1087;&#1072;&#1076;&#1072;&#1102;&#1097;&#1077;&#1075;&#1086; &#1091;&#1076;&#1072;&#1088;&#1072;" TargetMode="External"/><Relationship Id="rId2" Type="http://schemas.openxmlformats.org/officeDocument/2006/relationships/hyperlink" Target="file:///&#1042;&#1086;&#1083;&#1077;&#1081;&#1073;&#1086;&#1083;.ppt" TargetMode="External"/><Relationship Id="rId3" Type="http://schemas.openxmlformats.org/officeDocument/2006/relationships/image" Target="../media/image3.png"/><Relationship Id="rId4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file:///&#1042;&#1086;&#1083;&#1077;&#1081;&#1073;&#1086;&#1083;.ppt#30. &#1058;&#1077;&#1093;&#1085;&#1080;&#1082;&#1072; &#1074;&#1099;&#1087;&#1086;&#1083;&#1085;&#1077;&#1085;&#1080;&#1103; &#1073;&#1083;&#1086;&#1082;&#1080;&#1088;&#1086;&#1074;&#1072;&#1085;&#1080;&#1103; &#1084;&#1103;&#1095;&#1072;" TargetMode="External"/><Relationship Id="rId2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file:///&#1042;&#1086;&#1083;&#1077;&#1081;&#1073;&#1086;&#1083;.ppt" TargetMode="External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6" Type="http://schemas.openxmlformats.org/officeDocument/2006/relationships/slideLayout" Target="../slideLayouts/slideLayout1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file:///&#1042;&#1086;&#1083;&#1077;&#1081;&#1073;&#1086;&#1083;.ppt" TargetMode="External"/><Relationship Id="rId2" Type="http://schemas.openxmlformats.org/officeDocument/2006/relationships/image" Target="../media/image31.png"/><Relationship Id="rId3" Type="http://schemas.openxmlformats.org/officeDocument/2006/relationships/hyperlink" Target="file:///&#1042;&#1086;&#1083;&#1077;&#1081;&#1073;&#1086;&#1083;.ppt" TargetMode="External"/><Relationship Id="rId4" Type="http://schemas.openxmlformats.org/officeDocument/2006/relationships/image" Target="../media/image32.png"/><Relationship Id="rId5" Type="http://schemas.openxmlformats.org/officeDocument/2006/relationships/hyperlink" Target="file:///&#1042;&#1086;&#1083;&#1077;&#1081;&#1073;&#1086;&#1083;.ppt" TargetMode="External"/><Relationship Id="rId6" Type="http://schemas.openxmlformats.org/officeDocument/2006/relationships/image" Target="../media/image33.png"/><Relationship Id="rId7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8" Type="http://schemas.openxmlformats.org/officeDocument/2006/relationships/slideLayout" Target="../slideLayouts/slideLayout1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file:///&#1042;&#1086;&#1083;&#1077;&#1081;&#1073;&#1086;&#1083;.ppt" TargetMode="External"/><Relationship Id="rId2" Type="http://schemas.openxmlformats.org/officeDocument/2006/relationships/image" Target="../media/image34.png"/><Relationship Id="rId3" Type="http://schemas.openxmlformats.org/officeDocument/2006/relationships/hyperlink" Target="file:///&#1042;&#1086;&#1083;&#1077;&#1081;&#1073;&#1086;&#1083;.ppt" TargetMode="External"/><Relationship Id="rId4" Type="http://schemas.openxmlformats.org/officeDocument/2006/relationships/image" Target="../media/image35.png"/><Relationship Id="rId5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3" Type="http://schemas.openxmlformats.org/officeDocument/2006/relationships/slideLayout" Target="../slideLayouts/slideLayou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&#1042;&#1086;&#1083;&#1077;&#1081;&#1073;&#1086;&#1083;.ppt#21. &#1055;&#1088;&#1080;&#1077;&#1084; &#1084;&#1103;&#1095;&#1072;" TargetMode="External"/><Relationship Id="rId2" Type="http://schemas.openxmlformats.org/officeDocument/2006/relationships/hyperlink" Target="file:///&#1042;&#1086;&#1083;&#1077;&#1081;&#1073;&#1086;&#1083;.ppt#18. &#1055;&#1086;&#1076;&#1072;&#1095;&#1080;" TargetMode="External"/><Relationship Id="rId3" Type="http://schemas.openxmlformats.org/officeDocument/2006/relationships/hyperlink" Target="file:///&#1042;&#1086;&#1083;&#1077;&#1081;&#1073;&#1086;&#1083;.ppt#18. &#1055;&#1086;&#1076;&#1072;&#1095;&#1080;" TargetMode="External"/><Relationship Id="rId4" Type="http://schemas.openxmlformats.org/officeDocument/2006/relationships/hyperlink" Target="file:///&#1042;&#1086;&#1083;&#1077;&#1081;&#1073;&#1086;&#1083;.ppt#10. &#1055;&#1077;&#1088;&#1077;&#1076;&#1072;&#1095;&#1072; &#1084;&#1103;&#1095;&#1072; &#1089;&#1074;&#1077;&#1088;&#1093;&#1091; &#1076;&#1074;&#1091;&#1084;&#1103; &#1088;&#1091;&#1082;&#1072;&#1084;&#1080;" TargetMode="External"/><Relationship Id="rId5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6" Type="http://schemas.openxmlformats.org/officeDocument/2006/relationships/hyperlink" Target="file:///&#1042;&#1086;&#1083;&#1077;&#1081;&#1073;&#1086;&#1083;.ppt#16. &#1054;&#1090;&#1073;&#1080;&#1074;&#1072;&#1085;&#1080;&#1077; &#1084;&#1103;&#1095;&#1072; &#1082;&#1091;&#1083;&#1072;&#1082;&#1086;&#1084;" TargetMode="External"/><Relationship Id="rId7" Type="http://schemas.openxmlformats.org/officeDocument/2006/relationships/hyperlink" Target="file:///&#1042;&#1086;&#1083;&#1077;&#1081;&#1073;&#1086;&#1083;.ppt#27. &#1053;&#1072;&#1087;&#1072;&#1076;&#1072;&#1102;&#1097;&#1080;&#1081; &#1091;&#1076;&#1072;&#1088;" TargetMode="External"/><Relationship Id="rId8" Type="http://schemas.openxmlformats.org/officeDocument/2006/relationships/hyperlink" Target="file:///&#1042;&#1086;&#1083;&#1077;&#1081;&#1073;&#1086;&#1083;.ppt#27. &#1053;&#1072;&#1087;&#1072;&#1076;&#1072;&#1102;&#1097;&#1080;&#1081; &#1091;&#1076;&#1072;&#1088;" TargetMode="External"/><Relationship Id="rId9" Type="http://schemas.openxmlformats.org/officeDocument/2006/relationships/hyperlink" Target="file:///&#1042;&#1086;&#1083;&#1077;&#1081;&#1073;&#1086;&#1083;.ppt#29. &#1041;&#1083;&#1086;&#1082;&#1080;&#1088;&#1086;&#1074;&#1072;&#1085;&#1080;&#1103; &#1084;&#1103;&#1095;&#1072;" TargetMode="External"/><Relationship Id="rId10" Type="http://schemas.openxmlformats.org/officeDocument/2006/relationships/slide" Target="slide24.xml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file:///&#1042;&#1086;&#1083;&#1077;&#1081;&#1073;&#1086;&#1083;.ppt#2. &#1057;&#1086;&#1076;&#1077;&#1088;&#1078;&#1072;&#1085;&#1080;&#1077;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476360" y="3257280"/>
            <a:ext cx="6400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3300"/>
                </a:solidFill>
                <a:latin typeface="Verdana"/>
              </a:rPr>
              <a:t>Изучение и совершенствование техники волейбола</a:t>
            </a:r>
            <a:endParaRPr b="0" lang="en-US" sz="3000" spc="-1" strike="noStrike">
              <a:solidFill>
                <a:srgbClr val="003300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3300"/>
                </a:solidFill>
                <a:latin typeface="Verdana"/>
              </a:rPr>
              <a:t>5-11 класс</a:t>
            </a:r>
            <a:endParaRPr b="0" lang="en-US" sz="3000" spc="-1" strike="noStrike">
              <a:solidFill>
                <a:srgbClr val="003300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1" name="">
            <a:hlinkClick r:id="" action="ppaction://hlinkshowjump?jump=nextslide"/>
          </p:cNvPr>
          <p:cNvSpPr/>
          <p:nvPr/>
        </p:nvSpPr>
        <p:spPr>
          <a:xfrm>
            <a:off x="8244000" y="630864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previousslide"/>
          </p:cNvPr>
          <p:cNvSpPr/>
          <p:nvPr/>
        </p:nvSpPr>
        <p:spPr>
          <a:xfrm>
            <a:off x="752472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826920" y="692280"/>
            <a:ext cx="626436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Волейбол</a:t>
            </a:r>
            <a:endParaRPr b="1" i="1" lang="en-US" sz="96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630864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8036" y="10800"/>
                </a:moveTo>
                <a:lnTo>
                  <a:pt x="28542" y="3794"/>
                </a:lnTo>
                <a:lnTo>
                  <a:pt x="28542" y="17806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16191" y="3794"/>
                </a:lnTo>
                <a:lnTo>
                  <a:pt x="16191" y="17806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Передача мяча сверху двумя руками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Передача мяча сверху двумя руками составляет основу игры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При взаимодействии нападающих для ускорения атаки и дезорганизации блока. 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Она дает возможность выполнять различные упражнения по технике, а также играть через сетку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cc00"/>
                </a:solidFill>
                <a:latin typeface="Verdana"/>
              </a:rPr>
              <a:t>(техника: </a:t>
            </a:r>
            <a:r>
              <a:rPr b="0" lang="ru-RU" sz="1600" spc="-1" strike="noStrike" u="sng">
                <a:solidFill>
                  <a:srgbClr val="99cc00"/>
                </a:solidFill>
                <a:uFillTx/>
                <a:latin typeface="Verdana"/>
                <a:hlinkClick r:id="rId1"/>
              </a:rPr>
              <a:t>сверху двумя руками</a:t>
            </a:r>
            <a:r>
              <a:rPr b="0" i="1" lang="ru-RU" sz="1600" spc="-1" strike="noStrike">
                <a:solidFill>
                  <a:srgbClr val="99cc00"/>
                </a:solidFill>
                <a:latin typeface="Verdana"/>
              </a:rPr>
              <a:t>;</a:t>
            </a:r>
            <a:r>
              <a:rPr b="0" lang="ru-RU" sz="1600" spc="-1" strike="noStrike" u="sng">
                <a:solidFill>
                  <a:srgbClr val="99cc00"/>
                </a:solidFill>
                <a:uFillTx/>
                <a:latin typeface="Verdana"/>
                <a:hlinkClick r:id="rId2"/>
              </a:rPr>
              <a:t> </a:t>
            </a:r>
            <a:r>
              <a:rPr b="0" i="1" lang="ru-RU" sz="1600" spc="-1" strike="noStrike">
                <a:solidFill>
                  <a:srgbClr val="99cc00"/>
                </a:solidFill>
                <a:latin typeface="Verdana"/>
              </a:rPr>
              <a:t>стоя спиной к цели; </a:t>
            </a:r>
            <a:r>
              <a:rPr b="0" lang="ru-RU" sz="1600" spc="-1" strike="noStrike" u="sng">
                <a:solidFill>
                  <a:srgbClr val="99cc00"/>
                </a:solidFill>
                <a:uFillTx/>
                <a:latin typeface="Verdana"/>
                <a:hlinkClick r:id="rId3"/>
              </a:rPr>
              <a:t>через сетку в прыжке</a:t>
            </a:r>
            <a:r>
              <a:rPr b="0" i="1" lang="ru-RU" sz="1600" spc="-1" strike="noStrike">
                <a:solidFill>
                  <a:srgbClr val="99cc00"/>
                </a:solidFill>
                <a:latin typeface="Verdana"/>
              </a:rPr>
              <a:t>; </a:t>
            </a:r>
            <a:r>
              <a:rPr b="0" lang="ru-RU" sz="1600" spc="-1" strike="noStrike" u="sng">
                <a:solidFill>
                  <a:srgbClr val="99cc00"/>
                </a:solidFill>
                <a:uFillTx/>
                <a:latin typeface="Verdana"/>
                <a:hlinkClick r:id="rId4"/>
              </a:rPr>
              <a:t>двумя руками снизу)</a:t>
            </a:r>
            <a:endParaRPr b="0" lang="en-US" sz="16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15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003640" y="1628640"/>
            <a:ext cx="3265560" cy="4530960"/>
          </a:xfrm>
          <a:prstGeom prst="rect">
            <a:avLst/>
          </a:prstGeom>
          <a:ln w="0">
            <a:noFill/>
          </a:ln>
        </p:spPr>
      </p:pic>
      <p:sp>
        <p:nvSpPr>
          <p:cNvPr id="160" name="">
            <a:hlinkClick r:id="" action="ppaction://hlinkshowjump?jump=nextslide"/>
          </p:cNvPr>
          <p:cNvSpPr/>
          <p:nvPr/>
        </p:nvSpPr>
        <p:spPr>
          <a:xfrm>
            <a:off x="8244000" y="623736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1" name="">
            <a:hlinkClick r:id="" action="ppaction://hlinkshowjump?jump=previousslide"/>
          </p:cNvPr>
          <p:cNvSpPr/>
          <p:nvPr/>
        </p:nvSpPr>
        <p:spPr>
          <a:xfrm>
            <a:off x="6516720" y="623736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236000" y="630864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7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3000"/>
                            </p:stCondLst>
                            <p:childTnLst>
                              <p:par>
                                <p:cTn id="45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4000"/>
                            </p:stCondLst>
                            <p:childTnLst>
                              <p:par>
                                <p:cTn id="46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000"/>
                            </p:stCondLst>
                            <p:childTnLst>
                              <p:par>
                                <p:cTn id="48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6000"/>
                            </p:stCondLst>
                            <p:childTnLst>
                              <p:par>
                                <p:cTn id="50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Правильное положение кистей и пальцев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8510400" cy="29955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5373360"/>
            <a:ext cx="822960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Verdana"/>
              </a:rPr>
              <a:t>Положение кистей рук и расположение пальцев на мяче, во время передачи мяча.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7164360" y="638172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2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nextslide"/>
          </p:cNvPr>
          <p:cNvSpPr/>
          <p:nvPr/>
        </p:nvSpPr>
        <p:spPr>
          <a:xfrm>
            <a:off x="817236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8" name="">
            <a:hlinkClick r:id="" action="ppaction://hlinkshowjump?jump=previousslide"/>
          </p:cNvPr>
          <p:cNvSpPr/>
          <p:nvPr/>
        </p:nvSpPr>
        <p:spPr>
          <a:xfrm>
            <a:off x="644364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Техника выполнения передачи мяча сверху двумя руками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3384720" cy="29764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86280" y="1341360"/>
            <a:ext cx="3059280" cy="31672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360" y="443664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Verdana"/>
              </a:rPr>
              <a:t>При выполнении передачи нужно успеть занять устойчивое исходное положение, затем, разгибая ноги и руки, отрывистыми касанием кончиков пальцев рук мячу придается нужное направление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Verdana"/>
              </a:rPr>
              <a:t>Встреча рук с мячом происходит над лицом несколько впереди, нельзя мяч отбивать ладонями, это нарушение правил игры. 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73" name="">
            <a:hlinkClick r:id="" action="ppaction://hlinkshowjump?jump=nextslide"/>
          </p:cNvPr>
          <p:cNvSpPr/>
          <p:nvPr/>
        </p:nvSpPr>
        <p:spPr>
          <a:xfrm>
            <a:off x="817236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4" name="">
            <a:hlinkClick r:id="" action="ppaction://hlinkshowjump?jump=previousslide"/>
          </p:cNvPr>
          <p:cNvSpPr/>
          <p:nvPr/>
        </p:nvSpPr>
        <p:spPr>
          <a:xfrm>
            <a:off x="644364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164360" y="638172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4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332000" y="630864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7493"/>
                </a:moveTo>
                <a:lnTo>
                  <a:pt x="18036" y="7493"/>
                </a:lnTo>
                <a:lnTo>
                  <a:pt x="18036" y="12828"/>
                </a:lnTo>
                <a:cubicBezTo>
                  <a:pt x="18036" y="13751"/>
                  <a:pt x="18837" y="14482"/>
                  <a:pt x="19873" y="14482"/>
                </a:cubicBezTo>
                <a:lnTo>
                  <a:pt x="21535" y="14482"/>
                </a:lnTo>
                <a:cubicBezTo>
                  <a:pt x="22571" y="14482"/>
                  <a:pt x="23372" y="13751"/>
                  <a:pt x="23372" y="12828"/>
                </a:cubicBezTo>
                <a:lnTo>
                  <a:pt x="23372" y="7493"/>
                </a:lnTo>
                <a:lnTo>
                  <a:pt x="21535" y="7493"/>
                </a:lnTo>
                <a:lnTo>
                  <a:pt x="25043" y="3985"/>
                </a:lnTo>
                <a:lnTo>
                  <a:pt x="28716" y="7493"/>
                </a:lnTo>
                <a:lnTo>
                  <a:pt x="26879" y="7493"/>
                </a:lnTo>
                <a:lnTo>
                  <a:pt x="26879" y="12828"/>
                </a:lnTo>
                <a:cubicBezTo>
                  <a:pt x="26879" y="15596"/>
                  <a:pt x="24303" y="18155"/>
                  <a:pt x="21535" y="18155"/>
                </a:cubicBezTo>
                <a:lnTo>
                  <a:pt x="19873" y="18155"/>
                </a:lnTo>
                <a:cubicBezTo>
                  <a:pt x="17105" y="18155"/>
                  <a:pt x="14529" y="15596"/>
                  <a:pt x="14529" y="12828"/>
                </a:cubicBez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32000" y="630864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7493"/>
                </a:moveTo>
                <a:lnTo>
                  <a:pt x="18036" y="7493"/>
                </a:lnTo>
                <a:lnTo>
                  <a:pt x="18036" y="12828"/>
                </a:lnTo>
                <a:cubicBezTo>
                  <a:pt x="18036" y="13751"/>
                  <a:pt x="18837" y="14482"/>
                  <a:pt x="19873" y="14482"/>
                </a:cubicBezTo>
                <a:lnTo>
                  <a:pt x="21535" y="14482"/>
                </a:lnTo>
                <a:cubicBezTo>
                  <a:pt x="22571" y="14482"/>
                  <a:pt x="23372" y="13751"/>
                  <a:pt x="23372" y="12828"/>
                </a:cubicBezTo>
                <a:lnTo>
                  <a:pt x="23372" y="7493"/>
                </a:lnTo>
                <a:lnTo>
                  <a:pt x="21535" y="7493"/>
                </a:lnTo>
                <a:lnTo>
                  <a:pt x="25043" y="3985"/>
                </a:lnTo>
                <a:lnTo>
                  <a:pt x="28716" y="7493"/>
                </a:lnTo>
                <a:lnTo>
                  <a:pt x="26879" y="7493"/>
                </a:lnTo>
                <a:lnTo>
                  <a:pt x="26879" y="12828"/>
                </a:lnTo>
                <a:cubicBezTo>
                  <a:pt x="26879" y="15596"/>
                  <a:pt x="24303" y="18155"/>
                  <a:pt x="21535" y="18155"/>
                </a:cubicBezTo>
                <a:lnTo>
                  <a:pt x="19873" y="18155"/>
                </a:lnTo>
                <a:cubicBezTo>
                  <a:pt x="17105" y="18155"/>
                  <a:pt x="14529" y="15596"/>
                  <a:pt x="14529" y="12828"/>
                </a:cubicBez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0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000"/>
                            </p:stCondLst>
                            <p:childTnLst>
                              <p:par>
                                <p:cTn id="54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5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5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Техника выполнения передачи мяча через сетку в прыжке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Прыжок выполняется с места и с укороченного разбега (1-2 шага) толчком двух ног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Передача выполняется в высшей точка прыжка за счет активного разгибания рук.  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18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92720" y="1628640"/>
            <a:ext cx="2700360" cy="4530960"/>
          </a:xfrm>
          <a:prstGeom prst="rect">
            <a:avLst/>
          </a:prstGeom>
          <a:ln w="0">
            <a:noFill/>
          </a:ln>
        </p:spPr>
      </p:pic>
      <p:sp>
        <p:nvSpPr>
          <p:cNvPr id="181" name="">
            <a:hlinkClick r:id="" action="ppaction://hlinkshowjump?jump=nextslide"/>
          </p:cNvPr>
          <p:cNvSpPr/>
          <p:nvPr/>
        </p:nvSpPr>
        <p:spPr>
          <a:xfrm>
            <a:off x="8244000" y="630864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previousslide"/>
          </p:cNvPr>
          <p:cNvSpPr/>
          <p:nvPr/>
        </p:nvSpPr>
        <p:spPr>
          <a:xfrm>
            <a:off x="651672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236000" y="638172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3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32000" y="623736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7493"/>
                </a:moveTo>
                <a:lnTo>
                  <a:pt x="18036" y="7493"/>
                </a:lnTo>
                <a:lnTo>
                  <a:pt x="18036" y="12828"/>
                </a:lnTo>
                <a:cubicBezTo>
                  <a:pt x="18036" y="13751"/>
                  <a:pt x="18837" y="14482"/>
                  <a:pt x="19873" y="14482"/>
                </a:cubicBezTo>
                <a:lnTo>
                  <a:pt x="21535" y="14482"/>
                </a:lnTo>
                <a:cubicBezTo>
                  <a:pt x="22571" y="14482"/>
                  <a:pt x="23372" y="13751"/>
                  <a:pt x="23372" y="12828"/>
                </a:cubicBezTo>
                <a:lnTo>
                  <a:pt x="23372" y="7493"/>
                </a:lnTo>
                <a:lnTo>
                  <a:pt x="21535" y="7493"/>
                </a:lnTo>
                <a:lnTo>
                  <a:pt x="25043" y="3985"/>
                </a:lnTo>
                <a:lnTo>
                  <a:pt x="28716" y="7493"/>
                </a:lnTo>
                <a:lnTo>
                  <a:pt x="26879" y="7493"/>
                </a:lnTo>
                <a:lnTo>
                  <a:pt x="26879" y="12828"/>
                </a:lnTo>
                <a:cubicBezTo>
                  <a:pt x="26879" y="15596"/>
                  <a:pt x="24303" y="18155"/>
                  <a:pt x="21535" y="18155"/>
                </a:cubicBezTo>
                <a:lnTo>
                  <a:pt x="19873" y="18155"/>
                </a:lnTo>
                <a:cubicBezTo>
                  <a:pt x="17105" y="18155"/>
                  <a:pt x="14529" y="15596"/>
                  <a:pt x="14529" y="12828"/>
                </a:cubicBez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000"/>
                            </p:stCondLst>
                            <p:childTnLst>
                              <p:par>
                                <p:cTn id="57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1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1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1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1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Техника выполнения передачи мяча двумя руками снизу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    </a:t>
            </a: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При передаче следует выполнять некоторое сопровождение мяча руками. Руки должны занимать одинаковое,  постоянное положение. Малейшее повышение одного предплечья над другим изменит направление отскока мяча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18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6520" y="2719440"/>
            <a:ext cx="4040280" cy="2292120"/>
          </a:xfrm>
          <a:prstGeom prst="rect">
            <a:avLst/>
          </a:prstGeom>
          <a:ln w="0">
            <a:noFill/>
          </a:ln>
        </p:spPr>
      </p:pic>
      <p:sp>
        <p:nvSpPr>
          <p:cNvPr id="188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9" name="">
            <a:hlinkClick r:id="" action="ppaction://hlinkshowjump?jump=previousslide"/>
          </p:cNvPr>
          <p:cNvSpPr/>
          <p:nvPr/>
        </p:nvSpPr>
        <p:spPr>
          <a:xfrm>
            <a:off x="6443640" y="623736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164360" y="630864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3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332000" y="630864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7493"/>
                </a:moveTo>
                <a:lnTo>
                  <a:pt x="18036" y="7493"/>
                </a:lnTo>
                <a:lnTo>
                  <a:pt x="18036" y="12828"/>
                </a:lnTo>
                <a:cubicBezTo>
                  <a:pt x="18036" y="13751"/>
                  <a:pt x="18837" y="14482"/>
                  <a:pt x="19873" y="14482"/>
                </a:cubicBezTo>
                <a:lnTo>
                  <a:pt x="21535" y="14482"/>
                </a:lnTo>
                <a:cubicBezTo>
                  <a:pt x="22571" y="14482"/>
                  <a:pt x="23372" y="13751"/>
                  <a:pt x="23372" y="12828"/>
                </a:cubicBezTo>
                <a:lnTo>
                  <a:pt x="23372" y="7493"/>
                </a:lnTo>
                <a:lnTo>
                  <a:pt x="21535" y="7493"/>
                </a:lnTo>
                <a:lnTo>
                  <a:pt x="25043" y="3985"/>
                </a:lnTo>
                <a:lnTo>
                  <a:pt x="28716" y="7493"/>
                </a:lnTo>
                <a:lnTo>
                  <a:pt x="26879" y="7493"/>
                </a:lnTo>
                <a:lnTo>
                  <a:pt x="26879" y="12828"/>
                </a:lnTo>
                <a:cubicBezTo>
                  <a:pt x="26879" y="15596"/>
                  <a:pt x="24303" y="18155"/>
                  <a:pt x="21535" y="18155"/>
                </a:cubicBezTo>
                <a:lnTo>
                  <a:pt x="19873" y="18155"/>
                </a:lnTo>
                <a:cubicBezTo>
                  <a:pt x="17105" y="18155"/>
                  <a:pt x="14529" y="15596"/>
                  <a:pt x="14529" y="12828"/>
                </a:cubicBez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0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5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Техника выполнения передачи мяча, стоя спиной к цели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903240" y="1557360"/>
            <a:ext cx="3079800" cy="345600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9640" y="4868640"/>
            <a:ext cx="8229600" cy="16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Встреча рук с мячом происходит над лицом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Передача выполняется за счет разгибания рук в локтях и движения назад - вверх с одновременным пригибанием в грудной и поясничной части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95" name="">
            <a:hlinkClick r:id="" action="ppaction://hlinkshowjump?jump=nextslide"/>
          </p:cNvPr>
          <p:cNvSpPr/>
          <p:nvPr/>
        </p:nvSpPr>
        <p:spPr>
          <a:xfrm>
            <a:off x="8244000" y="630864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6" name="">
            <a:hlinkClick r:id="" action="ppaction://hlinkshowjump?jump=previousslide"/>
          </p:cNvPr>
          <p:cNvSpPr/>
          <p:nvPr/>
        </p:nvSpPr>
        <p:spPr>
          <a:xfrm>
            <a:off x="651672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9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473800" y="1630440"/>
            <a:ext cx="2552760" cy="33829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236000" y="638172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4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25892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7493"/>
                </a:moveTo>
                <a:lnTo>
                  <a:pt x="18047" y="7493"/>
                </a:lnTo>
                <a:lnTo>
                  <a:pt x="18047" y="12828"/>
                </a:lnTo>
                <a:cubicBezTo>
                  <a:pt x="18047" y="13751"/>
                  <a:pt x="18848" y="14482"/>
                  <a:pt x="19884" y="14482"/>
                </a:cubicBezTo>
                <a:lnTo>
                  <a:pt x="21546" y="14482"/>
                </a:lnTo>
                <a:cubicBezTo>
                  <a:pt x="22582" y="14482"/>
                  <a:pt x="23383" y="13751"/>
                  <a:pt x="23383" y="12828"/>
                </a:cubicBezTo>
                <a:lnTo>
                  <a:pt x="23383" y="7493"/>
                </a:lnTo>
                <a:lnTo>
                  <a:pt x="21546" y="7493"/>
                </a:lnTo>
                <a:lnTo>
                  <a:pt x="25054" y="3985"/>
                </a:lnTo>
                <a:lnTo>
                  <a:pt x="28727" y="7493"/>
                </a:lnTo>
                <a:lnTo>
                  <a:pt x="26890" y="7493"/>
                </a:lnTo>
                <a:lnTo>
                  <a:pt x="26890" y="12828"/>
                </a:lnTo>
                <a:cubicBezTo>
                  <a:pt x="26890" y="15596"/>
                  <a:pt x="24314" y="18155"/>
                  <a:pt x="21546" y="18155"/>
                </a:cubicBezTo>
                <a:lnTo>
                  <a:pt x="19884" y="18155"/>
                </a:lnTo>
                <a:cubicBezTo>
                  <a:pt x="17116" y="18155"/>
                  <a:pt x="14540" y="15596"/>
                  <a:pt x="14540" y="12828"/>
                </a:cubicBez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0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8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1000"/>
                            </p:stCondLst>
                            <p:childTnLst>
                              <p:par>
                                <p:cTn id="61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385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5" dur="385" fill="hold"/>
                                        <p:tgtEl>
                                          <p:spTgt spid="1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7" dur="385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9" dur="385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385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5" dur="385" fill="hold"/>
                                        <p:tgtEl>
                                          <p:spTgt spid="1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7" dur="385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9" dur="385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3000"/>
                            </p:stCondLst>
                            <p:childTnLst>
                              <p:par>
                                <p:cTn id="6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4000"/>
                            </p:stCondLst>
                            <p:childTnLst>
                              <p:par>
                                <p:cTn id="6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Отбивание мяча кулаком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48320" y="2636640"/>
            <a:ext cx="4038480" cy="34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В игре, особенно у новичков, мяч иногда опускается у самой сетки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 </a:t>
            </a:r>
            <a:r>
              <a:rPr b="0" lang="ru-RU" sz="1600" spc="-1" strike="noStrike" u="sng">
                <a:solidFill>
                  <a:srgbClr val="99cc00"/>
                </a:solidFill>
                <a:uFillTx/>
                <a:latin typeface="Verdana"/>
                <a:hlinkClick r:id="rId1"/>
              </a:rPr>
              <a:t>(техника)</a:t>
            </a:r>
            <a:endParaRPr b="0" lang="en-US" sz="16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02" name="">
            <a:hlinkClick r:id="rId2"/>
          </p:cNvPr>
          <p:cNvSpPr/>
          <p:nvPr/>
        </p:nvSpPr>
        <p:spPr>
          <a:xfrm>
            <a:off x="7164360" y="638172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3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3" name="">
            <a:hlinkClick r:id="" action="ppaction://hlinkshowjump?jump=nextslide"/>
          </p:cNvPr>
          <p:cNvSpPr/>
          <p:nvPr/>
        </p:nvSpPr>
        <p:spPr>
          <a:xfrm>
            <a:off x="817236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4" name="">
            <a:hlinkClick r:id="" action="ppaction://hlinkshowjump?jump=previousslide"/>
          </p:cNvPr>
          <p:cNvSpPr/>
          <p:nvPr/>
        </p:nvSpPr>
        <p:spPr>
          <a:xfrm>
            <a:off x="644364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20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971640" y="1989000"/>
            <a:ext cx="2765160" cy="3600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0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after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46" dur="1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2900"/>
                            </p:stCondLst>
                            <p:childTnLst>
                              <p:par>
                                <p:cTn id="64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3900"/>
                            </p:stCondLst>
                            <p:childTnLst>
                              <p:par>
                                <p:cTn id="65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4900"/>
                            </p:stCondLst>
                            <p:childTnLst>
                              <p:par>
                                <p:cTn id="65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Техника выполнения отбивания мяча кулаком у сетки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Лучше расположить боком к сетке (правым при отбивании правой рукой), иногда и спиной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 </a:t>
            </a: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Здесь важно рассчитать прыжок, что бы встретить мяч над сеткой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20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0360" y="1628640"/>
            <a:ext cx="1452600" cy="4530960"/>
          </a:xfrm>
          <a:prstGeom prst="rect">
            <a:avLst/>
          </a:prstGeom>
          <a:ln w="0">
            <a:noFill/>
          </a:ln>
        </p:spPr>
      </p:pic>
      <p:sp>
        <p:nvSpPr>
          <p:cNvPr id="209" name="">
            <a:hlinkClick r:id="" action="ppaction://hlinkshowjump?jump=nextslide"/>
          </p:cNvPr>
          <p:cNvSpPr/>
          <p:nvPr/>
        </p:nvSpPr>
        <p:spPr>
          <a:xfrm>
            <a:off x="8244000" y="630864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0" name="">
            <a:hlinkClick r:id="" action="ppaction://hlinkshowjump?jump=previousslide"/>
          </p:cNvPr>
          <p:cNvSpPr/>
          <p:nvPr/>
        </p:nvSpPr>
        <p:spPr>
          <a:xfrm>
            <a:off x="651672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236000" y="638172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3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0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768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9" dur="768" fill="hold"/>
                                        <p:tgtEl>
                                          <p:spTgt spid="2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1" dur="768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3" dur="768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1998"/>
                            </p:stCondLst>
                            <p:childTnLst>
                              <p:par>
                                <p:cTn id="67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385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9" dur="385" fill="hold"/>
                                        <p:tgtEl>
                                          <p:spTgt spid="2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8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1" dur="385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3" dur="385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2998"/>
                            </p:stCondLst>
                            <p:childTnLst>
                              <p:par>
                                <p:cTn id="68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385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9" dur="385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91" dur="385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3" dur="385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3998"/>
                            </p:stCondLst>
                            <p:childTnLst>
                              <p:par>
                                <p:cTn id="69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385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9" dur="385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1" dur="385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0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3" dur="385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Подачи</a:t>
            </a:r>
            <a:r>
              <a:rPr b="0" lang="ru-RU" sz="4400" spc="-1" strike="noStrike">
                <a:solidFill>
                  <a:srgbClr val="8080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24000" y="1128600"/>
            <a:ext cx="3657600" cy="266076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Игра начинается подачей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Этим приемом мяч вводится в игру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Соревнования без подачи невозможны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Очко команда также может выиграть только тогда, когда она подавала, а соперник совершил ошибку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99cc00"/>
                </a:solidFill>
                <a:uFillTx/>
                <a:latin typeface="Verdana"/>
                <a:hlinkClick r:id="rId2"/>
              </a:rPr>
              <a:t>(техника: нижняя прямая подача, </a:t>
            </a:r>
            <a:r>
              <a:rPr b="0" lang="ru-RU" sz="1600" spc="-1" strike="noStrike" u="sng">
                <a:solidFill>
                  <a:srgbClr val="99cc00"/>
                </a:solidFill>
                <a:uFillTx/>
                <a:latin typeface="Verdana"/>
                <a:hlinkClick r:id="rId3"/>
              </a:rPr>
              <a:t>верхняя прямая подача)</a:t>
            </a:r>
            <a:endParaRPr b="0" lang="en-US" sz="16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15" name="">
            <a:hlinkClick r:id="" action="ppaction://hlinkshowjump?jump=nextslide"/>
          </p:cNvPr>
          <p:cNvSpPr/>
          <p:nvPr/>
        </p:nvSpPr>
        <p:spPr>
          <a:xfrm>
            <a:off x="8244000" y="630864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previousslide"/>
          </p:cNvPr>
          <p:cNvSpPr/>
          <p:nvPr/>
        </p:nvSpPr>
        <p:spPr>
          <a:xfrm>
            <a:off x="651672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236000" y="638172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4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5"/>
          <a:stretch/>
        </p:blipFill>
        <p:spPr>
          <a:xfrm>
            <a:off x="324000" y="3716280"/>
            <a:ext cx="3960720" cy="288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0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1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10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Техника выполнения нижней прямой подачи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4249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Verdana"/>
              </a:rPr>
              <a:t>И.п. – стоя лицом к сетки, ноги согнуты в коленях, левая нога впереди, туловище наклонено вперед.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Verdana"/>
              </a:rPr>
              <a:t>Левая рука, согнутая в локтевом суставе, удерживает мяч на уровне пояса.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Verdana"/>
              </a:rPr>
              <a:t>Правая (бьющая) рука отведена назад в положении замаха.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Verdana"/>
              </a:rPr>
              <a:t>Подбросит мяч на высоту 20-30 см вверх и выполнить удар напряженной кистью по опускающемуся мячу на уровне плеч.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Verdana"/>
              </a:rPr>
              <a:t>Бьющая рука направляет мяч вперед-вверх.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21" name="">
            <a:hlinkClick r:id="" action="ppaction://hlinkshowjump?jump=nextslide"/>
          </p:cNvPr>
          <p:cNvSpPr/>
          <p:nvPr/>
        </p:nvSpPr>
        <p:spPr>
          <a:xfrm>
            <a:off x="8244000" y="623736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2" name="">
            <a:hlinkClick r:id="" action="ppaction://hlinkshowjump?jump=previousslide"/>
          </p:cNvPr>
          <p:cNvSpPr/>
          <p:nvPr/>
        </p:nvSpPr>
        <p:spPr>
          <a:xfrm>
            <a:off x="6516720" y="623736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236000" y="630864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1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47636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7493"/>
                </a:moveTo>
                <a:lnTo>
                  <a:pt x="18047" y="7493"/>
                </a:lnTo>
                <a:lnTo>
                  <a:pt x="18047" y="12828"/>
                </a:lnTo>
                <a:cubicBezTo>
                  <a:pt x="18047" y="13751"/>
                  <a:pt x="18848" y="14482"/>
                  <a:pt x="19884" y="14482"/>
                </a:cubicBezTo>
                <a:lnTo>
                  <a:pt x="21546" y="14482"/>
                </a:lnTo>
                <a:cubicBezTo>
                  <a:pt x="22582" y="14482"/>
                  <a:pt x="23383" y="13751"/>
                  <a:pt x="23383" y="12828"/>
                </a:cubicBezTo>
                <a:lnTo>
                  <a:pt x="23383" y="7493"/>
                </a:lnTo>
                <a:lnTo>
                  <a:pt x="21546" y="7493"/>
                </a:lnTo>
                <a:lnTo>
                  <a:pt x="25054" y="3985"/>
                </a:lnTo>
                <a:lnTo>
                  <a:pt x="28727" y="7493"/>
                </a:lnTo>
                <a:lnTo>
                  <a:pt x="26890" y="7493"/>
                </a:lnTo>
                <a:lnTo>
                  <a:pt x="26890" y="12828"/>
                </a:lnTo>
                <a:cubicBezTo>
                  <a:pt x="26890" y="15596"/>
                  <a:pt x="24314" y="18155"/>
                  <a:pt x="21546" y="18155"/>
                </a:cubicBezTo>
                <a:lnTo>
                  <a:pt x="19884" y="18155"/>
                </a:lnTo>
                <a:cubicBezTo>
                  <a:pt x="17116" y="18155"/>
                  <a:pt x="14540" y="15596"/>
                  <a:pt x="14540" y="12828"/>
                </a:cubicBez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5435640" y="1916280"/>
            <a:ext cx="6188040" cy="4500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0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after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750" dur="1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4400"/>
                            </p:stCondLst>
                            <p:childTnLst>
                              <p:par>
                                <p:cTn id="75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4900"/>
                            </p:stCondLst>
                            <p:childTnLst>
                              <p:par>
                                <p:cTn id="756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1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9" dur="4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4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5900"/>
                            </p:stCondLst>
                            <p:childTnLst>
                              <p:par>
                                <p:cTn id="764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1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4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4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6900"/>
                            </p:stCondLst>
                            <p:childTnLst>
                              <p:par>
                                <p:cTn id="77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1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5" dur="4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4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7900"/>
                            </p:stCondLst>
                            <p:childTnLst>
                              <p:par>
                                <p:cTn id="780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1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4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4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8900"/>
                            </p:stCondLst>
                            <p:childTnLst>
                              <p:par>
                                <p:cTn id="788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1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1" dur="4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4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Содержание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504036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4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1"/>
              </a:rPr>
              <a:t>Из истории волейбола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34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2"/>
              </a:rPr>
              <a:t>Размеры и линии площадки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34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3"/>
              </a:rPr>
              <a:t>Волейбольный мяч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34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4"/>
              </a:rPr>
              <a:t>Одежда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34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5"/>
              </a:rPr>
              <a:t>Правила игры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34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6"/>
              </a:rPr>
              <a:t>О технике игры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34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7"/>
              </a:rPr>
              <a:t>Стойка волейболиста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34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8"/>
              </a:rPr>
              <a:t>Передача мяча сверху двумя руками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34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9"/>
              </a:rPr>
              <a:t>Правильное положение кистей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34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10"/>
              </a:rPr>
              <a:t>Отбивание мяча кулаком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34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11"/>
              </a:rPr>
              <a:t>Подачи 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34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12"/>
              </a:rPr>
              <a:t>Прием мяча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34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13"/>
              </a:rPr>
              <a:t>Прием мяча в падении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34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14"/>
              </a:rPr>
              <a:t>Нападающий удар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34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15"/>
              </a:rPr>
              <a:t>Блокирования мяча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34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16"/>
              </a:rPr>
              <a:t>Передачи мяча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34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17"/>
              </a:rPr>
              <a:t>Прием мяча 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34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18"/>
              </a:rPr>
              <a:t>Подачи мяч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34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434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4341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9"/>
          <a:stretch/>
        </p:blipFill>
        <p:spPr>
          <a:xfrm>
            <a:off x="4960800" y="2043000"/>
            <a:ext cx="3598920" cy="3192480"/>
          </a:xfrm>
          <a:prstGeom prst="rect">
            <a:avLst/>
          </a:prstGeom>
          <a:ln w="0">
            <a:noFill/>
          </a:ln>
        </p:spPr>
      </p:pic>
      <p:sp>
        <p:nvSpPr>
          <p:cNvPr id="98" name="">
            <a:hlinkClick r:id="" action="ppaction://hlinkshowjump?jump=nextslide"/>
          </p:cNvPr>
          <p:cNvSpPr/>
          <p:nvPr/>
        </p:nvSpPr>
        <p:spPr>
          <a:xfrm>
            <a:off x="8101080" y="623736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9" name="">
            <a:hlinkClick r:id="" action="ppaction://hlinkshowjump?jump=previousslide"/>
          </p:cNvPr>
          <p:cNvSpPr/>
          <p:nvPr/>
        </p:nvSpPr>
        <p:spPr>
          <a:xfrm>
            <a:off x="7380360" y="623736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10800"/>
                </a:moveTo>
                <a:lnTo>
                  <a:pt x="28542" y="3794"/>
                </a:lnTo>
                <a:lnTo>
                  <a:pt x="28542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0"/>
                            </p:stCondLst>
                            <p:childTnLst>
                              <p:par>
                                <p:cTn id="5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7000"/>
                            </p:stCondLst>
                            <p:childTnLst>
                              <p:par>
                                <p:cTn id="6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8000"/>
                            </p:stCondLst>
                            <p:childTnLst>
                              <p:par>
                                <p:cTn id="6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9000"/>
                            </p:stCondLst>
                            <p:childTnLst>
                              <p:par>
                                <p:cTn id="7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0"/>
                            </p:stCondLst>
                            <p:childTnLst>
                              <p:par>
                                <p:cTn id="7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2000"/>
                            </p:stCondLst>
                            <p:childTnLst>
                              <p:par>
                                <p:cTn id="8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3000"/>
                            </p:stCondLst>
                            <p:childTnLst>
                              <p:par>
                                <p:cTn id="9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4000"/>
                            </p:stCondLst>
                            <p:childTnLst>
                              <p:par>
                                <p:cTn id="9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Техника выполнения верхней прямой подачи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4581360"/>
            <a:ext cx="8229600" cy="18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Verdana"/>
              </a:rPr>
              <a:t>И.п. – лицом к сетке, левая нога впереди. 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Verdana"/>
              </a:rPr>
              <a:t>Мяч подбрасывается левой рукой вверх у правого плеча. Туловище отклонятся назад (замах).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Verdana"/>
              </a:rPr>
              <a:t>Подбросив мяч последовательным разгибанием сзади стоящей ноги, с движением туловища вперед и кистью руки вперед – вверх, производится удар по мячу.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28" name="">
            <a:hlinkClick r:id="" action="ppaction://hlinkshowjump?jump=nextslide"/>
          </p:cNvPr>
          <p:cNvSpPr/>
          <p:nvPr/>
        </p:nvSpPr>
        <p:spPr>
          <a:xfrm>
            <a:off x="817236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9" name="">
            <a:hlinkClick r:id="" action="ppaction://hlinkshowjump?jump=previousslide"/>
          </p:cNvPr>
          <p:cNvSpPr/>
          <p:nvPr/>
        </p:nvSpPr>
        <p:spPr>
          <a:xfrm>
            <a:off x="644364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164360" y="638172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1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47636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7493"/>
                </a:moveTo>
                <a:lnTo>
                  <a:pt x="18047" y="7493"/>
                </a:lnTo>
                <a:lnTo>
                  <a:pt x="18047" y="12828"/>
                </a:lnTo>
                <a:cubicBezTo>
                  <a:pt x="18047" y="13751"/>
                  <a:pt x="18848" y="14482"/>
                  <a:pt x="19884" y="14482"/>
                </a:cubicBezTo>
                <a:lnTo>
                  <a:pt x="21546" y="14482"/>
                </a:lnTo>
                <a:cubicBezTo>
                  <a:pt x="22582" y="14482"/>
                  <a:pt x="23383" y="13751"/>
                  <a:pt x="23383" y="12828"/>
                </a:cubicBezTo>
                <a:lnTo>
                  <a:pt x="23383" y="7493"/>
                </a:lnTo>
                <a:lnTo>
                  <a:pt x="21546" y="7493"/>
                </a:lnTo>
                <a:lnTo>
                  <a:pt x="25054" y="3985"/>
                </a:lnTo>
                <a:lnTo>
                  <a:pt x="28727" y="7493"/>
                </a:lnTo>
                <a:lnTo>
                  <a:pt x="26890" y="7493"/>
                </a:lnTo>
                <a:lnTo>
                  <a:pt x="26890" y="12828"/>
                </a:lnTo>
                <a:cubicBezTo>
                  <a:pt x="26890" y="15596"/>
                  <a:pt x="24314" y="18155"/>
                  <a:pt x="21546" y="18155"/>
                </a:cubicBezTo>
                <a:lnTo>
                  <a:pt x="19884" y="18155"/>
                </a:lnTo>
                <a:cubicBezTo>
                  <a:pt x="17116" y="18155"/>
                  <a:pt x="14540" y="15596"/>
                  <a:pt x="14540" y="12828"/>
                </a:cubicBez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3059280" y="620640"/>
            <a:ext cx="5249520" cy="3818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0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768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2" dur="768" fill="hold"/>
                                        <p:tgtEl>
                                          <p:spTgt spid="2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04" dur="768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0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6" dur="768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0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1998"/>
                            </p:stCondLst>
                            <p:childTnLst>
                              <p:par>
                                <p:cTn id="80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1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3998"/>
                            </p:stCondLst>
                            <p:childTnLst>
                              <p:par>
                                <p:cTn id="81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5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4998"/>
                            </p:stCondLst>
                            <p:childTnLst>
                              <p:par>
                                <p:cTn id="8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9" dur="1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5998"/>
                            </p:stCondLst>
                            <p:childTnLst>
                              <p:par>
                                <p:cTn id="82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3" dur="10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Прием мяча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pic>
        <p:nvPicPr>
          <p:cNvPr id="23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628640"/>
            <a:ext cx="3357720" cy="453096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4616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Применяется в защитных действиях, чтобы не допустить падения мяча, посланного соперником, на площадку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Прием подачи считается удачным, когда после приема мяча он оказывается в зоне нападения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99cc00"/>
                </a:solidFill>
                <a:uFillTx/>
                <a:latin typeface="Verdana"/>
                <a:hlinkClick r:id="rId3"/>
              </a:rPr>
              <a:t>(техника: двумя руками сверху, </a:t>
            </a:r>
            <a:r>
              <a:rPr b="0" lang="ru-RU" sz="1600" spc="-1" strike="noStrike" u="sng">
                <a:solidFill>
                  <a:srgbClr val="99cc00"/>
                </a:solidFill>
                <a:uFillTx/>
                <a:latin typeface="Verdana"/>
                <a:hlinkClick r:id="rId4"/>
              </a:rPr>
              <a:t>снизу).</a:t>
            </a:r>
            <a:endParaRPr b="0" lang="en-US" sz="16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36" name="">
            <a:hlinkClick r:id="" action="ppaction://hlinkshowjump?jump=nextslide"/>
          </p:cNvPr>
          <p:cNvSpPr/>
          <p:nvPr/>
        </p:nvSpPr>
        <p:spPr>
          <a:xfrm>
            <a:off x="8101080" y="623736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7" name="">
            <a:hlinkClick r:id="" action="ppaction://hlinkshowjump?jump=previousslide"/>
          </p:cNvPr>
          <p:cNvSpPr/>
          <p:nvPr/>
        </p:nvSpPr>
        <p:spPr>
          <a:xfrm>
            <a:off x="6372360" y="623736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10800"/>
                </a:moveTo>
                <a:lnTo>
                  <a:pt x="28542" y="3794"/>
                </a:lnTo>
                <a:lnTo>
                  <a:pt x="28542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093080" y="630864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5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0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44" dur="2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5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4" dur="1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Техника выполнения приема мяча двумя руками сверху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pic>
        <p:nvPicPr>
          <p:cNvPr id="24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773360"/>
            <a:ext cx="8066160" cy="3828960"/>
          </a:xfrm>
          <a:prstGeom prst="rect">
            <a:avLst/>
          </a:prstGeom>
          <a:ln w="0">
            <a:noFill/>
          </a:ln>
        </p:spPr>
      </p:pic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817236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2" name="">
            <a:hlinkClick r:id="" action="ppaction://hlinkshowjump?jump=previousslide"/>
          </p:cNvPr>
          <p:cNvSpPr/>
          <p:nvPr/>
        </p:nvSpPr>
        <p:spPr>
          <a:xfrm>
            <a:off x="6443640" y="623736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164360" y="630864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3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0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5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2000"/>
                            </p:stCondLst>
                            <p:childTnLst>
                              <p:par>
                                <p:cTn id="86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Техника выполнения приема мяча снизу двумя руками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825480" y="1630440"/>
            <a:ext cx="1971720" cy="288108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68360" y="4508280"/>
            <a:ext cx="8229600" cy="19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Verdana"/>
              </a:rPr>
              <a:t>     </a:t>
            </a:r>
            <a:r>
              <a:rPr b="0" i="1" lang="ru-RU" sz="1800" spc="-1" strike="noStrike">
                <a:solidFill>
                  <a:srgbClr val="003300"/>
                </a:solidFill>
                <a:latin typeface="Verdana"/>
              </a:rPr>
              <a:t>Туловище слегка наклонено вперед, прямые руки опущены вперед - вниз, локти сближены, кисти вместе. Мяч принимается на внутреннюю часть сближенных предплечий, ближе к кистям рук. В момент приема руки не должны сгибаться в локтях. Прямые руки небыстрым движением в плечевых суставах поднимаются навстречу мячу, ноги в момент приема выпрямляются. Чем выше скорость полета мяча, тем меньше должно быть встречное движение рук. </a:t>
            </a:r>
            <a:endParaRPr b="0" lang="en-US" sz="18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47" name="">
            <a:hlinkClick r:id="" action="ppaction://hlinkshowjump?jump=nextslide"/>
          </p:cNvPr>
          <p:cNvSpPr/>
          <p:nvPr/>
        </p:nvSpPr>
        <p:spPr>
          <a:xfrm>
            <a:off x="8244000" y="630864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8" name="">
            <a:hlinkClick r:id="" action="ppaction://hlinkshowjump?jump=previousslide"/>
          </p:cNvPr>
          <p:cNvSpPr/>
          <p:nvPr/>
        </p:nvSpPr>
        <p:spPr>
          <a:xfrm>
            <a:off x="651672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236000" y="638172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2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54764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7493"/>
                </a:moveTo>
                <a:lnTo>
                  <a:pt x="18047" y="7493"/>
                </a:lnTo>
                <a:lnTo>
                  <a:pt x="18047" y="12828"/>
                </a:lnTo>
                <a:cubicBezTo>
                  <a:pt x="18047" y="13751"/>
                  <a:pt x="18848" y="14482"/>
                  <a:pt x="19884" y="14482"/>
                </a:cubicBezTo>
                <a:lnTo>
                  <a:pt x="21546" y="14482"/>
                </a:lnTo>
                <a:cubicBezTo>
                  <a:pt x="22582" y="14482"/>
                  <a:pt x="23383" y="13751"/>
                  <a:pt x="23383" y="12828"/>
                </a:cubicBezTo>
                <a:lnTo>
                  <a:pt x="23383" y="7493"/>
                </a:lnTo>
                <a:lnTo>
                  <a:pt x="21546" y="7493"/>
                </a:lnTo>
                <a:lnTo>
                  <a:pt x="25054" y="3985"/>
                </a:lnTo>
                <a:lnTo>
                  <a:pt x="28727" y="7493"/>
                </a:lnTo>
                <a:lnTo>
                  <a:pt x="26890" y="7493"/>
                </a:lnTo>
                <a:lnTo>
                  <a:pt x="26890" y="12828"/>
                </a:lnTo>
                <a:cubicBezTo>
                  <a:pt x="26890" y="15596"/>
                  <a:pt x="24314" y="18155"/>
                  <a:pt x="21546" y="18155"/>
                </a:cubicBezTo>
                <a:lnTo>
                  <a:pt x="19884" y="18155"/>
                </a:lnTo>
                <a:cubicBezTo>
                  <a:pt x="17116" y="18155"/>
                  <a:pt x="14540" y="15596"/>
                  <a:pt x="14540" y="12828"/>
                </a:cubicBez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3708360" y="1052640"/>
            <a:ext cx="4826160" cy="3510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fill="hold">
                      <p:stCondLst>
                        <p:cond delay="0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8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8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4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0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3000"/>
                            </p:stCondLst>
                            <p:childTnLst>
                              <p:par>
                                <p:cTn id="89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6" dur="1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Прием мяча впадение</a:t>
            </a:r>
            <a:r>
              <a:rPr b="0" lang="ru-RU" sz="4400" spc="-1" strike="noStrike">
                <a:solidFill>
                  <a:srgbClr val="8080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067280" y="1599840"/>
            <a:ext cx="4897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Применяется когда мяч низко летит при передачи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99cc00"/>
                </a:solidFill>
                <a:uFillTx/>
                <a:latin typeface="Verdana"/>
                <a:hlinkClick r:id="rId1"/>
              </a:rPr>
              <a:t>(техника: одной рукой с последующем падении и перекатом, </a:t>
            </a:r>
            <a:r>
              <a:rPr b="0" lang="ru-RU" sz="1600" spc="-1" strike="noStrike" u="sng">
                <a:solidFill>
                  <a:srgbClr val="99cc00"/>
                </a:solidFill>
                <a:uFillTx/>
                <a:latin typeface="Verdana"/>
                <a:hlinkClick r:id="rId2"/>
              </a:rPr>
              <a:t>одной рукой в падении вперед и последующем скольжением)</a:t>
            </a:r>
            <a:endParaRPr b="0" lang="en-US" sz="16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25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1280" y="1628640"/>
            <a:ext cx="3079800" cy="4530960"/>
          </a:xfrm>
          <a:prstGeom prst="rect">
            <a:avLst/>
          </a:prstGeom>
          <a:ln w="0">
            <a:noFill/>
          </a:ln>
        </p:spPr>
      </p:pic>
      <p:sp>
        <p:nvSpPr>
          <p:cNvPr id="255" name="">
            <a:hlinkClick r:id="" action="ppaction://hlinkshowjump?jump=nextslide"/>
          </p:cNvPr>
          <p:cNvSpPr/>
          <p:nvPr/>
        </p:nvSpPr>
        <p:spPr>
          <a:xfrm>
            <a:off x="8244000" y="616572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6" name="">
            <a:hlinkClick r:id="" action="ppaction://hlinkshowjump?jump=previousslide"/>
          </p:cNvPr>
          <p:cNvSpPr/>
          <p:nvPr/>
        </p:nvSpPr>
        <p:spPr>
          <a:xfrm>
            <a:off x="6516720" y="616572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236000" y="623736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5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fill="hold">
                      <p:stCondLst>
                        <p:cond delay="0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3" dur="1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4" dur="4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4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1000"/>
                            </p:stCondLst>
                            <p:childTnLst>
                              <p:par>
                                <p:cTn id="9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2000"/>
                            </p:stCondLst>
                            <p:childTnLst>
                              <p:par>
                                <p:cTn id="9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10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3000"/>
                            </p:stCondLst>
                            <p:childTnLst>
                              <p:par>
                                <p:cTn id="9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3" dur="10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8000"/>
                </a:solidFill>
                <a:latin typeface="Garamond"/>
              </a:rPr>
              <a:t>Техника выполнения приема мяча одной рукой с последующим падением и перекатом в сторону на бедро и спину</a:t>
            </a:r>
            <a:r>
              <a:rPr b="0" lang="ru-RU" sz="4000" spc="-1" strike="noStrike">
                <a:solidFill>
                  <a:srgbClr val="8080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4581360"/>
            <a:ext cx="8229600" cy="18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    </a:t>
            </a: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Этот прием применяют чаще девушки. После перемещения делают выпад, выставляя в сторону мяча прямую руку и разгибая опорную ногу, производят удар по мячу и затем приземляются на бедро и перекатываются на спину. 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60" name="">
            <a:hlinkClick r:id="" action="ppaction://hlinkshowjump?jump=nextslide"/>
          </p:cNvPr>
          <p:cNvSpPr/>
          <p:nvPr/>
        </p:nvSpPr>
        <p:spPr>
          <a:xfrm>
            <a:off x="817236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previousslide"/>
          </p:cNvPr>
          <p:cNvSpPr/>
          <p:nvPr/>
        </p:nvSpPr>
        <p:spPr>
          <a:xfrm>
            <a:off x="6443640" y="623736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164360" y="630864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1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47636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7493"/>
                </a:moveTo>
                <a:lnTo>
                  <a:pt x="18047" y="7493"/>
                </a:lnTo>
                <a:lnTo>
                  <a:pt x="18047" y="12828"/>
                </a:lnTo>
                <a:cubicBezTo>
                  <a:pt x="18047" y="13751"/>
                  <a:pt x="18848" y="14482"/>
                  <a:pt x="19884" y="14482"/>
                </a:cubicBezTo>
                <a:lnTo>
                  <a:pt x="21546" y="14482"/>
                </a:lnTo>
                <a:cubicBezTo>
                  <a:pt x="22582" y="14482"/>
                  <a:pt x="23383" y="13751"/>
                  <a:pt x="23383" y="12828"/>
                </a:cubicBezTo>
                <a:lnTo>
                  <a:pt x="23383" y="7493"/>
                </a:lnTo>
                <a:lnTo>
                  <a:pt x="21546" y="7493"/>
                </a:lnTo>
                <a:lnTo>
                  <a:pt x="25054" y="3985"/>
                </a:lnTo>
                <a:lnTo>
                  <a:pt x="28727" y="7493"/>
                </a:lnTo>
                <a:lnTo>
                  <a:pt x="26890" y="7493"/>
                </a:lnTo>
                <a:lnTo>
                  <a:pt x="26890" y="12828"/>
                </a:lnTo>
                <a:cubicBezTo>
                  <a:pt x="26890" y="15596"/>
                  <a:pt x="24314" y="18155"/>
                  <a:pt x="21546" y="18155"/>
                </a:cubicBezTo>
                <a:lnTo>
                  <a:pt x="19884" y="18155"/>
                </a:lnTo>
                <a:cubicBezTo>
                  <a:pt x="17116" y="18155"/>
                  <a:pt x="14540" y="15596"/>
                  <a:pt x="14540" y="12828"/>
                </a:cubicBez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1979640" y="1700280"/>
            <a:ext cx="4897440" cy="35622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6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2000"/>
                            </p:stCondLst>
                            <p:childTnLst>
                              <p:par>
                                <p:cTn id="93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2500"/>
                            </p:stCondLst>
                            <p:childTnLst>
                              <p:par>
                                <p:cTn id="9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8000"/>
                </a:solidFill>
                <a:latin typeface="Garamond"/>
              </a:rPr>
              <a:t>Техника выполнения приема мяча одной рукой впадении вперед и последующим скольжением на груди - животе</a:t>
            </a:r>
            <a:endParaRPr b="0" lang="en-US" sz="28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8360" y="4221000"/>
            <a:ext cx="822960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    </a:t>
            </a: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Применяют в основном юноши. Игрок как бы «ныряет» под мяч, после отбивания мяча руки касаются площадки и амортизируют касание грудью за счет сгибания рук, ноги сгибаются в коленях, туловище прогибается, руки после отталкивания вперед убирают вдоль туловища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67" name="">
            <a:hlinkClick r:id="" action="ppaction://hlinkshowjump?jump=nextslide"/>
          </p:cNvPr>
          <p:cNvSpPr/>
          <p:nvPr/>
        </p:nvSpPr>
        <p:spPr>
          <a:xfrm>
            <a:off x="8101080" y="623736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8" name="">
            <a:hlinkClick r:id="" action="ppaction://hlinkshowjump?jump=previousslide"/>
          </p:cNvPr>
          <p:cNvSpPr/>
          <p:nvPr/>
        </p:nvSpPr>
        <p:spPr>
          <a:xfrm>
            <a:off x="6372360" y="623736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10800"/>
                </a:moveTo>
                <a:lnTo>
                  <a:pt x="28542" y="3794"/>
                </a:lnTo>
                <a:lnTo>
                  <a:pt x="28542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093080" y="630864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1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54764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7493"/>
                </a:moveTo>
                <a:lnTo>
                  <a:pt x="18047" y="7493"/>
                </a:lnTo>
                <a:lnTo>
                  <a:pt x="18047" y="12828"/>
                </a:lnTo>
                <a:cubicBezTo>
                  <a:pt x="18047" y="13751"/>
                  <a:pt x="18848" y="14482"/>
                  <a:pt x="19884" y="14482"/>
                </a:cubicBezTo>
                <a:lnTo>
                  <a:pt x="21546" y="14482"/>
                </a:lnTo>
                <a:cubicBezTo>
                  <a:pt x="22582" y="14482"/>
                  <a:pt x="23383" y="13751"/>
                  <a:pt x="23383" y="12828"/>
                </a:cubicBezTo>
                <a:lnTo>
                  <a:pt x="23383" y="7493"/>
                </a:lnTo>
                <a:lnTo>
                  <a:pt x="21546" y="7493"/>
                </a:lnTo>
                <a:lnTo>
                  <a:pt x="25054" y="3985"/>
                </a:lnTo>
                <a:lnTo>
                  <a:pt x="28727" y="7493"/>
                </a:lnTo>
                <a:lnTo>
                  <a:pt x="26890" y="7493"/>
                </a:lnTo>
                <a:lnTo>
                  <a:pt x="26890" y="12828"/>
                </a:lnTo>
                <a:cubicBezTo>
                  <a:pt x="26890" y="15596"/>
                  <a:pt x="24314" y="18155"/>
                  <a:pt x="21546" y="18155"/>
                </a:cubicBezTo>
                <a:lnTo>
                  <a:pt x="19884" y="18155"/>
                </a:lnTo>
                <a:cubicBezTo>
                  <a:pt x="17116" y="18155"/>
                  <a:pt x="14540" y="15596"/>
                  <a:pt x="14540" y="12828"/>
                </a:cubicBez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1258920" y="1413000"/>
            <a:ext cx="633744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0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6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1000"/>
                            </p:stCondLst>
                            <p:childTnLst>
                              <p:par>
                                <p:cTn id="9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2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2000"/>
                            </p:stCondLst>
                            <p:childTnLst>
                              <p:par>
                                <p:cTn id="96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6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Нападающий удар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64616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Это самый эффективный способ завершения атаки, именно он чаще всего приносит победные очки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99cc00"/>
                </a:solidFill>
                <a:uFillTx/>
                <a:latin typeface="Verdana"/>
                <a:hlinkClick r:id="rId1"/>
              </a:rPr>
              <a:t>(техника)</a:t>
            </a:r>
            <a:endParaRPr b="0" lang="en-US" sz="16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27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00000" y="1628640"/>
            <a:ext cx="3124440" cy="4530960"/>
          </a:xfrm>
          <a:prstGeom prst="rect">
            <a:avLst/>
          </a:prstGeom>
          <a:ln w="0">
            <a:noFill/>
          </a:ln>
        </p:spPr>
      </p:pic>
      <p:sp>
        <p:nvSpPr>
          <p:cNvPr id="275" name="">
            <a:hlinkClick r:id="" action="ppaction://hlinkshowjump?jump=nextslide"/>
          </p:cNvPr>
          <p:cNvSpPr/>
          <p:nvPr/>
        </p:nvSpPr>
        <p:spPr>
          <a:xfrm>
            <a:off x="8244000" y="623736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6" name="">
            <a:hlinkClick r:id="" action="ppaction://hlinkshowjump?jump=previousslide"/>
          </p:cNvPr>
          <p:cNvSpPr/>
          <p:nvPr/>
        </p:nvSpPr>
        <p:spPr>
          <a:xfrm>
            <a:off x="6516720" y="623736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236000" y="630864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4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fill="hold">
                      <p:stCondLst>
                        <p:cond delay="0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73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1000"/>
                            </p:stCondLst>
                            <p:childTnLst>
                              <p:par>
                                <p:cTn id="97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77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80" dur="1000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83" dur="1000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Техника выполнения нападающего удара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00720" y="1628640"/>
            <a:ext cx="44640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    </a:t>
            </a: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Во время выполнения прыжка быстро разогнуть ноги и резко поднять руки вверх. В прыжке  плечи и бьющая рука отводится назад, туловище прогибается (замах).Ударное движение начинается с выведения вперед локтя бьющей руки. бьющая рука, разгибаясь в локтевом суставе, хлестким  движением кистью ударяет по мячу  вниз – вперед. Чем сильней                                                          нужно пробить по мячу, тем расслабленней должна быть кисть.  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80" name="">
            <a:hlinkClick r:id="" action="ppaction://hlinkshowjump?jump=nextslide"/>
          </p:cNvPr>
          <p:cNvSpPr/>
          <p:nvPr/>
        </p:nvSpPr>
        <p:spPr>
          <a:xfrm>
            <a:off x="8244000" y="623736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1" name="">
            <a:hlinkClick r:id="" action="ppaction://hlinkshowjump?jump=previousslide"/>
          </p:cNvPr>
          <p:cNvSpPr/>
          <p:nvPr/>
        </p:nvSpPr>
        <p:spPr>
          <a:xfrm>
            <a:off x="6516720" y="623736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236000" y="630864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1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684360" y="1484280"/>
            <a:ext cx="6202080" cy="451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0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90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9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4" dur="77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5" dur="770" fill="hold"/>
                                        <p:tgtEl>
                                          <p:spTgt spid="2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7" dur="77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9" dur="77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3" dur="1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Блокирования мяча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284720" y="1599840"/>
            <a:ext cx="4859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    </a:t>
            </a: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Выставление рук над верхним краем сетки для преграждения полета мяча после нападающего удара называется блокированием. Оно применяется для противодействия нападающего удара. Выполняется одним или двумя (реже тремя) игроками в прыжке с места или после перемещения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80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3300"/>
                </a:solidFill>
                <a:latin typeface="Verdana"/>
              </a:rPr>
              <a:t>     </a:t>
            </a:r>
            <a:r>
              <a:rPr b="0" lang="ru-RU" sz="1600" spc="-1" strike="noStrike" u="sng">
                <a:solidFill>
                  <a:srgbClr val="99cc00"/>
                </a:solidFill>
                <a:uFillTx/>
                <a:latin typeface="Verdana"/>
                <a:hlinkClick r:id="rId1"/>
              </a:rPr>
              <a:t>(техника)</a:t>
            </a:r>
            <a:endParaRPr b="0" lang="en-US" sz="16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86" name="">
            <a:hlinkClick r:id="" action="ppaction://hlinkshowjump?jump=nextslide"/>
          </p:cNvPr>
          <p:cNvSpPr/>
          <p:nvPr/>
        </p:nvSpPr>
        <p:spPr>
          <a:xfrm>
            <a:off x="8244000" y="6237360"/>
            <a:ext cx="684000" cy="360360"/>
          </a:xfrm>
          <a:custGeom>
            <a:avLst/>
            <a:gdLst>
              <a:gd name="textAreaLeft" fmla="*/ 23040 w 684000"/>
              <a:gd name="textAreaRight" fmla="*/ 660960 w 684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0980" h="21600">
                <a:moveTo>
                  <a:pt x="0" y="0"/>
                </a:moveTo>
                <a:lnTo>
                  <a:pt x="40980" y="0"/>
                </a:lnTo>
                <a:lnTo>
                  <a:pt x="40980" y="21600"/>
                </a:lnTo>
                <a:lnTo>
                  <a:pt x="0" y="21600"/>
                </a:lnTo>
                <a:close/>
              </a:path>
              <a:path fill="lightenLess" w="40980" h="21600">
                <a:moveTo>
                  <a:pt x="0" y="0"/>
                </a:moveTo>
                <a:lnTo>
                  <a:pt x="40980" y="0"/>
                </a:lnTo>
                <a:lnTo>
                  <a:pt x="39580" y="1400"/>
                </a:lnTo>
                <a:lnTo>
                  <a:pt x="1400" y="1400"/>
                </a:lnTo>
                <a:close/>
              </a:path>
              <a:path fill="darken" w="40980" h="21600">
                <a:moveTo>
                  <a:pt x="40980" y="0"/>
                </a:moveTo>
                <a:lnTo>
                  <a:pt x="40980" y="21600"/>
                </a:lnTo>
                <a:lnTo>
                  <a:pt x="39580" y="20200"/>
                </a:lnTo>
                <a:lnTo>
                  <a:pt x="39580" y="1400"/>
                </a:lnTo>
                <a:close/>
              </a:path>
              <a:path fill="darkenLess" w="40980" h="21600">
                <a:moveTo>
                  <a:pt x="40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80" y="20200"/>
                </a:lnTo>
                <a:close/>
              </a:path>
              <a:path fill="lighten" w="40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80" h="21600">
                <a:moveTo>
                  <a:pt x="13483" y="3794"/>
                </a:moveTo>
                <a:lnTo>
                  <a:pt x="27496" y="10800"/>
                </a:lnTo>
                <a:lnTo>
                  <a:pt x="1348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7" name="">
            <a:hlinkClick r:id="" action="ppaction://hlinkshowjump?jump=previousslide"/>
          </p:cNvPr>
          <p:cNvSpPr/>
          <p:nvPr/>
        </p:nvSpPr>
        <p:spPr>
          <a:xfrm>
            <a:off x="6516720" y="623736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236000" y="630864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2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3"/>
          <a:stretch/>
        </p:blipFill>
        <p:spPr>
          <a:xfrm>
            <a:off x="900000" y="1557360"/>
            <a:ext cx="3345120" cy="475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4" dur="indefinite" restart="never" nodeType="tmRoot">
          <p:childTnLst>
            <p:seq>
              <p:cTn id="1005" dur="indefinite" nodeType="mainSeq">
                <p:childTnLst>
                  <p:par>
                    <p:cTn id="1006" fill="hold">
                      <p:stCondLst>
                        <p:cond delay="0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2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6" dur="385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7" dur="385" fill="hold"/>
                                        <p:tgtEl>
                                          <p:spTgt spid="2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9" dur="385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1" dur="385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6" dur="385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7" dur="385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9" dur="385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1" dur="385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385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385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385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385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Из истории волейбола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44751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3300"/>
                </a:solidFill>
                <a:latin typeface="Verdana"/>
              </a:rPr>
              <a:t>Приоритет в создании волейбола принадлежит Уильяму Моргану, преподавателю физкультуры колледжа Ассоциации молодых христиан в американском городе Холиоке (штат Массачусетс).</a:t>
            </a:r>
            <a:endParaRPr b="0" lang="en-US" sz="1600" spc="-1" strike="noStrike">
              <a:solidFill>
                <a:srgbClr val="0033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3300"/>
                </a:solidFill>
                <a:latin typeface="Verdana"/>
              </a:rPr>
              <a:t>Однажды Морган предложил своим питомцам подбросить через рыболовную сеть надутую резиновую камеру.</a:t>
            </a:r>
            <a:endParaRPr b="0" lang="en-US" sz="1600" spc="-1" strike="noStrike">
              <a:solidFill>
                <a:srgbClr val="0033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3300"/>
                </a:solidFill>
                <a:latin typeface="Verdana"/>
              </a:rPr>
              <a:t>Вскоре он с удивлением обнаружил, что те обмениваются пасами с явным азартом.</a:t>
            </a:r>
            <a:endParaRPr b="0" lang="en-US" sz="1600" spc="-1" strike="noStrike">
              <a:solidFill>
                <a:srgbClr val="0033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3300"/>
                </a:solidFill>
                <a:latin typeface="Verdana"/>
              </a:rPr>
              <a:t>Крестным отцом нового вида спорта профессор Спрингфилдского колледжа Альфред Холстед.</a:t>
            </a:r>
            <a:endParaRPr b="0" lang="en-US" sz="1600" spc="-1" strike="noStrike">
              <a:solidFill>
                <a:srgbClr val="0033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3300"/>
                </a:solidFill>
                <a:latin typeface="Verdana"/>
              </a:rPr>
              <a:t>Он назвал новую игру волейболом, что в переводе с английского означает «летающий мяч».</a:t>
            </a:r>
            <a:endParaRPr b="0" lang="en-US" sz="1600" spc="-1" strike="noStrike">
              <a:solidFill>
                <a:srgbClr val="0033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3300"/>
                </a:solidFill>
                <a:latin typeface="Verdana"/>
              </a:rPr>
              <a:t>Действительно, это единственная спортивная игра, где главная задача  - не дать мячу коснуться земли.</a:t>
            </a:r>
            <a:endParaRPr b="0" lang="en-US" sz="1600" spc="-1" strike="noStrike">
              <a:solidFill>
                <a:srgbClr val="0033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103720" y="1600200"/>
            <a:ext cx="3124440" cy="4530600"/>
          </a:xfrm>
          <a:prstGeom prst="rect">
            <a:avLst/>
          </a:prstGeom>
          <a:ln w="0">
            <a:noFill/>
          </a:ln>
        </p:spPr>
      </p:pic>
      <p:sp>
        <p:nvSpPr>
          <p:cNvPr id="103" name="">
            <a:hlinkClick r:id="" action="ppaction://hlinkshowjump?jump=nextslide"/>
          </p:cNvPr>
          <p:cNvSpPr/>
          <p:nvPr/>
        </p:nvSpPr>
        <p:spPr>
          <a:xfrm>
            <a:off x="817236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4" name="">
            <a:hlinkClick r:id="" action="ppaction://hlinkshowjump?jump=previousslide"/>
          </p:cNvPr>
          <p:cNvSpPr/>
          <p:nvPr/>
        </p:nvSpPr>
        <p:spPr>
          <a:xfrm>
            <a:off x="644364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64360" y="638172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2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Техника выполнения блокирования мяча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68360" y="5300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    </a:t>
            </a: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Техника блокирования включает в себя: перемещение к месту постановки блока, прыжок, постановку рук на пути движения мяча и приземление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92" name="">
            <a:hlinkClick r:id="" action="ppaction://hlinkshowjump?jump=nextslide"/>
          </p:cNvPr>
          <p:cNvSpPr/>
          <p:nvPr/>
        </p:nvSpPr>
        <p:spPr>
          <a:xfrm>
            <a:off x="8244000" y="630864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3" name="">
            <a:hlinkClick r:id="" action="ppaction://hlinkshowjump?jump=previousslide"/>
          </p:cNvPr>
          <p:cNvSpPr/>
          <p:nvPr/>
        </p:nvSpPr>
        <p:spPr>
          <a:xfrm>
            <a:off x="651672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236000" y="638172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1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2411280" y="1425600"/>
            <a:ext cx="5329440" cy="387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3" dur="indefinite" restart="never" nodeType="tmRoot">
          <p:childTnLst>
            <p:seq>
              <p:cTn id="1044" dur="indefinite" nodeType="mainSeq">
                <p:childTnLst>
                  <p:par>
                    <p:cTn id="1045" fill="hold">
                      <p:stCondLst>
                        <p:cond delay="0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1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5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1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1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1" dur="1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Передачи</a:t>
            </a:r>
            <a:r>
              <a:rPr b="0" lang="ru-RU" sz="4400" spc="-1" strike="noStrike">
                <a:solidFill>
                  <a:srgbClr val="8080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6156360" y="2349360"/>
            <a:ext cx="2333520" cy="374508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2276640"/>
            <a:ext cx="3122640" cy="374472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4"/>
          <a:stretch/>
        </p:blipFill>
        <p:spPr>
          <a:xfrm>
            <a:off x="3564000" y="1557360"/>
            <a:ext cx="2101680" cy="3527280"/>
          </a:xfrm>
          <a:prstGeom prst="rect">
            <a:avLst/>
          </a:prstGeom>
          <a:ln w="0">
            <a:noFill/>
          </a:ln>
        </p:spPr>
      </p:pic>
      <p:sp>
        <p:nvSpPr>
          <p:cNvPr id="300" name="">
            <a:hlinkClick r:id="" action="ppaction://hlinkshowjump?jump=nextslide"/>
          </p:cNvPr>
          <p:cNvSpPr/>
          <p:nvPr/>
        </p:nvSpPr>
        <p:spPr>
          <a:xfrm>
            <a:off x="8244000" y="623736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1" name="">
            <a:hlinkClick r:id="" action="ppaction://hlinkshowjump?jump=previousslide"/>
          </p:cNvPr>
          <p:cNvSpPr/>
          <p:nvPr/>
        </p:nvSpPr>
        <p:spPr>
          <a:xfrm>
            <a:off x="6516720" y="623736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236000" y="630864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5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iming>
    <p:tnLst>
      <p:par>
        <p:cTn id="1062" dur="indefinite" restart="never" nodeType="tmRoot">
          <p:childTnLst>
            <p:seq>
              <p:cTn id="1063" dur="indefinite" nodeType="mainSeq">
                <p:childTnLst>
                  <p:par>
                    <p:cTn id="1064" fill="hold">
                      <p:stCondLst>
                        <p:cond delay="0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8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9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5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6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5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Приемы</a:t>
            </a:r>
            <a:r>
              <a:rPr b="0" lang="ru-RU" sz="4400" spc="-1" strike="noStrike">
                <a:solidFill>
                  <a:srgbClr val="8080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pic>
        <p:nvPicPr>
          <p:cNvPr id="30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341360"/>
            <a:ext cx="5975280" cy="177804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74920" y="3067200"/>
            <a:ext cx="4897440" cy="147132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26920" y="4581360"/>
            <a:ext cx="4465800" cy="1882800"/>
          </a:xfrm>
          <a:prstGeom prst="rect">
            <a:avLst/>
          </a:prstGeom>
          <a:ln w="0">
            <a:noFill/>
          </a:ln>
        </p:spPr>
      </p:pic>
      <p:sp>
        <p:nvSpPr>
          <p:cNvPr id="307" name="">
            <a:hlinkClick r:id="" action="ppaction://hlinkshowjump?jump=nextslide"/>
          </p:cNvPr>
          <p:cNvSpPr/>
          <p:nvPr/>
        </p:nvSpPr>
        <p:spPr>
          <a:xfrm>
            <a:off x="8172360" y="616572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8" name="">
            <a:hlinkClick r:id="" action="ppaction://hlinkshowjump?jump=previousslide"/>
          </p:cNvPr>
          <p:cNvSpPr/>
          <p:nvPr/>
        </p:nvSpPr>
        <p:spPr>
          <a:xfrm>
            <a:off x="6443640" y="616572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164360" y="623736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7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iming>
    <p:tnLst>
      <p:par>
        <p:cTn id="1090" dur="indefinite" restart="never" nodeType="tmRoot">
          <p:childTnLst>
            <p:seq>
              <p:cTn id="1091" dur="indefinite" nodeType="mainSeq">
                <p:childTnLst>
                  <p:par>
                    <p:cTn id="1092" fill="hold">
                      <p:stCondLst>
                        <p:cond delay="0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6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0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4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8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Подачи</a:t>
            </a:r>
            <a:r>
              <a:rPr b="0" lang="ru-RU" sz="4400" spc="-1" strike="noStrike">
                <a:solidFill>
                  <a:srgbClr val="8080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pic>
        <p:nvPicPr>
          <p:cNvPr id="31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1484280"/>
            <a:ext cx="3600360" cy="236376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92680" y="2360520"/>
            <a:ext cx="4653000" cy="3724200"/>
          </a:xfrm>
          <a:prstGeom prst="rect">
            <a:avLst/>
          </a:prstGeom>
          <a:ln w="0">
            <a:noFill/>
          </a:ln>
        </p:spPr>
      </p:pic>
      <p:sp>
        <p:nvSpPr>
          <p:cNvPr id="313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4" name="">
            <a:hlinkClick r:id="" action="ppaction://hlinkshowjump?jump=previousslide"/>
          </p:cNvPr>
          <p:cNvSpPr/>
          <p:nvPr/>
        </p:nvSpPr>
        <p:spPr>
          <a:xfrm>
            <a:off x="6443640" y="623736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164360" y="630864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5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11600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8047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16202" y="3794"/>
                </a:lnTo>
                <a:lnTo>
                  <a:pt x="16202" y="17806"/>
                </a:lnTo>
                <a:lnTo>
                  <a:pt x="14540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iming>
    <p:tnLst>
      <p:par>
        <p:cTn id="1109" dur="indefinite" restart="never" nodeType="tmRoot">
          <p:childTnLst>
            <p:seq>
              <p:cTn id="1110" dur="indefinite" nodeType="mainSeq">
                <p:childTnLst>
                  <p:par>
                    <p:cTn id="1111" fill="hold">
                      <p:stCondLst>
                        <p:cond delay="0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5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6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Размеры и линии площадки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4616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Размеры – 9 х 18 м, разделенный пополам сеткой ( высота 2,43 м – мужской и 2,24 м женской сетки)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На площадки передняя зона, задняя зона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Зона подачи – 3-8 м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Свободная зона – 3-5 м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Зона замены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57200" y="1700280"/>
            <a:ext cx="4040280" cy="4178160"/>
          </a:xfrm>
          <a:prstGeom prst="rect">
            <a:avLst/>
          </a:prstGeom>
          <a:ln w="0">
            <a:noFill/>
          </a:ln>
        </p:spPr>
      </p:pic>
      <p:sp>
        <p:nvSpPr>
          <p:cNvPr id="109" name="">
            <a:hlinkClick r:id="" action="ppaction://hlinkshowjump?jump=nextslide"/>
          </p:cNvPr>
          <p:cNvSpPr/>
          <p:nvPr/>
        </p:nvSpPr>
        <p:spPr>
          <a:xfrm>
            <a:off x="8244000" y="630864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0" name="">
            <a:hlinkClick r:id="" action="ppaction://hlinkshowjump?jump=previousslide"/>
          </p:cNvPr>
          <p:cNvSpPr/>
          <p:nvPr/>
        </p:nvSpPr>
        <p:spPr>
          <a:xfrm>
            <a:off x="651672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236000" y="638172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2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384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6" dur="384" fill="hold"/>
                                        <p:tgtEl>
                                          <p:spTgt spid="1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7" dur="616" fill="hold">
                                          <p:stCondLst>
                                            <p:cond delay="38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8" dur="384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9" dur="616" fill="hold">
                                          <p:stCondLst>
                                            <p:cond delay="38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0" dur="384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1" dur="616" fill="hold">
                                          <p:stCondLst>
                                            <p:cond delay="38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8000"/>
                </a:solidFill>
                <a:latin typeface="Garamond"/>
              </a:rPr>
              <a:t>Волейбольный мяч</a:t>
            </a:r>
            <a:endParaRPr b="0" lang="en-US" sz="36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42920" y="232704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3300"/>
                </a:solidFill>
                <a:uFillTx/>
                <a:latin typeface="Verdana"/>
              </a:rPr>
              <a:t>Размеры: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Окружность – 65-67 см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Вес мяча-260-280г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Давление от 0,30 до 0,325 кг</a:t>
            </a:r>
            <a:r>
              <a:rPr b="0" i="1" lang="en-US" sz="2000" spc="-1" strike="noStrike">
                <a:solidFill>
                  <a:srgbClr val="003300"/>
                </a:solidFill>
                <a:latin typeface="Verdana"/>
              </a:rPr>
              <a:t>/ </a:t>
            </a: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см</a:t>
            </a:r>
            <a:r>
              <a:rPr b="0" i="1" lang="en-US" sz="2000" spc="-1" strike="noStrike">
                <a:solidFill>
                  <a:srgbClr val="003300"/>
                </a:solidFill>
                <a:latin typeface="Verdana"/>
              </a:rPr>
              <a:t>²</a:t>
            </a: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903240" y="2060640"/>
            <a:ext cx="2990880" cy="302580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8172360" y="623736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6" name="">
            <a:hlinkClick r:id="" action="ppaction://hlinkshowjump?jump=previousslide"/>
          </p:cNvPr>
          <p:cNvSpPr/>
          <p:nvPr/>
        </p:nvSpPr>
        <p:spPr>
          <a:xfrm>
            <a:off x="6443640" y="623736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164360" y="630864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2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92" dur="1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400"/>
                            </p:stCondLst>
                            <p:childTnLst>
                              <p:par>
                                <p:cTn id="19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400"/>
                            </p:stCondLst>
                            <p:childTnLst>
                              <p:par>
                                <p:cTn id="20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400"/>
                            </p:stCondLst>
                            <p:childTnLst>
                              <p:par>
                                <p:cTn id="2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Одежда</a:t>
            </a:r>
            <a:r>
              <a:rPr b="0" lang="ru-RU" sz="4400" spc="-1" strike="noStrike">
                <a:solidFill>
                  <a:srgbClr val="8080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4616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Футболка 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Спортивные шорты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Носки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Кроссовки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На колени одевают наколенники,</a:t>
            </a:r>
            <a:r>
              <a:rPr b="0" i="1" lang="en-US" sz="2000" spc="-1" strike="noStrike">
                <a:solidFill>
                  <a:srgbClr val="003300"/>
                </a:solidFill>
                <a:latin typeface="Verdana"/>
              </a:rPr>
              <a:t> </a:t>
            </a: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защищающие коленный сустав от травм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2333520" cy="4319640"/>
          </a:xfrm>
          <a:prstGeom prst="rect">
            <a:avLst/>
          </a:prstGeom>
          <a:ln w="0">
            <a:noFill/>
          </a:ln>
        </p:spPr>
      </p:pic>
      <p:sp>
        <p:nvSpPr>
          <p:cNvPr id="121" name="">
            <a:hlinkClick r:id="" action="ppaction://hlinkshowjump?jump=nextslide"/>
          </p:cNvPr>
          <p:cNvSpPr/>
          <p:nvPr/>
        </p:nvSpPr>
        <p:spPr>
          <a:xfrm>
            <a:off x="8244000" y="630864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2" name="">
            <a:hlinkClick r:id="" action="ppaction://hlinkshowjump?jump=previousslide"/>
          </p:cNvPr>
          <p:cNvSpPr/>
          <p:nvPr/>
        </p:nvSpPr>
        <p:spPr>
          <a:xfrm>
            <a:off x="651672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236000" y="638172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2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Правила игры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3274920" cy="43927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24000" y="1412640"/>
            <a:ext cx="5040360" cy="47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3300"/>
                </a:solidFill>
                <a:latin typeface="Verdana"/>
              </a:rPr>
              <a:t>Волейбол- коллективная игра.</a:t>
            </a:r>
            <a:endParaRPr b="0" lang="en-US" sz="14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3300"/>
                </a:solidFill>
                <a:latin typeface="Verdana"/>
              </a:rPr>
              <a:t>Она проводится между двумя командами.</a:t>
            </a:r>
            <a:endParaRPr b="0" lang="en-US" sz="14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3300"/>
                </a:solidFill>
                <a:latin typeface="Verdana"/>
              </a:rPr>
              <a:t>На площадке в каждой команде выступают шесть человек.</a:t>
            </a:r>
            <a:endParaRPr b="0" lang="en-US" sz="14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3300"/>
                </a:solidFill>
                <a:latin typeface="Verdana"/>
              </a:rPr>
              <a:t>Цель – игры ударами рук направить мяч на сторону соперника и там приземлить.</a:t>
            </a:r>
            <a:endParaRPr b="0" lang="en-US" sz="14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3300"/>
                </a:solidFill>
                <a:latin typeface="Verdana"/>
              </a:rPr>
              <a:t>Матч состоит из пяти партий, а они  - из эпизодов, в любом из них разыгрывается одно очко.</a:t>
            </a:r>
            <a:endParaRPr b="0" lang="en-US" sz="14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3300"/>
                </a:solidFill>
                <a:latin typeface="Verdana"/>
              </a:rPr>
              <a:t>Эпизод начинается с подачи мяча через сетку (подающий находится за линией своей площадки), после чего игроки неприятельской команды, передавая мяч, друг другу не более двух раз, третьим ударом отправляют его через сетку.</a:t>
            </a:r>
            <a:endParaRPr b="0" lang="en-US" sz="14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3300"/>
                </a:solidFill>
                <a:latin typeface="Verdana"/>
              </a:rPr>
              <a:t>Команда получает очко и право на следующую подачу, если её соперник не сумеет отбить мяч ( и он коснётся земли либо пола) или не перекинет мяч обратно через сетку за три касания. Выигрывает партию команда, набравшая 25 очков. При счете 24 : 24 игра продолжается до тех пор, пока разница не достигнет двух очков.</a:t>
            </a:r>
            <a:endParaRPr b="0" lang="en-US" sz="14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3300"/>
                </a:solidFill>
                <a:latin typeface="Verdana"/>
              </a:rPr>
              <a:t>В мачте побеждает команда, которая одолела соперника в трёх партиях из пяти.</a:t>
            </a:r>
            <a:endParaRPr b="0" lang="en-US" sz="14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3300"/>
                </a:solidFill>
                <a:latin typeface="Verdana"/>
              </a:rPr>
              <a:t>Правда. В пятой партии требуется набрать не 25, а 15очков. </a:t>
            </a:r>
            <a:endParaRPr b="0" lang="en-US" sz="14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27" name="">
            <a:hlinkClick r:id="" action="ppaction://hlinkshowjump?jump=nextslide"/>
          </p:cNvPr>
          <p:cNvSpPr/>
          <p:nvPr/>
        </p:nvSpPr>
        <p:spPr>
          <a:xfrm>
            <a:off x="8244000" y="630864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8" name="">
            <a:hlinkClick r:id="" action="ppaction://hlinkshowjump?jump=previousslide"/>
          </p:cNvPr>
          <p:cNvSpPr/>
          <p:nvPr/>
        </p:nvSpPr>
        <p:spPr>
          <a:xfrm>
            <a:off x="651672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6000" y="638172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2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2" dur="5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О технике игры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131" name=""/>
          <p:cNvSpPr/>
          <p:nvPr/>
        </p:nvSpPr>
        <p:spPr>
          <a:xfrm>
            <a:off x="4067280" y="1557360"/>
            <a:ext cx="1728720" cy="165564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cc"/>
                </a:solidFill>
                <a:latin typeface="Verdana"/>
              </a:rPr>
              <a:t>Техника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92360" y="4797360"/>
            <a:ext cx="1727280" cy="16560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cc00"/>
                </a:solidFill>
                <a:uFillTx/>
                <a:latin typeface="Verdana"/>
                <a:hlinkClick r:id="rId1"/>
              </a:rPr>
              <a:t>Приемы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429000"/>
            <a:ext cx="1563840" cy="15843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cc00"/>
                </a:solidFill>
                <a:uFillTx/>
                <a:latin typeface="Verdana"/>
                <a:hlinkClick r:id="rId2"/>
              </a:rPr>
              <a:t>Подачи</a:t>
            </a:r>
            <a:r>
              <a:rPr b="0" lang="ru-RU" sz="2000" spc="-1" strike="noStrike" u="sng">
                <a:solidFill>
                  <a:srgbClr val="99cc00"/>
                </a:solidFill>
                <a:uFillTx/>
                <a:latin typeface="Verdana"/>
                <a:hlinkClick r:id="rId3"/>
              </a:rPr>
              <a:t>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724360" y="4653000"/>
            <a:ext cx="1800360" cy="158436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cc00"/>
                </a:solidFill>
                <a:uFillTx/>
                <a:latin typeface="Verdana"/>
                <a:hlinkClick r:id="rId4"/>
              </a:rPr>
              <a:t>Передачи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3059280" y="3068640"/>
            <a:ext cx="1296720" cy="180036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64000" y="3141720"/>
            <a:ext cx="1152720" cy="151128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651640" y="2852640"/>
            <a:ext cx="1728720" cy="79236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8" name="">
            <a:hlinkClick r:id="" action="ppaction://hlinkshowjump?jump=nextslide"/>
          </p:cNvPr>
          <p:cNvSpPr/>
          <p:nvPr/>
        </p:nvSpPr>
        <p:spPr>
          <a:xfrm>
            <a:off x="8244000" y="630864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9" name="">
            <a:hlinkClick r:id="" action="ppaction://hlinkshowjump?jump=previousslide"/>
          </p:cNvPr>
          <p:cNvSpPr/>
          <p:nvPr/>
        </p:nvSpPr>
        <p:spPr>
          <a:xfrm>
            <a:off x="651672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236000" y="638172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5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780000" y="4581360"/>
            <a:ext cx="1800000" cy="1729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cc00"/>
                </a:solidFill>
                <a:uFillTx/>
                <a:latin typeface="Verdana"/>
                <a:hlinkClick r:id="rId6"/>
              </a:rPr>
              <a:t>Отбивание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4788000" y="3213000"/>
            <a:ext cx="71280" cy="129564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11280" y="1700280"/>
            <a:ext cx="2089080" cy="1490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cc00"/>
                </a:solidFill>
                <a:uFillTx/>
                <a:latin typeface="Verdana"/>
                <a:hlinkClick r:id="rId7"/>
              </a:rPr>
              <a:t>Нападающий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cc00"/>
                </a:solidFill>
                <a:uFillTx/>
                <a:latin typeface="Verdana"/>
                <a:hlinkClick r:id="rId8"/>
              </a:rPr>
              <a:t>удар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626920" y="2781360"/>
            <a:ext cx="1513080" cy="107928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04000" y="1844640"/>
            <a:ext cx="2087640" cy="1368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00"/>
                </a:solidFill>
                <a:uFillTx/>
                <a:latin typeface="Verdana"/>
                <a:hlinkClick r:id="rId9"/>
              </a:rPr>
              <a:t>Блокирование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5796000" y="2421000"/>
            <a:ext cx="1008000" cy="7128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26920" y="3357720"/>
            <a:ext cx="1800360" cy="1511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cc00"/>
                </a:solidFill>
                <a:uFillTx/>
                <a:latin typeface="Verdana"/>
                <a:hlinkClick r:id="rId10" action="ppaction://hlinksldjump"/>
              </a:rPr>
              <a:t>Впадение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2700000" y="2420640"/>
            <a:ext cx="1366920" cy="14436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3000"/>
                            </p:stCondLst>
                            <p:childTnLst>
                              <p:par>
                                <p:cTn id="34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4000"/>
                            </p:stCondLst>
                            <p:childTnLst>
                              <p:par>
                                <p:cTn id="35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0"/>
                            </p:stCondLst>
                            <p:childTnLst>
                              <p:par>
                                <p:cTn id="36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000"/>
                            </p:stCondLst>
                            <p:childTnLst>
                              <p:par>
                                <p:cTn id="36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7000"/>
                            </p:stCondLst>
                            <p:childTnLst>
                              <p:par>
                                <p:cTn id="37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8000"/>
                </a:solidFill>
                <a:latin typeface="Garamond"/>
              </a:rPr>
              <a:t>Стойка волейболиста</a:t>
            </a:r>
            <a:endParaRPr b="0" lang="en-US" sz="4000" spc="-1" strike="noStrike">
              <a:solidFill>
                <a:srgbClr val="808000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22560" y="1599840"/>
            <a:ext cx="47642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Ноги расположены на ширине плеч и согнуты в коленных суставах. 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Одна нога впереди, или ступни расположены параллельно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Туловище наклонено вперед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Чем ниже стойка, тем больше вперед наклонено туловище.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Verdana"/>
              </a:rPr>
              <a:t>Руки согнуты в локтевых суставах. 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84360" y="1917720"/>
            <a:ext cx="2609640" cy="3865680"/>
          </a:xfrm>
          <a:prstGeom prst="rect">
            <a:avLst/>
          </a:prstGeom>
          <a:ln w="0">
            <a:noFill/>
          </a:ln>
        </p:spPr>
      </p:pic>
      <p:sp>
        <p:nvSpPr>
          <p:cNvPr id="152" name="">
            <a:hlinkClick r:id="" action="ppaction://hlinkshowjump?jump=nextslide"/>
          </p:cNvPr>
          <p:cNvSpPr/>
          <p:nvPr/>
        </p:nvSpPr>
        <p:spPr>
          <a:xfrm>
            <a:off x="817236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3" name="">
            <a:hlinkClick r:id="" action="ppaction://hlinkshowjump?jump=previousslide"/>
          </p:cNvPr>
          <p:cNvSpPr/>
          <p:nvPr/>
        </p:nvSpPr>
        <p:spPr>
          <a:xfrm>
            <a:off x="6443640" y="6308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164360" y="6381720"/>
            <a:ext cx="1008000" cy="2660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99cc00"/>
                </a:solidFill>
                <a:uFillTx/>
                <a:latin typeface="Verdana"/>
                <a:hlinkClick r:id="rId2"/>
              </a:rPr>
              <a:t>содержание</a:t>
            </a: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5734080"/>
            <a:ext cx="127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Verdana"/>
              </a:rPr>
              <a:t>Высокая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Verdana"/>
              </a:rPr>
              <a:t>стойка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325240" y="5734080"/>
            <a:ext cx="107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Verdana"/>
              </a:rPr>
              <a:t>Средняя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Verdana"/>
              </a:rPr>
              <a:t>стойка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000"/>
                            </p:stCondLst>
                            <p:childTnLst>
                              <p:par>
                                <p:cTn id="39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6" dur="1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3000"/>
                            </p:stCondLst>
                            <p:childTnLst>
                              <p:par>
                                <p:cTn id="39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0" dur="1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4000"/>
                            </p:stCondLst>
                            <p:childTnLst>
                              <p:par>
                                <p:cTn id="40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4" dur="1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0"/>
                            </p:stCondLst>
                            <p:childTnLst>
                              <p:par>
                                <p:cTn id="40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8" dur="1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6000"/>
                            </p:stCondLst>
                            <p:childTnLst>
                              <p:par>
                                <p:cTn id="41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2" dur="1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7000"/>
                            </p:stCondLst>
                            <p:childTnLst>
                              <p:par>
                                <p:cTn id="4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Шихова</dc:creator>
  <dc:description/>
  <dc:language>en-US</dc:language>
  <cp:lastModifiedBy>*</cp:lastModifiedBy>
  <dcterms:modified xsi:type="dcterms:W3CDTF">2009-04-23T20:17:50Z</dcterms:modified>
  <cp:revision>51</cp:revision>
  <dc:subject/>
  <dc:title/>
</cp:coreProperties>
</file>