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gif" ContentType="image/gif"/>
  <Override PartName="/ppt/media/image25.png" ContentType="image/png"/>
  <Override PartName="/ppt/media/image2.gif" ContentType="image/gif"/>
  <Override PartName="/ppt/media/image22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10.png" ContentType="image/png"/>
  <Override PartName="/ppt/media/image1.jpeg" ContentType="image/jpeg"/>
  <Override PartName="/ppt/media/image27.gif" ContentType="image/gif"/>
  <Override PartName="/ppt/media/image7.png" ContentType="image/png"/>
  <Override PartName="/ppt/media/image32.png" ContentType="image/png"/>
  <Override PartName="/ppt/media/image8.png" ContentType="image/png"/>
  <Override PartName="/ppt/media/image28.gif" ContentType="image/gif"/>
  <Override PartName="/ppt/media/image12.png" ContentType="image/png"/>
  <Override PartName="/ppt/media/image31.png" ContentType="image/png"/>
  <Override PartName="/ppt/media/image34.png" ContentType="image/png"/>
  <Override PartName="/ppt/media/image4.png" ContentType="image/png"/>
  <Override PartName="/ppt/media/image24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19.gif" ContentType="image/gif"/>
  <Override PartName="/ppt/media/image13.png" ContentType="image/png"/>
  <Override PartName="/ppt/media/image20.gif" ContentType="image/gif"/>
  <Override PartName="/ppt/media/image30.gif" ContentType="image/gif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B77-074D-43F3-9D33-F231F2DC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85D-1891-459F-A67D-7BFF8CCD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BCE-47CE-428B-B8CA-AA40FB6D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2B7-0FED-4970-8B1F-75B1E47C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F829-E4BD-424A-B7D1-D6DD5E3D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D433-8CEB-4F98-8F93-D11D5151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E967-5BF4-4658-99D3-922AE123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4DFA-A42F-4898-B0DD-17BEB060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AC6D-C353-4485-9E0F-F23BC609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48A2-E75B-4343-8442-A57CDF87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70C1-9022-4E58-8E91-1043ECB6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D22-10FD-49B7-AF52-1542F3F2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40C7-791E-426B-A421-D6F545E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847D-A9BE-4B4C-9C14-5E496598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2725-26AF-4C52-85D4-62F2E182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C869-30C2-44A9-B999-552D39EF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CC0B-957F-466D-BD5F-95D32F03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8F5-7442-47CC-9951-4D1BB553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249-BD34-48E7-B7E0-4C76E19C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C0E-9241-4C63-B8DA-7E504881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F15-011E-4D62-8C17-BBD400E6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84E-04DC-4182-B60A-E0004FAB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112-0FAF-4A86-B1DC-9FD5631B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B1C-11D7-4AD3-BF01-A3DEC9A3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9509-DE90-42EF-828D-CDBED7B5AC05}" type="slidenum">
              <a:rPr b="0" lang="ru-RU" sz="10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27FE-8194-4A33-A063-0BA21A460945}" type="slidenum">
              <a:rPr b="0" lang="ru-RU" sz="10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12. &#1058;&#1077;&#1093;&#1085;&#1080;&#1082;&#1072; &#1074;&#1099;&#1087;&#1086;&#1083;&#1085;&#1077;&#1085;&#1080;&#1103; &#1087;&#1077;&#1088;&#1077;&#1076;&#1072;&#1095;&#1080; &#1084;&#1103;&#1095;&#1072; &#1089;&#1074;&#1077;&#1088;&#1093;&#1091; &#1076;&#1074;&#1091;&#1084;&#1103; &#1088;&#1091;&#1082;&#1072;&#1084;&#1080;" TargetMode="External"/><Relationship Id="rId2" Type="http://schemas.openxmlformats.org/officeDocument/2006/relationships/hyperlink" Target="file:///&#1042;&#1086;&#1083;&#1077;&#1081;&#1073;&#1086;&#1083;.ppt#13. &#1058;&#1077;&#1093;&#1085;&#1080;&#1082;&#1072; &#1074;&#1099;&#1087;&#1086;&#1083;&#1085;&#1077;&#1085;&#1080;&#1103; &#1087;&#1077;&#1088;&#1077;&#1076;&#1072;&#1095;&#1080; &#1084;&#1103;&#1095;&#1072;, &#1089;&#1090;&#1086;&#1103; &#1089;&#1087;&#1080;&#1085;&#1086;&#1081; &#1082; &#1094;&#1077;&#1083;&#1080;" TargetMode="External"/><Relationship Id="rId3" Type="http://schemas.openxmlformats.org/officeDocument/2006/relationships/hyperlink" Target="file:///&#1042;&#1086;&#1083;&#1077;&#1081;&#1073;&#1086;&#1083;.ppt#13. &#1058;&#1077;&#1093;&#1085;&#1080;&#1082;&#1072; &#1074;&#1099;&#1087;&#1086;&#1083;&#1085;&#1077;&#1085;&#1080;&#1103; &#1087;&#1077;&#1088;&#1077;&#1076;&#1072;&#1095;&#1080; &#1084;&#1103;&#1095;&#1072; &#1095;&#1077;&#1088;&#1077;&#1079; &#1089;&#1077;&#1090;&#1082;&#1091; &#1074; &#1087;&#1088;&#1099;&#1078;&#1082;&#1077;" TargetMode="External"/><Relationship Id="rId4" Type="http://schemas.openxmlformats.org/officeDocument/2006/relationships/hyperlink" Target="file:///&#1042;&#1086;&#1083;&#1077;&#1081;&#1073;&#1086;&#1083;.ppt#14. &#1058;&#1077;&#1093;&#1085;&#1080;&#1082;&#1072; &#1074;&#1099;&#1087;&#1086;&#1083;&#1085;&#1077;&#1085;&#1080;&#1103; &#1087;&#1077;&#1088;&#1077;&#1076;&#1072;&#1095;&#1080; &#1084;&#1103;&#1095;&#1072; &#1076;&#1074;&#1091;&#1084;&#1103; &#1088;&#1091;&#1082;&#1072;&#1084;&#1080; &#1089;&#1085;&#1080;&#1079;&#1091;" TargetMode="External"/><Relationship Id="rId5" Type="http://schemas.openxmlformats.org/officeDocument/2006/relationships/hyperlink" Target="file:///&#1042;&#1086;&#1083;&#1077;&#1081;&#1073;&#1086;&#1083;.ppt" TargetMode="External"/><Relationship Id="rId6" Type="http://schemas.openxmlformats.org/officeDocument/2006/relationships/image" Target="../media/image9.png"/><Relationship Id="rId7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2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4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6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17. &#1058;&#1077;&#1093;&#1085;&#1080;&#1082;&#1072; &#1074;&#1099;&#1087;&#1086;&#1083;&#1085;&#1077;&#1085;&#1080;&#1103; &#1086;&#1090;&#1073;&#1080;&#1074;&#1072;&#1085;&#1080;&#1103; &#1084;&#1103;&#1095;&#1072; &#1082;&#1091;&#1083;&#1072;&#1082;&#1086;&#1084; &#1091; &#1089;&#1077;&#1090;&#1082;&#1080;" TargetMode="External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hyperlink" Target="file:///&#1042;&#1086;&#1083;&#1077;&#1081;&#1073;&#1086;&#1083;.ppt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8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hyperlink" Target="file:///&#1042;&#1086;&#1083;&#1077;&#1081;&#1073;&#1086;&#1083;.ppt#19. &#1058;&#1077;&#1093;&#1085;&#1080;&#1082;&#1072; &#1074;&#1099;&#1087;&#1086;&#1083;&#1085;&#1077;&#1085;&#1080;&#1103; &#1085;&#1080;&#1078;&#1085;&#1077;&#1081; &#1087;&#1088;&#1103;&#1084;&#1086;&#1081; &#1087;&#1086;&#1076;&#1072;&#1095;&#1080;" TargetMode="External"/><Relationship Id="rId3" Type="http://schemas.openxmlformats.org/officeDocument/2006/relationships/hyperlink" Target="file:///&#1042;&#1086;&#1083;&#1077;&#1081;&#1073;&#1086;&#1083;.ppt#20. &#1058;&#1077;&#1093;&#1085;&#1080;&#1082;&#1072; &#1074;&#1099;&#1087;&#1086;&#1083;&#1085;&#1077;&#1085;&#1080;&#1103; &#1074;&#1077;&#1088;&#1093;&#1085;&#1077;&#1081; &#1087;&#1088;&#1103;&#1084;&#1086;&#1081; &#1087;&#1086;&#1076;&#1072;&#1095;&#1080;" TargetMode="External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3. &#1048;&#1079; &#1080;&#1089;&#1090;&#1086;&#1088;&#1080;&#1080; &#1074;&#1086;&#1083;&#1077;&#1081;&#1073;&#1086;&#1083;&#1072;" TargetMode="External"/><Relationship Id="rId2" Type="http://schemas.openxmlformats.org/officeDocument/2006/relationships/hyperlink" Target="file:///&#1042;&#1086;&#1083;&#1077;&#1081;&#1073;&#1086;&#1083;.ppt#4. &#1056;&#1072;&#1079;&#1084;&#1077;&#1088;&#1099; &#1080; &#1083;&#1080;&#1085;&#1080;&#1080; &#1087;&#1083;&#1086;&#1097;&#1072;&#1076;&#1082;&#1080;" TargetMode="External"/><Relationship Id="rId3" Type="http://schemas.openxmlformats.org/officeDocument/2006/relationships/hyperlink" Target="file:///&#1042;&#1086;&#1083;&#1077;&#1081;&#1073;&#1086;&#1083;.ppt#5. &#1042;&#1086;&#1083;&#1077;&#1081;&#1073;&#1086;&#1083;&#1100;&#1085;&#1099;&#1081; &#1084;&#1103;&#1095;" TargetMode="External"/><Relationship Id="rId4" Type="http://schemas.openxmlformats.org/officeDocument/2006/relationships/hyperlink" Target="file:///&#1042;&#1086;&#1083;&#1077;&#1081;&#1073;&#1086;&#1083;.ppt#6. &#1054;&#1076;&#1077;&#1078;&#1076;&#1072;" TargetMode="External"/><Relationship Id="rId5" Type="http://schemas.openxmlformats.org/officeDocument/2006/relationships/hyperlink" Target="file:///&#1042;&#1086;&#1083;&#1077;&#1081;&#1073;&#1086;&#1083;.ppt#7. &#1055;&#1088;&#1072;&#1074;&#1080;&#1083;&#1072; &#1080;&#1075;&#1088;&#1099;" TargetMode="External"/><Relationship Id="rId6" Type="http://schemas.openxmlformats.org/officeDocument/2006/relationships/hyperlink" Target="file:///&#1042;&#1086;&#1083;&#1077;&#1081;&#1073;&#1086;&#1083;.ppt#8. &#1054; &#1090;&#1077;&#1093;&#1085;&#1080;&#1082;&#1077; &#1080;&#1075;&#1088;&#1099;" TargetMode="External"/><Relationship Id="rId7" Type="http://schemas.openxmlformats.org/officeDocument/2006/relationships/hyperlink" Target="file:///&#1042;&#1086;&#1083;&#1077;&#1081;&#1073;&#1086;&#1083;.ppt#9. &#1057;&#1090;&#1086;&#1081;&#1082;&#1072; &#1074;&#1086;&#1083;&#1077;&#1081;&#1073;&#1086;&#1083;&#1080;&#1089;&#1090;&#1072;" TargetMode="External"/><Relationship Id="rId8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9" Type="http://schemas.openxmlformats.org/officeDocument/2006/relationships/hyperlink" Target="file:///&#1042;&#1086;&#1083;&#1077;&#1081;&#1073;&#1086;&#1083;.ppt#11. &#1055;&#1088;&#1072;&#1074;&#1080;&#1083;&#1100;&#1085;&#1086;&#1077; &#1087;&#1086;&#1083;&#1086;&#1078;&#1077;&#1085;&#1080;&#1077; &#1082;&#1080;&#1089;&#1090;&#1077;&#1081; &#1080; &#1087;&#1072;&#1083;&#1100;&#1094;&#1077;&#1074;" TargetMode="External"/><Relationship Id="rId10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11" Type="http://schemas.openxmlformats.org/officeDocument/2006/relationships/hyperlink" Target="file:///&#1042;&#1086;&#1083;&#1077;&#1081;&#1073;&#1086;&#1083;.ppt#18. &#1055;&#1086;&#1076;&#1072;&#1095;&#1080;" TargetMode="External"/><Relationship Id="rId12" Type="http://schemas.openxmlformats.org/officeDocument/2006/relationships/hyperlink" Target="file:///&#1042;&#1086;&#1083;&#1077;&#1081;&#1073;&#1086;&#1083;.ppt#21. &#1055;&#1088;&#1080;&#1077;&#1084; &#1084;&#1103;&#1095;&#1072;" TargetMode="External"/><Relationship Id="rId13" Type="http://schemas.openxmlformats.org/officeDocument/2006/relationships/hyperlink" Target="file:///&#1042;&#1086;&#1083;&#1077;&#1081;&#1073;&#1086;&#1083;.ppt#24. &#1055;&#1088;&#1080;&#1077;&#1084; &#1084;&#1103;&#1095;&#1072; &#1074; &#1087;&#1072;&#1076;&#1077;&#1085;&#1080;&#1077;" TargetMode="External"/><Relationship Id="rId14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15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6" Type="http://schemas.openxmlformats.org/officeDocument/2006/relationships/hyperlink" Target="file:///&#1042;&#1086;&#1083;&#1077;&#1081;&#1073;&#1086;&#1083;.ppt#31. &#1055;&#1077;&#1088;&#1077;&#1076;&#1072;&#1095;&#1080;" TargetMode="External"/><Relationship Id="rId17" Type="http://schemas.openxmlformats.org/officeDocument/2006/relationships/hyperlink" Target="file:///&#1042;&#1086;&#1083;&#1077;&#1081;&#1073;&#1086;&#1083;.ppt#32. &#1055;&#1088;&#1080;&#1077;&#1084;&#1099;" TargetMode="External"/><Relationship Id="rId18" Type="http://schemas.openxmlformats.org/officeDocument/2006/relationships/hyperlink" Target="file:///&#1042;&#1086;&#1083;&#1077;&#1081;&#1073;&#1086;&#1083;.ppt#33. &#1055;&#1086;&#1076;&#1072;&#1095;&#1080;" TargetMode="External"/><Relationship Id="rId19" Type="http://schemas.openxmlformats.org/officeDocument/2006/relationships/image" Target="../media/image2.gif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&#1042;&#1086;&#1083;&#1077;&#1081;&#1073;&#1086;&#1083;.ppt#22. &#1058;&#1077;&#1093;&#1085;&#1080;&#1082;&#1072; &#1074;&#1099;&#1087;&#1086;&#1083;&#1085;&#1077;&#1085;&#1080;&#1103; &#1087;&#1088;&#1080;&#1077;&#1084;&#1072; &#1084;&#1103;&#1095;&#1072; &#1076;&#1074;&#1091;&#1084;&#1103; &#1088;&#1091;&#1082;&#1072;&#1084;&#1080; &#1089;&#1074;&#1077;&#1088;&#1093;&#1091;" TargetMode="External"/><Relationship Id="rId4" Type="http://schemas.openxmlformats.org/officeDocument/2006/relationships/hyperlink" Target="file:///&#1042;&#1086;&#1083;&#1077;&#1081;&#1073;&#1086;&#1083;.ppt#23. &#1058;&#1077;&#1093;&#1085;&#1080;&#1082;&#1072; &#1074;&#1099;&#1087;&#1086;&#1083;&#1085;&#1077;&#1085;&#1080;&#1103; &#1087;&#1088;&#1080;&#1077;&#1084;&#1072; &#1084;&#1103;&#1095;&#1072; &#1089;&#1085;&#1080;&#1079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22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5. &#1058;&#1077;&#1093;&#1085;&#1080;&#1082;&#1072; &#1074;&#1099;&#1087;&#1086;&#1083;&#1085;&#1077;&#1085;&#1080;&#1103; &#1087;&#1088;&#1080;&#1077;&#1084;&#1072; &#1084;&#1103;&#1095;&#1072; &#1086;&#1076;&#1085;&#1086;&#1081; &#1088;&#1091;&#1082;&#1086;&#1081; &#1089; &#1087;&#1086;&#1089;&#1083;&#1077;&#1076;&#1091;&#1102;&#1097;&#1080;&#1084; ..." TargetMode="External"/><Relationship Id="rId2" Type="http://schemas.openxmlformats.org/officeDocument/2006/relationships/hyperlink" Target="file:///&#1042;&#1086;&#1083;&#1077;&#1081;&#1073;&#1086;&#1083;.ppt#26. &#1058;&#1077;&#1093;&#1085;&#1080;&#1082;&#1072; &#1074;&#1099;&#1087;&#1086;&#1083;&#1085;&#1077;&#1085;&#1080;&#1103; &#1087;&#1088;&#1080;&#1077;&#1084;&#1072; &#1084;&#1103;&#1095;&#1072; &#1086;&#1076;&#1085;&#1086;&#1081; &#1088;&#1091;&#1082;&#1086;&#1081; &#1074;&#1087;&#1072;&#1076;&#1077;&#1085;&#1080;&#1080; &#1074;&#1087;&#1077;&#1088;&#1077;..." TargetMode="External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25.png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8. &#1058;&#1077;&#1093;&#1085;&#1080;&#1082;&#1072; &#1074;&#1099;&#1087;&#1086;&#1083;&#1085;&#1077;&#1085;&#1080;&#1103; &#1085;&#1072;&#1087;&#1072;&#1076;&#1072;&#1102;&#1097;&#1077;&#1075;&#1086; &#1091;&#1076;&#1072;&#1088;&#1072;" TargetMode="External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30. &#1058;&#1077;&#1093;&#1085;&#1080;&#1082;&#1072; &#1074;&#1099;&#1087;&#1086;&#1083;&#1085;&#1077;&#1085;&#1080;&#1103; &#1073;&#1083;&#1086;&#1082;&#1080;&#1088;&#1086;&#1074;&#1072;&#1085;&#1080;&#1103; &#1084;&#1103;&#1095;&#1072;" TargetMode="External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31.png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32.png"/><Relationship Id="rId5" Type="http://schemas.openxmlformats.org/officeDocument/2006/relationships/hyperlink" Target="file:///&#1042;&#1086;&#1083;&#1077;&#1081;&#1073;&#1086;&#1083;.ppt" TargetMode="External"/><Relationship Id="rId6" Type="http://schemas.openxmlformats.org/officeDocument/2006/relationships/image" Target="../media/image33.png"/><Relationship Id="rId7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8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34.png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35.png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1. &#1055;&#1088;&#1080;&#1077;&#1084; &#1084;&#1103;&#1095;&#1072;" TargetMode="External"/><Relationship Id="rId2" Type="http://schemas.openxmlformats.org/officeDocument/2006/relationships/hyperlink" Target="file:///&#1042;&#1086;&#1083;&#1077;&#1081;&#1073;&#1086;&#1083;.ppt#18. &#1055;&#1086;&#1076;&#1072;&#1095;&#1080;" TargetMode="External"/><Relationship Id="rId3" Type="http://schemas.openxmlformats.org/officeDocument/2006/relationships/hyperlink" Target="file:///&#1042;&#1086;&#1083;&#1077;&#1081;&#1073;&#1086;&#1083;.ppt#18. &#1055;&#1086;&#1076;&#1072;&#1095;&#1080;" TargetMode="External"/><Relationship Id="rId4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7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8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9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76360" y="325728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Изучение и совершенствование техники волейбола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5-11 класс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7524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26920" y="69228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лейбол</a:t>
            </a:r>
            <a:endParaRPr b="1" i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8036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16191" y="3794"/>
                </a:lnTo>
                <a:lnTo>
                  <a:pt x="16191" y="17806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а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мяча сверху двумя руками составляет основу игр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взаимодействии нападающих для ускорения атаки и дезорганизации блока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на дает возможность выполнять различные упражнения по технике, а также играть через сет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(техника: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верху двумя руками</a:t>
            </a: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;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 </a:t>
            </a: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стоя спиной к цели;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через сетку в прыжке</a:t>
            </a: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;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двумя руками снизу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1628640"/>
            <a:ext cx="3265560" cy="453096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ьное положение кистей и пальцев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10400" cy="2995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Положение кистей рук и расположение пальцев на мяче, во время передачи мяча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ыжок выполняется с места и с укороченного разбега (1-2 шага) толчком двух но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в высшей точка прыжка за счет активного разгибания рук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6520" y="2719440"/>
            <a:ext cx="4040280" cy="229212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3800" y="1630440"/>
            <a:ext cx="2552760" cy="3382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1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тбивание мяча кулаком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2636640"/>
            <a:ext cx="403848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 игре, особенно у новичков, мяч иногда опускается у самой сетк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2" name="">
            <a:hlinkClick r:id="rId2"/>
          </p:cNvPr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1989000"/>
            <a:ext cx="2765160" cy="36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0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900"/>
                            </p:stCondLst>
                            <p:childTnLst>
                              <p:par>
                                <p:cTn id="6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900"/>
                            </p:stCondLst>
                            <p:childTnLst>
                              <p:par>
                                <p:cTn id="6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900"/>
                            </p:stCondLst>
                            <p:childTnLst>
                              <p:par>
                                <p:cTn id="66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отбивания мяча кулаком у сет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Лучше расположить боком к сетке (правым при отбивании правой рукой), иногда и спин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десь важно рассчитать прыжок, что бы встретить мяч над сетк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628640"/>
            <a:ext cx="1452600" cy="453096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768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768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5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7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998"/>
                            </p:stCondLst>
                            <p:childTnLst>
                              <p:par>
                                <p:cTn id="6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38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3" dur="385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5" dur="38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7" dur="38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998"/>
                            </p:stCondLst>
                            <p:childTnLst>
                              <p:par>
                                <p:cTn id="6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385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385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385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385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998"/>
                            </p:stCondLst>
                            <p:childTnLst>
                              <p:par>
                                <p:cTn id="7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85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3" dur="385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5" dur="385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7" dur="385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1128600"/>
            <a:ext cx="3657600" cy="26607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Игра начинается подаче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им приемом мяч вводится в игр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оревнования без подачи невозмож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чко команда также может выиграть только тогда, когда она подавала, а соперник совершил ошиб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(техника: нижняя прямая подача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ерхняя прямая подач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324000" y="3716280"/>
            <a:ext cx="3960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Левая рука, согнутая в локтевом суставе, удерживает мяч на уровне пояс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равая (бьющая) рука отведена назад в положении замах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Бьющая рука направляет мяч вперед-вверх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54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400"/>
                            </p:stCondLst>
                            <p:childTnLst>
                              <p:par>
                                <p:cTn id="7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900"/>
                            </p:stCondLst>
                            <p:childTnLst>
                              <p:par>
                                <p:cTn id="76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4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900"/>
                            </p:stCondLst>
                            <p:childTnLst>
                              <p:par>
                                <p:cTn id="7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4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4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900"/>
                            </p:stCondLst>
                            <p:childTnLst>
                              <p:par>
                                <p:cTn id="77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4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4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7900"/>
                            </p:stCondLst>
                            <p:childTnLst>
                              <p:par>
                                <p:cTn id="7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4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4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8900"/>
                            </p:stCondLst>
                            <p:childTnLst>
                              <p:par>
                                <p:cTn id="7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4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одержани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5040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Из истории волейбол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Размеры и линии площадк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олейбольный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Одежд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Правила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 технике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Стойка волейболист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Передача мяча сверху двумя рукам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Правильное положение кистей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0"/>
              </a:rPr>
              <a:t>Отбивание мяча кулаком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1"/>
              </a:rPr>
              <a:t>Подачи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2"/>
              </a:rPr>
              <a:t>Прием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3"/>
              </a:rPr>
              <a:t>Прием мяча в падени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4"/>
              </a:rPr>
              <a:t>Нападающий удар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5"/>
              </a:rPr>
              <a:t>Блокирования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6"/>
              </a:rPr>
              <a:t>Передачи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7"/>
              </a:rPr>
              <a:t>Прием мяча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8"/>
              </a:rPr>
              <a:t>Подачи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9"/>
          <a:stretch/>
        </p:blipFill>
        <p:spPr>
          <a:xfrm>
            <a:off x="4960800" y="2043000"/>
            <a:ext cx="3598920" cy="319248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7380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лицом к сетке, левая нога впереди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68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68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6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6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998"/>
                            </p:stCondLst>
                            <p:childTnLst>
                              <p:par>
                                <p:cTn id="8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998"/>
                            </p:stCondLst>
                            <p:childTnLst>
                              <p:par>
                                <p:cTn id="8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998"/>
                            </p:stCondLst>
                            <p:childTnLst>
                              <p:par>
                                <p:cTn id="8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998"/>
                            </p:stCondLst>
                            <p:childTnLst>
                              <p:par>
                                <p:cTn id="8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7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(техника: двумя руками сверху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низу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двумя руками сверх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73360"/>
            <a:ext cx="8066160" cy="382896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25480" y="1630440"/>
            <a:ext cx="1971720" cy="2881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708360" y="1052640"/>
            <a:ext cx="4826160" cy="351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 впадение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89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когда мяч низко летит при передач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: одной рукой с последующем падении и перекатом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одной рукой в падении вперед и последующем скольжением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628640"/>
            <a:ext cx="3079800" cy="453096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36000" y="623736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000"/>
                            </p:stCondLst>
                            <p:childTnLst>
                              <p:par>
                                <p:cTn id="9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одной рукой с последующим падением и перекатом в сторону на бедро и спину</a:t>
            </a:r>
            <a:r>
              <a:rPr b="0" lang="ru-RU" sz="40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от прием применяют чаще девушки. После перемещения делают выпад, выставляя в сторону мяча прямую руку и разгибая опорную ногу, производят удар по мячу и затем приземляются на бедро и перекатываются на спину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897440" cy="3562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500"/>
                            </p:stCondLst>
                            <p:childTnLst>
                              <p:par>
                                <p:cTn id="9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Нападающий удар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о самый эффективный способ завершения атаки, именно он чаще всего приносит победные очк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628640"/>
            <a:ext cx="3124440" cy="4530960"/>
          </a:xfrm>
          <a:prstGeom prst="rect">
            <a:avLst/>
          </a:prstGeom>
          <a:ln w="0">
            <a:noFill/>
          </a:ln>
        </p:spPr>
      </p:pic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6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9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46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                                                         нужно пробить по мячу, тем расслабленней должна быть кисть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620208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1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3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5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859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ыставление рук над верхним краем сетки для преграждения полета мяча после нападающего удара называется блокированием. Оно применяется для противодействия нападающего удара. Выполняется одним или двумя (реже тремя) игроками в прыжке с места или после перемещ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684000" cy="360360"/>
          </a:xfrm>
          <a:custGeom>
            <a:avLst/>
            <a:gdLst>
              <a:gd name="textAreaLeft" fmla="*/ 23040 w 684000"/>
              <a:gd name="textAreaRight" fmla="*/ 660960 w 68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0980" h="21600">
                <a:moveTo>
                  <a:pt x="0" y="0"/>
                </a:moveTo>
                <a:lnTo>
                  <a:pt x="40980" y="0"/>
                </a:lnTo>
                <a:lnTo>
                  <a:pt x="40980" y="21600"/>
                </a:lnTo>
                <a:lnTo>
                  <a:pt x="0" y="21600"/>
                </a:lnTo>
                <a:close/>
              </a:path>
              <a:path fill="lightenLess" w="40980" h="21600">
                <a:moveTo>
                  <a:pt x="0" y="0"/>
                </a:moveTo>
                <a:lnTo>
                  <a:pt x="40980" y="0"/>
                </a:lnTo>
                <a:lnTo>
                  <a:pt x="39580" y="1400"/>
                </a:lnTo>
                <a:lnTo>
                  <a:pt x="1400" y="1400"/>
                </a:lnTo>
                <a:close/>
              </a:path>
              <a:path fill="darken" w="40980" h="21600">
                <a:moveTo>
                  <a:pt x="40980" y="0"/>
                </a:moveTo>
                <a:lnTo>
                  <a:pt x="40980" y="21600"/>
                </a:lnTo>
                <a:lnTo>
                  <a:pt x="39580" y="20200"/>
                </a:lnTo>
                <a:lnTo>
                  <a:pt x="39580" y="1400"/>
                </a:lnTo>
                <a:close/>
              </a:path>
              <a:path fill="darkenLess" w="40980" h="21600">
                <a:moveTo>
                  <a:pt x="4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80" y="20200"/>
                </a:lnTo>
                <a:close/>
              </a:path>
              <a:path fill="lighten" w="4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80" h="21600">
                <a:moveTo>
                  <a:pt x="13483" y="3794"/>
                </a:moveTo>
                <a:lnTo>
                  <a:pt x="27496" y="10800"/>
                </a:lnTo>
                <a:lnTo>
                  <a:pt x="1348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334512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385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3" dur="385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5" dur="38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7" dur="38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385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38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5" dur="38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7" dur="38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385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3" dur="385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5" dur="385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7" dur="385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Из истории волейбол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Приоритет в создании волейбола принадлежит Уильяму Моргану, преподавателю физкультуры колледжа Ассоциации молодых христиан в американском городе Холиоке (штат Массачусетс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Однажды Морган предложил своим питомцам подбросить через рыболовную сеть надутую резиновую камеру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Вскоре он с удивлением обнаружил, что те обмениваются пасами с явным азартом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Крестным отцом нового вида спорта профессор Спрингфилдского колледжа Альфред Холстед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Он назвал новую игру волейболом, что в переводе с английского означает «летающий мяч»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Действительно, это единственная спортивная игра, где главная задача  - не дать мячу коснуться земли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03720" y="1600200"/>
            <a:ext cx="3124440" cy="45306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156360" y="2349360"/>
            <a:ext cx="2333520" cy="3745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276640"/>
            <a:ext cx="3122640" cy="3744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3564000" y="1557360"/>
            <a:ext cx="2101680" cy="352728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ы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3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5975280" cy="177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4920" y="3067200"/>
            <a:ext cx="4897440" cy="1471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581360"/>
            <a:ext cx="4465800" cy="188280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4360" y="623736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3600360" cy="2363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92680" y="2360520"/>
            <a:ext cx="4653000" cy="372420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8047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16202" y="3794"/>
                </a:lnTo>
                <a:lnTo>
                  <a:pt x="16202" y="17806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Размеры и линии площад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азмеры – 9 х 18 м, разделенный пополам сеткой ( высота 2,43 м – мужской и 2,24 м женской сетки)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площадки передняя зона, задняя зон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подачи – 3-8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вободная зона – 3-5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заме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4040280" cy="417816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84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384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384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384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8000"/>
                </a:solidFill>
                <a:latin typeface="Garamond"/>
              </a:rPr>
              <a:t>Волейбольный мяч</a:t>
            </a:r>
            <a:endParaRPr b="0" lang="en-US" sz="36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292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Размеры: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кружность – 65-67 см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ес мяча-260-280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Давление от 0,30 до 0,325 кг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/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м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²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3240" y="2060640"/>
            <a:ext cx="2990880" cy="30258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2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4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400"/>
                            </p:stCondLst>
                            <p:childTnLst>
                              <p:par>
                                <p:cTn id="2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4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дежда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Футболка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портивные шорты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ски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Кроссовки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колени одевают наколенники,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ащищающие коленный сустав от трав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33352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а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274920" cy="4392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24000" y="1412640"/>
            <a:ext cx="504036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олейбол- коллективная игра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Она проводится между двумя командам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На площадке в каждой команде выступают шесть человек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Цель – игры ударами рук направить мяч на сторону соперника и там приземлить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Матч состоит из пяти партий, а они  - из эпизодов, в любом из них разыгрывается одно очко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Эпизод начинается с подачи мяча через сетку (подающий находится за линией своей площадки), после чего игроки неприятельской команды, передавая мяч, друг другу не более двух раз, третьим ударом отправляют его через сетку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Команда получает очко и право на следующую подачу, если её соперник не сумеет отбить мяч ( и он коснётся земли либо пола) или не перекинет мяч обратно через сетку за три касания. Выигрывает партию команда, набравшая 25 очков. При счете 24 : 24 игра продолжается до тех пор, пока разница не достигнет двух очков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 мачте побеждает команда, которая одолела соперника в трёх партиях из пят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Правда. В пятой партии требуется набрать не 25, а 15очков. 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 технике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557360"/>
            <a:ext cx="1728720" cy="165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Техника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4797360"/>
            <a:ext cx="1727280" cy="165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Приемы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429000"/>
            <a:ext cx="1563840" cy="1584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Подачи</a:t>
            </a: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4653000"/>
            <a:ext cx="1800360" cy="1584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Передачи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059280" y="3068640"/>
            <a:ext cx="1296720" cy="180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3141720"/>
            <a:ext cx="1152720" cy="151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2852640"/>
            <a:ext cx="1728720" cy="792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581360"/>
            <a:ext cx="1800000" cy="172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тбивание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788000" y="3213000"/>
            <a:ext cx="71280" cy="129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700280"/>
            <a:ext cx="2089080" cy="1490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Нападающий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удар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626920" y="2781360"/>
            <a:ext cx="1513080" cy="107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1844640"/>
            <a:ext cx="208764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Блокирование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796000" y="2421000"/>
            <a:ext cx="1008000" cy="7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357720"/>
            <a:ext cx="1800360" cy="1511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Впадение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700000" y="2420640"/>
            <a:ext cx="1366920" cy="144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тойка волейболист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22560" y="1599840"/>
            <a:ext cx="4764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ги расположены на ширине плеч и согнуты в коленн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дна нога впереди, или ступни расположены параллельно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уловище наклонено вперед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Чем ниже стойка, тем больше вперед наклонено туловищ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уки согнуты в локтев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1917720"/>
            <a:ext cx="2609640" cy="38656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ихова</dc:creator>
  <dc:description/>
  <dc:language>en-US</dc:language>
  <cp:lastModifiedBy>*</cp:lastModifiedBy>
  <dcterms:modified xsi:type="dcterms:W3CDTF">2009-04-23T20:17:50Z</dcterms:modified>
  <cp:revision>51</cp:revision>
  <dc:subject/>
  <dc:title/>
</cp:coreProperties>
</file>