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7452-3FA4-42EB-BDD2-5E405788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DFF1-9D4C-4008-A446-0AFC0CCE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1004-117C-47F1-A602-B5D39B44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3F8-B011-419D-95A8-98F0FC36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6A2-4CF0-4984-A9FA-FA1E39D8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170-97AB-4417-A405-86E6E4B1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55B-5AA1-437C-A113-ED13716C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5F6-BD3A-4A8F-8FB5-3144E741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47ED-C4BD-41AB-A79A-73D4041F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B7C-C505-4359-BD9F-D3B81C63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EF3-79E9-42E7-B106-62B6E108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5B7-A2C2-4B72-9A66-077A80BA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1610-9F3A-45DA-861A-09D2263C71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61;&#1086;&#1093;&#1083;&#1086;&#1084;&#1072;.ppt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61;&#1086;&#1093;&#1083;&#1086;&#1084;&#1072;.ppt" TargetMode="External"/><Relationship Id="rId4" Type="http://schemas.openxmlformats.org/officeDocument/2006/relationships/hyperlink" Target="file:///&#1046;&#1086;&#1089;&#1090;&#1086;&#1074;&#1086;.ppt" TargetMode="External"/><Relationship Id="rId5" Type="http://schemas.openxmlformats.org/officeDocument/2006/relationships/image" Target="../media/image9.jpeg"/><Relationship Id="rId6" Type="http://schemas.openxmlformats.org/officeDocument/2006/relationships/hyperlink" Target="file:///&#1046;&#1086;&#1089;&#1090;&#1086;&#1074;&#1086;.ppt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61;&#1086;&#1093;&#1083;&#1086;&#1084;&#1072;.ppt" TargetMode="External"/><Relationship Id="rId4" Type="http://schemas.openxmlformats.org/officeDocument/2006/relationships/hyperlink" Target="file:///&#1046;&#1086;&#1089;&#1090;&#1086;&#1074;&#1086;.ppt" TargetMode="External"/><Relationship Id="rId5" Type="http://schemas.openxmlformats.org/officeDocument/2006/relationships/image" Target="../media/image10.jpeg"/><Relationship Id="rId6" Type="http://schemas.openxmlformats.org/officeDocument/2006/relationships/hyperlink" Target="file:///&#1046;&#1086;&#1089;&#1090;&#1086;&#1074;&#1086;.ppt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61;&#1086;&#1093;&#1083;&#1086;&#1084;&#1072;.ppt" TargetMode="External"/><Relationship Id="rId4" Type="http://schemas.openxmlformats.org/officeDocument/2006/relationships/hyperlink" Target="file:///&#1046;&#1086;&#1089;&#1090;&#1086;&#1074;&#1086;.ppt" TargetMode="External"/><Relationship Id="rId5" Type="http://schemas.openxmlformats.org/officeDocument/2006/relationships/image" Target="../media/image11.jpeg"/><Relationship Id="rId6" Type="http://schemas.openxmlformats.org/officeDocument/2006/relationships/hyperlink" Target="file:///&#1046;&#1086;&#1089;&#1090;&#1086;&#1074;&#1086;.ppt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46;&#1086;&#1089;&#1090;&#1086;&#1074;&#1086;.ppt" TargetMode="External"/><Relationship Id="rId4" Type="http://schemas.openxmlformats.org/officeDocument/2006/relationships/image" Target="../media/image12.jpeg"/><Relationship Id="rId5" Type="http://schemas.openxmlformats.org/officeDocument/2006/relationships/hyperlink" Target="file:///&#1046;&#1086;&#1089;&#1090;&#1086;&#1074;&#1086;.ppt" TargetMode="External"/><Relationship Id="rId6" Type="http://schemas.openxmlformats.org/officeDocument/2006/relationships/hyperlink" Target="file:///&#1046;&#1086;&#1089;&#1090;&#1086;&#1074;&#1086;.ppt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46;&#1086;&#1089;&#1090;&#1086;&#1074;&#1086;.ppt" TargetMode="External"/><Relationship Id="rId4" Type="http://schemas.openxmlformats.org/officeDocument/2006/relationships/hyperlink" Target="file:///&#1046;&#1086;&#1089;&#1090;&#1086;&#1074;&#1086;.ppt" TargetMode="External"/><Relationship Id="rId5" Type="http://schemas.openxmlformats.org/officeDocument/2006/relationships/image" Target="../media/image13.jpeg"/><Relationship Id="rId6" Type="http://schemas.openxmlformats.org/officeDocument/2006/relationships/hyperlink" Target="file:///&#1046;&#1086;&#1089;&#1090;&#1086;&#1074;&#1086;.ppt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46;&#1086;&#1089;&#1090;&#1086;&#1074;&#1086;.ppt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46;&#1086;&#1089;&#1090;&#1086;&#1074;&#1086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46;&#1086;&#1089;&#1090;&#1086;&#1074;&#1086;.ppt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46;&#1086;&#1089;&#1090;&#1086;&#1074;&#1086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46;&#1086;&#1089;&#1090;&#1086;&#1074;&#1086;.ppt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46;&#1086;&#1089;&#1090;&#1086;&#1074;&#1086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46;&#1086;&#1089;&#1090;&#1086;&#1074;&#1086;.ppt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46;&#1086;&#1089;&#1090;&#1086;&#1074;&#1086;.ppt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&#1061;&#1086;&#1093;&#1083;&#1086;&#1084;&#1072;.ppt" TargetMode="External"/><Relationship Id="rId3" Type="http://schemas.openxmlformats.org/officeDocument/2006/relationships/image" Target="../media/image1.jpeg"/><Relationship Id="rId4" Type="http://schemas.openxmlformats.org/officeDocument/2006/relationships/hyperlink" Target="file:///&#1046;&#1086;&#1089;&#1090;&#1086;&#1074;&#1086;.ppt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46;&#1086;&#1089;&#1090;&#1086;&#1074;&#1086;.ppt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61;&#1086;&#1093;&#1083;&#1086;&#1084;&#1072;.ppt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61;&#1086;&#1093;&#1083;&#1086;&#1084;&#1072;.ppt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61;&#1086;&#1093;&#1083;&#1086;&#1084;&#1072;.ppt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61;&#1086;&#1093;&#1083;&#1086;&#1084;&#1072;.ppt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61;&#1086;&#1093;&#1083;&#1086;&#1084;&#1072;.ppt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61;&#1086;&#1093;&#1083;&#1086;&#1084;&#1072;.ppt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6966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>
            <a:hlinkClick r:id="rId3"/>
          </p:cNvPr>
          <p:cNvSpPr/>
          <p:nvPr/>
        </p:nvSpPr>
        <p:spPr>
          <a:xfrm>
            <a:off x="914400" y="609480"/>
            <a:ext cx="822960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nastasiaScript"/>
              </a:rPr>
              <a:t>Жостовские узо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27 La califfa.mp3" descr=""/>
          <p:cNvPicPr/>
          <p:nvPr/>
        </p:nvPicPr>
        <p:blipFill>
          <a:blip r:embed="rId4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1219320" y="6094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>
            <a:hlinkClick r:id="rId3"/>
          </p:cNvPr>
          <p:cNvSpPr/>
          <p:nvPr/>
        </p:nvSpPr>
        <p:spPr>
          <a:xfrm>
            <a:off x="1219320" y="0"/>
            <a:ext cx="693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nastasiaScript"/>
              </a:rPr>
              <a:t>Замалёв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zostrospis-00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90720" y="1371600"/>
            <a:ext cx="4554360" cy="457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2">
            <a:hlinkClick r:id="rId6"/>
          </p:cNvPr>
          <p:cNvSpPr/>
          <p:nvPr/>
        </p:nvSpPr>
        <p:spPr>
          <a:xfrm>
            <a:off x="5562720" y="990720"/>
            <a:ext cx="3047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Начало и основа композиции будущего узора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Разбавленной краской на подготовленную поверхность художник наносит силуэты цветов и листьев в соответствии со своим замыс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>
            <a:hlinkClick r:id="rId3"/>
          </p:cNvPr>
          <p:cNvSpPr/>
          <p:nvPr/>
        </p:nvSpPr>
        <p:spPr>
          <a:xfrm>
            <a:off x="838080" y="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nastasiaScript"/>
              </a:rPr>
              <a:t>Тенёж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zostrospis-0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1676520"/>
            <a:ext cx="4495680" cy="4194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>
            <a:hlinkClick r:id="rId6"/>
          </p:cNvPr>
          <p:cNvSpPr/>
          <p:nvPr/>
        </p:nvSpPr>
        <p:spPr>
          <a:xfrm>
            <a:off x="5486400" y="1143000"/>
            <a:ext cx="312408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Полупрозрачными красками художник наносит цветные тени. Слово «тенёжка»—созвучно слову «тень». У цветов появляется объём, обозначаются теневые места растений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Прокладка цве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>
            <a:hlinkClick r:id="rId3"/>
          </p:cNvPr>
          <p:cNvSpPr/>
          <p:nvPr/>
        </p:nvSpPr>
        <p:spPr>
          <a:xfrm>
            <a:off x="762120" y="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nastasiaScript"/>
              </a:rPr>
              <a:t>Бликов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zostrospis-00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1523880"/>
            <a:ext cx="4991400" cy="4632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>
            <a:hlinkClick r:id="rId6"/>
          </p:cNvPr>
          <p:cNvSpPr/>
          <p:nvPr/>
        </p:nvSpPr>
        <p:spPr>
          <a:xfrm>
            <a:off x="5943600" y="1143000"/>
            <a:ext cx="27432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Наложение бликов выявляет свет и объём. Букет кажется освещенным множеством независимых источников света. Бликовка создает настроение и колор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zostrospis-00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1295280"/>
            <a:ext cx="4687920" cy="4800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>
            <a:hlinkClick r:id="rId5"/>
          </p:cNvPr>
          <p:cNvSpPr/>
          <p:nvPr/>
        </p:nvSpPr>
        <p:spPr>
          <a:xfrm>
            <a:off x="5867280" y="1295280"/>
            <a:ext cx="2895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Это предпоследняя часть работы над букетом. При помощи специальной тонкой кисти художник наносит небольшие, но очень значительные штрихи — рисует прожилки и кружевные края на листочках, «семенца» в центре чашечек цветов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>
            <a:hlinkClick r:id="rId6"/>
          </p:cNvPr>
          <p:cNvSpPr/>
          <p:nvPr/>
        </p:nvSpPr>
        <p:spPr>
          <a:xfrm>
            <a:off x="1828800" y="152280"/>
            <a:ext cx="6705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nastasiaScript"/>
              </a:rPr>
              <a:t>Чертёж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>
            <a:hlinkClick r:id="rId3"/>
          </p:cNvPr>
          <p:cNvSpPr/>
          <p:nvPr/>
        </p:nvSpPr>
        <p:spPr>
          <a:xfrm>
            <a:off x="1143000" y="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nastasiaScript"/>
              </a:rPr>
              <a:t>Привязка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zostrospis-00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1295280"/>
            <a:ext cx="4705200" cy="4724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>
            <a:hlinkClick r:id="rId6"/>
          </p:cNvPr>
          <p:cNvSpPr/>
          <p:nvPr/>
        </p:nvSpPr>
        <p:spPr>
          <a:xfrm>
            <a:off x="5715000" y="914400"/>
            <a:ext cx="34290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Последний этап росписи подноса, когда уже готовый букет как бы вживается в фон изделия. При помощи тонких стебельков, травинок и усиков букет оформляется в единое целое и связывается с фоно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>
            <a:hlinkClick r:id="rId3"/>
          </p:cNvPr>
          <p:cNvSpPr/>
          <p:nvPr/>
        </p:nvSpPr>
        <p:spPr>
          <a:xfrm>
            <a:off x="1371600" y="152388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nastasiaScript"/>
              </a:rPr>
              <a:t>Жостовские поднос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0911ef5f2be365db83c0d8ca73f8c0b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304920"/>
            <a:ext cx="7315200" cy="6137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16414-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152280"/>
            <a:ext cx="5887800" cy="6286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060819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380880"/>
            <a:ext cx="7677360" cy="6031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_4e5f8_e606e4ec_L"/>
          <p:cNvPicPr/>
          <p:nvPr/>
        </p:nvPicPr>
        <p:blipFill>
          <a:blip r:embed="rId3"/>
          <a:stretch/>
        </p:blipFill>
        <p:spPr>
          <a:xfrm>
            <a:off x="1066680" y="228600"/>
            <a:ext cx="7721640" cy="6208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105-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>
            <a:hlinkClick r:id="rId4"/>
          </p:cNvPr>
          <p:cNvSpPr/>
          <p:nvPr/>
        </p:nvSpPr>
        <p:spPr>
          <a:xfrm>
            <a:off x="914400" y="380880"/>
            <a:ext cx="784872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ston"/>
              </a:rPr>
              <a:t>Есть в 35 км от Москвы старинное село Федоскино. Здесь, в этом селении берёт своё начало история жостовской росписи. История жостовского промысла восходит к началу </a:t>
            </a:r>
            <a:r>
              <a:rPr b="1" lang="en-US" sz="3200" spc="-1" strike="noStrike">
                <a:solidFill>
                  <a:srgbClr val="000000"/>
                </a:solidFill>
                <a:latin typeface="Ariston"/>
              </a:rPr>
              <a:t>19 </a:t>
            </a:r>
            <a:r>
              <a:rPr b="1" lang="ru-RU" sz="3200" spc="-1" strike="noStrike">
                <a:solidFill>
                  <a:srgbClr val="000000"/>
                </a:solidFill>
                <a:latin typeface="Ariston"/>
              </a:rPr>
              <a:t>века. Основным мотивом росписи является цветочный букет чаще всего на чёрном или красном фоне. Художник рисует свои шедевры не по образцам, а использует всё своё воображение. Многослойная роспись выполняется в несколько стадий, которые требуют длительной просуш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105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st_t_875_Zhostovo_2"/>
          <p:cNvPicPr/>
          <p:nvPr/>
        </p:nvPicPr>
        <p:blipFill>
          <a:blip r:embed="rId2"/>
          <a:stretch/>
        </p:blipFill>
        <p:spPr>
          <a:xfrm>
            <a:off x="236232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05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50079005_260"/>
          <p:cNvPicPr/>
          <p:nvPr/>
        </p:nvPicPr>
        <p:blipFill>
          <a:blip r:embed="rId2"/>
          <a:stretch/>
        </p:blipFill>
        <p:spPr>
          <a:xfrm>
            <a:off x="1066680" y="304920"/>
            <a:ext cx="7696440" cy="6122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105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0_4272_2b84b184_L"/>
          <p:cNvPicPr/>
          <p:nvPr/>
        </p:nvPicPr>
        <p:blipFill>
          <a:blip r:embed="rId2"/>
          <a:stretch/>
        </p:blipFill>
        <p:spPr>
          <a:xfrm>
            <a:off x="1295280" y="0"/>
            <a:ext cx="6832800" cy="6832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105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873e17fc76e6"/>
          <p:cNvPicPr/>
          <p:nvPr/>
        </p:nvPicPr>
        <p:blipFill>
          <a:blip r:embed="rId2"/>
          <a:stretch/>
        </p:blipFill>
        <p:spPr>
          <a:xfrm>
            <a:off x="914400" y="457200"/>
            <a:ext cx="7658280" cy="58341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7"/>
          <p:cNvSpPr/>
          <p:nvPr/>
        </p:nvSpPr>
        <p:spPr>
          <a:xfrm>
            <a:off x="838080" y="6324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ston"/>
              </a:rPr>
              <a:t>Составила: Воспитатель МК ДОУ «Нивушка» Миниахметова Л.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0" y="1295280"/>
            <a:ext cx="1021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>
            <a:hlinkClick r:id="rId3"/>
          </p:cNvPr>
          <p:cNvSpPr/>
          <p:nvPr/>
        </p:nvSpPr>
        <p:spPr>
          <a:xfrm>
            <a:off x="1143000" y="2209680"/>
            <a:ext cx="7467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nastasiaScript"/>
              </a:rPr>
              <a:t>Элементы роспис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kudrina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0"/>
            <a:ext cx="6759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zhostov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0"/>
            <a:ext cx="6553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zhostovo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0"/>
            <a:ext cx="6553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zhostovo1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zhostovo9_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0"/>
            <a:ext cx="57909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>
            <a:hlinkClick r:id="rId3"/>
          </p:cNvPr>
          <p:cNvSpPr/>
          <p:nvPr/>
        </p:nvSpPr>
        <p:spPr>
          <a:xfrm>
            <a:off x="990720" y="1600200"/>
            <a:ext cx="7924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nastasiaScript"/>
              </a:rPr>
              <a:t>Этапы роспис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25T15:09:0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