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C02-EE5F-490C-A5CE-ECF8140A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97B-F87E-44EA-A0F3-EB994E18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9C6-FE86-47D3-9D0C-E651CFC9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2DF-175A-4960-BA35-B817D161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F65-6586-42F5-A375-D1FBE6CF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9E6-468A-4D6C-B653-C31EAAF9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460-71F6-4291-95B3-5DD6AA6B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A75-E68A-43A8-89C8-067B1B13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9C4-5E92-4877-9AE5-A4CEF4BD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7DD-48F4-42BF-B940-242D61D2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BAD-F1DA-47A3-8429-2670801D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094-FC77-4EE8-ABAF-6741BB80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B796-78AD-4751-B6DB-4352E7D63C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hyperlink" Target="file:///&#1046;&#1086;&#1089;&#1090;&#1086;&#1074;&#1086;.ppt" TargetMode="External"/><Relationship Id="rId5" Type="http://schemas.openxmlformats.org/officeDocument/2006/relationships/image" Target="../media/image9.jpeg"/><Relationship Id="rId6" Type="http://schemas.openxmlformats.org/officeDocument/2006/relationships/hyperlink" Target="file:///&#1046;&#1086;&#1089;&#1090;&#1086;&#1074;&#1086;.ppt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hyperlink" Target="file:///&#1046;&#1086;&#1089;&#1090;&#1086;&#1074;&#1086;.ppt" TargetMode="External"/><Relationship Id="rId5" Type="http://schemas.openxmlformats.org/officeDocument/2006/relationships/image" Target="../media/image10.jpeg"/><Relationship Id="rId6" Type="http://schemas.openxmlformats.org/officeDocument/2006/relationships/hyperlink" Target="file:///&#1046;&#1086;&#1089;&#1090;&#1086;&#1074;&#1086;.ppt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hyperlink" Target="file:///&#1046;&#1086;&#1089;&#1090;&#1086;&#1074;&#1086;.ppt" TargetMode="External"/><Relationship Id="rId5" Type="http://schemas.openxmlformats.org/officeDocument/2006/relationships/image" Target="../media/image11.jpeg"/><Relationship Id="rId6" Type="http://schemas.openxmlformats.org/officeDocument/2006/relationships/hyperlink" Target="file:///&#1046;&#1086;&#1089;&#1090;&#1086;&#1074;&#1086;.ppt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46;&#1086;&#1089;&#1090;&#1086;&#1074;&#1086;.ppt" TargetMode="External"/><Relationship Id="rId4" Type="http://schemas.openxmlformats.org/officeDocument/2006/relationships/image" Target="../media/image12.jpeg"/><Relationship Id="rId5" Type="http://schemas.openxmlformats.org/officeDocument/2006/relationships/hyperlink" Target="file:///&#1046;&#1086;&#1089;&#1090;&#1086;&#1074;&#1086;.ppt" TargetMode="External"/><Relationship Id="rId6" Type="http://schemas.openxmlformats.org/officeDocument/2006/relationships/hyperlink" Target="file:///&#1046;&#1086;&#1089;&#1090;&#1086;&#1074;&#1086;.ppt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46;&#1086;&#1089;&#1090;&#1086;&#1074;&#1086;.ppt" TargetMode="External"/><Relationship Id="rId4" Type="http://schemas.openxmlformats.org/officeDocument/2006/relationships/hyperlink" Target="file:///&#1046;&#1086;&#1089;&#1090;&#1086;&#1074;&#1086;.ppt" TargetMode="External"/><Relationship Id="rId5" Type="http://schemas.openxmlformats.org/officeDocument/2006/relationships/image" Target="../media/image13.jpeg"/><Relationship Id="rId6" Type="http://schemas.openxmlformats.org/officeDocument/2006/relationships/hyperlink" Target="file:///&#1046;&#1086;&#1089;&#1090;&#1086;&#1074;&#1086;.ppt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46;&#1086;&#1089;&#1090;&#1086;&#1074;&#1086;.ppt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46;&#1086;&#1089;&#1090;&#1086;&#1074;&#1086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46;&#1086;&#1089;&#1090;&#1086;&#1074;&#1086;.ppt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6;&#1086;&#1089;&#1090;&#1086;&#1074;&#1086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46;&#1086;&#1089;&#1090;&#1086;&#1074;&#1086;.ppt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46;&#1086;&#1089;&#1090;&#1086;&#1074;&#1086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46;&#1086;&#1089;&#1090;&#1086;&#1074;&#1086;.ppt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46;&#1086;&#1089;&#1090;&#1086;&#1074;&#1086;.ppt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1061;&#1086;&#1093;&#1083;&#1086;&#1084;&#1072;.ppt" TargetMode="External"/><Relationship Id="rId3" Type="http://schemas.openxmlformats.org/officeDocument/2006/relationships/image" Target="../media/image1.jpeg"/><Relationship Id="rId4" Type="http://schemas.openxmlformats.org/officeDocument/2006/relationships/hyperlink" Target="file:///&#1046;&#1086;&#1089;&#1090;&#1086;&#1074;&#1086;.ppt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46;&#1086;&#1089;&#1090;&#1086;&#1074;&#1086;.ppt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61;&#1086;&#1093;&#1083;&#1086;&#1084;&#1072;.p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&#1061;&#1086;&#1093;&#1083;&#1086;&#1084;&#1072;.pp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6966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>
            <a:hlinkClick r:id="rId3"/>
          </p:cNvPr>
          <p:cNvSpPr/>
          <p:nvPr/>
        </p:nvSpPr>
        <p:spPr>
          <a:xfrm>
            <a:off x="914400" y="609480"/>
            <a:ext cx="82296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nastasiaScript"/>
              </a:rPr>
              <a:t>Жостовские узо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27 La califfa.mp3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1219320" y="6094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>
            <a:hlinkClick r:id="rId3"/>
          </p:cNvPr>
          <p:cNvSpPr/>
          <p:nvPr/>
        </p:nvSpPr>
        <p:spPr>
          <a:xfrm>
            <a:off x="1219320" y="0"/>
            <a:ext cx="693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nastasiaScript"/>
              </a:rPr>
              <a:t>Замалёв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zostrospis-00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90720" y="1371600"/>
            <a:ext cx="455436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2">
            <a:hlinkClick r:id="rId6"/>
          </p:cNvPr>
          <p:cNvSpPr/>
          <p:nvPr/>
        </p:nvSpPr>
        <p:spPr>
          <a:xfrm>
            <a:off x="5562720" y="990720"/>
            <a:ext cx="3047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Начало и основа композиции будущего узора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Разбавленной краской на подготовленную поверхность художник наносит силуэты цветов и листьев в соответствии со своим замыс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>
            <a:hlinkClick r:id="rId3"/>
          </p:cNvPr>
          <p:cNvSpPr/>
          <p:nvPr/>
        </p:nvSpPr>
        <p:spPr>
          <a:xfrm>
            <a:off x="838080" y="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nastasiaScript"/>
              </a:rPr>
              <a:t>Тенёж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zostrospis-0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1676520"/>
            <a:ext cx="4495680" cy="4194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>
            <a:hlinkClick r:id="rId6"/>
          </p:cNvPr>
          <p:cNvSpPr/>
          <p:nvPr/>
        </p:nvSpPr>
        <p:spPr>
          <a:xfrm>
            <a:off x="5486400" y="1143000"/>
            <a:ext cx="312408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олупрозрачными красками художник наносит цветные тени. Слово «тенёжка»—созвучно слову «тень». У цветов появляется объём, обозначаются теневые места растений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рокладка цве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>
            <a:hlinkClick r:id="rId3"/>
          </p:cNvPr>
          <p:cNvSpPr/>
          <p:nvPr/>
        </p:nvSpPr>
        <p:spPr>
          <a:xfrm>
            <a:off x="762120" y="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nastasiaScript"/>
              </a:rPr>
              <a:t>Бликов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zostrospis-00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1523880"/>
            <a:ext cx="4991400" cy="4632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>
            <a:hlinkClick r:id="rId6"/>
          </p:cNvPr>
          <p:cNvSpPr/>
          <p:nvPr/>
        </p:nvSpPr>
        <p:spPr>
          <a:xfrm>
            <a:off x="5943600" y="1143000"/>
            <a:ext cx="27432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Наложение бликов выявляет свет и объём. Букет кажется освещенным множеством независимых источников света. Бликовка создает настроение и колор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zostrospis-0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90720" y="1295280"/>
            <a:ext cx="4687920" cy="4800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>
            <a:hlinkClick r:id="rId5"/>
          </p:cNvPr>
          <p:cNvSpPr/>
          <p:nvPr/>
        </p:nvSpPr>
        <p:spPr>
          <a:xfrm>
            <a:off x="5867280" y="1295280"/>
            <a:ext cx="2895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Это предпоследняя часть работы над букетом. При помощи специальной тонкой кисти художник наносит небольшие, но очень значительные штрихи — рисует прожилки и кружевные края на листочках, «семенца» в центре чашечек цветов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>
            <a:hlinkClick r:id="rId6"/>
          </p:cNvPr>
          <p:cNvSpPr/>
          <p:nvPr/>
        </p:nvSpPr>
        <p:spPr>
          <a:xfrm>
            <a:off x="1828800" y="152280"/>
            <a:ext cx="6705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nastasiaScript"/>
              </a:rPr>
              <a:t>Чертёж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>
            <a:hlinkClick r:id="rId3"/>
          </p:cNvPr>
          <p:cNvSpPr/>
          <p:nvPr/>
        </p:nvSpPr>
        <p:spPr>
          <a:xfrm>
            <a:off x="1143000" y="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nastasiaScript"/>
              </a:rPr>
              <a:t>Привязка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zostrospis-00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1295280"/>
            <a:ext cx="4705200" cy="4724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>
            <a:hlinkClick r:id="rId6"/>
          </p:cNvPr>
          <p:cNvSpPr/>
          <p:nvPr/>
        </p:nvSpPr>
        <p:spPr>
          <a:xfrm>
            <a:off x="5715000" y="914400"/>
            <a:ext cx="34290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Последний этап росписи подноса, когда уже готовый букет как бы вживается в фон изделия. При помощи тонких стебельков, травинок и усиков букет оформляется в единое целое и связывается с фоно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>
            <a:hlinkClick r:id="rId3"/>
          </p:cNvPr>
          <p:cNvSpPr/>
          <p:nvPr/>
        </p:nvSpPr>
        <p:spPr>
          <a:xfrm>
            <a:off x="1371600" y="152388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nastasiaScript"/>
              </a:rPr>
              <a:t>Жостовские поднос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0911ef5f2be365db83c0d8ca73f8c0b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304920"/>
            <a:ext cx="7315200" cy="6137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16414-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152280"/>
            <a:ext cx="5887800" cy="6286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060819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380880"/>
            <a:ext cx="7677360" cy="6031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_4e5f8_e606e4ec_L"/>
          <p:cNvPicPr/>
          <p:nvPr/>
        </p:nvPicPr>
        <p:blipFill>
          <a:blip r:embed="rId3"/>
          <a:stretch/>
        </p:blipFill>
        <p:spPr>
          <a:xfrm>
            <a:off x="1066680" y="228600"/>
            <a:ext cx="7721640" cy="6208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105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>
            <a:hlinkClick r:id="rId4"/>
          </p:cNvPr>
          <p:cNvSpPr/>
          <p:nvPr/>
        </p:nvSpPr>
        <p:spPr>
          <a:xfrm>
            <a:off x="914400" y="380880"/>
            <a:ext cx="784872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ston"/>
              </a:rPr>
              <a:t>Есть в 35 км от Москвы старинное село Федоскино. Здесь, в этом селении берёт своё начало история жостовской росписи. История жостовского промысла восходит к началу </a:t>
            </a:r>
            <a:r>
              <a:rPr b="1" lang="en-US" sz="3200" spc="-1" strike="noStrike">
                <a:solidFill>
                  <a:srgbClr val="000000"/>
                </a:solidFill>
                <a:latin typeface="Ariston"/>
              </a:rPr>
              <a:t>19 </a:t>
            </a:r>
            <a:r>
              <a:rPr b="1" lang="ru-RU" sz="3200" spc="-1" strike="noStrike">
                <a:solidFill>
                  <a:srgbClr val="000000"/>
                </a:solidFill>
                <a:latin typeface="Ariston"/>
              </a:rPr>
              <a:t>века. Основным мотивом росписи является цветочный букет чаще всего на чёрном или красном фоне. Художник рисует свои шедевры не по образцам, а использует всё своё воображение. Многослойная роспись выполняется в несколько стадий, которые требуют длительной просуш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105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t_t_875_Zhostovo_2"/>
          <p:cNvPicPr/>
          <p:nvPr/>
        </p:nvPicPr>
        <p:blipFill>
          <a:blip r:embed="rId2"/>
          <a:stretch/>
        </p:blipFill>
        <p:spPr>
          <a:xfrm>
            <a:off x="236232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05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50079005_260"/>
          <p:cNvPicPr/>
          <p:nvPr/>
        </p:nvPicPr>
        <p:blipFill>
          <a:blip r:embed="rId2"/>
          <a:stretch/>
        </p:blipFill>
        <p:spPr>
          <a:xfrm>
            <a:off x="1066680" y="304920"/>
            <a:ext cx="7696440" cy="6122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105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0_4272_2b84b184_L"/>
          <p:cNvPicPr/>
          <p:nvPr/>
        </p:nvPicPr>
        <p:blipFill>
          <a:blip r:embed="rId2"/>
          <a:stretch/>
        </p:blipFill>
        <p:spPr>
          <a:xfrm>
            <a:off x="1295280" y="0"/>
            <a:ext cx="6832800" cy="6832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105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873e17fc76e6"/>
          <p:cNvPicPr/>
          <p:nvPr/>
        </p:nvPicPr>
        <p:blipFill>
          <a:blip r:embed="rId2"/>
          <a:stretch/>
        </p:blipFill>
        <p:spPr>
          <a:xfrm>
            <a:off x="914400" y="457200"/>
            <a:ext cx="7658280" cy="58341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7"/>
          <p:cNvSpPr/>
          <p:nvPr/>
        </p:nvSpPr>
        <p:spPr>
          <a:xfrm>
            <a:off x="838080" y="63244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ston"/>
              </a:rPr>
              <a:t>Составила: Воспитатель МК ДОУ «Нивушка» Миниахметова Л.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0" y="1295280"/>
            <a:ext cx="1021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>
            <a:hlinkClick r:id="rId3"/>
          </p:cNvPr>
          <p:cNvSpPr/>
          <p:nvPr/>
        </p:nvSpPr>
        <p:spPr>
          <a:xfrm>
            <a:off x="1143000" y="2209680"/>
            <a:ext cx="746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nastasiaScript"/>
              </a:rPr>
              <a:t>Элементы роспис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kudrina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0"/>
            <a:ext cx="6759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zhostov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0"/>
            <a:ext cx="6553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zhostovo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52480" y="0"/>
            <a:ext cx="6553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zhostovo1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zhostovo9_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0"/>
            <a:ext cx="57909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05-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>
            <a:hlinkClick r:id="rId3"/>
          </p:cNvPr>
          <p:cNvSpPr/>
          <p:nvPr/>
        </p:nvSpPr>
        <p:spPr>
          <a:xfrm>
            <a:off x="990720" y="1600200"/>
            <a:ext cx="7924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AnastasiaScript"/>
              </a:rPr>
              <a:t>Этапы роспис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25T15:09:0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