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76FDC-9182-4B8E-9F0F-5051DC77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2808-DDDF-4E8B-A3AE-B167E4D5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B83C-C476-4119-AD0A-3F91E04E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3CBD1-AD10-4F5E-8A0C-CC46E98D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750D-1E5F-4919-966B-6598831E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754A-3E72-4032-B43B-A9ACFAB3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5427-F960-4ED5-812D-30FC6AA4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6A13-0C98-4F61-BC2A-523A5268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D6C7-E576-4514-8648-2B0D089F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FA1A-22DC-4B59-9A55-8961AB3B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C1A5-9AE7-4D06-A5C2-74731BD2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E99E-1305-4399-BE31-86FA48D7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46B2-1265-445B-9A70-3152F354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902F-BBF1-46C0-B716-D2B7520B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8A3E-3A90-407E-818C-F4566508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0FA1-E487-47E3-8ABC-EA1E0553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463D-4628-451D-B899-9675672D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0132-D64E-4145-8F12-7313E212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A891-E358-4CAE-958D-2E4003EB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11D73-474D-47AE-81DA-291B014D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D57C-7D5A-4552-BAC7-CE4068AD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7C9B5-FE63-4F6E-AAB1-6768F99F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85FA-E6F5-4DDA-9AF6-D9960A2B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02C2-DE43-4011-A2C6-3C39D016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C956-C262-489B-A6B1-3BE2C993D6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95062"/>
                  </a:gs>
                  <a:gs pos="100000">
                    <a:srgbClr val="51596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24858"/>
                  </a:gs>
                  <a:gs pos="100000">
                    <a:srgbClr val="51596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5159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596d"/>
                  </a:gs>
                  <a:gs pos="100000">
                    <a:srgbClr val="464d5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1596d"/>
                </a:gs>
                <a:gs pos="100000">
                  <a:srgbClr val="444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5159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ddddd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3BCC-3F3D-491C-9F36-213D19162B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58920" y="1052640"/>
            <a:ext cx="6626160" cy="468144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3120" y="1844640"/>
            <a:ext cx="456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66"/>
                </a:solidFill>
                <a:latin typeface="Garamond"/>
              </a:rPr>
              <a:t>БАТИ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6240" y="4581360"/>
            <a:ext cx="56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Garamond"/>
              </a:rPr>
              <a:t>Подготовила: Зеличенко Л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Garamond"/>
              </a:rPr>
              <a:t>Учитель ИЗО ГБОУ СОШ № 879, ЮАО, г. Моск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19640" y="115920"/>
            <a:ext cx="52783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4b6d0"/>
                </a:solidFill>
                <a:latin typeface="Garamond"/>
              </a:rPr>
              <a:t>Техника («бандан»)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132000" y="764640"/>
            <a:ext cx="6012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ника узелкового батика («бандан»). Один из его видов — техника «планги» — был распространён в Инди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окрашенное полотно покрывали по схеме узора очень маленькими узелками, крепко перевязывая нитью. Затем ткань окрашивали, нити удаляли, в результате образовывался узор из белых «горохов». При необходимости можно окрасить ткань несколько раз, удаляя старые узелки и добавляя новые. С высушенной ткани убирали перевязочные нити, но не гладили готовое изделие, благодаря чему долгое время сохранялся эффект «жатост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наше время под узелковой росписью подразумевают более простые варианты. Например, узор в виде круга («солнышко») или нескольких круг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 окрашивании сухой ткани можно получить резкую границу красителя и неокрашенного полотна, если же ткань влажная (смоченная и хорошо отжатая) — более плавные границы переходов цвет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2948040" cy="3097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2952720" cy="277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rot="16200000">
            <a:off x="705996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b6d0"/>
                </a:solidFill>
                <a:latin typeface="Garamond"/>
              </a:rPr>
              <a:t>Холодный батик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40000" y="981000"/>
            <a:ext cx="4824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технике холодного батика используют анилиновые красител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оль контура выполняет резервирующий состав. Существуют цветные и бесцветные резерв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олодный резерв наносится специальными инструментами — стеклянными трубочками с резервуаром, или используются резервы в тюбиках, которые оснащены удлинённым носик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3809880" cy="2849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3816360" cy="2544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16200000">
            <a:off x="7059960" y="3392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b6d0"/>
                </a:solidFill>
                <a:latin typeface="Garamond"/>
              </a:rPr>
              <a:t>Свободная роспись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765000"/>
            <a:ext cx="8928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Техника свободной росписи получила большое распространение, так как она выявляет своеобразие почерка каждого художника и индивидуальную неповторимость произведений, свойственную ручному труд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вободная роспись по тканям из натурального шёлка производится в основном анилиновыми красителями (иногда с различными загустителями), а также масляными красками с растворителям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Особенно интересные результаты получаются от сочетания свободной росписи с контурной наводкой и отделкой резервирующим составо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3860640"/>
            <a:ext cx="3959280" cy="2575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631480" y="63817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Тишина. Елена Решет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643640" cy="2560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57920" y="640548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Ирина Шурыги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7059960" y="180828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356000" y="836280"/>
            <a:ext cx="460872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смотря на все разнообразие техник батика, существует множество эффектов, используя которые можно добавить работе большей выразительности и своеобраз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солевой эффект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«кракелюр»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использование мочевин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еобычный эффект от спир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00360" y="4292640"/>
            <a:ext cx="1568520" cy="2305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2217600" cy="2305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74b6d0"/>
                </a:solidFill>
                <a:latin typeface="Garamond"/>
              </a:rPr>
              <a:t>Галерея.</a:t>
            </a:r>
            <a:endParaRPr b="1" lang="en-US" sz="96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886200" cy="5554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3859200" cy="5545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94160" y="6156360"/>
            <a:ext cx="27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лекс Распопов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25280" y="618480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исеев Георгий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488360" cy="5775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1800" y="615636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агнер Анна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777080" cy="5832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781800" y="622764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 Ян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553440" cy="5365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94160" y="601200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на Мокан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788000" y="549360"/>
            <a:ext cx="4109760" cy="5329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292640" cy="5329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582520" y="5867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дрова Елена, 11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61800" y="58672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ча Маша, 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19280" y="1483920"/>
            <a:ext cx="6418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b6d0"/>
                </a:solidFill>
                <a:latin typeface="Garamond"/>
              </a:rPr>
              <a:t>Ткань, опьяненная собой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b6d0"/>
                </a:solidFill>
                <a:latin typeface="Garamond"/>
              </a:rPr>
              <a:t>Изнеженная лаской света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b6d0"/>
                </a:solidFill>
                <a:latin typeface="Garamond"/>
              </a:rPr>
              <a:t>Она испытывает лето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b6d0"/>
                </a:solidFill>
                <a:latin typeface="Garamond"/>
              </a:rPr>
              <a:t>Как бы не тронута зимо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b6d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74b6d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74b6d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74b6d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74b6d0"/>
                </a:solidFill>
                <a:latin typeface="Garamond"/>
              </a:rPr>
              <a:t>О. Мандельшт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атик - batik - индонезийское слов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Часть слова - tik - на всех индонезийских языках означает «точка» или «капля»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ba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- хлопчатобумажная ткан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Ambatik - рисовать, покрывать каплями, штрихо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расхожем употреблении батиком называют расписанную от руки ткан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Батик - технология окрашивания и украшения тка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436572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59280" y="4365720"/>
            <a:ext cx="2736720" cy="2050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3025800" cy="2023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55720" y="658332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b6d0"/>
                </a:solidFill>
                <a:latin typeface="Garamond"/>
              </a:rPr>
              <a:t>Откуда к нам пришел батик?</a:t>
            </a:r>
            <a:endParaRPr b="1" lang="en-US" sz="40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231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тайцы в 2500 году до нашей эры упоминали о том, что применялись красители для ткан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территории Египта были обнаружены древние образцы расписанных тканей. Ученые датируют эти находки V веком нашей эр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 принято считать, что зародился батик в Индонезии, на острове Ява, оттуда перенесен в другие страны Азии, а в новейшее время и в Европ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России батик появился примерно в 20-е годы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 вместе с всеобщим увлечением стилем «модерн», развивался, в основном, в больших городах: Москве, Ленинграде, Иванов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4b6d0"/>
                </a:solidFill>
                <a:latin typeface="Arial"/>
              </a:rPr>
              <a:t>Бат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— ручная роспись по ткани с использованием резервирующих состав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ткань — шёлк, хлопок, шерсть, синтетику — наносится соответствующая ткани крас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ля получения чётких границ на стыке красок используется специальный закрепитель, называемый резер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уществует несколько видов батика —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горячий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холодный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узелковый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свободная роспись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ни отличаются способом резервирования тка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b6d0"/>
                </a:solidFill>
                <a:latin typeface="Garamond"/>
              </a:rPr>
              <a:t>Горячий батик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76720" y="907560"/>
            <a:ext cx="5688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качестве резерва в горячем батике используется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воск.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оск наносится с помощью специального инструмента, называемог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Garamond"/>
              </a:rPr>
              <a:t>чантингом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 Места, покрытые воском, не поглощают краску, и ограничивают её распространен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Горячий батик называется так потому, что воск используется в «горячем» расплавленном виде. Затем ткань окрашивается, способом погружения в котлы с красител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тот способ используется в основном для росписи по хлопчатобумажной ткани. По завершении работы воск с поверхности ткани удаляетс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ффект росписи достигается благодаря послойному нанесению крас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024360" cy="2284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048120" cy="2400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81000" y="63086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нти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059960" y="332136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b6d0"/>
                </a:solidFill>
                <a:latin typeface="Garamond"/>
              </a:rPr>
              <a:t>Три способа нанесения воска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ск наносят кистью на всю плоскость мотива, а фон окрашивают. Получается негативный рисунок - белый на цветном фо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ск наносят на фон и внутренние линии мотива, а сам рисунок окрашивают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оск наносите крупными пятнами неопределенной формы. Не стоит обводить сначала кистью все контуры мотива, так как при крашении эти полосы проявятс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амый сложный способ - воск наносят только на контуры рисунка. Для этого пользуются чантингом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3399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абота с ним очень сложна, необходимо много тренироваться, чтобы контуры получались ровным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Если нанести недостаточно горячий состав, он не проникнет в ткань, и зарезервированные места окрасятс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180036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2735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300720" y="3933720"/>
            <a:ext cx="1800360" cy="2735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6200000">
            <a:off x="7059960" y="310536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27280" y="115920"/>
            <a:ext cx="6516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4b6d0"/>
                </a:solidFill>
                <a:latin typeface="Garamond"/>
              </a:rPr>
              <a:t>Многоцветный горячий батик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43280" y="1052280"/>
            <a:ext cx="6121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Многократное окрашивание возможно как при поверхностном окрашивании, так и при погружении батика в краску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 поверхностном окрашивании после первого окрашивания на высохшую ткань наносят новый рисунок воском. Затем следует второй слой краски. В качестве узора вы получите и белые участки, и участки, сохранившие цвет первой росписи, окруженные более темным цветом. Продолжать этот процесс можно столько раз, на сколько у вас хватит воображе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Важно! Краски наносимые на места, не покрытые воском, смешиваются. Соответственно, начинать надо с более светлых тонов и переходить к более темны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160360" cy="1497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160360" cy="1496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4000" y="3573360"/>
            <a:ext cx="2160360" cy="1497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2160360" cy="1496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00360" y="115560"/>
            <a:ext cx="41972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4b6d0"/>
                </a:solidFill>
                <a:latin typeface="Garamond"/>
              </a:rPr>
              <a:t>Техника сибори.</a:t>
            </a:r>
            <a:endParaRPr b="1" lang="en-US" sz="3200" spc="-1" strike="noStrike">
              <a:solidFill>
                <a:srgbClr val="dddddd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3280" y="1915920"/>
            <a:ext cx="45007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Эта техника имеет японские корн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Результат достигается путём перевязывания ткани веревочками и резинками и дальнейшего  окраши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4176720" cy="1852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16200000">
            <a:off x="-1809000" y="3176640"/>
            <a:ext cx="38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Garamond"/>
              </a:rPr>
              <a:t>Зеличенко Л.Е. ГБОУ СОШ № 879, ЮАО, г.Моск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5:05:06Z</dcterms:created>
  <dc:creator>Алена</dc:creator>
  <dc:description/>
  <dc:language>en-US</dc:language>
  <cp:lastModifiedBy>Алена</cp:lastModifiedBy>
  <dcterms:modified xsi:type="dcterms:W3CDTF">2013-04-11T21:20:46Z</dcterms:modified>
  <cp:revision>9</cp:revision>
  <dc:subject/>
  <dc:title>БАТИК</dc:title>
</cp:coreProperties>
</file>