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39836-BBBC-4DE9-911B-B89C423F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9A72B-AB0D-4933-AEE4-1D440160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3B874-F76A-447E-8892-4DF12218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D80C3-2D2C-49EF-B386-71674DB3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6894-560A-4DEE-A888-6E6680B9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6B83-8259-4CA8-88EF-15C40EE0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836D-6F12-49D4-AE0A-CFCF0D74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4188-51E9-4F24-8579-78D035D5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AA87-B351-42FB-969F-4459DB10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1FAD-E4C2-4B04-A1C3-00801515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E492-B49B-4FC7-A201-F2127B58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3887F-580F-40C4-BD6A-61AF99A3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A5CA-2209-410A-A1EA-E90B05AE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B76C-6FAF-4159-906D-2A86769F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8D8A-2ADE-4D83-954F-4BE816E1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BE98-F814-413B-B83D-41ED43C2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EB44-1EBD-44C5-BB93-DF3A6D4C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BB303-2685-4AFC-9D13-5A6E7F49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F2372-DE7F-4419-8286-545E50D2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C6C43-F3AB-4A3B-BC05-966099BC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C1556-FA54-4FF6-B689-52EF275E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68798-9CEA-46CB-9374-978F685D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0D8BD-8378-4A63-BE30-96752DE6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57CE1-D729-48D5-90F7-64D0349E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F983-8860-4B38-987B-31253C3311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7559-0A24-4A6E-88B2-9B3F80C558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58920" y="1052640"/>
            <a:ext cx="6626160" cy="468144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3120" y="1844640"/>
            <a:ext cx="456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66"/>
                </a:solidFill>
                <a:latin typeface="Garamond"/>
              </a:rPr>
              <a:t>БАТИК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96240" y="4581360"/>
            <a:ext cx="566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Garamond"/>
              </a:rPr>
              <a:t>Подготовила: Зеличенко Л.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Garamond"/>
              </a:rPr>
              <a:t>Учитель ИЗО ГБОУ СОШ № 879, ЮАО, г. Моск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19640" y="115920"/>
            <a:ext cx="52783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4b6d0"/>
                </a:solidFill>
                <a:latin typeface="Garamond"/>
              </a:rPr>
              <a:t>Техника («бандан»)</a:t>
            </a:r>
            <a:endParaRPr b="1" lang="en-US" sz="32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132000" y="764640"/>
            <a:ext cx="6012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хника узелкового батика («бандан»). Один из его видов — техника «планги» — был распространён в Инди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окрашенное полотно покрывали по схеме узора очень маленькими узелками, крепко перевязывая нитью. Затем ткань окрашивали, нити удаляли, в результате образовывался узор из белых «горохов». При необходимости можно окрасить ткань несколько раз, удаляя старые узелки и добавляя новые. С высушенной ткани убирали перевязочные нити, но не гладили готовое изделие, благодаря чему долгое время сохранялся эффект «жатости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наше время под узелковой росписью подразумевают более простые варианты. Например, узор в виде круга («солнышко») или нескольких кругов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 окрашивании сухой ткани можно получить резкую границу красителя и неокрашенного полотна, если же ткань влажная (смоченная и хорошо отжатая) — более плавные границы переходов цвет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2948040" cy="3097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9280" y="3789360"/>
            <a:ext cx="2952720" cy="2773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rot="16200000">
            <a:off x="7059960" y="3176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4b6d0"/>
                </a:solidFill>
                <a:latin typeface="Garamond"/>
              </a:rPr>
              <a:t>Холодный батик.</a:t>
            </a:r>
            <a:endParaRPr b="1" lang="en-US" sz="32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40000" y="981000"/>
            <a:ext cx="482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 технике холодного батика используют анилиновые красител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оль контура выполняет резервирующий состав. Существуют цветные и бесцветные резерв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Холодный резерв наносится специальными инструментами — стеклянными трубочками с резервуаром, или используются резервы в тюбиках, которые оснащены удлинённым носико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3809880" cy="2849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3816360" cy="2544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rot="16200000">
            <a:off x="7059960" y="3392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4b6d0"/>
                </a:solidFill>
                <a:latin typeface="Garamond"/>
              </a:rPr>
              <a:t>Свободная роспись.</a:t>
            </a:r>
            <a:endParaRPr b="1" lang="en-US" sz="32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765000"/>
            <a:ext cx="8928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Техника свободной росписи получила большое распространение, так как она выявляет своеобразие почерка каждого художника и индивидуальную неповторимость произведений, свойственную ручному труду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Свободная роспись по тканям из натурального шёлка производится в основном анилиновыми красителями (иногда с различными загустителями), а также масляными красками с растворителям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Особенно интересные результаты получаются от сочетания свободной росписи с контурной наводкой и отделкой резервирующим составо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03640" y="3860640"/>
            <a:ext cx="3959280" cy="2575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631480" y="63817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Тишина. Елена Решето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79280" y="3860640"/>
            <a:ext cx="4643640" cy="2560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357920" y="6405480"/>
            <a:ext cx="20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Ирина Шурыги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7059960" y="180828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356000" y="836280"/>
            <a:ext cx="460872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смотря на все разнообразие техник батика, существует множество эффектов, используя которые можно добавить работе большей выразительности и своеобраз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солевой эффект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«кракелюр»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использование мочевины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еобычный эффект от спир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700360" y="4292640"/>
            <a:ext cx="1568520" cy="2305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5280" y="4292640"/>
            <a:ext cx="2217600" cy="2305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3887640" cy="3887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rot="16200000">
            <a:off x="-1809000" y="3176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4b6d0"/>
                </a:solidFill>
                <a:latin typeface="Garamond"/>
              </a:rPr>
              <a:t>Галерея.</a:t>
            </a:r>
            <a:endParaRPr b="1" lang="en-US" sz="96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-1809000" y="3176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886200" cy="5554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859200" cy="5545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294160" y="615636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лекс Распопов, 4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25280" y="618480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сеев Георгий, 4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-1809000" y="3176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488360" cy="5775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421800" y="615636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агнер Анна, 4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-1809000" y="3176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777080" cy="5832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781800" y="622764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 Ян, 4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-1809000" y="3176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6553440" cy="5365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494160" y="601200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на Мокан, 4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1809000" y="3176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788000" y="549360"/>
            <a:ext cx="4109760" cy="5329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4292640" cy="5329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582520" y="58672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дрова Елена, 11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61800" y="586728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ча Маша, 4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-1809000" y="3176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619280" y="1483920"/>
            <a:ext cx="64180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4b6d0"/>
                </a:solidFill>
                <a:latin typeface="Garamond"/>
              </a:rPr>
              <a:t>Ткань, опьяненная собой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4b6d0"/>
                </a:solidFill>
                <a:latin typeface="Garamond"/>
              </a:rPr>
              <a:t>Изнеженная лаской света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4b6d0"/>
                </a:solidFill>
                <a:latin typeface="Garamond"/>
              </a:rPr>
              <a:t>Она испытывает лето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4b6d0"/>
                </a:solidFill>
                <a:latin typeface="Garamond"/>
              </a:rPr>
              <a:t>Как бы не тронута зимо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b6d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74b6d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74b6d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74b6d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74b6d0"/>
                </a:solidFill>
                <a:latin typeface="Garamond"/>
              </a:rPr>
              <a:t>О. Мандельшта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-1809000" y="3176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64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Батик - batik - индонезийское слов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Часть слова - tik - на всех индонезийских языках означает «точка» или «капля»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ba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- хлопчатобумажная ткань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Ambatik - рисовать, покрывать каплями, штриховать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расхожем употреблении батиком называют расписанную от руки ткань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Батик - технология окрашивания и украшения ткан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436572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059280" y="4365720"/>
            <a:ext cx="2736720" cy="2050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940360" y="4365720"/>
            <a:ext cx="3025800" cy="2023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655720" y="658332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4b6d0"/>
                </a:solidFill>
                <a:latin typeface="Garamond"/>
              </a:rPr>
              <a:t>Откуда к нам пришел батик?</a:t>
            </a:r>
            <a:endParaRPr b="1" lang="en-US" sz="4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7231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итайцы в 2500 году до нашей эры упоминали о том, что применялись красители для ткан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территории Египта были обнаружены древние образцы расписанных тканей. Ученые датируют эти находки V веком нашей эр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принято считать, что зародился батик в Индонезии, на острове Ява, оттуда перенесен в другие страны Азии, а в новейшее время и в Европ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России батик появился примерно в 20-е годы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 вместе с всеобщим увлечением стилем «модерн», развивался, в основном, в больших городах: Москве, Ленинграде, Иванов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-1809000" y="3176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4b6d0"/>
                </a:solidFill>
                <a:latin typeface="Arial"/>
              </a:rPr>
              <a:t>Бати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— ручная роспись по ткани с использованием резервирующих состав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ткань — шёлк, хлопок, шерсть, синтетику — наносится соответствующая ткани краск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ля получения чётких границ на стыке красок используется специальный закрепитель, называемый резер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уществует несколько видов батика —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горячий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холодный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узелковый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свободная роспись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ни отличаются способом резервирования ткан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-1809000" y="3176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4b6d0"/>
                </a:solidFill>
                <a:latin typeface="Garamond"/>
              </a:rPr>
              <a:t>Горячий батик.</a:t>
            </a:r>
            <a:endParaRPr b="1" lang="en-US" sz="32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76720" y="907560"/>
            <a:ext cx="5688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качестве резерва в горячем батике используется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воск.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оск наносится с помощью специального инструмента, называемого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чантингом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 Места, покрытые воском, не поглощают краску, и ограничивают её распространени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Горячий батик называется так потому, что воск используется в «горячем» расплавленном виде. Затем ткань окрашивается, способом погружения в котлы с красителе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Этот способ используется в основном для росписи по хлопчатобумажной ткани. По завершении работы воск с поверхности ткани удаляется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Эффект росписи достигается благодаря послойному нанесению крас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024360" cy="2284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3933720"/>
            <a:ext cx="3048120" cy="2400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81000" y="630864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нтин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7059960" y="332136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4b6d0"/>
                </a:solidFill>
                <a:latin typeface="Garamond"/>
              </a:rPr>
              <a:t>Три способа нанесения воска.</a:t>
            </a:r>
            <a:endParaRPr b="1" lang="en-US" sz="32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ск наносят кистью на всю плоскость мотива, а фон окрашивают. Получается негативный рисунок - белый на цветном фон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ск наносят на фон и внутренние линии мотива, а сам рисунок окрашивают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ск наносите крупными пятнами неопределенной формы. Не стоит обводить сначала кистью все контуры мотива, так как при крашении эти полосы проявятс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амый сложный способ - воск наносят только на контуры рисунка. Для этого пользуются чантингом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бота с ним очень сложна, необходимо много тренироваться, чтобы контуры получались ровным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сли нанести недостаточно горячий состав, он не проникнет в ткань, и зарезервированные места окрасятся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3933720"/>
            <a:ext cx="1800360" cy="2735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635280" y="3933720"/>
            <a:ext cx="1800360" cy="2735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300720" y="3933720"/>
            <a:ext cx="1800360" cy="2735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rot="16200000">
            <a:off x="7059960" y="310536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27280" y="115920"/>
            <a:ext cx="6516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4b6d0"/>
                </a:solidFill>
                <a:latin typeface="Garamond"/>
              </a:rPr>
              <a:t>Многоцветный горячий батик.</a:t>
            </a:r>
            <a:endParaRPr b="1" lang="en-US" sz="32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43280" y="1052280"/>
            <a:ext cx="6121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Многократное окрашивание возможно как при поверхностном окрашивании, так и при погружении батика в краску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ри поверхностном окрашивании после первого окрашивания на высохшую ткань наносят новый рисунок воском. Затем следует второй слой краски. В качестве узора вы получите и белые участки, и участки, сохранившие цвет первой росписи, окруженные более темным цветом. Продолжать этот процесс можно столько раз, на сколько у вас хватит воображе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Важно! Краски наносимые на места, не покрытые воском, смешиваются. Соответственно, начинать надо с более светлых тонов и переходить к более темны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160360" cy="1497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2160360" cy="1496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2160360" cy="1497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24000" y="5229360"/>
            <a:ext cx="2160360" cy="1496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rot="16200000">
            <a:off x="-1809000" y="3176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00360" y="115560"/>
            <a:ext cx="41972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4b6d0"/>
                </a:solidFill>
                <a:latin typeface="Garamond"/>
              </a:rPr>
              <a:t>Техника сибори.</a:t>
            </a:r>
            <a:endParaRPr b="1" lang="en-US" sz="32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3280" y="1915920"/>
            <a:ext cx="45007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Эта техника имеет японские корн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Результат достигается путём перевязывания ткани веревочками и резинками и дальнейшего  окрашива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176720" cy="313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24000" y="4221000"/>
            <a:ext cx="4176720" cy="1852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rot="16200000">
            <a:off x="-1809000" y="3176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5:05:06Z</dcterms:created>
  <dc:creator>Алена</dc:creator>
  <dc:description/>
  <dc:language>en-US</dc:language>
  <cp:lastModifiedBy>Алена</cp:lastModifiedBy>
  <dcterms:modified xsi:type="dcterms:W3CDTF">2013-04-11T21:20:46Z</dcterms:modified>
  <cp:revision>9</cp:revision>
  <dc:subject/>
  <dc:title>БАТИК</dc:title>
</cp:coreProperties>
</file>