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567-9BBD-45CF-84DF-C0D4B1EA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2D6-73C1-48BA-AF0E-A09BBF30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639A1-5DA3-4503-9375-01F5312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E2DF-66A3-443F-AEAB-6D09E9F4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EF15-BACF-4AD9-BC7D-0852231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0D1D5-9AEE-4D99-9891-16F3179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9DA50-31F7-47EB-9541-2ED5385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D5251-2972-404F-91B9-AD4A78BA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D6773-AE3B-4AE8-A67F-DA658D20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34CD-DA45-4779-8041-3CB531C3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6F591-AA98-4309-A9AD-8D9A6C0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E262C-6EDA-45A0-A8B0-85696998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04C-B95F-4276-8D79-6DF05A70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FF913-E5C7-47BF-B776-73EF153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7C27-ED26-404A-A5A7-1107DBA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16F03-FC4C-45A6-85E2-70AD9EC2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43F53-D32E-4BCF-9E2E-A4E75899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0AF0-CD84-444E-9F77-9D74173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515B-AB88-450F-AB56-E81ED95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CED39-17DF-4803-8ED5-C0655D96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8ED82-780F-4236-9AC2-1008F075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BCA82-D82B-4D99-A68F-F524B6F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0B04-72AF-4642-97C6-4C45FB5E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B41-0AEF-4DA8-BA5A-F386187B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84BFD-D0C4-4031-8CD3-D729E415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5DA7-2EDF-4385-8A0D-2CBD1AD0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1A67-9739-4CAD-B195-D503EF71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97ED-C694-4486-BB25-C5FEFE88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3301F-457C-4E2E-83B2-C0159909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3163-5D7D-4E7C-84C6-4C924E0F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E4D39-2E68-4723-8ACF-82F98B7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7B7DD-C6ED-4F37-886A-7D4ED23E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8EE8-CA04-4568-9C1F-42F66D9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CA001-6096-4197-A914-B65876FF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C63F-6627-4E52-BF35-D8BFB7E7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BC300-46C2-41D8-80DB-AA9BFF4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DD48B-3A17-47A1-A016-A1C5580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4942C-6B17-497F-91F0-CDA3562A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62E08-2E2B-4212-AF70-38073B34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CA968-E07E-4A6E-9F1C-4FE2AE9C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EAB2A-49F7-48E2-8332-B95D67F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F200C-0153-4697-B1EB-99893E58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29957-7D4D-44E9-A99F-CCB723A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8BAA-49BE-4457-9648-6581E4B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F1C26-148D-438F-9B0E-80BFB4F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21B45-28A9-49BC-A611-91CF92E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64335-FDC0-4A03-9C55-2FD9DAD4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00F2B-9B34-49B5-A451-B7FDBF5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08A15-49C9-4602-8E24-42C6076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3E2FC-D76D-4C92-B8AE-62E600B2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DE147-D0EE-4A84-A2AF-87E39208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4DDD8-418C-4403-994F-621FD809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3E8D2-6157-48F3-9AC9-D126818B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C4A14-22F4-4425-9257-E3E3A086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C5C86-C6A5-47DA-AAB1-E64780A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374D3-31B9-4B33-9B2B-AF50DA8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E0026-AB45-4965-A05E-30E57534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C5A27-72D5-4F18-9385-F67A45C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53F9B-1F93-4A5B-BEF9-A7D63AC4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1080E-21D6-4FD6-AC3B-2CEC2FB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541D4-491A-489F-B908-5636046F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7EC1F-4AB9-4D38-9A4F-9E885A8B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C1EC5-FE1F-44BC-BF7B-2B2DE771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8458B-1C2D-4CB7-83AA-E896D405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3D0C3-B2B0-4525-9742-E14845E0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2FE91-589B-4791-85E3-93437B6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B77EB-B503-41A3-93B7-9A6AB601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0D9D1-7B91-43ED-B15C-E95B2B6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80515-FC37-40D1-AA83-A95381D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4AD70-3D11-4973-AAAC-718D745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E8533-D88B-4016-9004-9D5B4D05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68D7D-3714-4075-8044-3932ECC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6A6A9-A3B7-472A-9AF1-880D2FD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B5034-2EEB-4D14-A916-2AC8B04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BC84C-95FF-4889-ABFE-347AD5B9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89EF0-4938-4742-B314-54BC543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A1512-6A1C-4420-AF6E-2253A79D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849C1-AD1D-4AC5-B10F-07A61740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E565-4812-4CF6-AA8C-98C8A35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E2C7-5CAA-473C-B002-8E9A375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4DE-FD7F-4B81-990A-1AEAEB80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DB7B8-3959-4DB5-9AE2-60B68FE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A3D11-F737-48A7-97E8-F728659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0BA68-42A0-4A28-8028-1BDFA74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03668-4701-4949-AEBE-06C87439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4638C-217A-488D-97D1-39E7C8B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096F-5F53-4C46-8CA8-630DF41D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2679-7A26-4D1B-B141-D6834A0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3B7F-2E29-4A84-8E68-F1C39FC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6A5D-87E0-4A66-807E-B92CA17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E2F5-31CA-49B0-B289-B8E1DF1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BF4-AD26-4D86-9387-45897E5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F02F-23A3-4F6A-8D26-06485BB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B8AE-C5FD-48CB-9CDC-57B1E16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E6CB-B19F-4CAC-86B1-C8C16E8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693B-B7A8-46DC-933F-DE06A6A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42BB-6277-43FA-9251-F90B1FE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0054-31D7-4E4F-A985-A368A388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6D0B-619C-485D-89C1-467B69C9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226C-DB3A-40F4-896E-9F079760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C644-3719-4EFF-99D1-DFAE72B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EF60-5CDB-4CDD-B813-D4D4051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472-6770-4ADC-A22F-2F587D82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6E7D-6F9B-429E-8079-856D8AC0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3DF4-83E2-48FF-A8B5-4531BDE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57B3-76B2-47B1-95F9-B6556142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41C1-1C16-48E1-8F25-1B07D23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EADD-B679-4BE1-9349-4DBB038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EECE-C86C-4092-874F-6A4D296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D71B-6AE1-497C-A882-D1D1FF9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85BD-4AD3-4C72-9F65-97E63621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D94CB-E93A-4D49-86CE-B47AAD34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7760-B1F6-4AC0-8DDC-C5C8E8D3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3A0-D0B5-4343-B7F3-7623E05C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F4A4-31AD-4FAF-8A08-FA32650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A1D3-3398-45AC-96D7-9281530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16CD-01A1-4920-9103-99ECB41F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7889-CBF8-409C-9005-F26833A2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451A-1572-4C4B-AF6E-76062955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694F-5D8E-4214-9F30-C26DE5C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2BB8-B512-4C75-992F-8048AE2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FE45-DAA3-47F1-88D5-1E13512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FBE2-69D1-4B63-AE8E-8E942816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81BF-858A-4822-849A-17EB95B3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3C9-A539-437B-A335-06E3BC8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514E-7F6B-462E-BB63-B531BEE5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A68A-F6CC-4700-A8D5-4D075025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636B-E6E3-4180-AC41-C41E2AF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041E-4C92-4EB5-89E1-846E4D6C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4759-E05A-450F-AABC-A80B6A0B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0AF1-9B1D-4E99-B23C-7DEB68B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2C37-EE19-4640-9B01-AABA7BD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DE22-81DE-40CD-A41F-D9D1399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329D-DC66-4B33-B029-4A63E2D6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297E-AB1E-4F94-B552-00133DC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531-8FD2-478D-9FAF-3B2C27B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9906-9839-4B33-8828-515F9114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4B882-BCF2-4DA9-831E-D93788F9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D675-D5CD-429E-B4BD-C111A1F9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15A6-7A69-4425-9CE7-70A89630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A592B-3176-4FD1-911C-837CD7B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139C-1C34-4BAE-A770-A835AD77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63952-AD61-482D-B4CA-9A6BF87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FA45-B306-40F3-9ADA-9B34B230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43DE-1DFE-4094-B8CF-D26C9C9A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E3AD-3B52-4C10-B76F-AAC056E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7AA-87E9-4829-85AC-C42FF59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25500-F850-4E1E-83EB-E41740E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9696-432F-4F63-A5BB-47619552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FEAC-388A-4C94-9D66-E9EE26E9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42DE-7061-4A0A-9807-AC712971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BA3E-500A-499D-A437-C86007E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B863-B10F-4E16-974E-7D97FFA6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0E87F-7E01-41A0-811C-29AB909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F77D-766C-4BD8-92D3-E161619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757C-7663-43B2-BDD5-49F1256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EF69-E6D6-444C-8671-F20A788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83E-95F2-4861-8E83-8046835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07881-C837-4E0A-ABAC-951F9A53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34D5-0321-4474-85F1-AA9A4186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74AC-7B0F-4BB7-A0A2-058CC7A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AAF3-1704-45F8-AA22-DBC2298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552E-212B-45DC-B949-ED6CB9B0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86C28-B0F2-4E7A-BBCD-9370136F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DD05-C756-4493-A4B3-6BDF5050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64FF-AB5E-4FC0-A375-F1EAE5B8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A19BF-8363-4B49-8E9D-6AC6CED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D32F-D9F8-40C5-B3F0-7A2B74C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AA21-15DE-4C1E-8485-6D957DB2CC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961E-66E1-41BD-9794-7769505FFEE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73D-A898-4C2D-971C-010283DA9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FB7B-C2B7-4C07-B826-E4004BB112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26E-E492-466F-BFA3-CD48261A27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834-7719-447E-8DAC-0746987FE7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CDB-4359-4F5E-A54F-8B6C076FF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368-8FAC-4E73-A6D9-B5A3E2E8D22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757-8441-4E54-93ED-CDA3C3C60B7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B303-5162-45A9-89EB-B2303ED8D8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CB8-BD73-44F5-9B9B-6BC3F04832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7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E46-B19D-4BDC-91C6-07AE9687EE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2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F395-CBD0-4736-BE84-9AAA7E5320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8749-4845-4CCA-956A-D2269F08D68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 клас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619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ин из самых сложных периодов дл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ёт адаптация к среднему зве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б»(русский язык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   -    % качества обученности-6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 - % качества обученности-5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учителю, работающему с пятикласс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Уделять особое внимание организации учебного процесс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отовность к уроку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авильность оформления тетрад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требования к ведению дневни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Сделать нормой единые дисциплинарные требова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чинать урок со звонком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отовиться к уроку на перемене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ивать культуру диалога, не перебивать ни учителя, ни ученик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днятая рука-это сигнал вопроса или ответ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твечаем, выйдя из-за парты, для развёрнутого ответа выходим к доск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Урок заканчиваем со звонком, не задерживаем де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4.Домашнее задание не оставляем на самый конец урока - его надо прокомментировать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мните правило: домашняя работа должна приносить чувство удовлетворения ученику, стимулировать успе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5.Учитель-предметник должен помнить, что урок в 5-м классе должен быть с частой сменой видов деятельности, включая физминут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учителю, работающему с пятиклассникам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6.На всех уроках главная общеучебная задача-формирование речевых, коммуникативных ум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7.Новые виды учебной деятельности должны сопровождаться чёткими инструкция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8.Обучающиеся должны знать свои права и обязанности, правила поведения в кабинетах, правила по технике безопасности, правила дежурных. Классный руководитель должен периодически повторять их с учениками, убеждать в их целесообраз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9.Введите правило среди обучающихся помогать больным, приносить им дом. задание, оказывать помощь в усвоении пропущенного материал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0.Не забывайте: ученик и учитель – союзники. Обучение должно быть бесконфликтны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иться ли вам в 5 класс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предмет нрави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предмет труден для теб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могает выполнять домашнее зад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времени вы тратите на выполнение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педагог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хранение здоровья ребён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енее болезненное протекание адапт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 чём трудность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ласс -это переход из начального модуля в средний, и из-за смены структуры, содержания обучения у  детей происходят изменения психологического и деятельност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происходит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растает состояние стр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еличивается количество изучаемых предметов, уч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никает сложность адаптации к учителя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утом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сутствие единства требований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ледствие этог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эти причины неизменно приводят к снижению качества успеваем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дела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я заповедь врачей «не навреди» для учителей можно продолжить «и не потеряй». Не потеряй ученика, умело выведи его из затруднительного положения, создай ситуацию успеха в его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а» (математик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-       % качества обученности-8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 - % качества обученности-7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б»(математик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    -   % качества обученности-7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% успеваемости-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-% качества обученности-5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а»(русский язык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  -     % качества обученности-7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-  % качества обученности-6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5:39:11Z</dcterms:created>
  <dc:creator>admin</dc:creator>
  <dc:description/>
  <dc:language>en-US</dc:language>
  <cp:lastModifiedBy>admin</cp:lastModifiedBy>
  <dcterms:modified xsi:type="dcterms:W3CDTF">2008-10-15T10:26:48Z</dcterms:modified>
  <cp:revision>10</cp:revision>
  <dc:subject/>
  <dc:title>5 класс</dc:title>
</cp:coreProperties>
</file>