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721-A8BE-4A61-BFAE-97127BB8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0F5-94C4-49F8-A3D0-DFAECF0E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9EC01-F751-4F26-901F-68577932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41D68-2BFD-4CAC-AA63-CE293665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BDBCB-E3F9-4937-983B-AF647B2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083E-0E7C-43A6-9E11-9474E3FF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1A0B6-0112-49D6-88F6-0DBF1CDC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2EF00-7883-4B0F-844F-2EA5CDAC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736F4-51BB-44E8-8F50-A788A5F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D48E0-5672-45A0-BED3-8FCF9738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14FC-791F-4679-AE50-4F3C6CAC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F24A5-08A6-4108-BD3C-60200F80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30E-9E44-4A48-8C15-3BE55DC6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FF432-B915-45B1-B889-5D2CC150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CA50F-5B5A-4F47-8FC8-619F0B31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60D2F-347A-4A64-9406-1B640BA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9C905-D7D5-440D-9D4B-929933BB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F9ADE-A7E8-45B8-99E2-8DD71A56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625CA-6C34-4B57-8FD6-7465493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54BB8-D5B5-4045-B347-A252E97C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93FE7-E040-431C-A803-96FD4A5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DC511-4448-487A-B6F0-FD68B6DE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1A73B-81DB-4A0C-B0A3-37692608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836-8BAB-4A42-97ED-E8FF4EDC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B7C17-4AFA-4EBC-8834-CE2F856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97687-5C75-46E1-8869-EC7B7753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B4984-3489-4914-B10E-9E4D215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87FE0-4B1F-447B-BC56-4A823977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E2A42-1FD6-4253-8F45-3E7CD16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4EC10-53FE-4497-AEB0-9010764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40A5C-D41E-4136-ABAD-B0E6E162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16581-73B5-4A02-BF54-0D4297D3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86292-8D5C-40A2-8F43-7C18ADE0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ACF57-7365-4B78-9340-C7683996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5D4EF-73FA-4140-B289-51BA92B5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6BA0C-C4E1-4E30-A768-249E9801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8B70F-FBE1-464E-B838-D54A1988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82B96-D109-40E0-A360-C7F6134B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66904-6F26-4A38-A66A-34336EA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38739-4A04-499A-8A75-4068622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88D31-C5F4-4933-B749-F4744CE2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5ACBB-244D-4847-8748-B1B3AA2E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9D51F-FA00-4442-B2B4-66FD00AD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3F9E0-8FD6-45EA-B7B2-6492061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B2FBA-F7C7-48C5-A567-A91FE6B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E332E-20AA-4456-9D28-BD188ED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CDA79-BFBE-4516-A924-7AB39A79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66C62-DDEE-4BB0-B553-2350687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482B0-A4C3-4B0B-8485-D2A4D90E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350AF-4EDC-437F-937B-0AA985B5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ADC18-1BD9-46FE-8A69-79410EF2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AF39C3-E70E-474B-A1F6-7B117E2D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1082C-8564-45F2-83C1-A8BD9D2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E55DF-1166-4805-9C1B-29692D5F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37731-EC3C-402D-A4AC-80928984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53B18-B990-4A36-A924-7E9FC912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BDB1D-D6FE-4562-BA85-D03F0C3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C4385-FCB4-45A3-9AF1-542FEC3C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31B47-A10C-4600-9C61-374677CD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40FEB-4598-4AF2-A585-515DC66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268AA5-84C4-405B-BB54-D5798FB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66CB9-E870-4993-84E5-4DDE7F0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670B8-321D-4AB4-AD32-8D22E72F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27D10-5D7D-44C1-904F-3D7CAC3B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F5C0F-403B-4854-BE5E-2735C3D5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78473-80CD-4C3F-B3FF-E134005F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F8CF5-5706-48A7-8355-BE6A0531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01C14-297E-41A2-BACA-6FADF1D4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17138-3925-4FDA-B687-E4E10A5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EA30E-A62F-425F-99F5-FB868709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BF235-81F9-4F2F-A944-4665C38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78973-0013-4231-9B33-3D4D4C5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BDE4F-3D6D-45E3-A49E-2232F11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E4D6F-7822-49BF-8904-E4455EF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9A85E-8223-4B3A-BD3C-B9C45721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5B9CB5-142F-47A2-BFDA-5CAE4596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EF866-CDE0-45A0-9FD8-B01208E8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F5CC3-41B3-4F56-988C-5F2BE5B3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0E4F1-53A5-45EA-A571-1D0817B9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45129-BDF4-497B-BB1E-5701EFC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F04-7EB1-4B10-AE03-055769BD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18970-118A-4532-8DD4-58AAF32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A63C6-1883-4C93-AF92-F9AA4C08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129F3-D9D4-4440-A5A3-AD8B108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29008-E0C9-4B24-A408-F07D7B14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F7C81-E4C8-49B9-9F72-9A85758A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801E-23B8-4EEE-9CD9-AFD266F6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4776E-AB43-4800-B07E-624362A1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90959-44AF-4509-BB08-5BF282DF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63EF-F86C-4B8A-9340-4991F52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CB5F-7757-47CD-8BC8-F0952AAA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4A3-1DCE-499A-B292-C1FC9630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171A-7585-4D98-8C53-A37A4C51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A4A4-EC3B-45F3-9FFB-5796DAD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2440-F85B-4442-806B-569B57F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0DCB-BCC0-4D5E-AC08-A54B7E7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A73A-AC72-45D8-A766-5D24F4C3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5DC8-BD52-4943-9872-C3CE082F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D2DDD-31E0-4EB3-BDF8-A71FF1A0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581D-E29B-43A9-B79F-345EB093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3F70-F03E-45E4-BE44-F1F7FB9E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AC4C-E761-4A17-A7A4-8683E66D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F2A4-C20F-4D2F-B9E4-8262EB04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AA9F2-22AA-4D5D-89A2-7C0BD25C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E1F0-68C8-41BA-AAC0-C259ABBC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AA185-5A16-4236-A435-8CC64AF7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4EEB-F907-4070-BBB7-B7AEBD3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D9D0-0972-4CCA-B770-1C4CC98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DA03-C0D6-4AB2-90D0-8A143BA0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A17B-1E2E-4C13-BA00-739BEDF9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2846-0DE3-48B2-80D6-5DED4BFE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3BE7-B8DD-4AD0-B082-DF34455E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7BDD-360C-4ED1-B31D-35E2E65A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381-57B5-4625-BB25-C58B103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7A077-01C2-4D13-AE0C-AFCF5BE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B289A-84D8-44C3-AAB8-9310233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D0B81-91CD-4156-892F-24AB186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897CE-EB9F-4C03-B02E-B65AB58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D8D3-DF6B-4410-9B36-ACD087D6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6943-03AD-4778-970F-553887C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600DE-FA0C-4CC9-B071-FBBAF06E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05F9-3D98-456D-B58C-2D75C318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970AE-74D8-457E-98FB-3DCBC91E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8366D-45BE-4C38-B539-245BC5C6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78A-5BAE-4F60-AC1A-DAD31CCE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EA950-A5D0-4D54-9EAB-8D77494DB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EE10-A14D-44D3-86D3-9E0EDB24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1D5A-36D4-47AB-AEC8-D073A6E5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ACE64-11C6-4C3A-BC4B-68602912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6A13F-CA3A-4D24-8F63-E22B6DFF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2CF2D-34AE-4B39-84BD-BC54F6E5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276F-1839-4EB7-A200-E96CDFFA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4E973-C1C3-45C5-BDB7-891BCCF8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44125-AFF6-4C71-BB28-3612905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60D54-7CF4-413C-9418-19D0A7B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957-75F9-4CB3-8FFC-11432153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6AEBE-FE41-4E21-BE48-C4FE318D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3D06A-06A5-4AA7-9244-7D71BDAE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C0A83-8027-4598-99A4-83AFB4AD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625D3-22AD-436C-94B5-EC2CD867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59199-2652-4BB4-8210-16560B49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A04CC-7DB9-4BB5-8689-683B79E6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FD70-C152-4DDC-9594-87665EA4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3D8C6-11D2-4232-ADB6-0DC75F9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782DD-DA22-4381-9645-2D0F558C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5B66-16D6-4367-9422-511F6AC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20A-239E-40BE-9281-34DCFD20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3FB1F-FBC0-4209-8488-C191DE4D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8266-6BEC-4CD6-966C-43DF30C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7203-ADB5-42EB-B2DB-EBBE1D3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3AD2E-4756-40A7-942E-8B599C85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0A082-E420-4972-B7C5-F23E9CBB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3FE1-5069-446C-84C3-9E7053AE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2EAB-F3DC-4A18-9A6F-C78F7474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0F76-9D15-4A5D-BC7D-01DD5267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A43EB-357B-4089-9027-AD524EE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A8F33-A592-44CD-8DCA-65FD9326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FB8-792C-42CA-83BE-3D739B9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6F673-0F35-406F-ACDC-CC6F6110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5E314-77AC-4718-B247-FB176E7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E30C8-3A48-4D80-BE6C-7AFF225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27DF6-8D5E-46FC-BC5B-C048C1E3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A7283-456E-4F39-BA7B-519813AD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B78D-DF0C-451C-8CDB-A4DB0AB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007B3-F1C1-4342-BF97-A3469A42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13834-1975-4F12-A0F8-C3E60219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ACAD7-03E9-4ECC-91E6-5CCD204D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29234-BA4F-4C54-85B7-817CE741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1EE4-1C50-4955-AB26-95235C093C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5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6F8-AC53-494E-9220-9520645E438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5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8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0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40B8-F841-40BA-BF0D-1C8C3002F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8B8-17BB-4F49-9B94-883A221DF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6598-5414-4F1B-B099-355654AD0F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655D-016C-4CB1-9DBE-1DCE14A6797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1726-8587-4A90-B4F5-4A698C149F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B10E-A2F5-449A-80AE-D8FA46A4CC3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52DA-F538-47C3-B7ED-9588B61F90A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7252-07C6-47DB-B97A-6C7C7D774B4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8F17-9E90-4374-9D87-6BE731E787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7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D66C-E0BC-44D0-A97E-1E02B810FD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2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B87-4BDC-4483-9E13-E0B6DA2A74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507-0DB1-4049-9DE3-07FE8DCCB55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 класс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619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ин из самых сложных периодов для школь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дёт адаптация к среднему зве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б»(русский язык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     -    % качества обученности-6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тябрь - % качества обученности-57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учителю, работающему с пятиклассникам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Уделять особое внимание организации учебного процесса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отовность к уроку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авильность оформления тетради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требования к ведению дневника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.Сделать нормой единые дисциплинарные требования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начинать урок со звонком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готовиться к уроку на перемене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рививать культуру диалога, не перебивать ни учителя, ни ученик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днятая рука-это сигнал вопроса или ответа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отвечаем, выйдя из-за парты, для развёрнутого ответа выходим к доске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3.Урок заканчиваем со звонком, не задерживаем дет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4.Домашнее задание не оставляем на самый конец урока - его надо прокомментировать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Помните правило: домашняя работа должна приносить чувство удовлетворения ученику, стимулировать успех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5.Учитель-предметник должен помнить, что урок в 5-м классе должен быть с частой сменой видов деятельности, включая физминутку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учителю, работающему с пятиклассникам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6.На всех уроках главная общеучебная задача-формирование речевых, коммуникативных умени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7.Новые виды учебной деятельности должны сопровождаться чёткими инструкция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8.Обучающиеся должны знать свои права и обязанности, правила поведения в кабинетах, правила по технике безопасности, правила дежурных. Классный руководитель должен периодически повторять их с учениками, убеждать в их целесообразност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9.Введите правило среди обучающихся помогать больным, приносить им дом. задание, оказывать помощь в усвоении пропущенного материал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0.Не забывайте: ученик и учитель – союзники. Обучение должно быть бесконфликтным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АНКЕ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равиться ли вам в 5 класс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предмет нрави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предмет труден для теб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помогает выполнять домашнее зад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времени вы тратите на выполнение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Задача педагогов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охранение здоровья ребён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енее болезненное протекание адапт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 чём трудность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класс -это переход из начального модуля в средний, и из-за смены структуры, содержания обучения у  детей происходят изменения психологического и деятельностного харак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происходит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растает состояние стресс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еличивается количество изучаемых предметов, учителе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зникает сложность адаптации к учителя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ереутомл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тсутствие единства требований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ледствие этог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е эти причины неизменно приводят к снижению качества успеваем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дела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я заповедь врачей «не навреди» для учителей можно продолжить «и не потеряй». Не потеряй ученика, умело выведи его из затруднительного положения, создай ситуацию успеха в его деятельно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а» (математик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  -       % качества обученности-8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тябрь - % качества обученности-78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б»(математика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й    -   % качества обученности-74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% успеваемости-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тябрь-% качества обученности-5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% успеваемости-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«а»(русский язык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й    -     % качества обученности-76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тябрь-  % качества обученности-6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 успеваемости-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5:39:11Z</dcterms:created>
  <dc:creator>admin</dc:creator>
  <dc:description/>
  <dc:language>en-US</dc:language>
  <cp:lastModifiedBy>admin</cp:lastModifiedBy>
  <dcterms:modified xsi:type="dcterms:W3CDTF">2008-10-15T10:26:48Z</dcterms:modified>
  <cp:revision>10</cp:revision>
  <dc:subject/>
  <dc:title>5 класс</dc:title>
</cp:coreProperties>
</file>