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30B-2438-4AA1-A380-93D69D19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09A-C860-406E-9E19-7C684CA1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9C3-52CD-4583-92A6-2BE97530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5A69-0088-4E80-9670-502FC5DC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21BC-CDA6-471D-B307-050B1A6A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5A62-274B-4D37-88C5-EBAB2F4F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8E35-4C55-4DF2-AB72-5AE2EC7B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5D35-13D6-48DA-8EBD-AB0F7AD3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2480-4A5C-4288-84FC-A3D852AB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6388-6C8F-4B1C-B8B2-2511E049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023F-13DC-455B-8FE1-A68C21EC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5D2-F285-4A9E-951B-A3FA372C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01A5-0EB8-4856-8A2A-50057798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9F07-C046-47C2-BF76-0AF669B4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F070-3A95-4484-A673-A2A2F4CF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72DF-E9B6-4413-BF91-CAEACC48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C90B-DEB1-42A2-A08E-6061DBE1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E35-8DD1-4C56-A49E-D0E2A0DB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4D0-F519-4C15-B294-9FE70499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D27-7C51-4345-9E49-3BC9C89C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B80D-6DC9-4574-8102-5A0DC165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301-1A95-43B7-9D71-177FC38F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5205-455F-449D-864C-C0B40FB8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568A-C08B-4275-BE6B-A2479158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0453-2010-4854-ACEF-24225C4D142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708A-3C12-4453-A4D9-C2CCC377971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Алкоголизм и семейные отношения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5410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5530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024440" cy="4648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267080" y="2666880"/>
            <a:ext cx="48769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361008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886200" y="1600200"/>
            <a:ext cx="52578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705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7246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00200" y="1733400"/>
            <a:ext cx="57913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411480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43000" y="665280"/>
            <a:ext cx="72388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91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5791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1-04-21T10:25:3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