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147-96EC-4F0A-8C68-936F4DA9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A78-30FF-47BC-B6AE-822286FC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A9E-FF7D-41CF-B403-DFC26470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67D-A2C3-4FB1-96BD-4536030A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59D-FBFA-49E5-A1E3-D617DA94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93E-E59F-4E54-8BFB-532E9EEC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C6E-9898-454A-BE90-39BBF8E6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BBA-DB6B-4DDA-B519-BCC0A88B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6E7-3BDA-49EA-A9B7-F338424B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9BAF-D13D-48DA-9925-065E0CA5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B94-3244-49AF-ABBA-D0602CA5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2123-6A59-49DA-B8CB-17A3C49D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B8E1-A8BF-479B-8E14-DD1FAFC4AB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Арифметический диктан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апиши числа от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4898  до  149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величьте наименьшее пятизначное число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 100 ра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апиши число, в котором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7 тыс 5 сотен 40 ед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88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* Сколько кг в 5 т?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*Сколько метров в 20км?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* Сколько минут в 4 часах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*Чему равен периметр прямоугольника со сторонами 7см и 8 см?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* Чему равна площадь квадрата со сторонами 15 мм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зентацию подготовил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КОУ «Покровская СОШ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.Покровка, г. Славгоро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врилова Е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5:42:37Z</dcterms:created>
  <dc:creator>User</dc:creator>
  <dc:description/>
  <dc:language>en-US</dc:language>
  <cp:lastModifiedBy>User</cp:lastModifiedBy>
  <dcterms:modified xsi:type="dcterms:W3CDTF">2013-04-12T14:18:37Z</dcterms:modified>
  <cp:revision>2</cp:revision>
  <dc:subject/>
  <dc:title>Арифметический диктант.</dc:title>
</cp:coreProperties>
</file>