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384-20B3-4262-AA94-BFE3C1CD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C7C3-AE19-40C5-BB0C-E558C772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89C1-3D17-4AD8-A6EF-8C4ABB22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1A0-ACB0-4492-8D52-F63D39B5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983-C70B-4D93-A419-197BFD1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92E-CD61-4B6E-9EA9-D5846EF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801-D662-4625-87EE-6C283BA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C84-1423-4AA9-90F3-5CEF7382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84A-9228-4152-922B-4EB32A5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4A-5ECE-4324-B463-282A87FF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5DF-0452-4689-8ADD-4E5B412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6FE-07C8-4ABC-B7B6-A4858A7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2999-9696-44CE-8E89-6F96463EF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Calibri"/>
              </a:rPr>
              <a:t>Арифметический диктан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пиши числа от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4898  до  149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величьте наименьшее пятизначное число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 100 р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пиши число, в котором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7 тыс 5 сотен 40 ед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88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 Сколько кг в 5 т?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Сколько метров в 20км?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* Сколько минут в 4 час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*Чему равен периметр прямоугольника со сторонами 7см и 8 с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* Чему равна площадь квадрата со сторонами 15 м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КОУ «Покровская СОШ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Покровка, г. Славгород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врилова Е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5:42:37Z</dcterms:created>
  <dc:creator>User</dc:creator>
  <dc:description/>
  <dc:language>en-US</dc:language>
  <cp:lastModifiedBy>User</cp:lastModifiedBy>
  <dcterms:modified xsi:type="dcterms:W3CDTF">2013-04-12T14:18:37Z</dcterms:modified>
  <cp:revision>2</cp:revision>
  <dc:subject/>
  <dc:title>Арифметический диктант.</dc:title>
</cp:coreProperties>
</file>