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741-25CE-4486-9C4A-0EE9A7D3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9BF-3BC3-4AD3-BF96-C103C3F3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FBB-827B-44BC-A232-F6387E02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596-67C6-40D2-BEAF-376A7812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15D-A296-447C-8459-59A05B28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274B-E12A-4A02-A781-6A267379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D3C3-68EB-4E41-92D9-214A1B1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EFF-E04E-4B0F-84E2-D2FAA96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CF0-F846-4EE2-9CF7-F8ECEC4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769A-BC25-4C0E-9C54-16107C3F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F50-9F8C-4F0F-93FC-186DCD2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75C-63DF-4EFA-A2C3-EBAF3404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21B-FFEC-4376-9EAB-A451D70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A3F-CBC2-41F5-AAC9-B905B04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C6CE-076C-4A92-AC3E-2F1C33B0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FBA3-46B2-4DEA-B69E-799E04F5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1B10-0DF0-45B6-BF13-067EEE9C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6DDC-4470-43F3-B866-4892808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BA6B-B0F1-41F7-844A-A2163AD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A4DE-319C-405D-8442-62F05AB5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FFE8-1CDA-4556-B229-DDD84F88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DD6F-7AB3-4C41-A5D9-3E8EF726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298-2B59-4F59-B47C-69C45AEC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99A2-B023-49BB-9B7B-6BD387E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5743-6F50-4E9E-BB38-639A6A4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5895-CBC5-4396-AFC1-430649A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5BD1-6C9C-4DE4-AFEF-BA13C34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5020-B5AF-49E9-BC0F-C6F9024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DF13-C968-4CEA-AEDB-F45B415A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F53E-5F8A-4534-BAE0-EBB1790F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210A-DAFF-455A-96F6-BAA10A24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2285-133A-4087-A942-BC656FE5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4C45-A694-414A-8D33-B57218D4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B1E-18CA-4691-BEE4-DF193BA3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ADEDC-4510-4696-8BBE-03E1EB7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640F-94A0-469F-8A46-139FFE6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DBEE-BD9B-497E-A0C8-4A142E9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7778-BA9A-411D-99A1-3EAB5C9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4D42-2D5F-4BBD-BE1E-1D79B5D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635D-A69F-411F-9968-9572615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58DC-8714-41AD-B418-287880CB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4DC2-E655-447F-953C-326967BC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439B-AE50-412C-B18B-E8DEEDAD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A50-B624-46E6-95D7-81CD235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DFA-85F0-4BD3-ADE3-510C69F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1FF-0731-4349-950F-BC1B37F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24C-337B-42E4-8567-E605303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CD7-B415-4C52-B62A-3891952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279-287D-4534-8194-DDCBDEEC63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893-25C6-4894-A613-C2AB5AC2D3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B92-6EEA-458E-9C87-02CE51A6CE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92F-2FA7-4D1E-90C9-B45BA54962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-6480" y="4853160"/>
            <a:ext cx="90280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142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вот так художнику на Западе представлялось будуще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представляли люди будущие в прошл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0" y="438120"/>
            <a:ext cx="4762440" cy="64198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2"/>
          <a:stretch/>
        </p:blipFill>
        <p:spPr>
          <a:xfrm>
            <a:off x="4786200" y="428760"/>
            <a:ext cx="4357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ухэтажный поез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71680" y="1429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ул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480" y="357120"/>
            <a:ext cx="8643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ущее в иллюстрациях французских карикатуристов начала ХХ ве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884160"/>
            <a:ext cx="4214880" cy="597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214880" y="1341360"/>
            <a:ext cx="4929120" cy="5516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7215120" y="0"/>
            <a:ext cx="1928880" cy="278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ллюстрации и обложка книги Жюль Вер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утешествие на Лун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7120" y="142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ление немцев на обратной стороне Лун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х/ф "Железное Небо"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571800" y="1857240"/>
            <a:ext cx="2357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вот та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ставлялось будущее художни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 века в ССС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2:23:33Z</dcterms:created>
  <dc:creator>Светлана</dc:creator>
  <dc:description/>
  <dc:language>en-US</dc:language>
  <cp:lastModifiedBy>zzz</cp:lastModifiedBy>
  <dcterms:modified xsi:type="dcterms:W3CDTF">2012-12-02T12:50:07Z</dcterms:modified>
  <cp:revision>3</cp:revision>
  <dc:subject/>
  <dc:title>Будущее в иллюстрация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b0000000000010243100207f6000400038000</vt:lpwstr>
  </property>
</Properties>
</file>