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E00-1F35-45A8-8EC3-E5DEF561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25C-72A2-49BE-9B87-6F1AA0C3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BA6-C193-4A36-B0B9-049F70E7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48E-93E6-48A8-AF13-80B48EB0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0F3C-0EAA-4504-8B1F-C9D9A2B1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982C-19E3-4873-B40A-BA4A6096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A2CC-CECB-4B4A-AAB9-2BC30A31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7D55-BC1B-436A-80FD-94FE5E2B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F8E6-470D-4E14-B978-3ADE8D42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63EC-EE5E-447F-ACA1-ED545186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B094-B061-4E8B-935E-B6FCE46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EDF-7BB2-4D1C-B186-56C90CB9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C18F-7FB1-467D-8096-838EC0E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DE47-22D7-4A60-B418-F138D966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EE23-4A20-46E9-8C70-5D313376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7096-6FB4-413A-84CD-0CFF2BD3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4AC1-0431-47A6-9C88-4C035502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ED92A-0A25-463A-9759-1DD1D2D6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67BD-35CA-41D0-A98F-D704746F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10DB4-2A7D-40E7-AE42-CFECA95D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6C59-FD00-496C-9F53-5CB80C8F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A1EB-1C21-471E-ACF9-FA96B544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2AE-F9CA-4D37-A92D-D40CE6BB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67E7-1F38-41FA-A11F-8E60601B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A8E9D-8046-41A7-BDDC-76C9FFF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BED2C-86D6-419C-9448-209F9CAC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B155-5200-4D5C-95A0-B5722728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27C8A-F965-4442-B99B-D782400D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3209-D4B3-4544-ADAA-3CB0BE1F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D55B-975E-4E01-809E-D746FE20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ED57-6A45-4F16-9D64-3410DF40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2E0D-F5D0-481C-A6C0-BDFAAC3D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161FF-4D88-4F3C-BBFB-06061E27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1B8-7525-4C43-AA94-49919E0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5059-8E3A-4C20-9CB0-9F389BC3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92396-1D78-4FF4-9739-8D3EE92B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0D391-1D1B-4FD1-851E-105BC3B1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8A25-9B54-450E-BCC1-4C3A9613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52F18-C5A7-4DA6-9317-1D31EE51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B2FD-D090-4149-9C86-765B5ED0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4249-727C-45F3-8A17-95EE10EC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62036-C0F1-4114-997C-39010FFD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7B73-47C4-4877-BF34-DCE15EC8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DC7F-638F-4229-88E0-91CF64DC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894-4B3A-4C17-9E61-A9A06E55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7B6-0015-42A2-8A56-9A04127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6E9-C0C7-4FD2-9B62-3AA3E7A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9D7-F4BF-405D-B73C-6578D4EF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91E8-13D0-4246-8C3C-767FC2A91FD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1E9B-23FF-4EC5-BA73-A3B1227D29E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5B47-1446-4807-BB10-066486D861B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091B-ECCA-4215-B129-625F1558459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-6480" y="4853160"/>
            <a:ext cx="90280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0040" y="142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 вот так художнику на Западе представлялось будуще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00040" y="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к представляли люди будущие в прошл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Рисунок 3" descr=""/>
          <p:cNvPicPr/>
          <p:nvPr/>
        </p:nvPicPr>
        <p:blipFill>
          <a:blip r:embed="rId1"/>
          <a:stretch/>
        </p:blipFill>
        <p:spPr>
          <a:xfrm>
            <a:off x="0" y="438120"/>
            <a:ext cx="4762440" cy="64198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"/>
          <p:cNvPicPr/>
          <p:nvPr/>
        </p:nvPicPr>
        <p:blipFill>
          <a:blip r:embed="rId2"/>
          <a:stretch/>
        </p:blipFill>
        <p:spPr>
          <a:xfrm>
            <a:off x="4786200" y="428760"/>
            <a:ext cx="4357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ухэтажный поез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Рисунок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71680" y="14292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гул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85480" y="357120"/>
            <a:ext cx="8643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дущее в иллюстрациях французских карикатуристов начала ХХ ве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0" y="884160"/>
            <a:ext cx="4214880" cy="5973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4214880" y="1341360"/>
            <a:ext cx="4929120" cy="5516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7215120" y="0"/>
            <a:ext cx="1928880" cy="2786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50004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ллюстрации и обложка книги Жюль Верн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Путешествие на Лун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7120" y="142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селение немцев на обратной стороне Лун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х/ф "Железное Небо"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3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571800" y="1857240"/>
            <a:ext cx="235764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вот та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ставлялось будущее художник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0 века в ССС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635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2:23:33Z</dcterms:created>
  <dc:creator>Светлана</dc:creator>
  <dc:description/>
  <dc:language>en-US</dc:language>
  <cp:lastModifiedBy>zzz</cp:lastModifiedBy>
  <dcterms:modified xsi:type="dcterms:W3CDTF">2012-12-02T12:50:07Z</dcterms:modified>
  <cp:revision>3</cp:revision>
  <dc:subject/>
  <dc:title>Будущее в иллюстрация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1b0000000000010243100207f6000400038000</vt:lpwstr>
  </property>
</Properties>
</file>