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2.png" ContentType="image/png"/>
  <Override PartName="/ppt/media/image24.jpeg" ContentType="image/jpeg"/>
  <Override PartName="/ppt/media/image27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28.jpeg" ContentType="image/jpeg"/>
  <Override PartName="/ppt/media/image7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2.wmf" ContentType="image/x-wmf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image10.jpeg" ContentType="image/jpeg"/>
  <Override PartName="/ppt/media/image21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2EF61-0583-471A-907E-E6F838E89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1F275-D942-4901-A20F-99730A807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11CC3-7251-4F77-A162-5C8604C82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61988-62EF-4FB9-8803-BAB9DA006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65F41-A747-4711-B738-3D717DC90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535DF-9B5A-454B-9ABE-54CE67968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1DC0B-545A-4AB6-9285-383B93506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55B22-2B03-4272-90CA-C494C7AA2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F1DCF-4AC6-4963-8185-BE96F91D6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91F2A-B7CD-4B1A-94CE-97B756B45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B79B7-5A97-4F0F-8559-8D9FAF044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05130-9D37-4E2C-B980-C13CCFE70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B2ED9-95CD-4297-8D20-C8AF3597A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0AAD6-F5F7-4DFE-AC17-2A5683FF7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C724B-9DFD-41CF-A895-608B1BB73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55489-3751-4597-BB35-97AE8A404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2E91D-ECFC-4F89-9625-B93566622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9323DE-542D-4F6D-97D9-4EF884CD3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F83F1E-FA95-498D-B202-A786D793F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426BF1-06DF-4A80-A0B6-DF6047052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D39451-9E9E-43DA-B5D7-8B94EC010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5B1F1A-A670-4692-8472-E0E0DF48C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7C2B6-6A06-4737-B705-94652E61A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116DDF-39B4-41A6-A2A7-778E00F49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AA4BAB-3510-4ACF-B62F-FEBBB9FC2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9EA2A2-4BCA-4CE8-914E-4630E8665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93E7B9-153D-4314-A193-56CA66318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B0DFFC-6A3E-4A10-A78E-A399224B9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69247E-EF99-4878-A313-F78D3583A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F42074-7EA7-4FEB-8511-3BD2E5BA3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9CC19-60BF-4915-BEF6-4402FFBC7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470D8-B322-4FBB-BC8B-05B0C5496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254B8-1ABD-4424-90FB-F6E105725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29014-17CB-4CCF-A0D2-3D248D837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71C9B-47D5-4FD2-B763-DE480AC68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36D34-4F7E-41D4-826D-89C74A1FB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9BF79-A10B-4200-B4FC-54504ED716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42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D5801-9831-4055-AE63-5AF843A64722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18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PlaceHolder 1"/>
          <p:cNvSpPr>
            <a:spLocks noGrp="1"/>
          </p:cNvSpPr>
          <p:nvPr>
            <p:ph type="dt" idx="7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ftr" idx="8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sldNum" idx="9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64BCE-347C-4D1A-A29E-8F8D464F5415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gif"/><Relationship Id="rId7" Type="http://schemas.openxmlformats.org/officeDocument/2006/relationships/image" Target="../media/image22.png"/><Relationship Id="rId8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2195640" y="0"/>
            <a:ext cx="489564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Экзаменационная работа по обществознанию на тему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364000" y="6004080"/>
            <a:ext cx="3780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Подготовил: Галкин 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Проверил: Елизарова Т.П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195640" y="1341360"/>
            <a:ext cx="5832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«Избирательное право в России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132000" y="6400800"/>
            <a:ext cx="172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2011г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" dur="20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4000"/>
                            </p:stCondLst>
                            <p:childTnLst>
                              <p:par>
                                <p:cTn id="2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" dur="2000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6000"/>
                            </p:stCondLst>
                            <p:childTnLst>
                              <p:par>
                                <p:cTn id="2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1476360" y="0"/>
            <a:ext cx="705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Достоинства и недостатки мажоритарной систем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50920" y="907920"/>
            <a:ext cx="748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Достоинств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24000" y="1628640"/>
            <a:ext cx="8496000" cy="33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зволяет попасть в парламент мелким партиям и самовыдвиженцам, популярным в том или ином мест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андидат должен представить не только декларативные обещания, но и реальные заслуги перед обществ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еобдуманные предложения независимого депутата, или лоббирующие криминал, слабость его позиций при обсуждении вопроса и голосовании по решениям, всегда будет легкой мишенью для фракций и парт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7396200" y="5164200"/>
            <a:ext cx="1747800" cy="169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0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85" dur="20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2000"/>
                            </p:stCondLst>
                            <p:childTnLst>
                              <p:par>
                                <p:cTn id="38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10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9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3000"/>
                            </p:stCondLst>
                            <p:childTnLst>
                              <p:par>
                                <p:cTn id="39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10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9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4000"/>
                            </p:stCondLst>
                            <p:childTnLst>
                              <p:par>
                                <p:cTn id="40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1000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9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5000"/>
                            </p:stCondLst>
                            <p:childTnLst>
                              <p:par>
                                <p:cTn id="40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1000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9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6000"/>
                            </p:stCondLst>
                            <p:childTnLst>
                              <p:par>
                                <p:cTn id="41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468360" y="189000"/>
            <a:ext cx="47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Недостатк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68360" y="907920"/>
            <a:ext cx="7848720" cy="20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Избиратели, чтобы их голос «не ушёл впустую», голосуют не за того, кто им нравится, а за наиболее приемлемого из двух лидер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 этой системе часто встречаются нарушения такие как подкуп избирателей, но этим, в большей степени, грешат парт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0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4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500"/>
                            </p:stCondLst>
                            <p:childTnLst>
                              <p:par>
                                <p:cTn id="42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8" dur="5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1000"/>
                            </p:stCondLst>
                            <p:childTnLst>
                              <p:par>
                                <p:cTn id="43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2" dur="500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2195640" y="0"/>
            <a:ext cx="583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Достоинства и недостатки пропорциональной систем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95280" y="981000"/>
            <a:ext cx="352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Достоинств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95280" y="1628640"/>
            <a:ext cx="8209080" cy="31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истема пропорционального представительства позволяет каждой политической партии получить число мест пропорционально числу голосов. Вот почему эта система может показаться более справедливой, чем мажоритарная систем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амые различные группы избирателей могут обеспечить места для своих представителей, и поэтому результат выборов рассматривается населением как справедливы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и этой системе избиратели более склонны голосовать за кандидатов, близких к их собственной позиции, а не за кандидатов, которые имеют больше шансов быть избранны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0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39" dur="20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43" dur="5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7" dur="20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4500"/>
                            </p:stCondLst>
                            <p:childTnLst>
                              <p:par>
                                <p:cTn id="44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1" dur="2000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6500"/>
                            </p:stCondLst>
                            <p:childTnLst>
                              <p:par>
                                <p:cTn id="45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5" dur="2000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395280" y="260280"/>
            <a:ext cx="554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Недостатк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39640" y="981000"/>
            <a:ext cx="7561440" cy="33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ри закрытых списках возможно использование «технологии паровоза», когда во главу избирательного списка ставятся популярные личности, которые затем отказываются от своих мандатов, в результате чего в парламент попадают никому не известные личности из конца списка («вагоны»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истема распределения голосов зачастую непонятна плохо информированным избирателям, и это может сделать систему пропорционального представительства непопулярн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fill="hold">
                      <p:stCondLst>
                        <p:cond delay="0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10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9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1000"/>
                            </p:stCondLst>
                            <p:childTnLst>
                              <p:par>
                                <p:cTn id="46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69" dur="5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1500"/>
                            </p:stCondLst>
                            <p:childTnLst>
                              <p:par>
                                <p:cTn id="47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73" dur="500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2411280" y="0"/>
            <a:ext cx="51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Законы о выборах в Росс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0" y="692280"/>
            <a:ext cx="8785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.Избиратель лично получает избирательный бюллетень, лично заполняет его в кабине для тайного голосования и опускает заполненный бюллетень в урну. Во время заполнения избирательных бюллетеней запрещается присутствие других лиц. Избиратель не имеет права передавать бюллетень другим лицам. Избирателю выдается только один бюллетен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.Избиратель, который не может самостоятельно заполнить избирательный бюллетень и вбросить его в урну, имеет право с ведома члена участковой избирательной комиссии (УИК) воспользоваться помощью другого избирател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0" y="3429000"/>
            <a:ext cx="8748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).Чтобы проголосовать по состоянию здоровья дома, избиратель может обратиться с соответствующим заявлением к УИК не позднее, чем за 12 часов до начала голосования. Голосование избирателей за пределами избирательного участка организовывают не менее трех членов УИК. При этом могут присутствовать официальные наблюдател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6732720" y="4748040"/>
            <a:ext cx="2411280" cy="210996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250920" y="5157720"/>
            <a:ext cx="4033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fill="hold">
                      <p:stCondLst>
                        <p:cond delay="0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0" dur="10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9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1000"/>
                            </p:stCondLst>
                            <p:childTnLst>
                              <p:par>
                                <p:cTn id="48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7" dur="20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3000"/>
                            </p:stCondLst>
                            <p:childTnLst>
                              <p:par>
                                <p:cTn id="48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1" dur="2000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5000"/>
                            </p:stCondLst>
                            <p:childTnLst>
                              <p:par>
                                <p:cTn id="49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5" dur="2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7000"/>
                            </p:stCondLst>
                            <p:childTnLst>
                              <p:par>
                                <p:cTn id="49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9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).В помещении для голосования можно находиться на протяжении времени, необходимого для голосов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6948360" y="2421000"/>
            <a:ext cx="2195640" cy="219528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3"/>
          <a:stretch/>
        </p:blipFill>
        <p:spPr>
          <a:xfrm>
            <a:off x="1692360" y="4724280"/>
            <a:ext cx="1735200" cy="213372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4"/>
          <a:stretch/>
        </p:blipFill>
        <p:spPr>
          <a:xfrm>
            <a:off x="0" y="2349360"/>
            <a:ext cx="1770120" cy="237672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>
            <a:off x="1908000" y="3429000"/>
            <a:ext cx="1224000" cy="0"/>
          </a:xfrm>
          <a:prstGeom prst="line">
            <a:avLst/>
          </a:prstGeom>
          <a:ln w="2602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5"/>
          <a:stretch/>
        </p:blipFill>
        <p:spPr>
          <a:xfrm>
            <a:off x="3276720" y="2276640"/>
            <a:ext cx="2057400" cy="230328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5508720" y="3429000"/>
            <a:ext cx="1224000" cy="0"/>
          </a:xfrm>
          <a:prstGeom prst="line">
            <a:avLst/>
          </a:prstGeom>
          <a:ln w="2602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7092720" y="4869000"/>
            <a:ext cx="863640" cy="647640"/>
          </a:xfrm>
          <a:prstGeom prst="line">
            <a:avLst/>
          </a:prstGeom>
          <a:ln w="2602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3563640" y="5805360"/>
            <a:ext cx="1150920" cy="0"/>
          </a:xfrm>
          <a:prstGeom prst="line">
            <a:avLst/>
          </a:prstGeom>
          <a:ln w="2602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6"/>
          <a:stretch/>
        </p:blipFill>
        <p:spPr>
          <a:xfrm flipH="1">
            <a:off x="5363640" y="4888080"/>
            <a:ext cx="2087640" cy="196992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7"/>
          <a:stretch/>
        </p:blipFill>
        <p:spPr>
          <a:xfrm>
            <a:off x="5219640" y="5445000"/>
            <a:ext cx="636480" cy="9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fill="hold">
                      <p:stCondLst>
                        <p:cond delay="0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6" dur="10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9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1000"/>
                            </p:stCondLst>
                            <p:childTnLst>
                              <p:par>
                                <p:cTn id="511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13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3000"/>
                            </p:stCondLst>
                            <p:childTnLst>
                              <p:par>
                                <p:cTn id="51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9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4000"/>
                            </p:stCondLst>
                            <p:childTnLst>
                              <p:par>
                                <p:cTn id="52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9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5000"/>
                            </p:stCondLst>
                            <p:childTnLst>
                              <p:par>
                                <p:cTn id="52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1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9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6000"/>
                            </p:stCondLst>
                            <p:childTnLst>
                              <p:par>
                                <p:cTn id="53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8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9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fill="hold">
                            <p:stCondLst>
                              <p:cond delay="7000"/>
                            </p:stCondLst>
                            <p:childTnLst>
                              <p:par>
                                <p:cTn id="54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9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8000"/>
                            </p:stCondLst>
                            <p:childTnLst>
                              <p:par>
                                <p:cTn id="55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2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9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8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9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9000"/>
                            </p:stCondLst>
                            <p:childTnLst>
                              <p:par>
                                <p:cTn id="56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9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fill="hold">
                            <p:stCondLst>
                              <p:cond delay="10000"/>
                            </p:stCondLst>
                            <p:childTnLst>
                              <p:par>
                                <p:cTn id="57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2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9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1692360" y="0"/>
            <a:ext cx="64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Права избирателей в Росс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0" y="476280"/>
            <a:ext cx="88930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 соответствии с Конституцией Российской Федерации граждане Российской Федерации имеют право избирать и быть избранными в органы государственной власти и органы местного самоуправления, а также участвовать в референдум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Гражданин Российской Федерации, достигший возраста 18 лет, имеет право избирать и голосовать на референдуме, участвовать в предусмотренных законом других избирательных действиях – привлекаться к работе в избирательных комиссиях, быть кандидатом в депутаты представительного органа государственной и муниципальной власти, наблюдателем и т.д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Граждане России имеют право избирать и быть избранными, участвовать в референдуме независимо от пола, расы, национальности, языка, происхождения, имущественного и должностного положения, места жительства, отношения к религии, убеждений, принадлежности к общественным объединениям, а также других обстоятельст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е имеют права избирать, быть избранными, участвовать в референдуме граждане, признанные судом недееспособными или содержащиеся в местах лишения свободы по приговору суда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2"/>
          <a:stretch/>
        </p:blipFill>
        <p:spPr>
          <a:xfrm>
            <a:off x="7308720" y="5300640"/>
            <a:ext cx="1835280" cy="15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6" dur="indefinite" restart="never" nodeType="tmRoot">
          <p:childTnLst>
            <p:seq>
              <p:cTn id="577" dur="indefinite" nodeType="mainSeq">
                <p:childTnLst>
                  <p:par>
                    <p:cTn id="578" fill="hold">
                      <p:stCondLst>
                        <p:cond delay="0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2" dur="10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9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fill="hold">
                            <p:stCondLst>
                              <p:cond delay="1000"/>
                            </p:stCondLst>
                            <p:childTnLst>
                              <p:par>
                                <p:cTn id="58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9" dur="1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9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fill="hold">
                            <p:stCondLst>
                              <p:cond delay="2000"/>
                            </p:stCondLst>
                            <p:childTnLst>
                              <p:par>
                                <p:cTn id="59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6" dur="10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9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3000"/>
                            </p:stCondLst>
                            <p:childTnLst>
                              <p:par>
                                <p:cTn id="60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10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900" fill="hold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4000"/>
                            </p:stCondLst>
                            <p:childTnLst>
                              <p:par>
                                <p:cTn id="60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0" dur="10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900" fill="hold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fill="hold">
                            <p:stCondLst>
                              <p:cond delay="5000"/>
                            </p:stCondLst>
                            <p:childTnLst>
                              <p:par>
                                <p:cTn id="61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7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395280" y="260280"/>
            <a:ext cx="8280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 Российской Федерации избиратель участвует в выборах на основе всеобщего, равного и прямого избирательного права при тайном голосовани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Участие избирателя в выборах является добровольным. Это означает, что никто не вправе оказывать воздействие на избирателя с целью принудить его к участию или неучастию в выборах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Участие в выборах можно сравнивать с обязанностью, если конечно человек считает себя гражданином своего государства, а не просто жителем страны, на территории которой находится его дом или квартира, и он не отождествляет государство со своей средой обитан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Участие в избирательном процессе, в выборах не просто возможность выразить свое мнение по важнейшим вопросам жизни страны, но и осознанная ответственность перед обществом за своё реш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2"/>
          <a:stretch/>
        </p:blipFill>
        <p:spPr>
          <a:xfrm>
            <a:off x="0" y="4508640"/>
            <a:ext cx="1539720" cy="23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8" dur="indefinite" restart="never" nodeType="tmRoot">
          <p:childTnLst>
            <p:seq>
              <p:cTn id="619" dur="indefinite" nodeType="mainSeq">
                <p:childTnLst>
                  <p:par>
                    <p:cTn id="620" fill="hold">
                      <p:stCondLst>
                        <p:cond delay="0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4" dur="10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9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fill="hold">
                            <p:stCondLst>
                              <p:cond delay="1000"/>
                            </p:stCondLst>
                            <p:childTnLst>
                              <p:par>
                                <p:cTn id="62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1" dur="1000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2" dur="1000" fill="hold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900" fill="hold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fill="hold">
                            <p:stCondLst>
                              <p:cond delay="2000"/>
                            </p:stCondLst>
                            <p:childTnLst>
                              <p:par>
                                <p:cTn id="63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8" dur="1000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900" fill="hold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fill="hold">
                            <p:stCondLst>
                              <p:cond delay="3000"/>
                            </p:stCondLst>
                            <p:childTnLst>
                              <p:par>
                                <p:cTn id="64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1000"/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6" dur="1000" fill="hold"/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900" fill="hold"/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fill="hold">
                            <p:stCondLst>
                              <p:cond delay="4000"/>
                            </p:stCondLst>
                            <p:childTnLst>
                              <p:par>
                                <p:cTn id="65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52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Рисунок 3" descr="flgb_russi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/>
          <p:nvPr/>
        </p:nvSpPr>
        <p:spPr>
          <a:xfrm>
            <a:off x="1403280" y="0"/>
            <a:ext cx="61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Заградительный барь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50920" y="692280"/>
            <a:ext cx="8642160" cy="24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 России существует 7% барьер голосов. Его прошли три парти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Единая Росс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КПР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ЛДП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2"/>
          <a:stretch/>
        </p:blipFill>
        <p:spPr>
          <a:xfrm>
            <a:off x="7715160" y="981000"/>
            <a:ext cx="1428840" cy="180036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3"/>
          <a:stretch/>
        </p:blipFill>
        <p:spPr>
          <a:xfrm>
            <a:off x="7715160" y="2781360"/>
            <a:ext cx="1428840" cy="142884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4"/>
          <a:stretch/>
        </p:blipFill>
        <p:spPr>
          <a:xfrm>
            <a:off x="7715160" y="4221000"/>
            <a:ext cx="1428840" cy="10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0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9" dur="1000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0" dur="10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10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2" fill="hold">
                            <p:stCondLst>
                              <p:cond delay="1000"/>
                            </p:stCondLst>
                            <p:childTnLst>
                              <p:par>
                                <p:cTn id="66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65" dur="200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6" fill="hold">
                            <p:stCondLst>
                              <p:cond delay="3000"/>
                            </p:stCondLst>
                            <p:childTnLst>
                              <p:par>
                                <p:cTn id="66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69" dur="2000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fill="hold">
                            <p:stCondLst>
                              <p:cond delay="5000"/>
                            </p:stCondLst>
                            <p:childTnLst>
                              <p:par>
                                <p:cTn id="67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73" dur="2000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fill="hold">
                            <p:stCondLst>
                              <p:cond delay="7000"/>
                            </p:stCondLst>
                            <p:childTnLst>
                              <p:par>
                                <p:cTn id="67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77" dur="2000"/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9000"/>
                            </p:stCondLst>
                            <p:childTnLst>
                              <p:par>
                                <p:cTn id="67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2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9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" fill="hold">
                            <p:stCondLst>
                              <p:cond delay="10000"/>
                            </p:stCondLst>
                            <p:childTnLst>
                              <p:par>
                                <p:cTn id="68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8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9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9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2" fill="hold">
                            <p:stCondLst>
                              <p:cond delay="11000"/>
                            </p:stCondLst>
                            <p:childTnLst>
                              <p:par>
                                <p:cTn id="69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5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6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9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1908000" y="260280"/>
            <a:ext cx="54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Вывод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08000" y="836640"/>
            <a:ext cx="69850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Я считаю, что выполнил все задачи поставленные в начале презентации. Люди должны знать свои права в области избирательного права. Ведь сейчас часто проходят выборы как президента, так и органов местного самоуправления. Сам я смогу голосовать только после исполнения мне 18 лет, но уже сейчас я знаю свои права и самостоятельно смогу проголосовать за нужного мне кандида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9" dur="indefinite" restart="never" nodeType="tmRoot">
          <p:childTnLst>
            <p:seq>
              <p:cTn id="700" dur="indefinite" nodeType="mainSeq">
                <p:childTnLst>
                  <p:par>
                    <p:cTn id="701" fill="hold">
                      <p:stCondLst>
                        <p:cond delay="0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05" dur="50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6" fill="hold">
                            <p:stCondLst>
                              <p:cond delay="500"/>
                            </p:stCondLst>
                            <p:childTnLst>
                              <p:par>
                                <p:cTn id="70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9" dur="1000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0" dur="10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9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324000" y="333360"/>
            <a:ext cx="16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Задач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68360" y="1125360"/>
            <a:ext cx="5904000" cy="31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родемонстрировать навыки полученные в области обществознания за курс 8,9 класс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Рассказать о демократических выборах и политических партиях в Росс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) Рассказать об основных видах избирательных сист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) Перечислить достоинства и недостатки избирательных сист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) Назвать права избирател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6948360" y="4653000"/>
            <a:ext cx="2195640" cy="22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7" dur="20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2000"/>
                            </p:stCondLst>
                            <p:childTnLst>
                              <p:par>
                                <p:cTn id="3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" dur="20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4000"/>
                            </p:stCondLst>
                            <p:childTnLst>
                              <p:par>
                                <p:cTn id="4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" dur="20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6000"/>
                            </p:stCondLst>
                            <p:childTnLst>
                              <p:par>
                                <p:cTn id="4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" dur="20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8000"/>
                            </p:stCondLst>
                            <p:childTnLst>
                              <p:par>
                                <p:cTn id="5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" dur="2000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5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" dur="2000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2000"/>
                            </p:stCondLst>
                            <p:childTnLst>
                              <p:par>
                                <p:cTn id="5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1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Конец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0" y="5391000"/>
            <a:ext cx="91440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Используемая литератур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.И.Жильцов «Участие гражданина в политической жизни»;»Демократические выборы и политические парти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убернский С.А., Блеклов А.В. «Я молодой избиратель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3" dur="indefinite" restart="never" nodeType="tmRoot">
          <p:childTnLst>
            <p:seq>
              <p:cTn id="714" dur="indefinite" nodeType="mainSeq">
                <p:childTnLst>
                  <p:par>
                    <p:cTn id="715" fill="hold">
                      <p:stCondLst>
                        <p:cond delay="0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9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0" fill="hold">
                            <p:stCondLst>
                              <p:cond delay="500"/>
                            </p:stCondLst>
                            <p:childTnLst>
                              <p:par>
                                <p:cTn id="72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3" dur="1000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4" dur="10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10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6" fill="hold">
                            <p:stCondLst>
                              <p:cond delay="1500"/>
                            </p:stCondLst>
                            <p:childTnLst>
                              <p:par>
                                <p:cTn id="72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9" dur="1000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0" dur="1000" fill="hold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1000" fill="hold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2500"/>
                            </p:stCondLst>
                            <p:childTnLst>
                              <p:par>
                                <p:cTn id="73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5" dur="1000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6" dur="1000" fill="hold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1000" fill="hold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755640" y="404640"/>
            <a:ext cx="72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Содержание презентаци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9640" y="1341360"/>
            <a:ext cx="6120000" cy="45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Историческая справ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2) Демократические выборы и политические партии в Росс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3) Понятие избирательного пра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4) Виды избирательных сист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5) Достоинства и недостатки избирательных сист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6) Законы о выборах в Росс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7) Права избирателей в Росс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8" dur="20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9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3000"/>
                            </p:stCondLst>
                            <p:childTnLst>
                              <p:par>
                                <p:cTn id="7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9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4000"/>
                            </p:stCondLst>
                            <p:childTnLst>
                              <p:par>
                                <p:cTn id="8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9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0"/>
                            </p:stCondLst>
                            <p:childTnLst>
                              <p:par>
                                <p:cTn id="9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9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6000"/>
                            </p:stCondLst>
                            <p:childTnLst>
                              <p:par>
                                <p:cTn id="9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900" fill="hold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7000"/>
                            </p:stCondLst>
                            <p:childTnLst>
                              <p:par>
                                <p:cTn id="10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900" fill="hold"/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8000"/>
                            </p:stCondLst>
                            <p:childTnLst>
                              <p:par>
                                <p:cTn id="11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900" fill="hold"/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2627280" y="0"/>
            <a:ext cx="424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Историческая справ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0" y="1198440"/>
            <a:ext cx="9144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Формирование избирательной системы в современной России относится к начал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0-ых годов. Первые демократические выборы в России состоялись летом 1991г.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ещё в период существования СССР. В президентских выборах, состоявшихся 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юня 1991г., из шести претендентов уже в первом туре победу одержа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.Н.Ельцин. Получив 57% голосов, он стал первым президентом России. Не отвергая значение сделанного в конце 80-ых годов и самом начале 90-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одов, следует же отметить, что принципиально новый шаг в формировании нов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збирательной системы в России был сделан осенью 1993г. Именно тогда по Указу президента Б.Ельцина «О поэтапной конституционной реформе в Российской Федерации» от 21 сентября 1993г. №1400 был распущен действующий Верховный Совет и Съезд народных депутатов и назначены выборы российского парламента – Федерального Собрания. Выборы в Государственную Думу – нижнюю палату Федерального Собрания были назначены этим же Указом на 12 декабря 1993г. Несколько позднее, 11 ноября 1993г., был издан Указ Б.Ельцина о проведении 12 декабря 1993г. Одновременно с выборами в Государственную Думу также выборов в верхнюю палату парламента – Совет Федера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000"/>
                            </p:stCondLst>
                            <p:childTnLst>
                              <p:par>
                                <p:cTn id="13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3000"/>
                            </p:stCondLst>
                            <p:childTnLst>
                              <p:par>
                                <p:cTn id="14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4000"/>
                            </p:stCondLst>
                            <p:childTnLst>
                              <p:par>
                                <p:cTn id="14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6000"/>
                            </p:stCondLst>
                            <p:childTnLst>
                              <p:par>
                                <p:cTn id="15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395280" y="476280"/>
            <a:ext cx="83534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 октября 1993 года был принят еще один указ: «О реформе местн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амоуправления в Российской Федерации». По этому указ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рганами местного самоуправления в городах, сельских посёлках и други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селённых пунктах вместо распускаемых Советов народных депутатов становились выборные и другие органы местного самоуправления – собрание представителей (дума, муниципальный комитет и т.п.), глава местного самоуправления (глава администрации, мэр, староста и др.). Так Россия перешла от Советов к новым органам законодательной власт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збираемым на основе альтернативности и конкурентной борьбы между различными политическими сил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0" y="5383080"/>
            <a:ext cx="2195640" cy="14749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6732720" y="5205240"/>
            <a:ext cx="2411280" cy="16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1000"/>
                            </p:stCondLst>
                            <p:childTnLst>
                              <p:par>
                                <p:cTn id="17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2000"/>
                            </p:stCondLst>
                            <p:childTnLst>
                              <p:par>
                                <p:cTn id="17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3000"/>
                            </p:stCondLst>
                            <p:childTnLst>
                              <p:par>
                                <p:cTn id="18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4000"/>
                            </p:stCondLst>
                            <p:childTnLst>
                              <p:par>
                                <p:cTn id="19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5000"/>
                            </p:stCondLst>
                            <p:childTnLst>
                              <p:par>
                                <p:cTn id="19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9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7000"/>
                            </p:stCondLst>
                            <p:childTnLst>
                              <p:par>
                                <p:cTn id="20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2f"/>
            </a:gs>
            <a:gs pos="50000">
              <a:srgbClr val="ffff66"/>
            </a:gs>
            <a:gs pos="100000">
              <a:srgbClr val="7575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250920" y="0"/>
            <a:ext cx="853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Демократические выборы и политические партии в Росс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4000" y="1125360"/>
            <a:ext cx="83516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Выбор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это признак демократии. Через выборы народ вручает своим представителям право на осуществление вла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Избирательная систе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ключает 2 компонен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1619280" y="2565360"/>
            <a:ext cx="1441440" cy="64764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012000" y="2637000"/>
            <a:ext cx="1512720" cy="57600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3193920"/>
            <a:ext cx="4427640" cy="36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Избирательное право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18л. – граждане имеют право избирать                                                     - 21г. – быть избранным в представительный орган                          - 30л. – главой административного субъекта                                                     - 35л. – Президентом стра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Принцип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)всеобщее, 2)равное, 3)прямое избирательное право при тайном голосован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003640" y="3213000"/>
            <a:ext cx="4140360" cy="24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Избирательный процесс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тадии:                                                  1) Подготовительная стадия                2) Выдвижение и регистрация кандидатов                                            3) Предвыборная агитация и финансирование  выборов                  4) Голосование и подведение итог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0" dur="5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"/>
                            </p:stCondLst>
                            <p:childTnLst>
                              <p:par>
                                <p:cTn id="21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4" dur="5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1000"/>
                            </p:stCondLst>
                            <p:childTnLst>
                              <p:par>
                                <p:cTn id="21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8" dur="2000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3000"/>
                            </p:stCondLst>
                            <p:childTnLst>
                              <p:par>
                                <p:cTn id="22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2" dur="2000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5000"/>
                            </p:stCondLst>
                            <p:childTnLst>
                              <p:par>
                                <p:cTn id="22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6000"/>
                            </p:stCondLst>
                            <p:childTnLst>
                              <p:par>
                                <p:cTn id="23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7000"/>
                            </p:stCondLst>
                            <p:childTnLst>
                              <p:par>
                                <p:cTn id="23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8" dur="20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9000"/>
                            </p:stCondLst>
                            <p:childTnLst>
                              <p:par>
                                <p:cTn id="24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2" dur="2000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11000"/>
                            </p:stCondLst>
                            <p:childTnLst>
                              <p:par>
                                <p:cTn id="24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6" dur="2000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3000"/>
                            </p:stCondLst>
                            <p:childTnLst>
                              <p:par>
                                <p:cTn id="24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0" dur="20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5000"/>
                            </p:stCondLst>
                            <p:childTnLst>
                              <p:par>
                                <p:cTn id="25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4" dur="200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1835280" y="0"/>
            <a:ext cx="662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Понятие избирательного права. Активное и пассивное избирательное прав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0" y="1197000"/>
            <a:ext cx="6153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Всеобщее избирательное право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- конституционный принцип избирательной системы, означающий предоставлени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1187280" y="2276640"/>
            <a:ext cx="720720" cy="936360"/>
          </a:xfrm>
          <a:prstGeom prst="line">
            <a:avLst/>
          </a:prstGeom>
          <a:ln w="414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732720" y="2276640"/>
            <a:ext cx="790560" cy="936360"/>
          </a:xfrm>
          <a:prstGeom prst="line">
            <a:avLst/>
          </a:prstGeom>
          <a:ln w="414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3213000"/>
            <a:ext cx="273672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пассивног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избирательного права всем гражданам, удовлетворяющим дополнительным, устанавливаемым конституцией или законами избирательным ценза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311800" y="3213000"/>
            <a:ext cx="3832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активного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избирательного права всем совершеннолетним гражданам страны, исключая недееспособных и лиц, находящихся в местах лишения свободы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0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1000"/>
                            </p:stCondLst>
                            <p:childTnLst>
                              <p:par>
                                <p:cTn id="26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7" dur="20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3000"/>
                            </p:stCondLst>
                            <p:childTnLst>
                              <p:par>
                                <p:cTn id="26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9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4000"/>
                            </p:stCondLst>
                            <p:childTnLst>
                              <p:par>
                                <p:cTn id="27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9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5000"/>
                            </p:stCondLst>
                            <p:childTnLst>
                              <p:par>
                                <p:cTn id="28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9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6000"/>
                            </p:stCondLst>
                            <p:childTnLst>
                              <p:par>
                                <p:cTn id="29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9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908000" y="0"/>
            <a:ext cx="554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Виды избирательных сист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1835280" y="549360"/>
            <a:ext cx="720720" cy="936720"/>
          </a:xfrm>
          <a:prstGeom prst="line">
            <a:avLst/>
          </a:prstGeom>
          <a:ln w="414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659640" y="549360"/>
            <a:ext cx="790560" cy="936720"/>
          </a:xfrm>
          <a:prstGeom prst="line">
            <a:avLst/>
          </a:prstGeom>
          <a:ln w="414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08000" y="1557360"/>
            <a:ext cx="44640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Мажоритарная систем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Вся территория страны делится на территориальные единицы – округа. От каждого округа избирается только один депутат (одномандатные округа). Если два и больше депутатов – многомандатные округа. Характерная черта мажоритарной системы – </a:t>
            </a: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избиратель голосует за личность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(может быть обозначено какую партию он представляет), избранным же считается тот, кто получает больше голосов.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88000" y="1628640"/>
            <a:ext cx="4356000" cy="21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Пропорциональная систем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Территория страны объявляется единым избирательным округом. Партии выдвигают списки своих кандидатов. Избирателям предоставляется проголосовать только за один из таких списк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0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9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1000"/>
                            </p:stCondLst>
                            <p:childTnLst>
                              <p:par>
                                <p:cTn id="30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9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2000"/>
                            </p:stCondLst>
                            <p:childTnLst>
                              <p:par>
                                <p:cTn id="31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9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3000"/>
                            </p:stCondLst>
                            <p:childTnLst>
                              <p:par>
                                <p:cTn id="32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9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9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000"/>
                            </p:stCondLst>
                            <p:childTnLst>
                              <p:par>
                                <p:cTn id="33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10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9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6000"/>
                            </p:stCondLst>
                            <p:childTnLst>
                              <p:par>
                                <p:cTn id="34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9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1908000" y="0"/>
            <a:ext cx="640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Достоинства и недостатки избирательных систе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1402920" y="765000"/>
            <a:ext cx="647640" cy="792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7020000" y="765000"/>
            <a:ext cx="504720" cy="719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24000" y="1628640"/>
            <a:ext cx="352728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остоинства и недостатки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мажоритарной систе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904000" y="1557360"/>
            <a:ext cx="324000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остоинства и недостатки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пропорциональной систе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0" y="5149800"/>
            <a:ext cx="2268360" cy="170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0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4" dur="5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500"/>
                            </p:stCondLst>
                            <p:childTnLst>
                              <p:par>
                                <p:cTn id="35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5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6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0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4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2000"/>
                            </p:stCondLst>
                            <p:childTnLst>
                              <p:par>
                                <p:cTn id="37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8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9T10:30:32Z</dcterms:created>
  <dc:creator>Admin</dc:creator>
  <dc:description/>
  <dc:language>en-US</dc:language>
  <cp:lastModifiedBy>илья</cp:lastModifiedBy>
  <dcterms:modified xsi:type="dcterms:W3CDTF">2011-06-05T16:35:11Z</dcterms:modified>
  <cp:revision>15</cp:revision>
  <dc:subject/>
  <dc:title>Слайд 1</dc:title>
</cp:coreProperties>
</file>