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96B-E232-4548-85C4-EF6047A9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FF0-72F4-4AA1-8314-BCE0901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DC9-B4B6-4490-9693-14D3A88B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ABE-232F-4F3D-BBD8-C6401ACB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5887-628E-468A-A9CC-061A95E1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42A-4F3D-4BD0-91D9-BE381E9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DA8-DD69-4EEA-BF08-75E182F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1FC-C080-46AB-8DED-3A26D72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9C3-D3F4-4705-805E-69C439EA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168-1F78-444D-B16A-814BBA9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4422-CEE4-4610-A4FC-C511958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C02-68B1-4E11-8E62-61A5ED1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D3E-B3B4-4C40-BB21-35EA4EA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E3D1-BEAC-433B-8D88-424EFAA5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4D61-B2DC-42C8-9A85-5FE75AB0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AF4-EDAA-4893-AC8B-3E6219BD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6B2-4F72-4D47-905B-C936C1C0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4F29-5F1B-4607-8EB0-F4FECAC8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3D74-6703-47D2-9D97-7B63295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F653-8569-48F2-94D4-2A958F87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9B15-4D01-4F97-AB15-B185A9BE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FD57-D46A-4F6B-A937-33FB251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BCC-41DB-42F2-9F96-71AE6B4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B980-D7A5-408F-807D-62E8F66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694D-8206-42F0-819A-2A5D95A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A41B-1D99-4C57-A53D-9B096BC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ACD1-2145-48E1-AAC7-66FF0DE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29C5-F073-41BC-914E-E38B8EE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8879-C97D-4AA9-A3C5-BA9658FE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87C4-69DE-409D-897E-9408E34D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8A3-C9AF-4D42-B536-503D4CD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F57-7CDD-4794-9C3C-4654FA6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917-D1F1-4187-9D05-BB4A90C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DCD-00B2-4C99-B97A-2E9F3A2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DC6-3645-4BE9-B170-C08E886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ACC-D1F4-4E93-B516-79ACCF6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D92-6BF4-4A75-9B76-EA501D88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B21-45AF-436B-BA9D-E1082862F7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4D5-9046-496C-BD44-F873388812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95640" y="0"/>
            <a:ext cx="489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заменационная работа по обществознанию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6004080"/>
            <a:ext cx="37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готовил: Галкин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верил: Елизарова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341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збирательное право в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64008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1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76360" y="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мажоритар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9079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628640"/>
            <a:ext cx="8496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воляет попасть в парламент мелким партиям и самовыдвиженцам, популярным в том или и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ат должен представить не только декларативные обещания, но и реальные заслуги перед об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бдуманные предложения независимого депутата, или лоббирующие криминал, слабость его позиций при обсуждении вопроса и голосовании по решениям, всегда будет легкой мишенью для фракций и пар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396200" y="516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189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907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иратели, чтобы их голос «не ушёл впустую», голосуют не за того, кто им нравится, а за наиболее приемлемого из двух лид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этой системе часто встречаются нарушения такие как подкуп избирателей, но этим, в большей степени, грешат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95640" y="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пропорциона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981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628640"/>
            <a:ext cx="820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 пропорционального представительства позволяет каждой политической партии получить число мест пропорционально числу голосов. Вот почему эта система может показаться более справедливой, чем мажоритар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ые различные группы избирателей могут обеспечить места для своих представителей, и поэтому результат выборов рассматривается населением как справедли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этой системе избиратели более склонны голосовать за кандидатов, близких к их собственной позиции, а не за кандидатов, которые имеют больше шансов быть избр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260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981000"/>
            <a:ext cx="75614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закрытых списках возможно использование «технологии паровоза», когда во главу избирательного списка ставятся популярные личности, которые затем отказываются от своих мандатов, в результате чего в парламент попадают никому не известные личности из конца списка («вагоны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а распределения голосов зачастую непонятна плохо информированным избирателям, и это может сделать систему пропорционального представительства непопуляр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11280" y="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о выборах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922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.Избиратель лично получает избирательный бюллетень, лично заполняет его в кабине для тайного голосования и опускает заполненный бюллетень в урну. Во время заполнения избирательных бюллетеней запрещается присутствие других лиц. Избиратель не имеет права передавать бюллетень другим лицам. Избирателю выдается только один бюллет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.Избиратель, который не может самостоятельно заполнить избирательный бюллетень и вбросить его в урну, имеет право с ведома члена участковой избирательной комиссии (УИК) воспользоваться помощью другого избир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42900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.Чтобы проголосовать по состоянию здоровья дома, избиратель может обратиться с соответствующим заявлением к УИК не позднее, чем за 12 часов до начала голосования. Голосование избирателей за пределами избирательного участка организовывают не менее трех членов УИК. При этом могут присутствовать официальные наблюд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732720" y="4748040"/>
            <a:ext cx="2411280" cy="2109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515772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.В помещении для голосования можно находиться на протяжении времени, необходимого для голо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948360" y="2421000"/>
            <a:ext cx="2195640" cy="219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692360" y="4724280"/>
            <a:ext cx="173520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1770120" cy="2376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3429000"/>
            <a:ext cx="122400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2057400" cy="2303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508720" y="3429000"/>
            <a:ext cx="122400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092720" y="4869000"/>
            <a:ext cx="863640" cy="64764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63640" y="5805360"/>
            <a:ext cx="115092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 flipH="1">
            <a:off x="5363640" y="4888080"/>
            <a:ext cx="2087640" cy="1969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5219640" y="5445000"/>
            <a:ext cx="6364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90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92360" y="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ава избирателе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762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ответствии с Конституцией Российской Федерации граждане Российской Федерации имеют право избирать и быть избранными в органы государственной власти и органы местного самоуправления, а также участвовать в референду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ин Российской Федерации, достигший возраста 18 лет, имеет право избирать и голосовать на референдуме, участвовать в предусмотренных законом других избирательных действиях – привлекаться к работе в избирательных комиссиях, быть кандидатом в депутаты представительного органа государственной и муниципальной власти, наблюдателем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е России имеют право избирать и быть избранными, участвовать в референдуме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имеют права избирать, быть избранными, участвовать в референдуме граждане, признанные судом недееспособными или содержащиеся в местах лишения свободы по приговору су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835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95280" y="26028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оссийской Федерации избиратель участвует в выборах на основе всеобщего, равного и прямого избирательного права при тайном голосов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избирателя в выборах является добровольным. Это означает, что никто не вправе оказывать воздействие на избирателя с целью принудить его к участию или неучастию в выбо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выборах можно сравнивать с обязанностью, если конечно человек считает себя гражданином своего государства, а не просто жителем страны, на территории которой находится его дом или квартира, и он не отождествляет государство со своей средой об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избирательном процессе, в выборах не просто возможность выразить свое мнение по важнейшим вопросам жизни страны, но и осознанная ответственность перед обществом за своё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539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3" descr="flgb_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0328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градительный ба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692280"/>
            <a:ext cx="8642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оссии существует 7% барьер голосов. Его прошли три пар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Еди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П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Д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715160" y="98100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715160" y="278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7715160" y="4221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7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9000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08000" y="260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000" y="836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считаю, что выполнил все задачи поставленные в начале презентации. Люди должны знать свои права в области избирательного права. Ведь сейчас часто проходят выборы как президента, так и органов местного самоуправления. Сам я смогу голосовать только после исполнения мне 18 лет, но уже сейчас я знаю свои права и самостоятельно смогу проголосовать за нужного мне канди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33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125360"/>
            <a:ext cx="5904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емонстрировать навыки полученные в области обществознания за курс 8,9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казать о демократических выборах и политических партиях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Рассказать об основных видах избирательн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Перечислить достоинства и недостатки избирательн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Назвать права избир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2195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Коне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391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И.Жильцов «Участие гражданина в политической жизни»;»Демократические выборы и политические парт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ернский С.А., Блеклов А.В. «Я молодой избирате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55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341360"/>
            <a:ext cx="612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) Демократические выборы и политические партии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) Понятие избиратель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) Виды избирате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) Достоинства и недостатки избирате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) Законы о выборах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) Права избирателей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27280" y="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984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избирательной системы в современной России относится к нач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-ых годов. Первые демократические выборы в России состоялись летом 1991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ё в период существования СССР. В президентских выборах, состоявшихся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ня 1991г., из шести претендентов уже в первом туре победу одер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Н.Ельцин. Получив 57% голосов, он стал первым президентом России. Не отвергая значение сделанного в конце 80-ых годов и самом начале 90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ов, следует же отметить, что принципиально новый шаг в формировании 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ирательной системы в России был сделан осенью 1993г. Именно тогда по Указу президента Б.Ельцина «О поэтапной конституционной реформе в Российской Федерации» от 21 сентября 1993г. №1400 был распущен действующий Верховный Совет и Съезд народных депутатов и назначены выборы российского парламента – Федерального Собрания. Выборы в Государственную Думу – нижнюю палату Федерального Собрания были назначены этим же Указом на 12 декабря 1993г. Несколько позднее, 11 ноября 1993г., был издан Указ Б.Ельцина о проведении 12 декабря 1993г. Одновременно с выборами в Государственную Думу также выборов в верхнюю палату парламента – Совет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47628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октября 1993 года был принят еще один указ: «О реформе м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управления в Российской Федерации». По этому ук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ами местного самоуправления в городах, сельских посёлках 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ённых пунктах вместо распускаемых Советов народных депутатов становились выборные и другие органы местного самоуправления – собрание представителей (дума, муниципальный комитет и т.п.), глава местного самоуправления (глава администрации, мэр, староста и др.). Так Россия перешла от Советов к новым органам законодательной вл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ираемым на основе альтернативности и конкурентной борьбы между различными политическими 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383080"/>
            <a:ext cx="2195640" cy="147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32720" y="5205240"/>
            <a:ext cx="2411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емократические выборы и политические парти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25360"/>
            <a:ext cx="83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признак демократии. Через выборы народ вручает своим представителям право на осуществление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ключает 2 ком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19280" y="2565360"/>
            <a:ext cx="144144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637000"/>
            <a:ext cx="1512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93920"/>
            <a:ext cx="4427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ое право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8л. – граждане имеют право избирать                                                     - 21г. – быть избранным в представительный орган                          - 30л. – главой административного субъекта                                                     - 35л. – Президентом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всеобщее, 2)равное, 3)прямое избирательное право при тайном голос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213000"/>
            <a:ext cx="414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ый процесс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дии:                                                  1) Подготовительная стадия                2) Выдвижение и регистрация кандидатов                                            3) Предвыборная агитация и финансирование  выборов                  4) Голосование и 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835280" y="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нятие избирательного права. Активное и пассивное избирательн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97000"/>
            <a:ext cx="615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сеобщее избирательное прав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конституционный принцип избирательной системы, означающий предостав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187280" y="2276640"/>
            <a:ext cx="720720" cy="93636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2276640"/>
            <a:ext cx="790560" cy="93636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13000"/>
            <a:ext cx="27367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ассив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збирательного права всем гражданам, удовлетворяющим дополнительным, устанавливаемым конституцией или законами избирательным ценз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1800" y="3213000"/>
            <a:ext cx="383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активног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бирательного права всем совершеннолетним гражданам страны, исключая недееспособных и лиц, находящихся в местах лишения своб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8000" y="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иды избиратель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835280" y="549360"/>
            <a:ext cx="720720" cy="9367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549360"/>
            <a:ext cx="790560" cy="9367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1557360"/>
            <a:ext cx="446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жоритарная сис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я территория страны делится на территориальные единицы – округа. От каждого округа избирается только один депутат (одномандатные округа). Если два и больше депутатов – многомандатные округа. Характерная черта мажоритарной системы –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 голосует за лично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может быть обозначено какую партию он представляет), избранным же считается тот, кто получает больше голосов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1628640"/>
            <a:ext cx="4356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ая сис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рритория страны объявляется единым избирательным округом. Партии выдвигают списки своих кандидатов. Избирателям предоставляется проголосовать только за один из таких спи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08000" y="0"/>
            <a:ext cx="64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избиратель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402920" y="765000"/>
            <a:ext cx="64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0000" y="765000"/>
            <a:ext cx="50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628640"/>
            <a:ext cx="352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оинства и недостатк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жоритар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04000" y="1557360"/>
            <a:ext cx="324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оинства и недостатк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5149800"/>
            <a:ext cx="2268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0:30:32Z</dcterms:created>
  <dc:creator>Admin</dc:creator>
  <dc:description/>
  <dc:language>en-US</dc:language>
  <cp:lastModifiedBy>илья</cp:lastModifiedBy>
  <dcterms:modified xsi:type="dcterms:W3CDTF">2011-06-05T16:35:11Z</dcterms:modified>
  <cp:revision>15</cp:revision>
  <dc:subject/>
  <dc:title>Слайд 1</dc:title>
</cp:coreProperties>
</file>