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drumroll.wav" ContentType="audio/x-wav"/>
  <Override PartName="/ppt/media/image33.jpeg" ContentType="image/jpeg"/>
  <Override PartName="/ppt/media/image6.jpeg" ContentType="image/jpeg"/>
  <Override PartName="/ppt/media/image27.jpeg" ContentType="image/jpeg"/>
  <Override PartName="/ppt/media/applause.wav" ContentType="audio/x-wav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39.png" ContentType="image/png"/>
  <Override PartName="/ppt/media/image34.jpeg" ContentType="image/jpeg"/>
  <Override PartName="/ppt/media/image7.png" ContentType="image/png"/>
  <Override PartName="/ppt/media/image25.jpeg" ContentType="image/jpeg"/>
  <Override PartName="/ppt/media/image32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0.jpeg" ContentType="image/jpeg"/>
  <Override PartName="/ppt/media/image2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251-0627-457F-8968-A3011A8F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461-1FA8-4774-A41C-5C9DCD8C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63A-2F9A-4352-A9C9-2CC33B1F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CFF-7EB3-4956-ADFF-7E065998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4D77-0FFF-499E-9EF3-F2959A0D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64F0-5161-4804-88AE-530DCAD6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3AF8-744F-4A0D-ADD7-F7390BE1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3896-50F2-467B-BBC6-42AF3BA3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7BE7-8A81-44E4-9F5B-EDB5440D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EF16-AC42-4D2A-9341-43A8AFF9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28D7-A6D2-4D91-A703-7A94C17F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2D1-875A-40F1-B8AF-D005E592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7A06-3E91-4197-87A7-55B63325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4A3A-CCDD-4233-A15B-94A6A010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0F1E-DE0D-4FD5-A13C-D0EEC44B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65F6-A593-4386-A09E-B1F3EA00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0514-2ED7-4F05-8ACD-5A9110C7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DD13A-D4BA-4CBA-8C6F-70D92343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7861-C214-4376-B08A-DF18EC6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41A2-0490-403B-9E85-0227A716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E101-E13B-4966-9C34-526EC49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09630-0FFA-4680-81A6-D6C94729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B22-878D-45DE-8BC2-D32D7886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0391B-7406-4CD6-95CD-979800DE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5E66-29A6-49CA-AA56-C3A935B1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C6D6-5393-4820-BCF4-D03373B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5D35-C336-463C-AAA2-1955F42B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9DA6B-777E-4658-812C-519A57ED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EE3F3-6435-45F4-BCB1-658BEF78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7547-C9D9-4D59-8C57-E88558FF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EEE75-CBD4-4A78-9709-4E17D4DA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A2FA-1929-4B75-905B-E3315B57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A396-4F30-4170-8B9A-8A508CB0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EFD-AF0B-4369-9167-16B42ED6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D987F-A339-4209-B591-37C8BE60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2A61C-9CE8-40AE-B444-D89B1202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2606-7977-41E3-A97A-6DB80D64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0E4E5-848A-442C-83C8-A8443E39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6712C-B8FF-4A1E-A596-0EE03F3B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043FB-39EE-4456-8B9E-1DA2008B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889C2-9BF0-450D-9402-26D3241F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DD55B-CB55-4899-A3DD-A0DF6868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E458-BEFF-46F5-9566-E323623F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CF6B8-5606-4715-B38A-658CE36A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91C-21C0-4A8A-AAD1-4EE4FE24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0CF51-1CBE-4B88-AC25-0053D3D9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8FA7C-D336-46BF-AD4D-4CDBBCE9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F939D-BE75-4817-91C8-46020FF5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ACC01-BD21-488F-B0E4-0005D09A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F48C3-4924-4015-ACFA-BF7902F2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8B30F-581F-4E6B-9D22-392F19AF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EE50F-AFB6-4C2A-8245-6F4A845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79615-9E81-4809-B4FB-0CC58103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F2F7E-E81B-41FC-9A4A-3FF42A5B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02218-A78F-4BEF-8ADB-C11948FB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17A-B39C-45AB-BFA3-0DB624E5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0A6FE-9078-4F25-885D-A9B1855B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7FF-23D5-45B5-AB19-D81057A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79C-5F21-4B2A-951B-CFDF1A91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DCD-A2B3-42C0-AF73-0281739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Давыдова Н.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1FDB-29D1-48E6-8191-290E31CAEF9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97E0-2B42-4F33-87C4-82FB21A5D46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BDCE-6792-4E6E-A45D-638A2F7D73E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Давыдова Н.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6BD2-5266-49BB-81ED-34BF878DD61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Давыдова Н.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C91C-D906-427B-99DD-28D469D7A07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dic.academic.ru/pictures/enc_biography/m_22892.jpg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smeni-auto.ru/images/3394_2009062353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www.mascus.com/image/product/large/autolineua/&#1050;&#1040;&#1052;&#1040;&#1047;-&#1040;&#1041;&#1057;-7&#1044;&#1040;,uaonetime_tobkomahir34_1.jpg" TargetMode="External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news.sarbc.ru/images/s/3/img_s32SG7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allproducts.com/manufacture100/hengliewuzi/product1.jpg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cdn.cbsi.com.au/story_media/339288574/photos-hp-releases-largest-ever-printer-range_12.jpg" TargetMode="External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applause.wav"/><Relationship Id="rId6" Type="http://schemas.openxmlformats.org/officeDocument/2006/relationships/audio" Target="../media/drumroll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/res/76f609e3-5da6-7559-4264-68d3548bb069/view/" TargetMode="External"/><Relationship Id="rId2" Type="http://schemas.openxmlformats.org/officeDocument/2006/relationships/hyperlink" Target="http://files.school-collection.edu.ru/dlrstore/8d7caa13-f7f5-c3db-3f7d-a504e7456d96/00119627250504103.htm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jakezane.com/images/200804/thumb_img/3218212_thumb_G_1207799683089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g.encyc.yandex.net/illustrations/rges/pictures/3-258-01.jpg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gorenje.ru/i/goods/832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ayukov.com/woodworking/tips/img_chemistry/IMG18052.med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g1.liveinternet.ru/images/attach/c/2/73/864/73864627_ognetushitel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ИМИЧЕСКИЕ СВОЙСТВА И ПРИМЕНЕНИЕ АЛКАН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357280" y="3857400"/>
            <a:ext cx="542952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дготовила учитель химии Нуянзина Елена Валерьев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7" descr="http://latimesblogs.latimes.com/photos/uncategorized/2008/06/30/methane.jpg"/>
          <p:cNvPicPr/>
          <p:nvPr/>
        </p:nvPicPr>
        <p:blipFill>
          <a:blip r:embed="rId1"/>
          <a:stretch/>
        </p:blipFill>
        <p:spPr>
          <a:xfrm>
            <a:off x="714240" y="4572000"/>
            <a:ext cx="2214720" cy="215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http://im0-tub-ru.yandex.net/i?id=149207921-04-72&amp;n=21"/>
          <p:cNvPicPr/>
          <p:nvPr/>
        </p:nvPicPr>
        <p:blipFill>
          <a:blip r:embed="rId2"/>
          <a:stretch/>
        </p:blipFill>
        <p:spPr>
          <a:xfrm>
            <a:off x="6572160" y="4572000"/>
            <a:ext cx="1857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нагревании алканов до 140°С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 разбавленной (10%-ной) азотной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ислотой под давлением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существляется реакция нитрования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амещение атома водород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итрогруппой (реакция М.И.Коновалова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 + HO-NO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 = C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-NO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 + 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-main-pic" descr="Картинка 5 из 2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40440" y="-317520"/>
            <a:ext cx="31338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285840" y="164304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д влиянием катализаторов при нагревании углеводороды нормального строения подвергаются изомеризации - перестройке углеродного скелета с образованием алканов разветвленного строения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-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-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-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 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en-US" sz="2600" spc="-1" strike="noStrike" baseline="30000">
                <a:solidFill>
                  <a:srgbClr val="c00000"/>
                </a:solidFill>
                <a:latin typeface="Trebuchet MS"/>
              </a:rPr>
              <a:t>AlCl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-CH-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   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                                                      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-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тан                          2-метил пропа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Нижний колонтитул 1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 стрелкой 4"/>
          <p:cNvCxnSpPr/>
          <p:nvPr/>
        </p:nvCxnSpPr>
        <p:spPr>
          <a:xfrm>
            <a:off x="4357440" y="1999800"/>
            <a:ext cx="78660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68" name="Прямая соединительная линия 6"/>
          <p:cNvSpPr/>
          <p:nvPr/>
        </p:nvSpPr>
        <p:spPr>
          <a:xfrm>
            <a:off x="6143760" y="2071800"/>
            <a:ext cx="0" cy="21420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Прямая со стрелкой 8"/>
          <p:cNvCxnSpPr/>
          <p:nvPr/>
        </p:nvCxnSpPr>
        <p:spPr>
          <a:xfrm>
            <a:off x="2928960" y="4214880"/>
            <a:ext cx="92952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70" name="Прямая соединительная линия 10"/>
          <p:cNvSpPr/>
          <p:nvPr/>
        </p:nvSpPr>
        <p:spPr>
          <a:xfrm>
            <a:off x="4929120" y="4286160"/>
            <a:ext cx="0" cy="14292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i-main-pic" descr="Картинка 7 из 38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5654520"/>
            <a:ext cx="2071800" cy="1203480"/>
          </a:xfrm>
          <a:prstGeom prst="rect">
            <a:avLst/>
          </a:prstGeom>
          <a:ln w="0">
            <a:noFill/>
          </a:ln>
        </p:spPr>
      </p:pic>
      <p:pic>
        <p:nvPicPr>
          <p:cNvPr id="272" name="i-main-pic" descr="Картинка 13 из 1520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6720" y="3429000"/>
            <a:ext cx="2112840" cy="15192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11" descr="http://im8-tub-ru.yandex.net/i?id=26264218-48-72"/>
          <p:cNvPicPr/>
          <p:nvPr/>
        </p:nvPicPr>
        <p:blipFill>
          <a:blip r:embed="rId6"/>
          <a:stretch/>
        </p:blipFill>
        <p:spPr>
          <a:xfrm>
            <a:off x="7174080" y="5643720"/>
            <a:ext cx="1969920" cy="12142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2" descr="http://im6-tub-ru.yandex.net/i?id=359287160-23-72"/>
          <p:cNvPicPr/>
          <p:nvPr/>
        </p:nvPicPr>
        <p:blipFill>
          <a:blip r:embed="rId7"/>
          <a:stretch/>
        </p:blipFill>
        <p:spPr>
          <a:xfrm>
            <a:off x="357120" y="5629320"/>
            <a:ext cx="18986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нагревании до температуры выше 500° в молекулах алканов происходит разрыв связей между атомами углерод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 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10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2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5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1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+C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5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  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10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2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10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+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6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т процесс называется термическим крекингом (от англ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crack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– «колоть, расщеплять»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6"/>
          <p:cNvCxnSpPr/>
          <p:nvPr/>
        </p:nvCxnSpPr>
        <p:spPr>
          <a:xfrm>
            <a:off x="3071880" y="3499920"/>
            <a:ext cx="71496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79" name="Прямая со стрелкой 8"/>
          <p:cNvCxnSpPr/>
          <p:nvPr/>
        </p:nvCxnSpPr>
        <p:spPr>
          <a:xfrm>
            <a:off x="2999880" y="4071960"/>
            <a:ext cx="78660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1" name="i-main-pic" descr="Картинка 8 из 2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2214720"/>
            <a:ext cx="2857320" cy="4214520"/>
          </a:xfrm>
          <a:prstGeom prst="rect">
            <a:avLst/>
          </a:prstGeom>
          <a:ln w="0">
            <a:noFill/>
          </a:ln>
        </p:spPr>
      </p:pic>
      <p:sp>
        <p:nvSpPr>
          <p:cNvPr id="282" name="Нижний колонтитул 4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4" descr="http://nuovamonde.com/wp-content/themes/Vulcan/timthumb.php?src=http://nuovamonde.com/wp-content/uploads/2011/05/oil-fields.jpg&amp;h=280&amp;w=936&amp;zc=1"/>
          <p:cNvPicPr/>
          <p:nvPr/>
        </p:nvPicPr>
        <p:blipFill>
          <a:blip r:embed="rId4"/>
          <a:stretch/>
        </p:blipFill>
        <p:spPr>
          <a:xfrm>
            <a:off x="3357720" y="2214720"/>
            <a:ext cx="55861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увеличении температуры можно достичь такой степени протекания реакции, при которой органические вещества – углеводороды – полностью разлагаются на углерод и водород. Такой процесс называется пиролизо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    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   С+2Н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Нижний колонтитул 6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Прямая со стрелкой 4"/>
          <p:cNvCxnSpPr/>
          <p:nvPr/>
        </p:nvCxnSpPr>
        <p:spPr>
          <a:xfrm>
            <a:off x="4286160" y="3857760"/>
            <a:ext cx="57240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88" name="i-main-pic" descr="Картинка 2 из 1236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5286240"/>
            <a:ext cx="2928960" cy="1357560"/>
          </a:xfrm>
          <a:prstGeom prst="rect">
            <a:avLst/>
          </a:prstGeom>
          <a:ln w="0">
            <a:noFill/>
          </a:ln>
        </p:spPr>
      </p:pic>
      <p:pic>
        <p:nvPicPr>
          <p:cNvPr id="289" name="i-main-pic" descr="Картинка 30 из 16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57920" y="5072040"/>
            <a:ext cx="3117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356760" y="157140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пропускании нагретого алкана над    платиновым или никелевым катализатором может отщепиться водород. Этот процесс называется дегидрировани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8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       C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6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+ 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ru-RU" sz="2600" spc="-1" strike="noStrike">
                <a:solidFill>
                  <a:srgbClr val="b83d68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b83d68"/>
                </a:solidFill>
                <a:latin typeface="Trebuchet MS"/>
              </a:rPr>
              <a:t>6</a:t>
            </a:r>
            <a:r>
              <a:rPr b="0" lang="ru-RU" sz="2600" spc="-1" strike="noStrike">
                <a:solidFill>
                  <a:srgbClr val="b83d68"/>
                </a:solidFill>
                <a:latin typeface="Trebuchet MS"/>
              </a:rPr>
              <a:t>Н</a:t>
            </a:r>
            <a:r>
              <a:rPr b="0" lang="ru-RU" sz="1800" spc="-1" strike="noStrike">
                <a:solidFill>
                  <a:srgbClr val="b83d68"/>
                </a:solidFill>
                <a:latin typeface="Trebuchet MS"/>
              </a:rPr>
              <a:t>14           </a:t>
            </a:r>
            <a:r>
              <a:rPr b="0" lang="ru-RU" sz="2800" spc="-1" strike="noStrike">
                <a:solidFill>
                  <a:srgbClr val="b83d68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b83d68"/>
                </a:solidFill>
                <a:latin typeface="Trebuchet MS"/>
              </a:rPr>
              <a:t>6</a:t>
            </a:r>
            <a:r>
              <a:rPr b="0" lang="ru-RU" sz="2800" spc="-1" strike="noStrike">
                <a:solidFill>
                  <a:srgbClr val="b83d68"/>
                </a:solidFill>
                <a:latin typeface="Trebuchet MS"/>
              </a:rPr>
              <a:t>Н</a:t>
            </a:r>
            <a:r>
              <a:rPr b="0" lang="ru-RU" sz="1800" spc="-1" strike="noStrike">
                <a:solidFill>
                  <a:srgbClr val="b83d68"/>
                </a:solidFill>
                <a:latin typeface="Trebuchet MS"/>
              </a:rPr>
              <a:t>12+</a:t>
            </a:r>
            <a:r>
              <a:rPr b="0" lang="ru-RU" sz="2800" spc="-1" strike="noStrike">
                <a:solidFill>
                  <a:srgbClr val="b83d68"/>
                </a:solidFill>
                <a:latin typeface="Trebuchet MS"/>
              </a:rPr>
              <a:t>Н</a:t>
            </a:r>
            <a:r>
              <a:rPr b="0" lang="ru-RU" sz="1800" spc="-1" strike="noStrike">
                <a:solidFill>
                  <a:srgbClr val="b83d68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Прямая со стрелкой 4"/>
          <p:cNvCxnSpPr/>
          <p:nvPr/>
        </p:nvCxnSpPr>
        <p:spPr>
          <a:xfrm>
            <a:off x="3214440" y="3499920"/>
            <a:ext cx="57204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94" name="Прямая со стрелкой 5"/>
          <p:cNvCxnSpPr/>
          <p:nvPr/>
        </p:nvCxnSpPr>
        <p:spPr>
          <a:xfrm>
            <a:off x="3286080" y="4000680"/>
            <a:ext cx="57240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+Н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O </a:t>
            </a: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    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CO</a:t>
            </a: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+3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ru-RU" sz="3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ак называют взаимодействия алканов, из которых чаще всего используют природный газ с парами воды. При высокой температуре около 1000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уется смесь оксида углерода – угарного газа и водорода. Эту смесь называют синтез- газ. Часто ее не разделяют, а используют для получения разных органических вещест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 стрелкой 4"/>
          <p:cNvCxnSpPr/>
          <p:nvPr/>
        </p:nvCxnSpPr>
        <p:spPr>
          <a:xfrm>
            <a:off x="2428560" y="1928880"/>
            <a:ext cx="50076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99" name="Рисунок 5" descr="http://assets0.tulp.ru/system/data/0000/9fa/03d/c15/78026/main_avatar/%D0%BE%D1%80%D0%B3%D1%81%D0%B8%D0%BD%D1%82%D0%B5%D0%B7.JPG?1308952390"/>
          <p:cNvPicPr/>
          <p:nvPr/>
        </p:nvPicPr>
        <p:blipFill>
          <a:blip r:embed="rId2"/>
          <a:stretch/>
        </p:blipFill>
        <p:spPr>
          <a:xfrm>
            <a:off x="5929200" y="0"/>
            <a:ext cx="292896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какие реакции вступают алканы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ыберите правильные отве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1571760" y="2357280"/>
            <a:ext cx="2286000" cy="11289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5"/>
          <p:cNvSpPr/>
          <p:nvPr/>
        </p:nvSpPr>
        <p:spPr>
          <a:xfrm>
            <a:off x="4857840" y="3786120"/>
            <a:ext cx="2357280" cy="11289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6"/>
          <p:cNvSpPr/>
          <p:nvPr/>
        </p:nvSpPr>
        <p:spPr>
          <a:xfrm>
            <a:off x="1571760" y="3714840"/>
            <a:ext cx="2286000" cy="11286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7"/>
          <p:cNvSpPr/>
          <p:nvPr/>
        </p:nvSpPr>
        <p:spPr>
          <a:xfrm>
            <a:off x="4857840" y="2357280"/>
            <a:ext cx="2286000" cy="11289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ятиугольник 8"/>
          <p:cNvSpPr/>
          <p:nvPr/>
        </p:nvSpPr>
        <p:spPr>
          <a:xfrm>
            <a:off x="1857240" y="2571840"/>
            <a:ext cx="1857600" cy="642960"/>
          </a:xfrm>
          <a:custGeom>
            <a:avLst/>
            <a:gdLst>
              <a:gd name="textAreaLeft" fmla="*/ 0 w 1857600"/>
              <a:gd name="textAreaRight" fmla="*/ 1857960 w 18576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2" y="0"/>
                </a:lnTo>
                <a:lnTo>
                  <a:pt x="21600" y="10800"/>
                </a:lnTo>
                <a:lnTo>
                  <a:pt x="17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иро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иугольник 9"/>
          <p:cNvSpPr/>
          <p:nvPr/>
        </p:nvSpPr>
        <p:spPr>
          <a:xfrm>
            <a:off x="5143680" y="2643120"/>
            <a:ext cx="1785600" cy="64296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ятиугольник 10"/>
          <p:cNvSpPr/>
          <p:nvPr/>
        </p:nvSpPr>
        <p:spPr>
          <a:xfrm>
            <a:off x="1785960" y="4000680"/>
            <a:ext cx="1857240" cy="64260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2" y="0"/>
                </a:lnTo>
                <a:lnTo>
                  <a:pt x="21600" y="10800"/>
                </a:lnTo>
                <a:lnTo>
                  <a:pt x="17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гидр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ятиугольник 11"/>
          <p:cNvSpPr/>
          <p:nvPr/>
        </p:nvSpPr>
        <p:spPr>
          <a:xfrm>
            <a:off x="5143680" y="4000680"/>
            <a:ext cx="1928520" cy="71424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00" y="0"/>
                </a:lnTo>
                <a:lnTo>
                  <a:pt x="21600" y="10800"/>
                </a:lnTo>
                <a:lnTo>
                  <a:pt x="17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2"/>
          <p:cNvSpPr/>
          <p:nvPr/>
        </p:nvSpPr>
        <p:spPr>
          <a:xfrm>
            <a:off x="1500120" y="5214960"/>
            <a:ext cx="2357640" cy="107172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3"/>
          <p:cNvSpPr/>
          <p:nvPr/>
        </p:nvSpPr>
        <p:spPr>
          <a:xfrm>
            <a:off x="4857840" y="5214960"/>
            <a:ext cx="2357280" cy="107172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ятиугольник 14"/>
          <p:cNvSpPr/>
          <p:nvPr/>
        </p:nvSpPr>
        <p:spPr>
          <a:xfrm>
            <a:off x="1785960" y="5429160"/>
            <a:ext cx="1857240" cy="6271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54" y="0"/>
                </a:lnTo>
                <a:lnTo>
                  <a:pt x="21600" y="10800"/>
                </a:lnTo>
                <a:lnTo>
                  <a:pt x="179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ко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ятиугольник 15"/>
          <p:cNvSpPr/>
          <p:nvPr/>
        </p:nvSpPr>
        <p:spPr>
          <a:xfrm>
            <a:off x="5214960" y="5357880"/>
            <a:ext cx="1763640" cy="71424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6" y="0"/>
                </a:lnTo>
                <a:lnTo>
                  <a:pt x="21600" y="10800"/>
                </a:lnTo>
                <a:lnTo>
                  <a:pt x="17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полиме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1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1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3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165240" y="-49320"/>
            <a:ext cx="7540560" cy="151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то из учёных по словам соотечественников сумел оживить «мертвецов»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1500120" y="3286080"/>
            <a:ext cx="2500560" cy="11286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5072040" y="3286080"/>
            <a:ext cx="2500200" cy="11286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6"/>
          <p:cNvSpPr/>
          <p:nvPr/>
        </p:nvSpPr>
        <p:spPr>
          <a:xfrm>
            <a:off x="1500120" y="4786200"/>
            <a:ext cx="2500560" cy="11289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7"/>
          <p:cNvSpPr/>
          <p:nvPr/>
        </p:nvSpPr>
        <p:spPr>
          <a:xfrm>
            <a:off x="5072040" y="4786200"/>
            <a:ext cx="2500200" cy="11289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Табличка 8"/>
          <p:cNvSpPr/>
          <p:nvPr/>
        </p:nvSpPr>
        <p:spPr>
          <a:xfrm>
            <a:off x="1928880" y="3429000"/>
            <a:ext cx="1857240" cy="914400"/>
          </a:xfrm>
          <a:custGeom>
            <a:avLst/>
            <a:gdLst>
              <a:gd name="textAreaLeft" fmla="*/ 107640 w 1857240"/>
              <a:gd name="textAreaRight" fmla="*/ 1749600 w 185724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438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0263" y="21600"/>
                </a:lnTo>
                <a:arcTo wR="3600" hR="3600" stAng="10800000" swAng="5400000"/>
                <a:lnTo>
                  <a:pt x="43863" y="3600"/>
                </a:lnTo>
                <a:arcTo wR="3600" hR="3600" stAng="5400000" swAng="5400000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.Н. Семё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Табличка 9"/>
          <p:cNvSpPr/>
          <p:nvPr/>
        </p:nvSpPr>
        <p:spPr>
          <a:xfrm>
            <a:off x="5500800" y="3429000"/>
            <a:ext cx="1643040" cy="914400"/>
          </a:xfrm>
          <a:custGeom>
            <a:avLst/>
            <a:gdLst>
              <a:gd name="textAreaLeft" fmla="*/ 107640 w 1643040"/>
              <a:gd name="textAreaRight" fmla="*/ 1535400 w 164304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3880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205" y="21600"/>
                </a:lnTo>
                <a:arcTo wR="3600" hR="3600" stAng="10800000" swAng="5400000"/>
                <a:lnTo>
                  <a:pt x="38805" y="3600"/>
                </a:lnTo>
                <a:arcTo wR="3600" hR="3600" stAng="5400000" swAng="5400000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.Н. Зи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Табличка 10"/>
          <p:cNvSpPr/>
          <p:nvPr/>
        </p:nvSpPr>
        <p:spPr>
          <a:xfrm>
            <a:off x="1714680" y="4929120"/>
            <a:ext cx="2000160" cy="914400"/>
          </a:xfrm>
          <a:custGeom>
            <a:avLst/>
            <a:gdLst>
              <a:gd name="textAreaLeft" fmla="*/ 107640 w 2000160"/>
              <a:gd name="textAreaRight" fmla="*/ 1892520 w 20001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4723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3638" y="21600"/>
                </a:lnTo>
                <a:arcTo wR="3600" hR="3600" stAng="10800000" swAng="5400000"/>
                <a:lnTo>
                  <a:pt x="47238" y="3600"/>
                </a:lnTo>
                <a:arcTo wR="3600" hR="3600" stAng="5400000" swAng="5400000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М.И. Коно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Табличка 11"/>
          <p:cNvSpPr/>
          <p:nvPr/>
        </p:nvSpPr>
        <p:spPr>
          <a:xfrm>
            <a:off x="5500800" y="4929120"/>
            <a:ext cx="1857240" cy="914400"/>
          </a:xfrm>
          <a:custGeom>
            <a:avLst/>
            <a:gdLst>
              <a:gd name="textAreaLeft" fmla="*/ 107640 w 1857240"/>
              <a:gd name="textAreaRight" fmla="*/ 1749600 w 185724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438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0263" y="21600"/>
                </a:lnTo>
                <a:arcTo wR="3600" hR="3600" stAng="10800000" swAng="5400000"/>
                <a:lnTo>
                  <a:pt x="43863" y="3600"/>
                </a:lnTo>
                <a:arcTo wR="3600" hR="3600" stAng="5400000" swAng="5400000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А.М. Бутл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4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4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желанию можно выполнить одно из двух заданий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Составить генетическую цепь, используя полученные знания по химическим свойствам (3-4 звена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Какой из галогензамещённых алканов применяли как анестезирующее средство? (используя справочную литературу подготовить сообщени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ЕЛЬ УРОКА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993080" cy="442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овательная: изучение химических свойств алканов, опираясь на их строе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азвивающая: продолжить формирование умения составлять уравнения химических реакций, умений анализировать, сравнивать делать собственные вывод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Воспитательная: воспитание патриотизма на примерах значительных вкладов в химическую науку русских и советских ученых, показать использование алканов и их производных в мирных целях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СПОЛЬЗОВАННЫЕ ИСТОЧНИКИ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00000" y="112536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http://school-collection.edu.ru/catalog/res/76f609e3-5da6-7559-4264-68d3548bb069/view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files.school-collection.edu.ru/dlrstore/8d7caa13-f7f5-c3db-3f7d-a504e7456d96/00119627250504103.ht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http://files.school-collection.edu.ru/dlrstore/5838e73f-fd71-188f-d53c-b3903cc3a965/00119627348768537.ht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http://school-collection.edu.ru/catalog/res/5e8f612a-b762-9f6b-de63-c5dc1d3e64c5/view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http://school-collection.edu.ru/catalog/res/47cbac0d-2c6b-46bc-d57f-4b250cfa0e07/view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htthttp://school-collection.edu.ru/catalog/res/47cbac0d-2c6b-46bc-d57f-4b250cfa0e07/view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p://www.youtube.com/watch?v=CnJnT9tXzaQ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http://www.youtube.com/watch?v=CnJnT9tXzaQ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зучить важнейшие химические свойства алканов и показать их зависимость от особенностей строения предельных углеводородов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овершенствование составления структурных формул гомологов, изомеров, уравнений химических реакц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аскрыть важнейшие области практического применения алкан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            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Гор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поджигании на воздухе алканы горят, превращаясь в двуокись углерода и воду и выделяя большое количество тепл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4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+ 2O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  ––</a:t>
            </a:r>
            <a:r>
              <a:rPr b="0" lang="ru-RU" sz="2600" spc="-1" strike="noStrike" baseline="30000">
                <a:solidFill>
                  <a:srgbClr val="c00000"/>
                </a:solidFill>
                <a:latin typeface="Trebuchet MS"/>
              </a:rPr>
              <a:t>пламя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&gt;  CO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+ 2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O</a:t>
            </a:r>
            <a:br>
              <a:rPr sz="2600"/>
            </a:b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 C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5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12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+ 8O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  ––</a:t>
            </a:r>
            <a:r>
              <a:rPr b="0" lang="ru-RU" sz="2600" spc="-1" strike="noStrike" baseline="30000">
                <a:solidFill>
                  <a:srgbClr val="c00000"/>
                </a:solidFill>
                <a:latin typeface="Trebuchet MS"/>
              </a:rPr>
              <a:t>пламя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&gt;  5CO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+ 6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O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4" descr="http://i0.imgiz.com/data/videoshots/4256/4256197-44.jpg"/>
          <p:cNvPicPr/>
          <p:nvPr/>
        </p:nvPicPr>
        <p:blipFill>
          <a:blip r:embed="rId2"/>
          <a:stretch/>
        </p:blipFill>
        <p:spPr>
          <a:xfrm>
            <a:off x="4786200" y="4857840"/>
            <a:ext cx="3357720" cy="1857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im5-tub-ru.yandex.net/i?id=71310803-51-72&amp;n=21"/>
          <p:cNvPicPr/>
          <p:nvPr/>
        </p:nvPicPr>
        <p:blipFill>
          <a:blip r:embed="rId3"/>
          <a:stretch/>
        </p:blipFill>
        <p:spPr>
          <a:xfrm>
            <a:off x="500040" y="4857840"/>
            <a:ext cx="3071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    </a:t>
            </a:r>
            <a:r>
              <a:rPr b="0" lang="ru-RU" sz="2600" spc="-1" strike="noStrike" u="sng">
                <a:solidFill>
                  <a:srgbClr val="c00000"/>
                </a:solidFill>
                <a:uFillTx/>
                <a:latin typeface="Trebuchet MS"/>
              </a:rPr>
              <a:t>Реакции замещени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- эт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акции алканов, идущих с разрывом   С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rebuchet MS"/>
              </a:rPr>
              <a:t>_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 связ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-main-pic" descr="Картинка 15 из 109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357720"/>
            <a:ext cx="2571840" cy="3146400"/>
          </a:xfrm>
          <a:prstGeom prst="rect">
            <a:avLst/>
          </a:prstGeom>
          <a:ln w="0">
            <a:noFill/>
          </a:ln>
        </p:spPr>
      </p:pic>
      <p:pic>
        <p:nvPicPr>
          <p:cNvPr id="238" name="i-main-pic" descr="Картинка 2 из 10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54520" y="2840040"/>
            <a:ext cx="34941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171360" y="133200"/>
            <a:ext cx="8582040" cy="10922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2876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+ 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    </a:t>
            </a:r>
            <a:r>
              <a:rPr b="0" lang="en-US" sz="2600" spc="-1" strike="noStrike" baseline="30000">
                <a:solidFill>
                  <a:srgbClr val="c00000"/>
                </a:solidFill>
                <a:latin typeface="Trebuchet MS"/>
              </a:rPr>
              <a:t>hv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    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l + HC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rebuchet MS"/>
              </a:rPr>
              <a:t>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Хлорметан, ил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Хлористый мети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 –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аз, легко сжижается и при последующем испарении поглощает большое количество теплоты. Применяется в холодильных установках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8"/>
          <p:cNvCxnSpPr/>
          <p:nvPr/>
        </p:nvCxnSpPr>
        <p:spPr>
          <a:xfrm>
            <a:off x="1785960" y="2356920"/>
            <a:ext cx="71496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43" name="i-main-pic" descr="Картинка 24 из 1535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1571760"/>
            <a:ext cx="18572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6612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Cl + 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en-US" sz="2600" spc="-1" strike="noStrike" baseline="30000">
                <a:solidFill>
                  <a:srgbClr val="c00000"/>
                </a:solidFill>
                <a:latin typeface="Trebuchet MS"/>
              </a:rPr>
              <a:t>hv        </a:t>
            </a:r>
            <a:r>
              <a:rPr b="0" lang="ru-RU" sz="2600" spc="-1" strike="noStrike" baseline="30000">
                <a:solidFill>
                  <a:srgbClr val="c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l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+ HCl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rebuchet MS"/>
              </a:rPr>
              <a:t>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Дихлорметан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или                                             хлористый метилен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rebuchet M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применяется как растворитель, дл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клеиван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ластик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4"/>
          <p:cNvCxnSpPr/>
          <p:nvPr/>
        </p:nvCxnSpPr>
        <p:spPr>
          <a:xfrm>
            <a:off x="2714760" y="1928880"/>
            <a:ext cx="71496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48" name="i-main-pic" descr="Картинка 3 из 524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4714920"/>
            <a:ext cx="3500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109440" y="353880"/>
            <a:ext cx="757080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+ 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en-US" sz="2600" spc="-1" strike="noStrike" baseline="30000">
                <a:solidFill>
                  <a:srgbClr val="c00000"/>
                </a:solidFill>
                <a:latin typeface="Trebuchet MS"/>
              </a:rPr>
              <a:t>hv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       CHCl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+ HC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Трихлорметан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или хлорофор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Н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лороформ, бесцветная летучая жидкость с эфирным запахом и сладким вкусом используетс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производстве фреонового хладагент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качестве растворителя в фармакологической промышленност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производства красителей и пестицид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Прямая со стрелкой 4"/>
          <p:cNvCxnSpPr/>
          <p:nvPr/>
        </p:nvCxnSpPr>
        <p:spPr>
          <a:xfrm>
            <a:off x="3071520" y="1928880"/>
            <a:ext cx="78660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53" name="Picture 8" descr="http://im2-tub-ru.yandex.net/i?id=557102916-25-72&amp;n=21"/>
          <p:cNvPicPr/>
          <p:nvPr/>
        </p:nvPicPr>
        <p:blipFill>
          <a:blip r:embed="rId2"/>
          <a:stretch/>
        </p:blipFill>
        <p:spPr>
          <a:xfrm>
            <a:off x="6929280" y="1571760"/>
            <a:ext cx="1785960" cy="1428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http://im8-tub-ru.yandex.net/i?id=865396706-46-72&amp;n=21"/>
          <p:cNvPicPr/>
          <p:nvPr/>
        </p:nvPicPr>
        <p:blipFill>
          <a:blip r:embed="rId3"/>
          <a:stretch/>
        </p:blipFill>
        <p:spPr>
          <a:xfrm>
            <a:off x="6929280" y="31431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6612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СН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+ 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en-US" sz="2600" spc="-1" strike="noStrike" baseline="30000">
                <a:solidFill>
                  <a:srgbClr val="c00000"/>
                </a:solidFill>
                <a:latin typeface="Trebuchet MS"/>
              </a:rPr>
              <a:t>hv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Cl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+ HC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Тетрахлорметан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четыреххлорист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углерод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применяется как растворитель (жиров, смол, каучука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получения фреонов, в медицин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влялся стандартным наполнителем переносных огнетушителей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для советской бронетехн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 стрелкой 4"/>
          <p:cNvCxnSpPr/>
          <p:nvPr/>
        </p:nvCxnSpPr>
        <p:spPr>
          <a:xfrm>
            <a:off x="2714760" y="1928880"/>
            <a:ext cx="64332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59" name="i-main-pic" descr="Картинка 10 из 638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57920" y="1357200"/>
            <a:ext cx="23320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4:31:21Z</dcterms:created>
  <dc:creator>Admin</dc:creator>
  <dc:description/>
  <dc:language>en-US</dc:language>
  <cp:lastModifiedBy>Учитель</cp:lastModifiedBy>
  <dcterms:modified xsi:type="dcterms:W3CDTF">2013-04-12T10:26:37Z</dcterms:modified>
  <cp:revision>60</cp:revision>
  <dc:subject/>
  <dc:title>Игра «Лабиринт»  по теме «Электролитическая диссоциация» 9 класс </dc:title>
</cp:coreProperties>
</file>