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drumroll.wav" ContentType="audio/x-wav"/>
  <Override PartName="/ppt/media/image33.jpeg" ContentType="image/jpeg"/>
  <Override PartName="/ppt/media/image6.jpeg" ContentType="image/jpeg"/>
  <Override PartName="/ppt/media/image27.jpeg" ContentType="image/jpeg"/>
  <Override PartName="/ppt/media/applause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39.png" ContentType="image/png"/>
  <Override PartName="/ppt/media/image34.jpeg" ContentType="image/jpeg"/>
  <Override PartName="/ppt/media/image7.png" ContentType="image/png"/>
  <Override PartName="/ppt/media/image25.jpeg" ContentType="image/jpeg"/>
  <Override PartName="/ppt/media/image32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10.jpeg" ContentType="image/jpeg"/>
  <Override PartName="/ppt/media/image2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268-7615-4C65-B7CA-94E98AF1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BD9-F749-4467-8389-8CC718E6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7F9-D6BC-45AB-B48E-E1ECB936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722-70D8-4C46-8C9A-0034C8A6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BE8C-6660-482A-BF41-99A7985D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3AF7-BB30-4FE8-98B9-30466BA1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0E8B-4DA9-413B-9679-DC63FF7C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5BFD-C227-4D13-AC67-3FACB437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08E4-F30F-48AB-A348-BB6B6EF1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24F9-B481-4CFB-A601-4F8B19C0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7688-147B-45E4-B156-B2C71D21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4C2-B8C9-4068-8E1D-DF61BD25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A015-3627-44CD-8F36-38BCBA9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20DA-BA4B-41B8-8E9F-4B221D3D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C53B-BE95-4FC5-9921-1B7C4461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7D0B-332E-4C5E-9256-B6A2D64B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21DE-0737-40CD-870F-32A4F27D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5D85-EDEC-42EB-920B-8E3EC3B5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102A-22E6-458E-92C9-76ADE69D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F7AAE-C386-436A-AAF6-F90AE979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1097-4EAC-4159-B0EE-4C108C3B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C0A26-24EB-4E77-B3A5-C8E9D2AE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470-BDA0-4840-8DD2-31ED1E79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5CAF-393E-4273-96A6-F6A88ED9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8173-FC5C-4332-9926-97DE7393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49EB-D30F-4463-A641-2F41931C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5C88-AA4E-49C5-9AD9-874E3536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7A981-6F80-403B-8A99-062798B8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917A1-615B-4FBB-9EA2-A8C68BAF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7D11-6C98-4EF6-A1F3-D6194F68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A5B8-1BD8-4152-90A1-541CF77E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960B7-92C2-42C0-A272-5665F202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32162-A0A4-4033-9178-16D5BA7E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CB0-9E1D-4E1B-B247-78266825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C59FA-4DEE-403C-A5AD-68FE1037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06E83-7D48-4E7E-992C-7631F9D6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FE7B7-1223-43E8-82B3-54188C9B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8B70F-3426-4AA1-9519-0DB6D5AB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9446F-1EEF-474F-9FB0-80CFC3D3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C3CE7-4CB0-4F69-AB84-A69A0C8C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A9BA-4E89-431F-B8D7-B47125DE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081D-2A06-4EF6-9B9A-8CCC45AB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E9686-9F6C-436A-B519-8CB9214E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5BB2-AF65-4969-964F-8D839729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E15-3CE1-4361-A775-74077005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2EEA1-22ED-429A-A3E9-7E162563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E01D4-DB6F-4BDA-82A3-CD064022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659B7-6189-49EF-9E08-21AC4C2B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5CA45-3502-4B5C-A2B9-8638DBBA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6DB60-DAEA-4CF5-9E24-4EF04966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D1738-0AF0-4913-BFC5-D8E4590C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4B4DB-BA42-4807-83EF-A3C04794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AE7C5-14E1-434E-B801-04F61917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ABD1F-AC80-4BD9-8B50-CC5D5DCC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40C19-F1BA-4961-83E4-F23F7E5D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533-6B6E-4945-9461-B2FF053A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E31D0-5173-402E-8890-AA0501C8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D21-598C-46A3-AF47-61BAE375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7E3C-4FFA-4ED7-A2C8-2FE37BEB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6F8-C145-4EE3-A9B1-E4B607F5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Давыдова Н.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FA37-DC1D-42A8-8FE6-77F5CD8FD95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D0E-ADB7-4501-83C5-A11657C33D0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2870-3344-473B-AFC4-5CEDC0D04BD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Давыдова Н.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1D6D-DF92-4877-8FF9-BC50371D645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Давыдова Н.Г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6EA9-D084-489D-B7F2-850D83D9849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dic.academic.ru/pictures/enc_biography/m_22892.jpg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smeni-auto.ru/images/3394_2009062353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www.mascus.com/image/product/large/autolineua/&#1050;&#1040;&#1052;&#1040;&#1047;-&#1040;&#1041;&#1057;-7&#1044;&#1040;,uaonetime_tobkomahir34_1.jpg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news.sarbc.ru/images/s/3/img_s32SG7.jpg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allproducts.com/manufacture100/hengliewuzi/product1.jpg" TargetMode="External"/><Relationship Id="rId3" Type="http://schemas.openxmlformats.org/officeDocument/2006/relationships/image" Target="../media/image33.jpeg"/><Relationship Id="rId4" Type="http://schemas.openxmlformats.org/officeDocument/2006/relationships/hyperlink" Target="http://cdn.cbsi.com.au/story_media/339288574/photos-hp-releases-largest-ever-printer-range_12.jpg" TargetMode="External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applause.wav"/><Relationship Id="rId6" Type="http://schemas.openxmlformats.org/officeDocument/2006/relationships/audio" Target="../media/drumroll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applause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/res/76f609e3-5da6-7559-4264-68d3548bb069/view/" TargetMode="External"/><Relationship Id="rId2" Type="http://schemas.openxmlformats.org/officeDocument/2006/relationships/hyperlink" Target="http://files.school-collection.edu.ru/dlrstore/8d7caa13-f7f5-c3db-3f7d-a504e7456d96/00119627250504103.ht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jakezane.com/images/200804/thumb_img/3218212_thumb_G_1207799683089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img.encyc.yandex.net/illustrations/rges/pictures/3-258-01.jpg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gorenje.ru/i/goods/832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ayukov.com/woodworking/tips/img_chemistry/IMG18052.med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g1.liveinternet.ru/images/attach/c/2/73/864/73864627_ognetushitel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99972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ИМИЧЕСКИЕ СВОЙСТВА И ПРИМЕНЕНИЕ АЛКАНОВ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357280" y="3857400"/>
            <a:ext cx="542952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дготовила учитель химии Нуянзина Елена Валерьев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7" descr="http://latimesblogs.latimes.com/photos/uncategorized/2008/06/30/methane.jpg"/>
          <p:cNvPicPr/>
          <p:nvPr/>
        </p:nvPicPr>
        <p:blipFill>
          <a:blip r:embed="rId1"/>
          <a:stretch/>
        </p:blipFill>
        <p:spPr>
          <a:xfrm>
            <a:off x="714240" y="4572000"/>
            <a:ext cx="2214720" cy="215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http://im0-tub-ru.yandex.net/i?id=149207921-04-72&amp;n=21"/>
          <p:cNvPicPr/>
          <p:nvPr/>
        </p:nvPicPr>
        <p:blipFill>
          <a:blip r:embed="rId2"/>
          <a:stretch/>
        </p:blipFill>
        <p:spPr>
          <a:xfrm>
            <a:off x="6572160" y="4572000"/>
            <a:ext cx="18576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 нагревании алканов до 140°С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 разбавленной (10%-ной) азотно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ислотой под давлением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существляется реакция нитрования –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замещение атома водород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итрогруппой (реакция М.И.Коновалова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 + HO-NO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 = C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-NO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 + 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-main-pic" descr="Картинка 5 из 2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40440" y="-317520"/>
            <a:ext cx="313380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285840" y="1643040"/>
            <a:ext cx="8858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д влиянием катализаторов при нагревании углеводороды нормального строения подвергаются изомеризации - перестройке углеродного скелета с образованием алканов разветвленного строения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-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-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-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 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en-US" sz="2600" spc="-1" strike="noStrike" baseline="30000">
                <a:solidFill>
                  <a:srgbClr val="c00000"/>
                </a:solidFill>
                <a:latin typeface="Trebuchet MS"/>
              </a:rPr>
              <a:t>AlCl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-CH-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   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                                                      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-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тан                          2-метил пропа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Нижний колонтитул 1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 стрелкой 4"/>
          <p:cNvCxnSpPr/>
          <p:nvPr/>
        </p:nvCxnSpPr>
        <p:spPr>
          <a:xfrm>
            <a:off x="4357440" y="1999800"/>
            <a:ext cx="78660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68" name="Прямая соединительная линия 6"/>
          <p:cNvSpPr/>
          <p:nvPr/>
        </p:nvSpPr>
        <p:spPr>
          <a:xfrm>
            <a:off x="6143760" y="2071800"/>
            <a:ext cx="0" cy="21420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Прямая со стрелкой 8"/>
          <p:cNvCxnSpPr/>
          <p:nvPr/>
        </p:nvCxnSpPr>
        <p:spPr>
          <a:xfrm>
            <a:off x="2928960" y="4214880"/>
            <a:ext cx="92952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70" name="Прямая соединительная линия 10"/>
          <p:cNvSpPr/>
          <p:nvPr/>
        </p:nvSpPr>
        <p:spPr>
          <a:xfrm>
            <a:off x="4929120" y="4286160"/>
            <a:ext cx="0" cy="14292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i-main-pic" descr="Картинка 7 из 38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5654520"/>
            <a:ext cx="2071800" cy="1203480"/>
          </a:xfrm>
          <a:prstGeom prst="rect">
            <a:avLst/>
          </a:prstGeom>
          <a:ln w="0">
            <a:noFill/>
          </a:ln>
        </p:spPr>
      </p:pic>
      <p:pic>
        <p:nvPicPr>
          <p:cNvPr id="272" name="i-main-pic" descr="Картинка 13 из 1520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6720" y="3429000"/>
            <a:ext cx="2112840" cy="15192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11" descr="http://im8-tub-ru.yandex.net/i?id=26264218-48-72"/>
          <p:cNvPicPr/>
          <p:nvPr/>
        </p:nvPicPr>
        <p:blipFill>
          <a:blip r:embed="rId6"/>
          <a:stretch/>
        </p:blipFill>
        <p:spPr>
          <a:xfrm>
            <a:off x="7174080" y="5643720"/>
            <a:ext cx="1969920" cy="12142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2" descr="http://im6-tub-ru.yandex.net/i?id=359287160-23-72"/>
          <p:cNvPicPr/>
          <p:nvPr/>
        </p:nvPicPr>
        <p:blipFill>
          <a:blip r:embed="rId7"/>
          <a:stretch/>
        </p:blipFill>
        <p:spPr>
          <a:xfrm>
            <a:off x="357120" y="5629320"/>
            <a:ext cx="18986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нагревании до температуры выше 500° в молекулах алканов происходит разрыв связей между атомами углерод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 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10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2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5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1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+C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5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  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10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2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10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+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6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Этот процесс называется термическим крекингом (от англ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crack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– «колоть, расщеплять»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6"/>
          <p:cNvCxnSpPr/>
          <p:nvPr/>
        </p:nvCxnSpPr>
        <p:spPr>
          <a:xfrm>
            <a:off x="3071880" y="3499920"/>
            <a:ext cx="71496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79" name="Прямая со стрелкой 8"/>
          <p:cNvCxnSpPr/>
          <p:nvPr/>
        </p:nvCxnSpPr>
        <p:spPr>
          <a:xfrm>
            <a:off x="2999880" y="4071960"/>
            <a:ext cx="78660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1" name="i-main-pic" descr="Картинка 8 из 2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2214720"/>
            <a:ext cx="2857320" cy="4214520"/>
          </a:xfrm>
          <a:prstGeom prst="rect">
            <a:avLst/>
          </a:prstGeom>
          <a:ln w="0">
            <a:noFill/>
          </a:ln>
        </p:spPr>
      </p:pic>
      <p:sp>
        <p:nvSpPr>
          <p:cNvPr id="282" name="Нижний колонтитул 4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4" descr="http://nuovamonde.com/wp-content/themes/Vulcan/timthumb.php?src=http://nuovamonde.com/wp-content/uploads/2011/05/oil-fields.jpg&amp;h=280&amp;w=936&amp;zc=1"/>
          <p:cNvPicPr/>
          <p:nvPr/>
        </p:nvPicPr>
        <p:blipFill>
          <a:blip r:embed="rId4"/>
          <a:stretch/>
        </p:blipFill>
        <p:spPr>
          <a:xfrm>
            <a:off x="3357720" y="2214720"/>
            <a:ext cx="558612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увеличении температуры можно достичь такой степени протекания реакции, при которой органические вещества – углеводороды – полностью разлагаются на углерод и водород. Такой процесс называется пиролизо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    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   С+2Н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Нижний колонтитул 6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Прямая со стрелкой 4"/>
          <p:cNvCxnSpPr/>
          <p:nvPr/>
        </p:nvCxnSpPr>
        <p:spPr>
          <a:xfrm>
            <a:off x="4286160" y="3857760"/>
            <a:ext cx="57240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88" name="i-main-pic" descr="Картинка 2 из 1236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5286240"/>
            <a:ext cx="2928960" cy="1357560"/>
          </a:xfrm>
          <a:prstGeom prst="rect">
            <a:avLst/>
          </a:prstGeom>
          <a:ln w="0">
            <a:noFill/>
          </a:ln>
        </p:spPr>
      </p:pic>
      <p:pic>
        <p:nvPicPr>
          <p:cNvPr id="289" name="i-main-pic" descr="Картинка 30 из 16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57920" y="5072040"/>
            <a:ext cx="3117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356760" y="157140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пропускании нагретого алкана над    платиновым или никелевым катализатором может отщепиться водород. Этот процесс называется дегидрировани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8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       C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6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+ 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ru-RU" sz="2600" spc="-1" strike="noStrike">
                <a:solidFill>
                  <a:srgbClr val="b83d68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b83d68"/>
                </a:solidFill>
                <a:latin typeface="Trebuchet MS"/>
              </a:rPr>
              <a:t>6</a:t>
            </a:r>
            <a:r>
              <a:rPr b="0" lang="ru-RU" sz="2600" spc="-1" strike="noStrike">
                <a:solidFill>
                  <a:srgbClr val="b83d68"/>
                </a:solidFill>
                <a:latin typeface="Trebuchet MS"/>
              </a:rPr>
              <a:t>Н</a:t>
            </a:r>
            <a:r>
              <a:rPr b="0" lang="ru-RU" sz="1800" spc="-1" strike="noStrike">
                <a:solidFill>
                  <a:srgbClr val="b83d68"/>
                </a:solidFill>
                <a:latin typeface="Trebuchet MS"/>
              </a:rPr>
              <a:t>14           </a:t>
            </a:r>
            <a:r>
              <a:rPr b="0" lang="ru-RU" sz="2800" spc="-1" strike="noStrike">
                <a:solidFill>
                  <a:srgbClr val="b83d68"/>
                </a:solidFill>
                <a:latin typeface="Trebuchet MS"/>
              </a:rPr>
              <a:t>С</a:t>
            </a:r>
            <a:r>
              <a:rPr b="0" lang="ru-RU" sz="1800" spc="-1" strike="noStrike">
                <a:solidFill>
                  <a:srgbClr val="b83d68"/>
                </a:solidFill>
                <a:latin typeface="Trebuchet MS"/>
              </a:rPr>
              <a:t>6</a:t>
            </a:r>
            <a:r>
              <a:rPr b="0" lang="ru-RU" sz="2800" spc="-1" strike="noStrike">
                <a:solidFill>
                  <a:srgbClr val="b83d68"/>
                </a:solidFill>
                <a:latin typeface="Trebuchet MS"/>
              </a:rPr>
              <a:t>Н</a:t>
            </a:r>
            <a:r>
              <a:rPr b="0" lang="ru-RU" sz="1800" spc="-1" strike="noStrike">
                <a:solidFill>
                  <a:srgbClr val="b83d68"/>
                </a:solidFill>
                <a:latin typeface="Trebuchet MS"/>
              </a:rPr>
              <a:t>12+</a:t>
            </a:r>
            <a:r>
              <a:rPr b="0" lang="ru-RU" sz="2800" spc="-1" strike="noStrike">
                <a:solidFill>
                  <a:srgbClr val="b83d68"/>
                </a:solidFill>
                <a:latin typeface="Trebuchet MS"/>
              </a:rPr>
              <a:t>Н</a:t>
            </a:r>
            <a:r>
              <a:rPr b="0" lang="ru-RU" sz="1800" spc="-1" strike="noStrike">
                <a:solidFill>
                  <a:srgbClr val="b83d68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Прямая со стрелкой 4"/>
          <p:cNvCxnSpPr/>
          <p:nvPr/>
        </p:nvCxnSpPr>
        <p:spPr>
          <a:xfrm>
            <a:off x="3214440" y="3499920"/>
            <a:ext cx="57204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94" name="Прямая со стрелкой 5"/>
          <p:cNvCxnSpPr/>
          <p:nvPr/>
        </p:nvCxnSpPr>
        <p:spPr>
          <a:xfrm>
            <a:off x="3286080" y="4000680"/>
            <a:ext cx="57240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+Н</a:t>
            </a:r>
            <a:r>
              <a:rPr b="0" lang="en-US" sz="3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O </a:t>
            </a: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    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CO</a:t>
            </a:r>
            <a:r>
              <a:rPr b="0" lang="ru-RU" sz="3600" spc="-1" strike="noStrike">
                <a:solidFill>
                  <a:srgbClr val="c00000"/>
                </a:solidFill>
                <a:latin typeface="Trebuchet MS"/>
              </a:rPr>
              <a:t>+3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ru-RU" sz="3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Так называют взаимодействия алканов, из которых чаще всего используют природный газ с парами воды. При высокой температуре около 1000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бразуется смесь оксида углерода – угарного газа и водорода. Эту смесь называют синтез- газ. Часто ее не разделяют, а используют для получения разных органических веществ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 стрелкой 4"/>
          <p:cNvCxnSpPr/>
          <p:nvPr/>
        </p:nvCxnSpPr>
        <p:spPr>
          <a:xfrm>
            <a:off x="2428560" y="1928880"/>
            <a:ext cx="50076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99" name="Рисунок 5" descr="http://assets0.tulp.ru/system/data/0000/9fa/03d/c15/78026/main_avatar/%D0%BE%D1%80%D0%B3%D1%81%D0%B8%D0%BD%D1%82%D0%B5%D0%B7.JPG?1308952390"/>
          <p:cNvPicPr/>
          <p:nvPr/>
        </p:nvPicPr>
        <p:blipFill>
          <a:blip r:embed="rId2"/>
          <a:stretch/>
        </p:blipFill>
        <p:spPr>
          <a:xfrm>
            <a:off x="5929200" y="0"/>
            <a:ext cx="292896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какие реакции вступают алканы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ыберите правильные отве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4"/>
          <p:cNvSpPr/>
          <p:nvPr/>
        </p:nvSpPr>
        <p:spPr>
          <a:xfrm>
            <a:off x="1571760" y="2357280"/>
            <a:ext cx="2286000" cy="11289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5"/>
          <p:cNvSpPr/>
          <p:nvPr/>
        </p:nvSpPr>
        <p:spPr>
          <a:xfrm>
            <a:off x="4857840" y="3786120"/>
            <a:ext cx="2357280" cy="11289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6"/>
          <p:cNvSpPr/>
          <p:nvPr/>
        </p:nvSpPr>
        <p:spPr>
          <a:xfrm>
            <a:off x="1571760" y="3714840"/>
            <a:ext cx="2286000" cy="11286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7"/>
          <p:cNvSpPr/>
          <p:nvPr/>
        </p:nvSpPr>
        <p:spPr>
          <a:xfrm>
            <a:off x="4857840" y="2357280"/>
            <a:ext cx="2286000" cy="11289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ятиугольник 8"/>
          <p:cNvSpPr/>
          <p:nvPr/>
        </p:nvSpPr>
        <p:spPr>
          <a:xfrm>
            <a:off x="1857240" y="2571840"/>
            <a:ext cx="1857600" cy="642960"/>
          </a:xfrm>
          <a:custGeom>
            <a:avLst/>
            <a:gdLst>
              <a:gd name="textAreaLeft" fmla="*/ 0 w 1857600"/>
              <a:gd name="textAreaRight" fmla="*/ 1857960 w 18576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2" y="0"/>
                </a:lnTo>
                <a:lnTo>
                  <a:pt x="21600" y="10800"/>
                </a:lnTo>
                <a:lnTo>
                  <a:pt x="17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иро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иугольник 9"/>
          <p:cNvSpPr/>
          <p:nvPr/>
        </p:nvSpPr>
        <p:spPr>
          <a:xfrm>
            <a:off x="5143680" y="2643120"/>
            <a:ext cx="1785600" cy="64296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ятиугольник 10"/>
          <p:cNvSpPr/>
          <p:nvPr/>
        </p:nvSpPr>
        <p:spPr>
          <a:xfrm>
            <a:off x="1785960" y="4000680"/>
            <a:ext cx="1857240" cy="64260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2" y="0"/>
                </a:lnTo>
                <a:lnTo>
                  <a:pt x="21600" y="10800"/>
                </a:lnTo>
                <a:lnTo>
                  <a:pt x="17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гидр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ятиугольник 11"/>
          <p:cNvSpPr/>
          <p:nvPr/>
        </p:nvSpPr>
        <p:spPr>
          <a:xfrm>
            <a:off x="5143680" y="4000680"/>
            <a:ext cx="1928520" cy="71424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00" y="0"/>
                </a:lnTo>
                <a:lnTo>
                  <a:pt x="21600" y="10800"/>
                </a:lnTo>
                <a:lnTo>
                  <a:pt x="17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2"/>
          <p:cNvSpPr/>
          <p:nvPr/>
        </p:nvSpPr>
        <p:spPr>
          <a:xfrm>
            <a:off x="1500120" y="5214960"/>
            <a:ext cx="2357640" cy="107172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3"/>
          <p:cNvSpPr/>
          <p:nvPr/>
        </p:nvSpPr>
        <p:spPr>
          <a:xfrm>
            <a:off x="4857840" y="5214960"/>
            <a:ext cx="2357280" cy="107172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ятиугольник 14"/>
          <p:cNvSpPr/>
          <p:nvPr/>
        </p:nvSpPr>
        <p:spPr>
          <a:xfrm>
            <a:off x="1785960" y="5429160"/>
            <a:ext cx="1857240" cy="6271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54" y="0"/>
                </a:lnTo>
                <a:lnTo>
                  <a:pt x="21600" y="10800"/>
                </a:lnTo>
                <a:lnTo>
                  <a:pt x="179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ко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ятиугольник 15"/>
          <p:cNvSpPr/>
          <p:nvPr/>
        </p:nvSpPr>
        <p:spPr>
          <a:xfrm>
            <a:off x="5214960" y="5357880"/>
            <a:ext cx="1763640" cy="71424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6" y="0"/>
                </a:lnTo>
                <a:lnTo>
                  <a:pt x="21600" y="10800"/>
                </a:lnTo>
                <a:lnTo>
                  <a:pt x="17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олиме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3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165240" y="-49320"/>
            <a:ext cx="7540560" cy="151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то из учёных по словам соотечественников сумел оживить «мертвецов»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1500120" y="3286080"/>
            <a:ext cx="2500560" cy="11286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5"/>
          <p:cNvSpPr/>
          <p:nvPr/>
        </p:nvSpPr>
        <p:spPr>
          <a:xfrm>
            <a:off x="5072040" y="3286080"/>
            <a:ext cx="2500200" cy="112860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6"/>
          <p:cNvSpPr/>
          <p:nvPr/>
        </p:nvSpPr>
        <p:spPr>
          <a:xfrm>
            <a:off x="1500120" y="4786200"/>
            <a:ext cx="2500560" cy="11289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7"/>
          <p:cNvSpPr/>
          <p:nvPr/>
        </p:nvSpPr>
        <p:spPr>
          <a:xfrm>
            <a:off x="5072040" y="4786200"/>
            <a:ext cx="2500200" cy="1128960"/>
          </a:xfrm>
          <a:prstGeom prst="rect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е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Табличка 8"/>
          <p:cNvSpPr/>
          <p:nvPr/>
        </p:nvSpPr>
        <p:spPr>
          <a:xfrm>
            <a:off x="1928880" y="3429000"/>
            <a:ext cx="1857240" cy="914400"/>
          </a:xfrm>
          <a:custGeom>
            <a:avLst/>
            <a:gdLst>
              <a:gd name="textAreaLeft" fmla="*/ 107640 w 1857240"/>
              <a:gd name="textAreaRight" fmla="*/ 1749600 w 185724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438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0263" y="21600"/>
                </a:lnTo>
                <a:arcTo wR="3600" hR="3600" stAng="10800000" swAng="5400000"/>
                <a:lnTo>
                  <a:pt x="43863" y="3600"/>
                </a:lnTo>
                <a:arcTo wR="3600" hR="3600" stAng="5400000" swAng="5400000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.Н. Семё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Табличка 9"/>
          <p:cNvSpPr/>
          <p:nvPr/>
        </p:nvSpPr>
        <p:spPr>
          <a:xfrm>
            <a:off x="5500800" y="3429000"/>
            <a:ext cx="1643040" cy="914400"/>
          </a:xfrm>
          <a:custGeom>
            <a:avLst/>
            <a:gdLst>
              <a:gd name="textAreaLeft" fmla="*/ 107640 w 1643040"/>
              <a:gd name="textAreaRight" fmla="*/ 1535400 w 164304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3880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5205" y="21600"/>
                </a:lnTo>
                <a:arcTo wR="3600" hR="3600" stAng="10800000" swAng="5400000"/>
                <a:lnTo>
                  <a:pt x="38805" y="3600"/>
                </a:lnTo>
                <a:arcTo wR="3600" hR="3600" stAng="5400000" swAng="5400000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.Н. Зи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Табличка 10"/>
          <p:cNvSpPr/>
          <p:nvPr/>
        </p:nvSpPr>
        <p:spPr>
          <a:xfrm>
            <a:off x="1714680" y="4929120"/>
            <a:ext cx="2000160" cy="914400"/>
          </a:xfrm>
          <a:custGeom>
            <a:avLst/>
            <a:gdLst>
              <a:gd name="textAreaLeft" fmla="*/ 107640 w 2000160"/>
              <a:gd name="textAreaRight" fmla="*/ 1892520 w 20001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4723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3638" y="21600"/>
                </a:lnTo>
                <a:arcTo wR="3600" hR="3600" stAng="10800000" swAng="5400000"/>
                <a:lnTo>
                  <a:pt x="47238" y="3600"/>
                </a:lnTo>
                <a:arcTo wR="3600" hR="3600" stAng="5400000" swAng="5400000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М.И. Коно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Табличка 11"/>
          <p:cNvSpPr/>
          <p:nvPr/>
        </p:nvSpPr>
        <p:spPr>
          <a:xfrm>
            <a:off x="5500800" y="4929120"/>
            <a:ext cx="1857240" cy="914400"/>
          </a:xfrm>
          <a:custGeom>
            <a:avLst/>
            <a:gdLst>
              <a:gd name="textAreaLeft" fmla="*/ 107640 w 1857240"/>
              <a:gd name="textAreaRight" fmla="*/ 1749600 w 185724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4386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0263" y="21600"/>
                </a:lnTo>
                <a:arcTo wR="3600" hR="3600" stAng="10800000" swAng="5400000"/>
                <a:lnTo>
                  <a:pt x="43863" y="3600"/>
                </a:lnTo>
                <a:arcTo wR="3600" hR="3600" stAng="5400000" swAng="5400000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А.М. Бутл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4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4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5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желанию можно выполнить одно из двух заданий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Составить генетическую цепь, используя полученные знания по химическим свойствам (3-4 звена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 Какой из галогензамещённых алканов применяли как анестезирующее средство? (используя справочную литературу подготовить сообщение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ЕЛЬ УРОКА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993080" cy="442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овательная: изучение химических свойств алканов, опираясь на их строени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азвивающая: продолжить формирование умения составлять уравнения химических реакций, умений анализировать, сравнивать делать собственные вывод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Воспитательная: воспитание патриотизма на примерах значительных вкладов в химическую науку русских и советских ученых, показать использование алканов и их производных в мирных целях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СПОЛЬЗОВАННЫЕ ИСТОЧНИКИ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00000" y="112536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http://school-collection.edu.ru/catalog/res/76f609e3-5da6-7559-4264-68d3548bb069/view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files.school-collection.edu.ru/dlrstore/8d7caa13-f7f5-c3db-3f7d-a504e7456d96/00119627250504103.ht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http://files.school-collection.edu.ru/dlrstore/5838e73f-fd71-188f-d53c-b3903cc3a965/00119627348768537.ht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http://school-collection.edu.ru/catalog/res/5e8f612a-b762-9f6b-de63-c5dc1d3e64c5/view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http://school-collection.edu.ru/catalog/res/47cbac0d-2c6b-46bc-d57f-4b250cfa0e07/view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htthttp://school-collection.edu.ru/catalog/res/47cbac0d-2c6b-46bc-d57f-4b250cfa0e07/view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p://www.youtube.com/watch?v=CnJnT9tXzaQ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 algn="r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http://www.youtube.com/watch?v=CnJnT9tXzaQ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зучить важнейшие химические свойства алканов и показать их зависимость от особенностей строения предельных углеводородов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овершенствование составления структурных формул гомологов, изомеров, уравнений химических реакци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Раскрыть важнейшие области практического применения алкан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            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Гор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 поджигании на воздухе алканы горят, превращаясь в двуокись углерода и воду и выделяя большое количество тепла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4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+ 2O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  ––</a:t>
            </a:r>
            <a:r>
              <a:rPr b="0" lang="ru-RU" sz="2600" spc="-1" strike="noStrike" baseline="30000">
                <a:solidFill>
                  <a:srgbClr val="c00000"/>
                </a:solidFill>
                <a:latin typeface="Trebuchet MS"/>
              </a:rPr>
              <a:t>пламя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&gt;  CO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+ 2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O</a:t>
            </a:r>
            <a:br>
              <a:rPr sz="2600"/>
            </a:b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 C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5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12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+ 8O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  ––</a:t>
            </a:r>
            <a:r>
              <a:rPr b="0" lang="ru-RU" sz="2600" spc="-1" strike="noStrike" baseline="30000">
                <a:solidFill>
                  <a:srgbClr val="c00000"/>
                </a:solidFill>
                <a:latin typeface="Trebuchet MS"/>
              </a:rPr>
              <a:t>пламя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&gt;  5CO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+ 6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O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4" descr="http://i0.imgiz.com/data/videoshots/4256/4256197-44.jpg"/>
          <p:cNvPicPr/>
          <p:nvPr/>
        </p:nvPicPr>
        <p:blipFill>
          <a:blip r:embed="rId2"/>
          <a:stretch/>
        </p:blipFill>
        <p:spPr>
          <a:xfrm>
            <a:off x="4786200" y="4857840"/>
            <a:ext cx="3357720" cy="1857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http://im5-tub-ru.yandex.net/i?id=71310803-51-72&amp;n=21"/>
          <p:cNvPicPr/>
          <p:nvPr/>
        </p:nvPicPr>
        <p:blipFill>
          <a:blip r:embed="rId3"/>
          <a:stretch/>
        </p:blipFill>
        <p:spPr>
          <a:xfrm>
            <a:off x="500040" y="4857840"/>
            <a:ext cx="3071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    </a:t>
            </a:r>
            <a:r>
              <a:rPr b="0" lang="ru-RU" sz="2600" spc="-1" strike="noStrike" u="sng">
                <a:solidFill>
                  <a:srgbClr val="c00000"/>
                </a:solidFill>
                <a:uFillTx/>
                <a:latin typeface="Trebuchet MS"/>
              </a:rPr>
              <a:t>Реакции замещени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- эт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еакции алканов, идущих с разрывом   С</a:t>
            </a:r>
            <a:r>
              <a:rPr b="0" lang="ru-RU" sz="2600" spc="-1" strike="noStrike" baseline="30000">
                <a:solidFill>
                  <a:srgbClr val="000000"/>
                </a:solidFill>
                <a:latin typeface="Trebuchet MS"/>
              </a:rPr>
              <a:t>_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 связ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i-main-pic" descr="Картинка 15 из 109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3357720"/>
            <a:ext cx="2571840" cy="3146400"/>
          </a:xfrm>
          <a:prstGeom prst="rect">
            <a:avLst/>
          </a:prstGeom>
          <a:ln w="0">
            <a:noFill/>
          </a:ln>
        </p:spPr>
      </p:pic>
      <p:pic>
        <p:nvPicPr>
          <p:cNvPr id="238" name="i-main-pic" descr="Картинка 2 из 10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54520" y="2840040"/>
            <a:ext cx="34941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171360" y="133200"/>
            <a:ext cx="8582040" cy="10922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2876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+ 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    </a:t>
            </a:r>
            <a:r>
              <a:rPr b="0" lang="en-US" sz="2600" spc="-1" strike="noStrike" baseline="30000">
                <a:solidFill>
                  <a:srgbClr val="c00000"/>
                </a:solidFill>
                <a:latin typeface="Trebuchet MS"/>
              </a:rPr>
              <a:t>hv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    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l + HC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rebuchet MS"/>
              </a:rPr>
              <a:t>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Хлорметан, ил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Хлористый мети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 –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аз, легко сжижается и при последующем испарении поглощает большое количество теплоты. Применяется в холодильных установках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Прямая со стрелкой 8"/>
          <p:cNvCxnSpPr/>
          <p:nvPr/>
        </p:nvCxnSpPr>
        <p:spPr>
          <a:xfrm>
            <a:off x="1785960" y="2356920"/>
            <a:ext cx="714960" cy="252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43" name="i-main-pic" descr="Картинка 24 из 1535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1571760"/>
            <a:ext cx="18572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6612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Cl + 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en-US" sz="2600" spc="-1" strike="noStrike" baseline="30000">
                <a:solidFill>
                  <a:srgbClr val="c00000"/>
                </a:solidFill>
                <a:latin typeface="Trebuchet MS"/>
              </a:rPr>
              <a:t>hv        </a:t>
            </a:r>
            <a:r>
              <a:rPr b="0" lang="ru-RU" sz="2600" spc="-1" strike="noStrike" baseline="30000">
                <a:solidFill>
                  <a:srgbClr val="c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H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l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+ HCl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ff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Trebuchet MS"/>
              </a:rPr>
              <a:t>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Дихлорметан,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или                                             хлористый метилен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rebuchet MS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применяется как растворитель, дл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клеивания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ластик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4"/>
          <p:cNvCxnSpPr/>
          <p:nvPr/>
        </p:nvCxnSpPr>
        <p:spPr>
          <a:xfrm>
            <a:off x="2714760" y="1928880"/>
            <a:ext cx="71496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48" name="i-main-pic" descr="Картинка 3 из 524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4714920"/>
            <a:ext cx="3500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109440" y="353880"/>
            <a:ext cx="757080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СН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+ 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en-US" sz="2600" spc="-1" strike="noStrike" baseline="30000">
                <a:solidFill>
                  <a:srgbClr val="c00000"/>
                </a:solidFill>
                <a:latin typeface="Trebuchet MS"/>
              </a:rPr>
              <a:t>hv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       CHCl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+ HC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Трихлорметан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          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или хлорофор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Н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лороформ, бесцветная летучая жидкость с эфирным запахом и сладким вкусом используетс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 производстве фреонового хладагента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качестве растворителя в фармакологической промышленност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производства красителей и пестицид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Прямая со стрелкой 4"/>
          <p:cNvCxnSpPr/>
          <p:nvPr/>
        </p:nvCxnSpPr>
        <p:spPr>
          <a:xfrm>
            <a:off x="3071520" y="1928880"/>
            <a:ext cx="78660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53" name="Picture 8" descr="http://im2-tub-ru.yandex.net/i?id=557102916-25-72&amp;n=21"/>
          <p:cNvPicPr/>
          <p:nvPr/>
        </p:nvPicPr>
        <p:blipFill>
          <a:blip r:embed="rId2"/>
          <a:stretch/>
        </p:blipFill>
        <p:spPr>
          <a:xfrm>
            <a:off x="6929280" y="1571760"/>
            <a:ext cx="1785960" cy="1428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http://im8-tub-ru.yandex.net/i?id=865396706-46-72&amp;n=21"/>
          <p:cNvPicPr/>
          <p:nvPr/>
        </p:nvPicPr>
        <p:blipFill>
          <a:blip r:embed="rId3"/>
          <a:stretch/>
        </p:blipFill>
        <p:spPr>
          <a:xfrm>
            <a:off x="6929280" y="31431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6612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СН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3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+ Cl</a:t>
            </a:r>
            <a:r>
              <a:rPr b="0" lang="ru-RU" sz="2600" spc="-1" strike="noStrike" baseline="-25000">
                <a:solidFill>
                  <a:srgbClr val="c00000"/>
                </a:solidFill>
                <a:latin typeface="Trebuchet MS"/>
              </a:rPr>
              <a:t>2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0" lang="en-US" sz="2600" spc="-1" strike="noStrike" baseline="30000">
                <a:solidFill>
                  <a:srgbClr val="c00000"/>
                </a:solidFill>
                <a:latin typeface="Trebuchet MS"/>
              </a:rPr>
              <a:t>hv      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CCl</a:t>
            </a:r>
            <a:r>
              <a:rPr b="0" lang="en-US" sz="2600" spc="-1" strike="noStrike" baseline="-25000">
                <a:solidFill>
                  <a:srgbClr val="c00000"/>
                </a:solidFill>
                <a:latin typeface="Trebuchet MS"/>
              </a:rPr>
              <a:t>4</a:t>
            </a:r>
            <a:r>
              <a:rPr b="0" lang="en-US" sz="2600" spc="-1" strike="noStrike">
                <a:solidFill>
                  <a:srgbClr val="c00000"/>
                </a:solidFill>
                <a:latin typeface="Trebuchet MS"/>
              </a:rPr>
              <a:t> + HC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Тетрахлорметан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4d1d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четыреххлористы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углерод</a:t>
            </a:r>
            <a:r>
              <a:rPr b="0" lang="ru-RU" sz="2400" spc="-1" strike="noStrike">
                <a:solidFill>
                  <a:srgbClr val="ff000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rebuchet MS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применяется как растворитель (жиров, смол, каучука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получения фреонов, в медицине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влялся стандартным наполнителем переносных огнетушителей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для советской бронетехни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Нижний колонтитул 5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4"/>
          <p:cNvCxnSpPr/>
          <p:nvPr/>
        </p:nvCxnSpPr>
        <p:spPr>
          <a:xfrm>
            <a:off x="2714760" y="1928880"/>
            <a:ext cx="64332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259" name="i-main-pic" descr="Картинка 10 из 638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57920" y="1357200"/>
            <a:ext cx="23320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4:31:21Z</dcterms:created>
  <dc:creator>Admin</dc:creator>
  <dc:description/>
  <dc:language>en-US</dc:language>
  <cp:lastModifiedBy>Учитель</cp:lastModifiedBy>
  <dcterms:modified xsi:type="dcterms:W3CDTF">2013-04-12T10:26:37Z</dcterms:modified>
  <cp:revision>60</cp:revision>
  <dc:subject/>
  <dc:title>Игра «Лабиринт»  по теме «Электролитическая диссоциация» 9 класс </dc:title>
</cp:coreProperties>
</file>