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00A6-9900-4B0C-A9DE-BB52D763DD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6527C-F124-4D11-A3D6-68B1176E266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4B11F-ACC4-4A0A-A577-66B4861914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246-82B0-4A48-BD0F-EFBCC82E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BA3-F54A-4BDE-9D11-8F80F508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13C-7D9C-4DB1-A11D-46BCCDA2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7C6-1D18-4457-B1D6-435C3085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841-3C30-4498-B208-55A9631D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44E-23FB-4680-8368-703C9962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C45-4736-4915-AB04-F8CD0670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7AE-6E4A-46DE-8915-CF74018F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B92-1FF9-4A2A-BB19-A38C6088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CC3-1C57-42D6-BDA4-75B47AF7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6F6-8544-4474-9D9A-24ADFF6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591-86ED-4FF3-8D4A-98C6A24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1FF0C7-1FA2-4333-8EFC-44930677E9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2611440" y="708120"/>
            <a:ext cx="6072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КОУ «Большаков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 rot="304200">
            <a:off x="825840" y="4565520"/>
            <a:ext cx="5929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Информированность и выбор професси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682720" y="6923160"/>
            <a:ext cx="2000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3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1039680" y="922320"/>
            <a:ext cx="8143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составляющих успешного выбора профессии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ирован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754360" y="2851200"/>
            <a:ext cx="4714920" cy="77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ужно знать при выборе проф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825480" y="4280040"/>
            <a:ext cx="1857240" cy="77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рофесс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3040200" y="4208400"/>
            <a:ext cx="1785960" cy="111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выбора проф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5111640" y="4208400"/>
            <a:ext cx="1785960" cy="77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7112160" y="4137120"/>
            <a:ext cx="2143080" cy="111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образовательных усл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" name="Прямая со стрелкой 14"/>
          <p:cNvCxnSpPr/>
          <p:nvPr/>
        </p:nvCxnSpPr>
        <p:spPr>
          <a:xfrm flipH="1">
            <a:off x="2039040" y="3637080"/>
            <a:ext cx="1143720" cy="6433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9" name="Прямая со стрелкой 21"/>
          <p:cNvCxnSpPr/>
          <p:nvPr/>
        </p:nvCxnSpPr>
        <p:spPr>
          <a:xfrm flipH="1">
            <a:off x="4039920" y="3636720"/>
            <a:ext cx="2160" cy="5720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0" name="Прямая со стрелкой 23"/>
          <p:cNvCxnSpPr>
            <a:endCxn id="56" idx="0"/>
          </p:cNvCxnSpPr>
          <p:nvPr/>
        </p:nvCxnSpPr>
        <p:spPr>
          <a:xfrm>
            <a:off x="5968080" y="3565440"/>
            <a:ext cx="37080" cy="6433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1" name="Прямая со стрелкой 24"/>
          <p:cNvCxnSpPr/>
          <p:nvPr/>
        </p:nvCxnSpPr>
        <p:spPr>
          <a:xfrm>
            <a:off x="7040520" y="3636720"/>
            <a:ext cx="572400" cy="5007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896760" y="1136520"/>
            <a:ext cx="8286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ИРАЕТЕ ПРОФЕССИЮ? ОБЯЗАТЕЛЬНО УЗНАЙ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825480" y="1708200"/>
            <a:ext cx="814392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ПРОФЕСС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что такое профессия, специа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лассификации професс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одержание профессиональной деятельности представителей професс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едмет, средства, условия, цели труда представителя той или иной професс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1111320" y="5137200"/>
            <a:ext cx="60721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896760" y="4851360"/>
            <a:ext cx="800100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Самостоятельно (справочники, СМИ, интерне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Специально организованные мероприятия (ярмарки учебных мест, дни открытых дверей, служба занятост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Знающие люди (родители, друзья, знакомые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539720" y="1208160"/>
            <a:ext cx="714384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ТЕХНОЛОГИЯ ВЫБОРА ПРОФ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выбора професс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о 1. Выбирая профессию, необходимо учесть свои интересы и скло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о 2. Выбирая профессию, необходимо учесть свои способности, личностные особенности (темперамент, характер), здоров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о 3. Выбирая профессию, необходимо учесть востребованность профессии на рынке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754200" y="1136520"/>
            <a:ext cx="814356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РЫНОК ОБРАЗОВАТЕЛЬНЫХ УСЛ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ПО – профессиональное уч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 – техникумы, коллед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О – институты, университеты, акаде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825480" y="3208320"/>
            <a:ext cx="764388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РЫНОК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требованность професс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е работодателей к выпускник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111320" y="5423040"/>
            <a:ext cx="7500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: Конкурентоспособная лич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2:13:29Z</dcterms:created>
  <dc:creator/>
  <dc:description/>
  <dc:language>en-US</dc:language>
  <cp:lastModifiedBy>User</cp:lastModifiedBy>
  <dcterms:modified xsi:type="dcterms:W3CDTF">2013-01-20T18:35:09Z</dcterms:modified>
  <cp:revision>8</cp:revision>
  <dc:subject/>
  <dc:title>Слайд 1</dc:title>
</cp:coreProperties>
</file>