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6BC32-16E8-4E58-BCDC-3CD11BBEF4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EB652-7D2B-4811-92B7-A5C2484822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B66C0-4075-426B-BF40-98BD77F280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218-708C-4F41-BF66-9D8F1D75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A75-6868-4BE7-8159-67C2C164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131-2F1A-4721-A160-FCDC545D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8B7-691D-4F4E-94D9-71F2F72F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3A2-8A6F-443B-BC1C-E52C2720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0C5-5B01-4BCB-AE88-C9D863FF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9A0-05D6-40BE-A28D-2392DFE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04C-40D3-4161-9D1A-D58102FD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F0D-D75A-47AB-8EB9-EA9CBAEF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7C0-D7AA-437D-9499-325EDC5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DF2-59CB-4FC7-9003-CCB04C7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9AD-FF50-4A6A-B6A3-64016ECE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EB74EB-0C98-47DE-9669-5AA4D92D5A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611440" y="708120"/>
            <a:ext cx="6072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«Большаков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 rot="304200">
            <a:off x="825840" y="4565520"/>
            <a:ext cx="5929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Информированность и выбор професси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682720" y="6923160"/>
            <a:ext cx="2000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039680" y="922320"/>
            <a:ext cx="8143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составляющих успешного выбора профессии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754360" y="2851200"/>
            <a:ext cx="4714920" cy="7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ужно знать при выборе проф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825480" y="4280040"/>
            <a:ext cx="1857240" cy="7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рофес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040200" y="4208400"/>
            <a:ext cx="1785960" cy="111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выбора проф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5111640" y="4208400"/>
            <a:ext cx="1785960" cy="7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7112160" y="4137120"/>
            <a:ext cx="2143080" cy="111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образовательных усл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" name="Прямая со стрелкой 14"/>
          <p:cNvCxnSpPr/>
          <p:nvPr/>
        </p:nvCxnSpPr>
        <p:spPr>
          <a:xfrm flipH="1">
            <a:off x="2039040" y="3637080"/>
            <a:ext cx="1143720" cy="643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/>
          <p:nvPr/>
        </p:nvCxnSpPr>
        <p:spPr>
          <a:xfrm flipH="1">
            <a:off x="4039920" y="3636720"/>
            <a:ext cx="2160" cy="5720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Прямая со стрелкой 23"/>
          <p:cNvCxnSpPr>
            <a:endCxn id="56" idx="0"/>
          </p:cNvCxnSpPr>
          <p:nvPr/>
        </p:nvCxnSpPr>
        <p:spPr>
          <a:xfrm>
            <a:off x="5968080" y="3565440"/>
            <a:ext cx="37080" cy="643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1" name="Прямая со стрелкой 24"/>
          <p:cNvCxnSpPr/>
          <p:nvPr/>
        </p:nvCxnSpPr>
        <p:spPr>
          <a:xfrm>
            <a:off x="7040520" y="3636720"/>
            <a:ext cx="57240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96760" y="1136520"/>
            <a:ext cx="8286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ЕТЕ ПРОФЕССИЮ? ОБЯЗАТЕЛЬНО УЗНАЙ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25480" y="1708200"/>
            <a:ext cx="814392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РОФЕСС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то такое профессия, специа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ассификации професс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одержание профессиональной деятельности представителей професс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, средства, условия, цели труда представителя той или иной профе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111320" y="5137200"/>
            <a:ext cx="6072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96760" y="4851360"/>
            <a:ext cx="80010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Самостоятельно (справочники, СМИ, интерне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Специально организованные мероприятия (ярмарки учебных мест, дни открытых дверей, служба занято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Знающие люди (родители, друзья, знаком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539720" y="1208160"/>
            <a:ext cx="714384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ТЕХНОЛОГИЯ ВЫБОРА ПРОФ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выбора професс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о 1. Выбирая профессию, необходимо учесть свои интересы и скло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о 2. Выбирая профессию, необходимо учесть свои способности, личностные особенности (темперамент, характер), здоров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о 3. Выбирая профессию, необходимо учесть востребованность профессии на рынке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54200" y="1136520"/>
            <a:ext cx="81435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ЫНОК ОБРАЗОВАТЕЛЬНЫХ УСЛ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ПО – профессиональ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 – техникумы, коллед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О – институты, университеты, акаде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825480" y="3208320"/>
            <a:ext cx="764388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РЫНОК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ребованность профес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е работодателей к выпускни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111320" y="5423040"/>
            <a:ext cx="7500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Конкурентоспособная л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User</cp:lastModifiedBy>
  <dcterms:modified xsi:type="dcterms:W3CDTF">2013-01-20T18:35:09Z</dcterms:modified>
  <cp:revision>8</cp:revision>
  <dc:subject/>
  <dc:title>Слайд 1</dc:title>
</cp:coreProperties>
</file>