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E08-BB67-412B-8E4D-146A38D6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0BB-6C3B-4DE5-8752-21D5A83E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666-E84C-4EC4-8713-03C39AAE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BA1-B608-46F7-A021-8960B92E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8C0-8022-44AF-96C7-83591253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CDF-7067-4696-B41C-B288A59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618-1F6F-433D-BA1A-48B8B360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CB8-8551-4B7B-86FF-2001A78F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743-6D35-45C0-BE39-DC6726F0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0B3-7BD3-4362-8243-67DAB97E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399-BDE7-4EE5-96B8-C6CBC76C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C8DD-A905-499F-B4FB-C825639F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9686-C8F5-4F20-B243-7B13CE77B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рога в хр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71840"/>
            <a:ext cx="6400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Православный храм является храмом Божиим, домом Господним, так как Господь невидимо присутствует в нем Своею благода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b0f0"/>
                </a:solidFill>
                <a:latin typeface="Arial"/>
              </a:rPr>
              <a:t>Вид круга означает вечность Церкви. Как круг не имеет начала и конца, так и Церковь Христова будет существовать вечно. “Созижду Церковь Мою, и врата ада не одолеют ея” (Мф.16,18) — говорит Сам Спас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2"/>
          <a:stretch/>
        </p:blipFill>
        <p:spPr>
          <a:xfrm>
            <a:off x="1908000" y="1197000"/>
            <a:ext cx="500076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орма ку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Купол в форме лук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2286000" y="2214720"/>
            <a:ext cx="4572000" cy="4214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Шлемовидн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1785960" y="2214720"/>
            <a:ext cx="56437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Форма мак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"/>
          <p:cNvPicPr/>
          <p:nvPr/>
        </p:nvPicPr>
        <p:blipFill>
          <a:blip r:embed="rId2"/>
          <a:stretch/>
        </p:blipFill>
        <p:spPr>
          <a:xfrm>
            <a:off x="2071800" y="2286000"/>
            <a:ext cx="485748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Рисунок29"/>
          <p:cNvPicPr/>
          <p:nvPr/>
        </p:nvPicPr>
        <p:blipFill>
          <a:blip r:embed="rId2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0" name="WordArt 10"/>
          <p:cNvSpPr txBox="1"/>
          <p:nvPr/>
        </p:nvSpPr>
        <p:spPr>
          <a:xfrm>
            <a:off x="1828800" y="2276640"/>
            <a:ext cx="73152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Храмы Божии  -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свечи Вселенной –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Вечным светом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08455" dir="4163966" blurRad="0" rotWithShape="0">
                    <a:srgbClr val="ffffff">
                      <a:alpha val="80000"/>
                    </a:srgbClr>
                  </a:outerShdw>
                </a:effectLst>
                <a:latin typeface="Georgia"/>
              </a:rPr>
              <a:t>покоя горят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08455" dir="4163966" blurRad="0" rotWithShape="0">
                  <a:srgbClr val="ffff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28480" y="428760"/>
            <a:ext cx="725796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4429080" y="-171360"/>
            <a:ext cx="4714920" cy="329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Все свои помыслы и представления о высшей красоте, любви и добре связывали  наши предки с образом Храма -  воплощением Царства Божия на Земл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Georgia"/>
              </a:rPr>
              <a:t>Л.А.Рапац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7640" y="274320"/>
            <a:ext cx="5688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Православные храмы имеют различную внешнюю форму: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1. Продолговатого четырех уг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(вид корабл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2. Форму кре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3. Форму звез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4. форму к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одолговатая форма храма в виде корабля выражает ту мысль, что мир есть житейское море, а церковь-корабль, на котором можно переплыть это море и достигнуть тихой пристани — Царства Небесного кроме того, указанная форма храма обозначает, что Церковь спасает нас от вечной погибели, подобно тому, как Ноев ковчег спас от потопа людей не отступивших от Б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900000" y="1643040"/>
            <a:ext cx="7417080" cy="444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Крестообразная форма храма указывает, что в основание Церкви лежит Крест Христов, через который верующие получили вечное спас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643200" cy="4572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4857840" y="1571760"/>
            <a:ext cx="38574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9933ff"/>
                </a:solidFill>
                <a:latin typeface="Arial"/>
              </a:rPr>
              <a:t>Храм, имеющий форму звезды, или восьмиугольника, напоминает нам вифлеемскую звезду, которая указывала волхвам путь ко Христу, и символизирует Церковь как путеводную звезду, освещающую верующим людям путь к веч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2862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04:12Z</dcterms:created>
  <dc:creator>ticher</dc:creator>
  <dc:description/>
  <dc:language>en-US</dc:language>
  <cp:lastModifiedBy>user</cp:lastModifiedBy>
  <dcterms:modified xsi:type="dcterms:W3CDTF">2013-04-12T17:01:29Z</dcterms:modified>
  <cp:revision>13</cp:revision>
  <dc:subject/>
  <dc:title>Дорога в храм</dc:title>
</cp:coreProperties>
</file>