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7C0-F934-4852-A8FB-959BF374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8E0-2146-4872-81A8-859A5C0B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DFE-5A16-4E18-B262-11B25C8F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690-7D4E-4669-A9FA-85668867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081-2216-403F-9572-F231CBC4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2D5-4405-4A3D-AB61-741A1BCA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6AC-3BD0-42DA-9E20-C5D57012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07C-AD14-4796-BFCF-DAD9B322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46C-9DD6-4D8D-B362-71F4D86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BF1-E851-4F2C-867F-DDD0390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D59-D659-4C20-8709-F3AF85C9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260-9B35-4F52-A2F7-42D2B08E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8A16-C760-4328-BBCE-E3EEC893E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рога в хр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71840"/>
            <a:ext cx="6400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Православный храм является храмом Божиим, домом Господним, так как Господь невидимо присутствует в нем Своею благода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b0f0"/>
                </a:solidFill>
                <a:latin typeface="Arial"/>
              </a:rPr>
              <a:t>Вид круга означает вечность Церкви. Как круг не имеет начала и конца, так и Церковь Христова будет существовать вечно. “Созижду Церковь Мою, и врата ада не одолеют ея” (Мф.16,18) — говорит Сам Спас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500076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орма ку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упол в форме лук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2"/>
          <a:stretch/>
        </p:blipFill>
        <p:spPr>
          <a:xfrm>
            <a:off x="2286000" y="2214720"/>
            <a:ext cx="45720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Шлемовидная 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85960" y="2214720"/>
            <a:ext cx="56437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Форма мак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2"/>
          <a:stretch/>
        </p:blipFill>
        <p:spPr>
          <a:xfrm>
            <a:off x="2071800" y="2286000"/>
            <a:ext cx="485748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Рисунок29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0" name="WordArt 10"/>
          <p:cNvSpPr txBox="1"/>
          <p:nvPr/>
        </p:nvSpPr>
        <p:spPr>
          <a:xfrm>
            <a:off x="1828800" y="2276640"/>
            <a:ext cx="73152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8455" dir="4163966" blurRad="0" rotWithShape="0">
                    <a:srgbClr val="ffffff">
                      <a:alpha val="80000"/>
                    </a:srgbClr>
                  </a:outerShdw>
                </a:effectLst>
                <a:latin typeface="Georgia"/>
              </a:rPr>
              <a:t>Храмы Божии  -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8455" dir="4163966" blurRad="0" rotWithShape="0">
                  <a:srgbClr val="ffff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8455" dir="4163966" blurRad="0" rotWithShape="0">
                    <a:srgbClr val="ffffff">
                      <a:alpha val="80000"/>
                    </a:srgbClr>
                  </a:outerShdw>
                </a:effectLst>
                <a:latin typeface="Georgia"/>
              </a:rPr>
              <a:t>свечи Вселенной –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8455" dir="4163966" blurRad="0" rotWithShape="0">
                  <a:srgbClr val="ffff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8455" dir="4163966" blurRad="0" rotWithShape="0">
                    <a:srgbClr val="ffffff">
                      <a:alpha val="80000"/>
                    </a:srgbClr>
                  </a:outerShdw>
                </a:effectLst>
                <a:latin typeface="Georgia"/>
              </a:rPr>
              <a:t>Вечным светом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8455" dir="4163966" blurRad="0" rotWithShape="0">
                  <a:srgbClr val="ffff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8455" dir="4163966" blurRad="0" rotWithShape="0">
                    <a:srgbClr val="ffffff">
                      <a:alpha val="80000"/>
                    </a:srgbClr>
                  </a:outerShdw>
                </a:effectLst>
                <a:latin typeface="Georgia"/>
              </a:rPr>
              <a:t>покоя горят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8455" dir="4163966" blurRad="0" rotWithShape="0">
                  <a:srgbClr val="ffff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28480" y="428760"/>
            <a:ext cx="725796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4429080" y="-171360"/>
            <a:ext cx="471492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Все свои помыслы и представления о высшей красоте, любви и добре связывали  наши предки с образом Храма -  воплощением Царства Божия на Земле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Georgia"/>
              </a:rPr>
              <a:t>Л.А.Рапа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равославные храмы имеют различную внешнюю форму: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1. Продолговатого четырех уг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(вид корабл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2. Форм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3. Форму звез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4. форму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одолговатая форма храма в виде корабля выражает ту мысль, что мир есть житейское море, а церковь-корабль, на котором можно переплыть это море и достигнуть тихой пристани — Царства Небесного кроме того, указанная форма храма обозначает, что Церковь спасает нас от вечной погибели, подобно тому, как Ноев ковчег спас от потопа людей не отступивших от Б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2"/>
          <a:stretch/>
        </p:blipFill>
        <p:spPr>
          <a:xfrm>
            <a:off x="900000" y="1643040"/>
            <a:ext cx="7417080" cy="444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Крестообразная форма храма указывает, что в основание Церкви лежит Крест Христов, через который верующие получили вечное спас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364320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3"/>
          <a:stretch/>
        </p:blipFill>
        <p:spPr>
          <a:xfrm>
            <a:off x="4857840" y="1571760"/>
            <a:ext cx="38574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9933ff"/>
                </a:solidFill>
                <a:latin typeface="Arial"/>
              </a:rPr>
              <a:t>Храм, имеющий форму звезды, или восьмиугольника, напоминает нам вифлеемскую звезду, которая указывала волхвам путь ко Христу, и символизирует Церковь как путеводную звезду, освещающую верующим людям путь к веч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28624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0:04:12Z</dcterms:created>
  <dc:creator>ticher</dc:creator>
  <dc:description/>
  <dc:language>en-US</dc:language>
  <cp:lastModifiedBy>user</cp:lastModifiedBy>
  <dcterms:modified xsi:type="dcterms:W3CDTF">2013-04-12T17:01:29Z</dcterms:modified>
  <cp:revision>13</cp:revision>
  <dc:subject/>
  <dc:title>Дорога в храм</dc:title>
</cp:coreProperties>
</file>