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042-E999-4068-8A00-02DF4F8D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7C9-2FD8-467C-A9DF-20F39882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50B-E38C-4E40-BCC7-8736456F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21B-36A7-4B3C-842C-12F3C8D7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A0F-6A5C-467F-BCD9-D1BC5B9A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96D-3500-4135-91AF-7C9B8B4F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1BC-F6E5-4402-AD30-C9DB85B0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75B-0A1C-499F-833B-F68B6958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49D-5A17-441D-9156-4D8FF67D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36B-6D0E-45FB-8094-AD867446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D75-B12C-4FC9-8E40-C94C54F9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B1E-9FDD-4934-935D-C41F98C8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E33C-3995-4031-AC03-AB34C3A6064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1371600" y="2736720"/>
            <a:ext cx="6400800" cy="13845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3"/>
          <a:stretch/>
        </p:blipFill>
        <p:spPr>
          <a:xfrm>
            <a:off x="6211800" y="5718240"/>
            <a:ext cx="2840040" cy="92700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66ff33"/>
                </a:solidFill>
                <a:latin typeface="Calibri"/>
              </a:rPr>
              <a:t>Примеры применения магнитных по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1128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Поезда на магнитной подуш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Трансформаторы, электродвига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Компьютерная и организационная тех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Магнитные ленты аудио и видео нос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16032" t="33914" r="28266" b="18524"/>
          <a:stretch/>
        </p:blipFill>
        <p:spPr>
          <a:xfrm>
            <a:off x="324000" y="1341360"/>
            <a:ext cx="1800000" cy="111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300px-Silniki_by_Zureks"/>
          <p:cNvPicPr/>
          <p:nvPr/>
        </p:nvPicPr>
        <p:blipFill>
          <a:blip r:embed="rId2"/>
          <a:stretch/>
        </p:blipFill>
        <p:spPr>
          <a:xfrm>
            <a:off x="324000" y="2565360"/>
            <a:ext cx="1800000" cy="1146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6"/>
          <p:cNvPicPr/>
          <p:nvPr/>
        </p:nvPicPr>
        <p:blipFill>
          <a:blip r:embed="rId3"/>
          <a:srcRect l="5669" t="14974" r="7377" b="14550"/>
          <a:stretch/>
        </p:blipFill>
        <p:spPr>
          <a:xfrm>
            <a:off x="395280" y="3789360"/>
            <a:ext cx="1800360" cy="1292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type1"/>
          <p:cNvPicPr/>
          <p:nvPr/>
        </p:nvPicPr>
        <p:blipFill>
          <a:blip r:embed="rId4"/>
          <a:stretch/>
        </p:blipFill>
        <p:spPr>
          <a:xfrm>
            <a:off x="539640" y="5157720"/>
            <a:ext cx="1440000" cy="1433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Calibri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Магнитное поле — силовое поле, действующее на движущиеся электрические заряды и на тела, обладающие магнитным моментом, независимо от состояния их движения, магнитная составляющая электромагнитного по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Магнитное поле может создаваться током заряженных частиц и/или магнитными моментами электронов в атомах (и магнитными моментами других частиц, хотя в заметно меньшей степени) (постоянные магнит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Кроме этого, оно появляется при наличии изменяющегося во времени электрического по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Calibri"/>
              </a:rPr>
              <a:t>Источники магнитного п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Calibri"/>
              </a:rPr>
              <a:t>Магнитное поле порождается током заряженных частиц, или изменяющимся во времени электрическим полем, или собственными магнитными моментами частиц (последние для единообразия картины могут быть формальным образом сведены к электрическим тока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Электрический ток(I), проходя п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проводнику, создаёт магнитно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поле (B) вокруг проводника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220px-Electromagnetism"/>
          <p:cNvPicPr/>
          <p:nvPr/>
        </p:nvPicPr>
        <p:blipFill>
          <a:blip r:embed="rId1"/>
          <a:stretch/>
        </p:blipFill>
        <p:spPr>
          <a:xfrm>
            <a:off x="6300720" y="3429000"/>
            <a:ext cx="2624040" cy="286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Calibri"/>
              </a:rPr>
              <a:t>Проявление магнитного п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6981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Магнитное поле проявляется в воздействии на магнитные моменты частиц и тел, на движущиеся заряженные частицы (или проводники с током). Сила, действующая на движущуюся в магнитном поле электрически заряженную частицу, называется силой Лоренца, которая всегда направлена перпендикулярно к векторам v и B. Она пропорциональна заряду частицы q, составляющей скорости v, перпендикулярной направлению вектора магнитного поля B, и величине индукции магнитного поля 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Также (вследствие действия силы Лоренца на движущиеся по проводнику заряженные частицы) магнитное поле действует на проводник с током. Сила, действующая на проводник с током называется силой Ампера. Эта сила складывается из сил, действующих на отдельные движущиеся внутри проводника заря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Calibri"/>
              </a:rPr>
              <a:t>Сила Лоре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267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Сила Лоренца представляет собой силу, действующую на заряженную частицу, которая движется в магнитном поле. Поскольку электрический ток это упорядоченное движения заряженных частиц то рассмотрим воздействие электрического поля на проводник с током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Формула, выражающая, Силу Лоренца имеет вид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   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Fл = q·V·B·sin</a:t>
            </a:r>
            <a:r>
              <a:rPr b="1" i="1" lang="el-GR" sz="1900" spc="-1" strike="noStrike">
                <a:solidFill>
                  <a:srgbClr val="66ff33"/>
                </a:solidFill>
                <a:latin typeface="Calibri"/>
                <a:ea typeface="Arial"/>
              </a:rPr>
              <a:t>α</a:t>
            </a:r>
            <a:r>
              <a:rPr b="1" i="1" lang="ru-RU" sz="1900" spc="-1" strike="noStrike">
                <a:solidFill>
                  <a:srgbClr val="66ff33"/>
                </a:solidFill>
                <a:latin typeface="Calibri"/>
                <a:ea typeface="Arial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где q- величина заряда движущегося в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внешнем магнитном поле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V- Модуль скорости движущегос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Заряда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B- Модуль вектора индукции внешнег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магнитного поля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l-GR" sz="1900" spc="-1" strike="noStrike">
                <a:solidFill>
                  <a:srgbClr val="66ff33"/>
                </a:solidFill>
                <a:latin typeface="Calibri"/>
                <a:ea typeface="Arial"/>
              </a:rPr>
              <a:t>α</a:t>
            </a: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 - представляет собой угол межд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вектором скорости заряда и вектор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магнитной индукци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5" descr="cила лоренца.jpg"/>
          <p:cNvPicPr/>
          <p:nvPr/>
        </p:nvPicPr>
        <p:blipFill>
          <a:blip r:embed="rId1"/>
          <a:stretch/>
        </p:blipFill>
        <p:spPr>
          <a:xfrm>
            <a:off x="5219640" y="3284640"/>
            <a:ext cx="3635280" cy="3317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Calibri"/>
              </a:rPr>
              <a:t>Сила Ампе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Сила Ампера это та сила, с которой магнитное поле действует на проводник, с током помещённый в это поле. Величину этой силы можно определить с помощью закона Ампера. В этом законе определяется бесконечно малая сила для бесконечно малого участка проводника. Что дает возможность применять этот закон для проводников различной фор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Формула, выражающая, Силу Ампера имеет в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l-GR" sz="1400" spc="-1" strike="noStrike">
                <a:solidFill>
                  <a:srgbClr val="66ff33"/>
                </a:solidFill>
                <a:latin typeface="Calibri"/>
                <a:ea typeface="Arial"/>
              </a:rPr>
              <a:t>Δ</a:t>
            </a:r>
            <a:r>
              <a:rPr b="1" i="1" lang="en-US" sz="2000" spc="-1" strike="noStrike">
                <a:solidFill>
                  <a:srgbClr val="66ff33"/>
                </a:solidFill>
                <a:latin typeface="Calibri"/>
                <a:ea typeface="Arial"/>
              </a:rPr>
              <a:t>F=B</a:t>
            </a:r>
            <a:r>
              <a:rPr b="1" i="1" lang="ru-RU" sz="2400" spc="-1" strike="noStrike">
                <a:solidFill>
                  <a:srgbClr val="66ff33"/>
                </a:solidFill>
                <a:latin typeface="Calibri"/>
              </a:rPr>
              <a:t>·</a:t>
            </a:r>
            <a:r>
              <a:rPr b="1" i="1" lang="en-US" sz="2000" spc="-1" strike="noStrike">
                <a:solidFill>
                  <a:srgbClr val="66ff33"/>
                </a:solidFill>
                <a:latin typeface="Calibri"/>
                <a:ea typeface="Arial"/>
              </a:rPr>
              <a:t>I</a:t>
            </a:r>
            <a:r>
              <a:rPr b="1" i="1" lang="ru-RU" sz="2400" spc="-1" strike="noStrike">
                <a:solidFill>
                  <a:srgbClr val="66ff33"/>
                </a:solidFill>
                <a:latin typeface="Calibri"/>
              </a:rPr>
              <a:t>·</a:t>
            </a:r>
            <a:r>
              <a:rPr b="1" i="1" lang="el-GR" sz="1400" spc="-1" strike="noStrike">
                <a:solidFill>
                  <a:srgbClr val="66ff33"/>
                </a:solidFill>
                <a:latin typeface="Calibri"/>
                <a:ea typeface="Arial"/>
              </a:rPr>
              <a:t>Δ</a:t>
            </a:r>
            <a:r>
              <a:rPr b="1" i="1" lang="en-US" sz="2000" spc="-1" strike="noStrike">
                <a:solidFill>
                  <a:srgbClr val="66ff33"/>
                </a:solidFill>
                <a:latin typeface="Calibri"/>
                <a:ea typeface="Arial"/>
              </a:rPr>
              <a:t>l</a:t>
            </a: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·</a:t>
            </a:r>
            <a:r>
              <a:rPr b="1" i="1" lang="en-US" sz="2000" spc="-1" strike="noStrike">
                <a:solidFill>
                  <a:srgbClr val="66ff33"/>
                </a:solidFill>
                <a:latin typeface="Calibri"/>
                <a:ea typeface="Arial"/>
              </a:rPr>
              <a:t>sin</a:t>
            </a:r>
            <a:r>
              <a:rPr b="1" i="1" lang="el-GR" sz="2000" spc="-1" strike="noStrike">
                <a:solidFill>
                  <a:srgbClr val="66ff33"/>
                </a:solidFill>
                <a:latin typeface="Calibri"/>
                <a:ea typeface="Arial"/>
              </a:rPr>
              <a:t>α</a:t>
            </a:r>
            <a:r>
              <a:rPr b="1" i="1" lang="en-US" sz="2000" spc="-1" strike="noStrike">
                <a:solidFill>
                  <a:srgbClr val="66ff33"/>
                </a:solidFill>
                <a:latin typeface="Calibri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где B - индукция магнитного поля, в котором находится проводник с токо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I - сила тока в проводник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l-GR" sz="2000" spc="-1" strike="noStrike">
                <a:solidFill>
                  <a:srgbClr val="66ff33"/>
                </a:solidFill>
                <a:latin typeface="Calibri"/>
                <a:ea typeface="Arial"/>
              </a:rPr>
              <a:t>Δ</a:t>
            </a:r>
            <a:r>
              <a:rPr b="1" i="1" lang="en-US" sz="2000" spc="-1" strike="noStrike">
                <a:solidFill>
                  <a:srgbClr val="66ff33"/>
                </a:solidFill>
                <a:latin typeface="Calibri"/>
                <a:ea typeface="Arial"/>
              </a:rPr>
              <a:t>l</a:t>
            </a: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 - бесконечно малый элемент длин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проводника с токо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l-GR" sz="2000" spc="-1" strike="noStrike">
                <a:solidFill>
                  <a:srgbClr val="66ff33"/>
                </a:solidFill>
                <a:latin typeface="Calibri"/>
                <a:ea typeface="Arial"/>
              </a:rPr>
              <a:t>α</a:t>
            </a:r>
            <a:r>
              <a:rPr b="1" i="1" lang="ru-RU" sz="2000" spc="-1" strike="noStrike">
                <a:solidFill>
                  <a:srgbClr val="66ff33"/>
                </a:solidFill>
                <a:latin typeface="Calibri"/>
                <a:ea typeface="Arial"/>
              </a:rPr>
              <a:t> -</a:t>
            </a: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 угол между индукцией внешн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магнитного поля и направлени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тока в проводнике</a:t>
            </a:r>
            <a:r>
              <a:rPr b="1" i="1" lang="ru-RU" sz="2800" spc="-1" strike="noStrike">
                <a:solidFill>
                  <a:srgbClr val="66ff33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&amp;Scy;&amp;icy;&amp;lcy;&amp;acy; &amp;Acy;&amp;mcy;&amp;pcy;&amp;iecy;&amp;rcy;&amp;acy;"/>
          <p:cNvPicPr/>
          <p:nvPr/>
        </p:nvPicPr>
        <p:blipFill>
          <a:blip r:embed="rId1"/>
          <a:srcRect l="8332" t="8088" r="8506" b="10525"/>
          <a:stretch/>
        </p:blipFill>
        <p:spPr>
          <a:xfrm>
            <a:off x="5076720" y="4076640"/>
            <a:ext cx="3851280" cy="2451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Calibri"/>
              </a:rPr>
              <a:t>Постоянный магн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Постоянный магнит — это изделие, изготовленное из ферромагнетика, способного сохранять остаточную намагниченность после выключения внешнего магнитного поля. В качестве материалов для постоянных магнитов обычно служат железо, никель, кобальт, некоторые сплавы редкоземельных металлов, а также некоторые естественные минералы, такие как магнетиты. Постоянные магниты применяются в качестве автономных (не потребляющих энергии) источников магнитного поля. Характерные поля постоянных магнитов — до 1 Тл (10 кг·с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Схематическое изображение силовых лин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магнитного поля вокруг постоянного магни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Силовые линии выходят из северного полюс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магнита и входят в южный полюс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{67426BF9-2206-4F5D-B86D-7605D4522D77}"/>
          <p:cNvPicPr/>
          <p:nvPr/>
        </p:nvPicPr>
        <p:blipFill>
          <a:blip r:embed="rId1"/>
          <a:srcRect l="7100" t="50454" r="4801" b="0"/>
          <a:stretch/>
        </p:blipFill>
        <p:spPr>
          <a:xfrm>
            <a:off x="611280" y="4292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Calibri"/>
              </a:rPr>
              <a:t>Электромагн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200" spc="-1" strike="noStrike">
                <a:solidFill>
                  <a:srgbClr val="66ff33"/>
                </a:solidFill>
                <a:latin typeface="Calibri"/>
              </a:rPr>
              <a:t>Электромагнит — устройство, магнитное поле которого создаётся только при протекании электрического тока. Как правило, это катушка-соленоид, со вставленным внутрь ферромагнитным (обычно железным) сердечником с большой магнитной проницаемостью </a:t>
            </a:r>
            <a:r>
              <a:rPr b="1" i="1" lang="el-GR" sz="2200" spc="-1" strike="noStrike">
                <a:solidFill>
                  <a:srgbClr val="66ff33"/>
                </a:solidFill>
                <a:latin typeface="Calibri"/>
                <a:ea typeface="Arial"/>
              </a:rPr>
              <a:t>μ≈</a:t>
            </a:r>
            <a:r>
              <a:rPr b="1" i="1" lang="ru-RU" sz="2200" spc="-1" strike="noStrike">
                <a:solidFill>
                  <a:srgbClr val="66ff33"/>
                </a:solidFill>
                <a:latin typeface="Calibri"/>
                <a:ea typeface="Arial"/>
              </a:rPr>
              <a:t>10000</a:t>
            </a:r>
            <a:r>
              <a:rPr b="1" i="1" lang="ru-RU" sz="2200" spc="-1" strike="noStrike">
                <a:solidFill>
                  <a:srgbClr val="66ff33"/>
                </a:solidFill>
                <a:latin typeface="Calibri"/>
              </a:rPr>
              <a:t>. Характерные поля электромагнитов 1,5—2 Т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                   </a:t>
            </a: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Простейший электромагни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                   </a:t>
            </a: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вокруг ферромагнит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                   </a:t>
            </a: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сердечника намо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                   </a:t>
            </a: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электропровод в изоля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            </a:t>
            </a: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Образование магнит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                    </a:t>
            </a: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потока в соленоиде</a:t>
            </a:r>
            <a:r>
              <a:rPr b="0" i="1" lang="ru-RU" sz="30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150px-Simple_electromagnet"/>
          <p:cNvPicPr/>
          <p:nvPr/>
        </p:nvPicPr>
        <p:blipFill>
          <a:blip r:embed="rId1"/>
          <a:stretch/>
        </p:blipFill>
        <p:spPr>
          <a:xfrm>
            <a:off x="395280" y="4467240"/>
            <a:ext cx="1081080" cy="217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{67426BF9-2206-4F5D-B86D-7605D4522D77}"/>
          <p:cNvPicPr/>
          <p:nvPr/>
        </p:nvPicPr>
        <p:blipFill>
          <a:blip r:embed="rId2"/>
          <a:srcRect l="0" t="4800" r="50744" b="5512"/>
          <a:stretch/>
        </p:blipFill>
        <p:spPr>
          <a:xfrm>
            <a:off x="6156360" y="3284640"/>
            <a:ext cx="2373120" cy="3240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Calibri"/>
              </a:rPr>
              <a:t>Вещество в магнитном п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765000"/>
            <a:ext cx="8640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66ff33"/>
                </a:solidFill>
                <a:latin typeface="Calibri"/>
              </a:rPr>
              <a:t>Все вещества, помещённые в магнитное поле, намагничиваются в той или иной мере, то есть сами поддерживают (парамагнетики), ослабляют (диамагнетики) или даже усиливают (ферромагнетики) внешнее магнитное по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66ff33"/>
                </a:solidFill>
                <a:latin typeface="Calibri"/>
              </a:rPr>
              <a:t>Постоянные магниты могут быть изготовлены лишь из немногих вещест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66ff33"/>
                </a:solidFill>
                <a:latin typeface="Calibri"/>
              </a:rPr>
              <a:t>Для изготовления постоянных магнитов используются сталь, сплавы железа с алюминием, никелем и кобальтом, оксиды железа и некоторых других мет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66ff33"/>
                </a:solidFill>
                <a:latin typeface="Calibri"/>
              </a:rPr>
              <a:t>Ферромагнетизм объясняется магнитными свойствами электронов. Электрон эквивалентен круговому току или вращающемуся заряженному телу и поэтому обладает собственным магнитным полем. В кристаллах железа, возникают условия для параллельной ориентации собственных магнитных полей электронов. В результате этого внутри кристалла ферромагнетика возникают намагниченные области протяженностью 10-2 - 10-4 см. Эти самопроизвольно намагниченные области называются домен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0125r2"/>
          <p:cNvPicPr/>
          <p:nvPr/>
        </p:nvPicPr>
        <p:blipFill>
          <a:blip r:embed="rId1"/>
          <a:srcRect l="47474" t="10705" r="2755" b="13716"/>
          <a:stretch/>
        </p:blipFill>
        <p:spPr>
          <a:xfrm>
            <a:off x="4716360" y="4292640"/>
            <a:ext cx="309564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125r2"/>
          <p:cNvPicPr/>
          <p:nvPr/>
        </p:nvPicPr>
        <p:blipFill>
          <a:blip r:embed="rId2"/>
          <a:srcRect l="1378" t="18288" r="55797" b="13448"/>
          <a:stretch/>
        </p:blipFill>
        <p:spPr>
          <a:xfrm>
            <a:off x="2050920" y="4437000"/>
            <a:ext cx="2665440" cy="2233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50:24Z</dcterms:created>
  <dc:creator>Светлость</dc:creator>
  <dc:description/>
  <dc:language>en-US</dc:language>
  <cp:lastModifiedBy>Mike Hayws</cp:lastModifiedBy>
  <dcterms:modified xsi:type="dcterms:W3CDTF">2013-03-11T16:34:55Z</dcterms:modified>
  <cp:revision>8</cp:revision>
  <dc:subject/>
  <dc:title>МАГНИТНОЕ ПОЛЕ</dc:title>
</cp:coreProperties>
</file>