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970-C7AB-456A-A1C5-89C82E34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44D-D123-4342-BD2F-66038C59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79C-85A3-4F41-B611-F351CBB6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AE5-7BDD-4556-A42D-5F009D5D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BFF2-131F-48FE-8773-4B95E971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9A28-EEB3-4679-9FB4-FD82034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6A11-DDFA-4E05-89DC-BA5C15C2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BCCE-3374-420C-802C-181A5BE2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C04A-C99C-4C2C-969B-A202FFF3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2086-AFEA-4634-98C8-40B39DD1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24FD-E76D-44A4-8BB4-8B9B3C69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54C-9FF7-47EA-AC78-5705C30B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95F0-4A1F-4460-88A7-9012AE79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4207-89E7-4454-A563-85AA7288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7F8F-B97A-4231-B463-D301A153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F7E2-24AE-420F-A67C-92C49029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385A-D08E-463E-A000-EE81F00E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86E-253C-4545-93ED-FA5EE4D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45C-FA74-413C-9306-2A80B25D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685-5247-400A-A7AE-0E02C91F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3D4-3680-44C9-A8BF-2A992E84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33B-08A1-406E-B6D6-1BF8338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3B4-E26D-4829-A9FD-1B02A30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AA6-4F1D-46D7-94F8-9E1376A6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6C4E-DC8A-4124-B29C-EE32C9B97F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7738-0636-457B-8B9E-D9C12D2032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резентация по обществознанию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201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дународное и российское законодательство по правам ребе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полнила: Виткалова Ир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обществознания: Елизарова Т.П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еблагоприятная семья как фактор социализац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фекты воспитания - это есть первейший и главнейший показатель неблагополучной семьи. Ни материальные, ни бытовые, ни престижные показатели не характеризуют степень благополучия семьи или неблагополучия - только отношение к ребен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благополучие в семье в том или иной степени практически всегда ведет к неблагополучию психического развития ребенка. Не в смысле каких-то нарушений, допустим, интеллекта, а в смысле дисгармонии созревания эмоционально-волевой сферы, т.е. преимущественно характера человека. А каков характер, таковы и взаимоотношения человека с другими людьми, таково и его счаст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259920"/>
            <a:ext cx="4038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Ф на данный момент не улучшаются условия неблагополучных семей, более того, не всех родителей, которые не заботятся о своих детях, лишают родительских пр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banb"/>
          <p:cNvPicPr/>
          <p:nvPr/>
        </p:nvPicPr>
        <p:blipFill>
          <a:blip r:embed="rId1"/>
          <a:stretch/>
        </p:blipFill>
        <p:spPr>
          <a:xfrm>
            <a:off x="324000" y="260280"/>
            <a:ext cx="3809880" cy="34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eti_idut"/>
          <p:cNvPicPr/>
          <p:nvPr/>
        </p:nvPicPr>
        <p:blipFill>
          <a:blip r:embed="rId2"/>
          <a:stretch/>
        </p:blipFill>
        <p:spPr>
          <a:xfrm>
            <a:off x="4500720" y="3500280"/>
            <a:ext cx="43891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ти-инвали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последние 10 лет количество детей-инвалидов в возрасте до 18 лет увеличилось в России в 2 раза. Об этом сообщила директор департамента медико-социальных проблем семьи, материнства и детства Министерства здравоохранения и социального развития РФ (Минздравсоцразвития) Ольга Шарап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оссии сегодня количество детей-инвалидов в возрасте до 18 лет составляет 642 тысячи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за последние 5 лет увеличилась общая заболеваемость новорожденных. Заболеваемость детей в возрасте до 15 лет увеличилась на 15%, а заболеваемость детей от 15 до 18 лет - на 20%. Основными видами заболеваний у детей являются, в частности, заболевания, связанные с дыханием, пищеварением, половыми органами. Кроме того, за последние несколько лет на 20% увеличилось число детей с хроническими заболеваниями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ой важной проблемой, является проблема заболеваемости детей ВИЧ-инфекцией. Сегодня в России число детей, больных СПИДом, составляет более 11 тысяч. За последнее время 125 детей умерли от СПИДа. Кроме того, за последние 2 года родилось 9,5 тысяч детей от матерей, зараженных ВИЧ-инфекц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а детей-инвалид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- инвалиды имеют такие же права, как и обыкновенные де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о жить и воспитываться в семь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о на защи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о выражать свое мн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ущественные пра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 еще право на получение бесплатной медицинской помощи, реабилитации и санаторно-курортного ле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2005 года для них вводятся ежемесячные денежные выплаты в размере 1000 рублей, Сейчас рассматривается вопрос о выделении субсидий на проезд родителей вместе с ребенком-инвалидом в общественном транспор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я считаю, что государство в неполной мере обеспечивает комфортную жизнь для детей-инвали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79e24508a0c4b2be71f945af7354e4a0_big"/>
          <p:cNvPicPr/>
          <p:nvPr/>
        </p:nvPicPr>
        <p:blipFill>
          <a:blip r:embed="rId1"/>
          <a:stretch/>
        </p:blipFill>
        <p:spPr>
          <a:xfrm>
            <a:off x="0" y="0"/>
            <a:ext cx="4286160" cy="330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51ae383278a0e982d0a733ee33b597f5_big"/>
          <p:cNvPicPr/>
          <p:nvPr/>
        </p:nvPicPr>
        <p:blipFill>
          <a:blip r:embed="rId2"/>
          <a:stretch/>
        </p:blipFill>
        <p:spPr>
          <a:xfrm>
            <a:off x="4643280" y="0"/>
            <a:ext cx="4116600" cy="3030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_SlyaVYo0x7iC8EPBrDGOkqQTu49MzA6v_"/>
          <p:cNvPicPr/>
          <p:nvPr/>
        </p:nvPicPr>
        <p:blipFill>
          <a:blip r:embed="rId3"/>
          <a:stretch/>
        </p:blipFill>
        <p:spPr>
          <a:xfrm>
            <a:off x="4437000" y="3327480"/>
            <a:ext cx="4707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ети-наркоман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последние 10 лет число больных наркоманией увеличилось более чем в 9 раз, количество ежегодно регистрируемых наркопреступлений – в 15 раз, фактов наркоторговли – в 80 раз, а проявлений групповой наркопреступности – почти в 9 р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о же время, по данным Минздрава, в 2001–2002 годах общее число наркоманов в России составляло от 3 до 5 млн. человек. Среди 14–15-летних подростков большинство составляют девочки. Есть даже 4–6-летние дети-наркоманы. Среди старшеклассников около 20–30% признаются в том, что они пробовали наркот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инздраве также считают, что большинство наркоманов – это «высокоинтеллектуальные дети». Так, наркоманов больше всего в самых престижных вузах России – МГУ и МГИМ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оссии смертность от наркомании, в настоящее время, основная проблема государства. За последние годы смертность от наркомании увеличилась в 15 раз. Все больше и больше втягиваются в наркоманию, молодые люди не достигшие 15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стоящее время принято различать наркоманию, алкоголизм, токсикоманию. Однако, алкоголь, табак, опиум, марихуана, кокаин и другие вещества – наркотики. Все они вызывают привык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е известные наркотики, как правило природные: табак, алкоголь, кофе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часть этих наркотиков находится в « списке наркотических веществ», однако до сих пор ни табак ни алкоголь в этот список не попада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е показывают, что в основном наркотики доставляются в Россию из Афганистана и Таджикист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экспертов, смертность наркоманов в России достигает 30 тысяч человек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Роль государства в жизни детей-                   нарком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онодательством установлена уголовная ответственность за хранение, употребление, приобретение или сбыт даже ничтожно малого количества наркотических веществ. Те, у кого находят наркотик, несут суровое наказ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ударство создает центры для лечения и реабилитации детей-нарком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Пропаганда здорового образа жизни должна вестись на государственном уров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199c4b40e11230890e0ea3f6d0b6e693_big"/>
          <p:cNvPicPr/>
          <p:nvPr/>
        </p:nvPicPr>
        <p:blipFill>
          <a:blip r:embed="rId1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0903110400005_10"/>
          <p:cNvPicPr/>
          <p:nvPr/>
        </p:nvPicPr>
        <p:blipFill>
          <a:blip r:embed="rId2"/>
          <a:stretch/>
        </p:blipFill>
        <p:spPr>
          <a:xfrm>
            <a:off x="5076720" y="549360"/>
            <a:ext cx="3800520" cy="5763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15"/>
          <p:cNvPicPr/>
          <p:nvPr/>
        </p:nvPicPr>
        <p:blipFill>
          <a:blip r:embed="rId3"/>
          <a:stretch/>
        </p:blipFill>
        <p:spPr>
          <a:xfrm>
            <a:off x="0" y="3562200"/>
            <a:ext cx="48578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лодые сем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Ф демографическая ситуация улучшила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тем не менее деторождаемость в нашей стране в несколько раз меньше, чем в других. Несмотря на это, родить ребенка не так уж сложно, намного сложнее его воспитать и прокормить. Только если в семье о ребенке заботятся, он вырастет полноценным граждани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kar1"/>
          <p:cNvPicPr/>
          <p:nvPr/>
        </p:nvPicPr>
        <p:blipFill>
          <a:blip r:embed="rId1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978-5-89194-387-2"/>
          <p:cNvPicPr/>
          <p:nvPr/>
        </p:nvPicPr>
        <p:blipFill>
          <a:blip r:embed="rId2"/>
          <a:stretch/>
        </p:blipFill>
        <p:spPr>
          <a:xfrm>
            <a:off x="971640" y="3500280"/>
            <a:ext cx="24717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ые права ребен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765000"/>
            <a:ext cx="8007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татья 54. Право ребенка жить и воспитываться в сем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ком признается лицо, не достигшее возраста восемнадцати лет (совершеннолет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ый ребенок имеет право жить и воспитываться в семье, насколько это возможно, право знать своих родителей, право на их заботу, право на совместное с ними проживание, за исключением случаев, когда это противоречит его интерес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имеет права на воспитание своими родителями, обеспечение его интересов, всестороннее развитие, уважение его человеческого достои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отсутствии родителей, при лишении их родительских прав и в других случаях утраты родительского попечения право ребенка на воспитании в семье обеспечивается органом опеки и попечитель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ая тема  моего реферата – права детей. Я считаю, что эта тема очень  актуальна  в наше время. Мы поговорим о детях, которые растут без родителей или имеют какие-либо физические отклонения, потому что дети из благоприятных семей получат ласку и заботу от своих родителей, а те дети, которым не от кого получить поддержку могут положиться только на госуда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rebenok-0109"/>
          <p:cNvPicPr/>
          <p:nvPr/>
        </p:nvPicPr>
        <p:blipFill>
          <a:blip r:embed="rId1"/>
          <a:stretch/>
        </p:blipFill>
        <p:spPr>
          <a:xfrm>
            <a:off x="7020000" y="4176720"/>
            <a:ext cx="19144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татья 56. Право ребенка на защит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енок имеет право на защиту своих прав и законных интере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енок имеет право на защиту от злоупотреблений со стороны родителей (лиц, их заменяющих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Должностные лица организаций и иные граждане, которым станет известно об угрозе жизни или здоровью ребенка, о нарушении его прав и законных интересов, обязаны сообщить об этом в орган опеки и попечительства по месту фактического нахождения ребенка. При получении таких сведений орган опеки и попечительства обязан принять необходимые меры по защите прав и законных интересов реб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Статья 57. Право ребенка выражать свое мн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 вправе выражать свое мнение при решении в семье любого вопроса, затрагивающего его интересы, а также быть заслушанным в ходе любого судебного или административного разбирательства. Учет времени ребенка, достигшего возраста десяти лет, обязателен, за исключением случаев, когда это противоречит его интерес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татья 60. Имущественные права ребен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имеет право на получение содержания от своих родителей и других членов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ммы, причитающиеся ребенку в качестве алиментов, пенсий, пособий, поступают в распоряжение родителей (лиц, их заменяющих) и расходуются ими на содержание, воспитание и образование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имеет право собственности на доходы, полученные им, имущество, полученное им в дар или в порядке наследования, а также на любое другое имущество, приобретенное на средства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не имеет права собственности на имущество родителей, родители не имеют право собственности на имущество ребенка. Дети и родители, проживающие совместно, могут владеть и пользоваться имуществом друг друга по взаимному соглас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лучае возникновения права общей собственности родителей и детей их права на владение, пользование и распоряжение общим имуществом определяются гражданским законодательств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клю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заключение хочу сказать, что если наше государство не будет заботиться о детях, то такое общество не будет двигаться вперед и у него нет будущ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photos-175-img-s"/>
          <p:cNvPicPr/>
          <p:nvPr/>
        </p:nvPicPr>
        <p:blipFill>
          <a:blip r:embed="rId1"/>
          <a:stretch/>
        </p:blipFill>
        <p:spPr>
          <a:xfrm>
            <a:off x="468360" y="422100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8f13682baa4789d8a99e41a85c66a7a_bi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Commencement 2"/>
          <p:cNvPicPr/>
          <p:nvPr/>
        </p:nvPicPr>
        <p:blipFill>
          <a:blip r:embed="rId1"/>
          <a:stretch/>
        </p:blipFill>
        <p:spPr>
          <a:xfrm>
            <a:off x="0" y="0"/>
            <a:ext cx="3360600" cy="3360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4cfe571add99"/>
          <p:cNvPicPr/>
          <p:nvPr/>
        </p:nvPicPr>
        <p:blipFill>
          <a:blip r:embed="rId2"/>
          <a:stretch/>
        </p:blipFill>
        <p:spPr>
          <a:xfrm>
            <a:off x="0" y="3544920"/>
            <a:ext cx="4516560" cy="3313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8-27-1b"/>
          <p:cNvPicPr/>
          <p:nvPr/>
        </p:nvPicPr>
        <p:blipFill>
          <a:blip r:embed="rId3"/>
          <a:stretch/>
        </p:blipFill>
        <p:spPr>
          <a:xfrm>
            <a:off x="4716360" y="549360"/>
            <a:ext cx="419112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5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нвенция о правах ребен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венция о правах ребенка это первый и основной международно-правовой документ, в котором права ребенка рассматриваются на уровн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ого пра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одобре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неральной Ассамблеей ООН 20.11.1989 года, вступила в силу для СССР 15.09.1990 го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раво - это всё то, что истинно и справедливо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Гю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270726269_convention_ontherightsofthechild_2009"/>
          <p:cNvPicPr/>
          <p:nvPr/>
        </p:nvPicPr>
        <p:blipFill>
          <a:blip r:embed="rId1"/>
          <a:stretch/>
        </p:blipFill>
        <p:spPr>
          <a:xfrm>
            <a:off x="6300720" y="3645000"/>
            <a:ext cx="2440080" cy="3000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2"/>
          <p:cNvPicPr/>
          <p:nvPr/>
        </p:nvPicPr>
        <p:blipFill>
          <a:blip r:embed="rId2"/>
          <a:stretch/>
        </p:blipFill>
        <p:spPr>
          <a:xfrm>
            <a:off x="3276720" y="3645000"/>
            <a:ext cx="2627280" cy="3008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336038"/>
          <p:cNvPicPr/>
          <p:nvPr/>
        </p:nvPicPr>
        <p:blipFill>
          <a:blip r:embed="rId3"/>
          <a:stretch/>
        </p:blipFill>
        <p:spPr>
          <a:xfrm>
            <a:off x="1042920" y="3860640"/>
            <a:ext cx="16909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сейчас я хотела бы ближе рассмотреть проблемы детей в нашей с вами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cf4f397676e7"/>
          <p:cNvPicPr/>
          <p:nvPr/>
        </p:nvPicPr>
        <p:blipFill>
          <a:blip r:embed="rId1"/>
          <a:stretch/>
        </p:blipFill>
        <p:spPr>
          <a:xfrm>
            <a:off x="7380360" y="1484280"/>
            <a:ext cx="1463760" cy="174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tehno01_21"/>
          <p:cNvPicPr/>
          <p:nvPr/>
        </p:nvPicPr>
        <p:blipFill>
          <a:blip r:embed="rId2"/>
          <a:stretch/>
        </p:blipFill>
        <p:spPr>
          <a:xfrm>
            <a:off x="250920" y="1844640"/>
            <a:ext cx="7018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Феномен социального сиротств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данным статистики, Россия сегодня переживает третью волну социального сиротства (первые две - после Гражданской и Великой Отечественной войн). Даже после Великой Отечественной войны сирот во всем Советском Союзе было меньше (600 тысяч), чем сейчас в России (более 800 тысяч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шей стране сироты пользуются особыми правами, например, при поступлении в государственные образовательные учреждения они зачисляются без экзаменов. Также они получают ежемесячное денежное пособие и имеют право на получение бесплатного жилья, государство заботится об их трудоустрой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174283_image_large"/>
          <p:cNvPicPr/>
          <p:nvPr/>
        </p:nvPicPr>
        <p:blipFill>
          <a:blip r:embed="rId1"/>
          <a:stretch/>
        </p:blipFill>
        <p:spPr>
          <a:xfrm>
            <a:off x="4979880" y="3716280"/>
            <a:ext cx="4164120" cy="31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03"/>
          <p:cNvPicPr/>
          <p:nvPr/>
        </p:nvPicPr>
        <p:blipFill>
          <a:blip r:embed="rId2"/>
          <a:stretch/>
        </p:blipFill>
        <p:spPr>
          <a:xfrm>
            <a:off x="395280" y="3716280"/>
            <a:ext cx="43480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по моему мнению государство должно наладить систему обустройства детских домов, обеспечение детей-сирот жильем, сделать их жизнь благополучнее (увеличить денежные пособия). Ужесточить контроль за выполнением всех этих обязанностей государства перед детьми-сиро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3HJ"/>
          <p:cNvPicPr/>
          <p:nvPr/>
        </p:nvPicPr>
        <p:blipFill>
          <a:blip r:embed="rId1"/>
          <a:stretch/>
        </p:blipFill>
        <p:spPr>
          <a:xfrm>
            <a:off x="4643280" y="3933720"/>
            <a:ext cx="450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01_1641"/>
          <p:cNvPicPr/>
          <p:nvPr/>
        </p:nvPicPr>
        <p:blipFill>
          <a:blip r:embed="rId1"/>
          <a:stretch/>
        </p:blipFill>
        <p:spPr>
          <a:xfrm>
            <a:off x="755640" y="476280"/>
            <a:ext cx="7683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личество детских домов. Судьба детей-сирот во взрослой жизни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 детских домов в России с 1999 года увеличилось более, чем в 2 раза - до 2100 с 900, сообщил на пресс-конференции председатель Российского детского фонда Альберт Лиха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мотря  на то, что детских домов стало больше, они переполн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данным Генпрокуратуры РФ, 40% выпускников детских домов, школ-интернатов и других аналогичных заведений становятся алкоголиками и наркоманами, 40% пополняют преступный мир, 10% кончают жизнь самоубийством, в том числе и потому что не имеют крыши над головой, и только 10% адаптируются к нормально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алисты, которые работают в детских домах, не могут в полной мере обеспечить защиту прав детей. Более 60 тысяч выпускников детских домов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обеспече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жильем, как того требует зак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omega2657060big"/>
          <p:cNvPicPr/>
          <p:nvPr/>
        </p:nvPicPr>
        <p:blipFill>
          <a:blip r:embed="rId1"/>
          <a:stretch/>
        </p:blipFill>
        <p:spPr>
          <a:xfrm>
            <a:off x="7257960" y="4005360"/>
            <a:ext cx="1886040" cy="26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r124961964150578"/>
          <p:cNvPicPr/>
          <p:nvPr/>
        </p:nvPicPr>
        <p:blipFill>
          <a:blip r:embed="rId2"/>
          <a:stretch/>
        </p:blipFill>
        <p:spPr>
          <a:xfrm>
            <a:off x="3554280" y="189000"/>
            <a:ext cx="5589720" cy="370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48054977_3118"/>
          <p:cNvPicPr/>
          <p:nvPr/>
        </p:nvPicPr>
        <p:blipFill>
          <a:blip r:embed="rId3"/>
          <a:stretch/>
        </p:blipFill>
        <p:spPr>
          <a:xfrm>
            <a:off x="0" y="0"/>
            <a:ext cx="3311640" cy="5062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1876359"/>
          <p:cNvPicPr/>
          <p:nvPr/>
        </p:nvPicPr>
        <p:blipFill>
          <a:blip r:embed="rId4"/>
          <a:stretch/>
        </p:blipFill>
        <p:spPr>
          <a:xfrm>
            <a:off x="3492360" y="4005360"/>
            <a:ext cx="1882800" cy="2671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17085-261743-19-obl-l"/>
          <p:cNvPicPr/>
          <p:nvPr/>
        </p:nvPicPr>
        <p:blipFill>
          <a:blip r:embed="rId5"/>
          <a:stretch/>
        </p:blipFill>
        <p:spPr>
          <a:xfrm>
            <a:off x="5580000" y="4149720"/>
            <a:ext cx="14907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5:27:26Z</dcterms:created>
  <dc:creator>Андрей</dc:creator>
  <dc:description/>
  <dc:language>en-US</dc:language>
  <cp:lastModifiedBy>Фимка</cp:lastModifiedBy>
  <dcterms:modified xsi:type="dcterms:W3CDTF">2013-04-06T13:00:08Z</dcterms:modified>
  <cp:revision>9</cp:revision>
  <dc:subject/>
  <dc:title>Презентация по обществознанию</dc:title>
</cp:coreProperties>
</file>