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9.gif" ContentType="image/gif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81D-C34D-49F4-998D-0FA9F51F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44CF-FCE7-4370-A99E-A5CA070A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860-889E-4F2A-A591-C7DFF13A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EF0-3F48-40B5-B885-B3537391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1EAC-4BAC-4E89-9CD2-5C7CE5AE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A56D-0CE4-4A47-98B3-04C70061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0AD2-07BC-4E3B-A834-EAD55DE7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7FE2-D3AB-4A43-8695-8EE26559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C1A6-100C-4F46-A924-B222B219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B6E0-4951-46B9-830C-3241BD23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5E2D-2219-4D4D-8207-151B9F86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2FD-66FC-4F14-A9A9-BDFAE650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01A5-E204-49D3-8CC0-42FCB6A6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6EC9-F9DF-4AA4-B90F-67DA717C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9600-5CCA-47A8-A357-05BBDB95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7602-15E4-4FB7-92E4-37AB22AA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5D6B-55B6-4FB4-AAE7-B98BC4D3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54D6-49C7-46BC-B0E8-914FFAB7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D21-7073-470D-B30F-13A86BC9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29D-C41D-42CA-A03F-6726748B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CC5-3D3C-465E-9714-E93D163A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F60-4CB0-4194-9C4E-72B7D89E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532-53B5-45EC-BEEC-F288E959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776-83E0-4E74-AD03-26F2ABA4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7E12-61A4-432E-A524-D213C227C2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2E46-3F30-4059-B128-0348F22972C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ип Хордовые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класс Млекопитающие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Спесивцева О.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010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Organization Chart 6"/>
          <p:cNvGrpSpPr/>
          <p:nvPr/>
        </p:nvGrpSpPr>
        <p:grpSpPr>
          <a:xfrm>
            <a:off x="1219320" y="1066680"/>
            <a:ext cx="6629040" cy="3427920"/>
            <a:chOff x="1219320" y="1066680"/>
            <a:chExt cx="6629040" cy="3427920"/>
          </a:xfrm>
        </p:grpSpPr>
        <p:cxnSp>
          <p:nvCxnSpPr>
            <p:cNvPr id="201" name="_s3076"/>
            <p:cNvCxnSpPr>
              <a:stCxn id="202" idx="0"/>
              <a:endCxn id="203" idx="2"/>
            </p:cNvCxnSpPr>
            <p:nvPr/>
          </p:nvCxnSpPr>
          <p:spPr>
            <a:xfrm flipV="1" rot="16200000">
              <a:off x="5350680" y="1620000"/>
              <a:ext cx="686160" cy="2320920"/>
            </a:xfrm>
            <a:prstGeom prst="bentConnector3">
              <a:avLst>
                <a:gd name="adj1" fmla="val 2078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04" name="_s3077"/>
            <p:cNvCxnSpPr>
              <a:stCxn id="205" idx="0"/>
              <a:endCxn id="203" idx="2"/>
            </p:cNvCxnSpPr>
            <p:nvPr/>
          </p:nvCxnSpPr>
          <p:spPr>
            <a:xfrm flipV="1">
              <a:off x="4533480" y="2437560"/>
              <a:ext cx="2520" cy="6861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06" name="_s3078"/>
            <p:cNvCxnSpPr>
              <a:stCxn id="207" idx="0"/>
              <a:endCxn id="203" idx="2"/>
            </p:cNvCxnSpPr>
            <p:nvPr/>
          </p:nvCxnSpPr>
          <p:spPr>
            <a:xfrm flipH="1" flipV="1" rot="5400000">
              <a:off x="3031200" y="1621080"/>
              <a:ext cx="686160" cy="2318760"/>
            </a:xfrm>
            <a:prstGeom prst="bentConnector3">
              <a:avLst>
                <a:gd name="adj1" fmla="val 20787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03" name="_s3079"/>
            <p:cNvSpPr/>
            <p:nvPr/>
          </p:nvSpPr>
          <p:spPr>
            <a:xfrm>
              <a:off x="3539520" y="1066680"/>
              <a:ext cx="1988640" cy="13712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eaeaea"/>
                  </a:solidFill>
                  <a:latin typeface="Verdana"/>
                </a:rPr>
                <a:t>ЗУБЫ</a:t>
              </a:r>
              <a:endParaRPr b="0" lang="en-US" sz="17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7" name="_s3080"/>
            <p:cNvSpPr/>
            <p:nvPr/>
          </p:nvSpPr>
          <p:spPr>
            <a:xfrm>
              <a:off x="1219320" y="3123360"/>
              <a:ext cx="1988640" cy="13712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eaeaea"/>
                  </a:solidFill>
                  <a:latin typeface="Verdana"/>
                </a:rPr>
                <a:t>РЕЗЦЫ</a:t>
              </a:r>
              <a:endParaRPr b="0" lang="en-US" sz="17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5" name="_s3081"/>
            <p:cNvSpPr/>
            <p:nvPr/>
          </p:nvSpPr>
          <p:spPr>
            <a:xfrm>
              <a:off x="3539520" y="3123360"/>
              <a:ext cx="1988640" cy="13712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eaeaea"/>
                  </a:solidFill>
                  <a:latin typeface="Verdana"/>
                </a:rPr>
                <a:t>КЛЫКИ</a:t>
              </a:r>
              <a:endParaRPr b="0" lang="en-US" sz="17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2" name="_s3082"/>
            <p:cNvSpPr/>
            <p:nvPr/>
          </p:nvSpPr>
          <p:spPr>
            <a:xfrm>
              <a:off x="5859720" y="3123360"/>
              <a:ext cx="1988640" cy="13712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eaeaea"/>
                  </a:solidFill>
                  <a:latin typeface="Verdana"/>
                </a:rPr>
                <a:t>КОРЕННЫЕ</a:t>
              </a:r>
              <a:endParaRPr b="0" lang="en-US" sz="1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208" name="Picture 15" descr=""/>
          <p:cNvPicPr/>
          <p:nvPr/>
        </p:nvPicPr>
        <p:blipFill>
          <a:blip r:embed="rId1"/>
          <a:stretch/>
        </p:blipFill>
        <p:spPr>
          <a:xfrm>
            <a:off x="3733920" y="46483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206676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БМЕН ВЕЩЕСТ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7162920" y="42670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152280" y="3352680"/>
            <a:ext cx="70264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ДЫХАНИЕ: альвеолярные легкие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Verdana"/>
              </a:rPr>
              <a:t>КРОВООБРАЩЕНИЕ:2 круга; четырехкамерное сердце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Verdana"/>
              </a:rPr>
              <a:t>ПИЩЕВАРЕНИЕ: однокамерный и многокамерный желудок, пищеварительные железы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Verdana"/>
              </a:rPr>
              <a:t>ВЫДЕЛЕНИЕ: почки, мочевой пузырь. Потовые железы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НЕРВНАЯ СИСТЕМА: мозжечок, передний мозг (кора больших полушарий, извилины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33"/>
                </a:solidFill>
                <a:latin typeface="Verdana"/>
              </a:rPr>
              <a:t>ОРГАНЫ ЧУВСТВ: обоняние, слух(ушная раковина), зрение, осязание, вкус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Picture 6" descr="Котик"/>
          <p:cNvPicPr/>
          <p:nvPr/>
        </p:nvPicPr>
        <p:blipFill>
          <a:blip r:embed="rId2"/>
          <a:stretch/>
        </p:blipFill>
        <p:spPr>
          <a:xfrm>
            <a:off x="380880" y="1600200"/>
            <a:ext cx="1676520" cy="166680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7"/>
          <p:cNvSpPr/>
          <p:nvPr/>
        </p:nvSpPr>
        <p:spPr>
          <a:xfrm>
            <a:off x="3657600" y="1447920"/>
            <a:ext cx="4800600" cy="1676160"/>
          </a:xfrm>
          <a:prstGeom prst="wedgeEllipseCallout">
            <a:avLst>
              <a:gd name="adj1" fmla="val -72388"/>
              <a:gd name="adj2" fmla="val 2263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 большинства млекопитающих постоянная  температура тела. Например, у песца – 39˚С (во внешней среде -60˚С) С чем это связано?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5545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ЗМНОЖЕНИЕ И РАЗВИТИ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18" name="Organization Chart 18"/>
          <p:cNvGrpSpPr/>
          <p:nvPr/>
        </p:nvGrpSpPr>
        <p:grpSpPr>
          <a:xfrm>
            <a:off x="457200" y="1905120"/>
            <a:ext cx="8228880" cy="2666160"/>
            <a:chOff x="457200" y="1905120"/>
            <a:chExt cx="8228880" cy="2666160"/>
          </a:xfrm>
        </p:grpSpPr>
        <p:cxnSp>
          <p:nvCxnSpPr>
            <p:cNvPr id="219" name="_s4100"/>
            <p:cNvCxnSpPr>
              <a:stCxn id="220" idx="0"/>
              <a:endCxn id="221" idx="2"/>
            </p:cNvCxnSpPr>
            <p:nvPr/>
          </p:nvCxnSpPr>
          <p:spPr>
            <a:xfrm flipV="1" rot="16200000">
              <a:off x="5744520" y="1797120"/>
              <a:ext cx="533880" cy="2880720"/>
            </a:xfrm>
            <a:prstGeom prst="bentConnector3">
              <a:avLst>
                <a:gd name="adj1" fmla="val 20782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22" name="_s4101"/>
            <p:cNvCxnSpPr>
              <a:stCxn id="223" idx="0"/>
              <a:endCxn id="221" idx="2"/>
            </p:cNvCxnSpPr>
            <p:nvPr/>
          </p:nvCxnSpPr>
          <p:spPr>
            <a:xfrm flipV="1">
              <a:off x="4571280" y="2970720"/>
              <a:ext cx="3240" cy="5338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24" name="_s4102"/>
            <p:cNvCxnSpPr>
              <a:stCxn id="225" idx="0"/>
              <a:endCxn id="221" idx="2"/>
            </p:cNvCxnSpPr>
            <p:nvPr/>
          </p:nvCxnSpPr>
          <p:spPr>
            <a:xfrm flipH="1" flipV="1" rot="5400000">
              <a:off x="2865960" y="1798560"/>
              <a:ext cx="533880" cy="2878200"/>
            </a:xfrm>
            <a:prstGeom prst="bentConnector3">
              <a:avLst>
                <a:gd name="adj1" fmla="val 20782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21" name="_s4103"/>
            <p:cNvSpPr/>
            <p:nvPr/>
          </p:nvSpPr>
          <p:spPr>
            <a:xfrm>
              <a:off x="3337200" y="1905120"/>
              <a:ext cx="2468520" cy="10663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Verdana"/>
                </a:rPr>
                <a:t>МЛЕКО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Verdana"/>
                </a:rPr>
                <a:t>ПИТАЮЩИЕ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5" name="_s4104"/>
            <p:cNvSpPr/>
            <p:nvPr/>
          </p:nvSpPr>
          <p:spPr>
            <a:xfrm>
              <a:off x="457200" y="3504960"/>
              <a:ext cx="2468520" cy="10663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eaeaea"/>
                  </a:solidFill>
                  <a:latin typeface="Verdana"/>
                </a:rPr>
                <a:t>ЯЙЦЕКЛАДУЩИЕ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3" name="_s4105"/>
            <p:cNvSpPr/>
            <p:nvPr/>
          </p:nvSpPr>
          <p:spPr>
            <a:xfrm>
              <a:off x="3337200" y="3504960"/>
              <a:ext cx="2468520" cy="10663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eaeaea"/>
                  </a:solidFill>
                  <a:latin typeface="Verdana"/>
                </a:rPr>
                <a:t>СУМЧАТЫЕ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0" name="_s4106"/>
            <p:cNvSpPr/>
            <p:nvPr/>
          </p:nvSpPr>
          <p:spPr>
            <a:xfrm>
              <a:off x="6217560" y="3504960"/>
              <a:ext cx="2468520" cy="10663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eaeaea"/>
                  </a:solidFill>
                  <a:latin typeface="Verdana"/>
                </a:rPr>
                <a:t>ПЛАЦЕНТАРНЫЕ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226" name="Picture 28" descr=""/>
          <p:cNvPicPr/>
          <p:nvPr/>
        </p:nvPicPr>
        <p:blipFill>
          <a:blip r:embed="rId1"/>
          <a:stretch/>
        </p:blipFill>
        <p:spPr>
          <a:xfrm>
            <a:off x="609480" y="4876920"/>
            <a:ext cx="2067120" cy="1542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"/>
          <p:cNvPicPr/>
          <p:nvPr/>
        </p:nvPicPr>
        <p:blipFill>
          <a:blip r:embed="rId2"/>
          <a:stretch/>
        </p:blipFill>
        <p:spPr>
          <a:xfrm>
            <a:off x="3505320" y="4724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0" descr=""/>
          <p:cNvPicPr/>
          <p:nvPr/>
        </p:nvPicPr>
        <p:blipFill>
          <a:blip r:embed="rId3"/>
          <a:stretch/>
        </p:blipFill>
        <p:spPr>
          <a:xfrm>
            <a:off x="6553080" y="472428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лекопитающие Камчат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52280" y="1371600"/>
            <a:ext cx="86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cc"/>
                </a:solidFill>
                <a:latin typeface="Verdana"/>
              </a:rPr>
              <a:t>23 наземных и морских млекопитающих внесены в Красную книгу Камчатки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Picture 6" descr="северный олень"/>
          <p:cNvPicPr/>
          <p:nvPr/>
        </p:nvPicPr>
        <p:blipFill>
          <a:blip r:embed="rId1"/>
          <a:srcRect l="51339" t="8942" r="0" b="10610"/>
          <a:stretch/>
        </p:blipFill>
        <p:spPr>
          <a:xfrm>
            <a:off x="152280" y="2133720"/>
            <a:ext cx="2781360" cy="2743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Безымянный"/>
          <p:cNvPicPr/>
          <p:nvPr/>
        </p:nvPicPr>
        <p:blipFill>
          <a:blip r:embed="rId2"/>
          <a:srcRect l="51339" t="9776" r="0" b="23184"/>
          <a:stretch/>
        </p:blipFill>
        <p:spPr>
          <a:xfrm>
            <a:off x="685800" y="4495680"/>
            <a:ext cx="2781360" cy="2362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белый медведь"/>
          <p:cNvPicPr/>
          <p:nvPr/>
        </p:nvPicPr>
        <p:blipFill>
          <a:blip r:embed="rId3"/>
          <a:srcRect l="51339" t="11910" r="0" b="9665"/>
          <a:stretch/>
        </p:blipFill>
        <p:spPr>
          <a:xfrm>
            <a:off x="4419720" y="2057400"/>
            <a:ext cx="2781360" cy="2666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лемминг"/>
          <p:cNvPicPr/>
          <p:nvPr/>
        </p:nvPicPr>
        <p:blipFill>
          <a:blip r:embed="rId4"/>
          <a:srcRect l="52006" t="11170" r="6665" b="28495"/>
          <a:stretch/>
        </p:blipFill>
        <p:spPr>
          <a:xfrm>
            <a:off x="6629400" y="449568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"/>
          <p:cNvSpPr/>
          <p:nvPr/>
        </p:nvSpPr>
        <p:spPr>
          <a:xfrm>
            <a:off x="6815160" y="480060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опытный лемин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6" name="Picture 11" descr="песец"/>
          <p:cNvPicPr/>
          <p:nvPr/>
        </p:nvPicPr>
        <p:blipFill>
          <a:blip r:embed="rId5"/>
          <a:srcRect l="51339" t="9665" r="0" b="11910"/>
          <a:stretch/>
        </p:blipFill>
        <p:spPr>
          <a:xfrm>
            <a:off x="3657600" y="4038480"/>
            <a:ext cx="2781360" cy="26672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2"/>
          <p:cNvSpPr/>
          <p:nvPr/>
        </p:nvSpPr>
        <p:spPr>
          <a:xfrm>
            <a:off x="365400" y="22860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ВЕРНЫЙ ОЛЕН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927960" y="41148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едновский песец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1193760" y="4572000"/>
            <a:ext cx="177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Калан или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орская выдр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162920" y="2514600"/>
            <a:ext cx="20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ибирский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елый медвед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1143000" cy="136188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2286000" y="3505320"/>
            <a:ext cx="1685880" cy="129528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pic>
        <p:nvPicPr>
          <p:cNvPr id="118" name="Picture 9" descr=""/>
          <p:cNvPicPr/>
          <p:nvPr/>
        </p:nvPicPr>
        <p:blipFill>
          <a:blip r:embed="rId3"/>
          <a:stretch/>
        </p:blipFill>
        <p:spPr>
          <a:xfrm>
            <a:off x="3276720" y="2209680"/>
            <a:ext cx="1600200" cy="129564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pic>
        <p:nvPicPr>
          <p:cNvPr id="119" name="Picture 13" descr=""/>
          <p:cNvPicPr/>
          <p:nvPr/>
        </p:nvPicPr>
        <p:blipFill>
          <a:blip r:embed="rId4"/>
          <a:stretch/>
        </p:blipFill>
        <p:spPr>
          <a:xfrm>
            <a:off x="914400" y="4343400"/>
            <a:ext cx="1523880" cy="129528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20" name="Rectangle 14"/>
          <p:cNvSpPr/>
          <p:nvPr/>
        </p:nvSpPr>
        <p:spPr>
          <a:xfrm>
            <a:off x="1523880" y="6095880"/>
            <a:ext cx="1676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анцетни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2666880" y="51814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6858000" y="685800"/>
            <a:ext cx="1676520" cy="6094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2666880" y="4952880"/>
            <a:ext cx="1676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ыб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4419720" y="4038480"/>
            <a:ext cx="167616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земновод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5181480" y="2971800"/>
            <a:ext cx="221004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есмыкающиес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6553080" y="1828800"/>
            <a:ext cx="1676520" cy="6094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тиц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26" descr=""/>
          <p:cNvPicPr/>
          <p:nvPr/>
        </p:nvPicPr>
        <p:blipFill>
          <a:blip r:embed="rId5"/>
          <a:stretch/>
        </p:blipFill>
        <p:spPr>
          <a:xfrm>
            <a:off x="4648320" y="1066680"/>
            <a:ext cx="1447560" cy="129564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28" name="Rectangle 27"/>
          <p:cNvSpPr/>
          <p:nvPr/>
        </p:nvSpPr>
        <p:spPr>
          <a:xfrm>
            <a:off x="5486400" y="152280"/>
            <a:ext cx="1219320" cy="114300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AutoShape 28"/>
          <p:cNvSpPr/>
          <p:nvPr/>
        </p:nvSpPr>
        <p:spPr>
          <a:xfrm>
            <a:off x="5562720" y="22860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94" h="21600">
                <a:moveTo>
                  <a:pt x="12802" y="14281"/>
                </a:moveTo>
                <a:lnTo>
                  <a:pt x="12802" y="12323"/>
                </a:lnTo>
                <a:cubicBezTo>
                  <a:pt x="12802" y="11496"/>
                  <a:pt x="13133" y="10800"/>
                  <a:pt x="13733" y="10800"/>
                </a:cubicBezTo>
                <a:cubicBezTo>
                  <a:pt x="14865" y="10800"/>
                  <a:pt x="15761" y="9434"/>
                  <a:pt x="15761" y="7849"/>
                </a:cubicBezTo>
                <a:cubicBezTo>
                  <a:pt x="15761" y="5534"/>
                  <a:pt x="13908" y="3794"/>
                  <a:pt x="11697" y="3794"/>
                </a:cubicBezTo>
                <a:cubicBezTo>
                  <a:pt x="9486" y="3794"/>
                  <a:pt x="7815" y="5534"/>
                  <a:pt x="7815" y="7849"/>
                </a:cubicBezTo>
                <a:lnTo>
                  <a:pt x="9669" y="7849"/>
                </a:lnTo>
                <a:cubicBezTo>
                  <a:pt x="9669" y="6709"/>
                  <a:pt x="10591" y="5821"/>
                  <a:pt x="11697" y="5821"/>
                </a:cubicBezTo>
                <a:cubicBezTo>
                  <a:pt x="12802" y="5821"/>
                  <a:pt x="13733" y="6709"/>
                  <a:pt x="13733" y="7849"/>
                </a:cubicBezTo>
                <a:cubicBezTo>
                  <a:pt x="13733" y="8589"/>
                  <a:pt x="13263" y="9320"/>
                  <a:pt x="12802" y="9320"/>
                </a:cubicBezTo>
                <a:cubicBezTo>
                  <a:pt x="11697" y="9320"/>
                  <a:pt x="10591" y="10800"/>
                  <a:pt x="10591" y="12323"/>
                </a:cubicBezTo>
                <a:lnTo>
                  <a:pt x="10591" y="1428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AutoShape 29"/>
          <p:cNvSpPr/>
          <p:nvPr/>
        </p:nvSpPr>
        <p:spPr>
          <a:xfrm>
            <a:off x="7086600" y="8380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323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64718" h="21600">
                <a:moveTo>
                  <a:pt x="33465" y="14281"/>
                </a:moveTo>
                <a:lnTo>
                  <a:pt x="33465" y="12323"/>
                </a:lnTo>
                <a:cubicBezTo>
                  <a:pt x="33465" y="11496"/>
                  <a:pt x="33795" y="10800"/>
                  <a:pt x="34396" y="10800"/>
                </a:cubicBezTo>
                <a:cubicBezTo>
                  <a:pt x="35527" y="10800"/>
                  <a:pt x="36424" y="9434"/>
                  <a:pt x="36424" y="7849"/>
                </a:cubicBezTo>
                <a:cubicBezTo>
                  <a:pt x="36424" y="5534"/>
                  <a:pt x="34570" y="3794"/>
                  <a:pt x="32359" y="3794"/>
                </a:cubicBezTo>
                <a:cubicBezTo>
                  <a:pt x="30149" y="3794"/>
                  <a:pt x="28477" y="5534"/>
                  <a:pt x="28477" y="7849"/>
                </a:cubicBezTo>
                <a:lnTo>
                  <a:pt x="30331" y="7849"/>
                </a:lnTo>
                <a:cubicBezTo>
                  <a:pt x="30331" y="6709"/>
                  <a:pt x="31254" y="5821"/>
                  <a:pt x="32359" y="5821"/>
                </a:cubicBezTo>
                <a:cubicBezTo>
                  <a:pt x="33465" y="5821"/>
                  <a:pt x="34396" y="6709"/>
                  <a:pt x="34396" y="7849"/>
                </a:cubicBezTo>
                <a:cubicBezTo>
                  <a:pt x="34396" y="8589"/>
                  <a:pt x="33926" y="9320"/>
                  <a:pt x="33465" y="9320"/>
                </a:cubicBezTo>
                <a:cubicBezTo>
                  <a:pt x="32359" y="9320"/>
                  <a:pt x="31254" y="10800"/>
                  <a:pt x="31254" y="12323"/>
                </a:cubicBezTo>
                <a:lnTo>
                  <a:pt x="31254" y="1428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Line 30"/>
          <p:cNvSpPr/>
          <p:nvPr/>
        </p:nvSpPr>
        <p:spPr>
          <a:xfrm flipV="1">
            <a:off x="5105520" y="3123720"/>
            <a:ext cx="3124080" cy="3429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304920" y="914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ИП ХОРДОВ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ого из этих животных называют зверями и относят к млекопитающим 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rcRect l="0" t="0" r="0" b="20373"/>
          <a:stretch/>
        </p:blipFill>
        <p:spPr>
          <a:xfrm>
            <a:off x="2209680" y="1600200"/>
            <a:ext cx="2067120" cy="1228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7010280" y="13716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3"/>
          <a:stretch/>
        </p:blipFill>
        <p:spPr>
          <a:xfrm>
            <a:off x="914400" y="5267160"/>
            <a:ext cx="1523880" cy="143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4800600" y="40384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"/>
          <p:cNvPicPr/>
          <p:nvPr/>
        </p:nvPicPr>
        <p:blipFill>
          <a:blip r:embed="rId5"/>
          <a:stretch/>
        </p:blipFill>
        <p:spPr>
          <a:xfrm>
            <a:off x="4876920" y="16765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/>
          <p:cNvPicPr/>
          <p:nvPr/>
        </p:nvPicPr>
        <p:blipFill>
          <a:blip r:embed="rId6"/>
          <a:stretch/>
        </p:blipFill>
        <p:spPr>
          <a:xfrm>
            <a:off x="533520" y="32004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"/>
          <p:cNvPicPr/>
          <p:nvPr/>
        </p:nvPicPr>
        <p:blipFill>
          <a:blip r:embed="rId7"/>
          <a:stretch/>
        </p:blipFill>
        <p:spPr>
          <a:xfrm>
            <a:off x="7010280" y="297180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"/>
          <p:cNvPicPr/>
          <p:nvPr/>
        </p:nvPicPr>
        <p:blipFill>
          <a:blip r:embed="rId8"/>
          <a:stretch/>
        </p:blipFill>
        <p:spPr>
          <a:xfrm>
            <a:off x="2819520" y="46483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"/>
          <p:cNvPicPr/>
          <p:nvPr/>
        </p:nvPicPr>
        <p:blipFill>
          <a:blip r:embed="rId9"/>
          <a:stretch/>
        </p:blipFill>
        <p:spPr>
          <a:xfrm>
            <a:off x="152280" y="1371600"/>
            <a:ext cx="1567080" cy="1743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"/>
          <p:cNvPicPr/>
          <p:nvPr/>
        </p:nvPicPr>
        <p:blipFill>
          <a:blip r:embed="rId10"/>
          <a:stretch/>
        </p:blipFill>
        <p:spPr>
          <a:xfrm>
            <a:off x="2514600" y="2895480"/>
            <a:ext cx="2066760" cy="1543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"/>
          <p:cNvPicPr/>
          <p:nvPr/>
        </p:nvPicPr>
        <p:blipFill>
          <a:blip r:embed="rId11"/>
          <a:stretch/>
        </p:blipFill>
        <p:spPr>
          <a:xfrm>
            <a:off x="6705720" y="5105520"/>
            <a:ext cx="1676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Класс Млекопитающие</a:t>
            </a:r>
            <a:br>
              <a:rPr sz="4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4,5 тыс. видов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ТЕРИОЛОГИЯ – наука о млекопитающих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1371600" cy="1295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47" name="Text Box 6"/>
          <p:cNvSpPr/>
          <p:nvPr/>
        </p:nvSpPr>
        <p:spPr>
          <a:xfrm>
            <a:off x="2057400" y="36576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Землеройка- малютка, 2 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1676520" cy="1971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49" name="Text Box 8"/>
          <p:cNvSpPr/>
          <p:nvPr/>
        </p:nvSpPr>
        <p:spPr>
          <a:xfrm>
            <a:off x="5105520" y="41911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Синий кит  130 тонн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9" descr="Котик"/>
          <p:cNvPicPr/>
          <p:nvPr/>
        </p:nvPicPr>
        <p:blipFill>
          <a:blip r:embed="rId3"/>
          <a:stretch/>
        </p:blipFill>
        <p:spPr>
          <a:xfrm>
            <a:off x="457200" y="5029200"/>
            <a:ext cx="1676520" cy="16668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1"/>
          <p:cNvSpPr/>
          <p:nvPr/>
        </p:nvSpPr>
        <p:spPr>
          <a:xfrm>
            <a:off x="2362320" y="4343400"/>
            <a:ext cx="2743200" cy="1143000"/>
          </a:xfrm>
          <a:prstGeom prst="wedgeEllipseCallout">
            <a:avLst>
              <a:gd name="adj1" fmla="val -50231"/>
              <a:gd name="adj2" fmla="val 9694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2692080" y="4724280"/>
            <a:ext cx="22914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Во сколько раз синий кит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тяжелее землеройки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6934320" y="5029200"/>
            <a:ext cx="1904760" cy="182880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65 000 000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Organization Chart 7"/>
          <p:cNvGrpSpPr/>
          <p:nvPr/>
        </p:nvGrpSpPr>
        <p:grpSpPr>
          <a:xfrm>
            <a:off x="838080" y="533520"/>
            <a:ext cx="6933960" cy="2742480"/>
            <a:chOff x="838080" y="533520"/>
            <a:chExt cx="6933960" cy="2742480"/>
          </a:xfrm>
        </p:grpSpPr>
        <p:cxnSp>
          <p:nvCxnSpPr>
            <p:cNvPr id="155" name="_s1028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243400" y="690480"/>
              <a:ext cx="549000" cy="2427480"/>
            </a:xfrm>
            <a:prstGeom prst="bentConnector3">
              <a:avLst>
                <a:gd name="adj1" fmla="val 12664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8" name="_s1029"/>
            <p:cNvCxnSpPr>
              <a:stCxn id="159" idx="0"/>
              <a:endCxn id="157" idx="2"/>
            </p:cNvCxnSpPr>
            <p:nvPr/>
          </p:nvCxnSpPr>
          <p:spPr>
            <a:xfrm flipV="1">
              <a:off x="4304880" y="1629720"/>
              <a:ext cx="2880" cy="549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0" name="_s1030"/>
            <p:cNvCxnSpPr>
              <a:stCxn id="161" idx="0"/>
              <a:endCxn id="157" idx="2"/>
            </p:cNvCxnSpPr>
            <p:nvPr/>
          </p:nvCxnSpPr>
          <p:spPr>
            <a:xfrm flipH="1" flipV="1" rot="5400000">
              <a:off x="2817000" y="690480"/>
              <a:ext cx="549000" cy="2427480"/>
            </a:xfrm>
            <a:prstGeom prst="bentConnector3">
              <a:avLst>
                <a:gd name="adj1" fmla="val 12664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57" name="_s1031"/>
            <p:cNvSpPr/>
            <p:nvPr/>
          </p:nvSpPr>
          <p:spPr>
            <a:xfrm>
              <a:off x="3264840" y="533520"/>
              <a:ext cx="2080080" cy="10969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РЕДА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ОБИТАНИЯ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1" name="_s1032"/>
            <p:cNvSpPr/>
            <p:nvPr/>
          </p:nvSpPr>
          <p:spPr>
            <a:xfrm>
              <a:off x="838080" y="2179080"/>
              <a:ext cx="2080080" cy="1096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НАЗЕМНО-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ОЗДУШНАЯ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9" name="_s1033"/>
            <p:cNvSpPr/>
            <p:nvPr/>
          </p:nvSpPr>
          <p:spPr>
            <a:xfrm>
              <a:off x="3264840" y="2179080"/>
              <a:ext cx="2080080" cy="109692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ОДНАЯ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6" name="_s1034"/>
            <p:cNvSpPr/>
            <p:nvPr/>
          </p:nvSpPr>
          <p:spPr>
            <a:xfrm>
              <a:off x="5691960" y="2179080"/>
              <a:ext cx="2080080" cy="1096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ПОЧВЕННАЯ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2" name="Text Box 15"/>
          <p:cNvSpPr/>
          <p:nvPr/>
        </p:nvSpPr>
        <p:spPr>
          <a:xfrm>
            <a:off x="533520" y="37339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КРОТ, БУРЫЙ МЕДВЕДЬ, ЗАЯЦ, ТЮЛЕНЬ, ЛЕТУЧАЯ МЫШЬ, ДЕЛЬФИН, ВЫДРА, ХОМЯК, ВЕРБЛЮД, КИ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16" descr="Котик"/>
          <p:cNvPicPr/>
          <p:nvPr/>
        </p:nvPicPr>
        <p:blipFill>
          <a:blip r:embed="rId1"/>
          <a:stretch/>
        </p:blipFill>
        <p:spPr>
          <a:xfrm>
            <a:off x="457200" y="5029200"/>
            <a:ext cx="1676520" cy="16668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7"/>
          <p:cNvSpPr/>
          <p:nvPr/>
        </p:nvSpPr>
        <p:spPr>
          <a:xfrm>
            <a:off x="2514600" y="4876920"/>
            <a:ext cx="3048120" cy="1143000"/>
          </a:xfrm>
          <a:prstGeom prst="wedgeEllipseCallout">
            <a:avLst>
              <a:gd name="adj1" fmla="val -50208"/>
              <a:gd name="adj2" fmla="val 9694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2714040" y="5162400"/>
            <a:ext cx="263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аспределите животных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о средам обитания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533520" y="1143000"/>
            <a:ext cx="8381880" cy="42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ие главные особенности обеспечили млекопитающим превосходство над другими животными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то объединяет в одну большую систематическую группу столь разнообразных животных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5" descr="Котик"/>
          <p:cNvPicPr/>
          <p:nvPr/>
        </p:nvPicPr>
        <p:blipFill>
          <a:blip r:embed="rId1"/>
          <a:stretch/>
        </p:blipFill>
        <p:spPr>
          <a:xfrm>
            <a:off x="6858000" y="5029200"/>
            <a:ext cx="16765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нешнее стро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438280" cy="297180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70" name="Text Box 5"/>
          <p:cNvSpPr/>
          <p:nvPr/>
        </p:nvSpPr>
        <p:spPr>
          <a:xfrm>
            <a:off x="719640" y="5181480"/>
            <a:ext cx="1575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ЛОВ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Я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УЛОВИЩЕ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ЕЧНОСТИ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ВОСТ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971800" y="1295280"/>
            <a:ext cx="61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Verdana"/>
              </a:rPr>
              <a:t>Производные кожи: ИГЛЫ, ВОЛОСЫ, КОГТИ, КОПЫТА, РОГА, ЖЕЛЕЗЫ (ПОТОВЫЕ, САЛЬНЫЕ, МЛЕЧНЫЕ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72" name="Organization Chart 13"/>
          <p:cNvGrpSpPr/>
          <p:nvPr/>
        </p:nvGrpSpPr>
        <p:grpSpPr>
          <a:xfrm>
            <a:off x="2971800" y="2286000"/>
            <a:ext cx="6019560" cy="2514240"/>
            <a:chOff x="2971800" y="2286000"/>
            <a:chExt cx="6019560" cy="2514240"/>
          </a:xfrm>
        </p:grpSpPr>
        <p:cxnSp>
          <p:nvCxnSpPr>
            <p:cNvPr id="173" name="_s2052"/>
            <p:cNvCxnSpPr>
              <a:stCxn id="174" idx="0"/>
              <a:endCxn id="175" idx="2"/>
            </p:cNvCxnSpPr>
            <p:nvPr/>
          </p:nvCxnSpPr>
          <p:spPr>
            <a:xfrm flipV="1">
              <a:off x="8088120" y="3856680"/>
              <a:ext cx="2520" cy="315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6" name="_s2053"/>
            <p:cNvCxnSpPr>
              <a:stCxn id="177" idx="0"/>
              <a:endCxn id="178" idx="2"/>
            </p:cNvCxnSpPr>
            <p:nvPr/>
          </p:nvCxnSpPr>
          <p:spPr>
            <a:xfrm flipV="1">
              <a:off x="5981040" y="3856680"/>
              <a:ext cx="2520" cy="315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9" name="_s2054"/>
            <p:cNvCxnSpPr>
              <a:stCxn id="180" idx="0"/>
              <a:endCxn id="181" idx="2"/>
            </p:cNvCxnSpPr>
            <p:nvPr/>
          </p:nvCxnSpPr>
          <p:spPr>
            <a:xfrm flipV="1">
              <a:off x="3874320" y="3856680"/>
              <a:ext cx="2520" cy="315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82" name="_s2055"/>
            <p:cNvCxnSpPr>
              <a:stCxn id="175" idx="0"/>
              <a:endCxn id="183" idx="2"/>
            </p:cNvCxnSpPr>
            <p:nvPr/>
          </p:nvCxnSpPr>
          <p:spPr>
            <a:xfrm flipV="1" rot="16200000">
              <a:off x="6877080" y="2017440"/>
              <a:ext cx="315000" cy="2107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84" name="_s2056"/>
            <p:cNvCxnSpPr>
              <a:stCxn id="178" idx="0"/>
              <a:endCxn id="183" idx="2"/>
            </p:cNvCxnSpPr>
            <p:nvPr/>
          </p:nvCxnSpPr>
          <p:spPr>
            <a:xfrm flipV="1">
              <a:off x="5981040" y="2913840"/>
              <a:ext cx="2520" cy="315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85" name="_s2057"/>
            <p:cNvCxnSpPr>
              <a:stCxn id="181" idx="0"/>
              <a:endCxn id="183" idx="2"/>
            </p:cNvCxnSpPr>
            <p:nvPr/>
          </p:nvCxnSpPr>
          <p:spPr>
            <a:xfrm flipH="1" flipV="1" rot="5400000">
              <a:off x="4770720" y="2017800"/>
              <a:ext cx="315000" cy="2107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83" name="_s2058"/>
            <p:cNvSpPr/>
            <p:nvPr/>
          </p:nvSpPr>
          <p:spPr>
            <a:xfrm>
              <a:off x="5078520" y="2286000"/>
              <a:ext cx="1805760" cy="6285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80808"/>
                  </a:solidFill>
                  <a:latin typeface="Verdana"/>
                </a:rPr>
                <a:t>ВОЛОСЫ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1" name="_s2059"/>
            <p:cNvSpPr/>
            <p:nvPr/>
          </p:nvSpPr>
          <p:spPr>
            <a:xfrm>
              <a:off x="2971800" y="3228840"/>
              <a:ext cx="1805760" cy="6285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80808"/>
                  </a:solidFill>
                  <a:latin typeface="Verdana"/>
                </a:rPr>
                <a:t>ость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8" name="_s2060"/>
            <p:cNvSpPr/>
            <p:nvPr/>
          </p:nvSpPr>
          <p:spPr>
            <a:xfrm>
              <a:off x="5078520" y="3228840"/>
              <a:ext cx="1805760" cy="6285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80808"/>
                  </a:solidFill>
                  <a:latin typeface="Verdana"/>
                </a:rPr>
                <a:t>подшерсток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5" name="_s2061"/>
            <p:cNvSpPr/>
            <p:nvPr/>
          </p:nvSpPr>
          <p:spPr>
            <a:xfrm>
              <a:off x="7185600" y="3228840"/>
              <a:ext cx="1805760" cy="6285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80808"/>
                  </a:solidFill>
                  <a:latin typeface="Verdana"/>
                </a:rPr>
                <a:t>вибриссы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0" name="_s2062"/>
            <p:cNvSpPr/>
            <p:nvPr/>
          </p:nvSpPr>
          <p:spPr>
            <a:xfrm>
              <a:off x="2971800" y="4171680"/>
              <a:ext cx="1805760" cy="62856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80808"/>
                  </a:solidFill>
                  <a:latin typeface="Verdana"/>
                </a:rPr>
                <a:t>Защита 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80808"/>
                  </a:solidFill>
                  <a:latin typeface="Verdana"/>
                </a:rPr>
                <a:t>от повреждений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7" name="_s2063"/>
            <p:cNvSpPr/>
            <p:nvPr/>
          </p:nvSpPr>
          <p:spPr>
            <a:xfrm>
              <a:off x="5078520" y="4171680"/>
              <a:ext cx="1805760" cy="62856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80808"/>
                  </a:solidFill>
                  <a:latin typeface="Verdana"/>
                </a:rPr>
                <a:t>теплорегуляция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4" name="_s2064"/>
            <p:cNvSpPr/>
            <p:nvPr/>
          </p:nvSpPr>
          <p:spPr>
            <a:xfrm>
              <a:off x="7185600" y="4171680"/>
              <a:ext cx="1805760" cy="62856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80808"/>
                  </a:solidFill>
                  <a:latin typeface="Verdana"/>
                </a:rPr>
                <a:t>Органы 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80808"/>
                  </a:solidFill>
                  <a:latin typeface="Verdana"/>
                </a:rPr>
                <a:t>осязания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86" name="Picture 28" descr="Котик"/>
          <p:cNvPicPr/>
          <p:nvPr/>
        </p:nvPicPr>
        <p:blipFill>
          <a:blip r:embed="rId2"/>
          <a:stretch/>
        </p:blipFill>
        <p:spPr>
          <a:xfrm>
            <a:off x="2971800" y="5029200"/>
            <a:ext cx="1676520" cy="166680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29"/>
          <p:cNvSpPr/>
          <p:nvPr/>
        </p:nvSpPr>
        <p:spPr>
          <a:xfrm>
            <a:off x="5715000" y="5181480"/>
            <a:ext cx="3200400" cy="1143000"/>
          </a:xfrm>
          <a:prstGeom prst="wedgeEllipseCallout">
            <a:avLst>
              <a:gd name="adj1" fmla="val -82291"/>
              <a:gd name="adj2" fmla="val 35972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6081120" y="5391000"/>
            <a:ext cx="270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 каких млекопитающих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шерсти нет? Почему?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Котик"/>
          <p:cNvPicPr/>
          <p:nvPr/>
        </p:nvPicPr>
        <p:blipFill>
          <a:blip r:embed="rId1"/>
          <a:stretch/>
        </p:blipFill>
        <p:spPr>
          <a:xfrm>
            <a:off x="609480" y="3809880"/>
            <a:ext cx="1676520" cy="16671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5"/>
          <p:cNvSpPr/>
          <p:nvPr/>
        </p:nvSpPr>
        <p:spPr>
          <a:xfrm>
            <a:off x="3352680" y="2286000"/>
            <a:ext cx="3200400" cy="1371600"/>
          </a:xfrm>
          <a:prstGeom prst="wedgeEllipseCallout">
            <a:avLst>
              <a:gd name="adj1" fmla="val -81101"/>
              <a:gd name="adj2" fmla="val 10798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0200" y="2590920"/>
            <a:ext cx="210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80808"/>
                </a:solidFill>
                <a:latin typeface="Verdana"/>
              </a:rPr>
              <a:t>ЗИМОЙ - БЕЛЫЙ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80808"/>
                </a:solidFill>
                <a:latin typeface="Verdana"/>
              </a:rPr>
              <a:t>А ЛЕТОМ - СЕРЫ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Verdana"/>
              </a:rPr>
              <a:t>КТО ЭТО?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6553080" y="4419720"/>
            <a:ext cx="2067120" cy="154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3"/>
          <a:stretch/>
        </p:blipFill>
        <p:spPr>
          <a:xfrm>
            <a:off x="6934320" y="19810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228600" y="336600"/>
            <a:ext cx="88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О какой особенности млекопитающих идет речь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нутреннее строение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келет, мышц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97180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3733920" y="1733400"/>
            <a:ext cx="5410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 большинства птиц на грудине имеется киль. Может ли он быть  у млекопитающих? Если да, то у каких  и в связи с чем он развит?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Лошади, собаки и другие млекопитающие при передвижении перемещают конечности вдоль тела. Какие особенности в поясе передних конечностей у них имеются?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152280" y="3809880"/>
            <a:ext cx="8686800" cy="2133720"/>
          </a:xfrm>
          <a:prstGeom prst="verticalScroll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сти прочные и массивные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ереп=мозговой отдел + лицевой отдел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звоночник = шейный + грудной+поясничный+крестцовый+хвостовой отделы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шейном отделе 7 позвонков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2 пар ребер+грудина = грудная клетка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ышцы хорошо развиты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иафрагма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34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12-05-10T22:05:3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